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6F6F-8F42-451B-AF98-5B5741C40C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Автор: Коробков А.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МОУ ЖСОШ №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2010 го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FE02-5FC4-4856-ADFB-4D2BC8004D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E24C-D71E-4467-8FEA-40C4A74460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Пл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Закон РФ «О безопасности» (1992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защите населения и территорий от ЧС природного и техногенного характера»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пожарной безопасности»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б обороне» (1996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гражданской обороне» (1998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20FD-F7AA-4882-BFA8-44EC241497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Конституция РФ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– основной закон государства. Она представляет право человеку на обеспечение своей личной безопасности, безопасности семьи и имущества. Государство обязано принимать все необходимые меры для обеспечения эт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днако, с гарантией безопасности Конституция возлагает на граждан РФ и определенные обязанности по обеспечению безопасности самого государства и его граждан. К ним относится и долг по защите Отечества и несению военной служ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D433-916D-4680-B68F-9EB72DBF4D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Закон РФ «О безопасности»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закрепляет правовую основу обеспечения безопасности личности, общества и государства. В нем определены система безопасности и ее функции, разграничение полномочий органов власти в системе безопасности, силы и средства обеспечения безопасности, определены статус Совета Безопасности РФ, его состав и задачи, установлен порядок организации и финансирования органов обеспечения безопасности, порядок надзора и контроля за законностью и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6352-9427-405C-AB33-B41FD88B95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защите населения и территорий от ЧС природного и техногенного характера»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определяет нормы в области защиты граждан РФ, иностранных граждан и лиц без гражданства от ЧС, и нормы социальной защиты пострадавших от Ч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C569-DBB3-4B1F-99CA-D01E1913C7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пожарной безопасности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общие правовые, экономические и социальные основы обеспечения пожарной безопасности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Законом предусмотрено обязательное обучение населения, в том числе и школьников, мерам пожар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 законе определены права,  обязанности и ответственность  граждан РФ в области пожар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9877-69A1-4B95-8F2F-70007BB8B5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б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основы и организацию обороны РФ, полномочия органов власти субъектов, организаций и должностных лиц, права и обязанности граждан в области обороны, силы и средства,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1264-A72A-43BD-BF23-6E8265C507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б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мечает, что граждане Р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исполняют воинскую обязанность в соответствии с Ф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инимают участие в мероприятиях по гражданской и территориальной оборо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огут создавать организации и общественные объединения, содействующие укреплению оборо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едоставляют в военное время для нужд обороны здания, сооружения, транспорт и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2A4F-8CBC-418C-A458-704D598B38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гражданской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задачи в области гражданской обороны (ГО) и правовые основы их осущест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3A41-B67A-4337-8F7C-90306CBF93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614-55FC-4C03-BF79-3960CCF2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DBB-BF5D-48B9-8244-DBC65C36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C3C-C598-4B64-9C16-6B04FE09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2C11-67C3-46E8-8E8E-AB4F3EC8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970-4F72-4F33-88A3-C5102A7D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1A5-5916-42DD-AA65-FC7887D8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146-A495-43E3-A701-3DD159C6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70A-1A77-4F21-BFFF-492C6938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DE43-DC77-49DC-9F1C-61BC9D38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362-4B85-43BC-9B77-51F9707F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960-E9CB-429D-AEB7-8143CCCD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001-C7B0-4896-A51A-15557FD7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A454-E765-4F10-852C-49E23E2B34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872320"/>
            <a:ext cx="370512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: Коробков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У Ж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AVK\Рабочий стол\Новая папка\47102.jpg"/>
          <p:cNvPicPr/>
          <p:nvPr/>
        </p:nvPicPr>
        <p:blipFill>
          <a:blip r:embed="rId1"/>
          <a:stretch/>
        </p:blipFill>
        <p:spPr>
          <a:xfrm>
            <a:off x="2357280" y="2286000"/>
            <a:ext cx="4786560" cy="3549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gerb"/>
          <p:cNvPicPr/>
          <p:nvPr/>
        </p:nvPicPr>
        <p:blipFill>
          <a:blip r:embed="rId1"/>
          <a:stretch/>
        </p:blipFill>
        <p:spPr>
          <a:xfrm>
            <a:off x="179280" y="765000"/>
            <a:ext cx="1047960" cy="113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флаг"/>
          <p:cNvPicPr/>
          <p:nvPr/>
        </p:nvPicPr>
        <p:blipFill>
          <a:blip r:embed="rId2"/>
          <a:stretch/>
        </p:blipFill>
        <p:spPr>
          <a:xfrm>
            <a:off x="8101080" y="765000"/>
            <a:ext cx="10429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КАВ - ФОТО"/>
          <p:cNvPicPr/>
          <p:nvPr/>
        </p:nvPicPr>
        <p:blipFill>
          <a:blip r:embed="rId3"/>
          <a:stretch/>
        </p:blipFill>
        <p:spPr>
          <a:xfrm>
            <a:off x="4597560" y="765000"/>
            <a:ext cx="331452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8"/>
          <p:cNvSpPr txBox="1"/>
          <p:nvPr/>
        </p:nvSpPr>
        <p:spPr>
          <a:xfrm>
            <a:off x="395280" y="1557360"/>
            <a:ext cx="46083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пасиб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755640" y="436572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тор: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ОБКОВ А.В.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7164360" y="5805360"/>
            <a:ext cx="1228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01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WordArt 11"/>
          <p:cNvSpPr txBox="1"/>
          <p:nvPr/>
        </p:nvSpPr>
        <p:spPr>
          <a:xfrm>
            <a:off x="179280" y="5445000"/>
            <a:ext cx="84981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У "Жиздринская средняя общеобразовательная школа №1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ституци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Закон РФ «О безопасности» (1992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защите населения и территорий от ЧС природного и техногенного характера» (1994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пожарной безопасности» (1994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б обороне» (199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гражданской обороне» (199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Documents and Settings\AVK\Рабочий стол\Новая папка\Const.jpg"/>
          <p:cNvPicPr/>
          <p:nvPr/>
        </p:nvPicPr>
        <p:blipFill>
          <a:blip r:embed="rId1"/>
          <a:stretch/>
        </p:blipFill>
        <p:spPr>
          <a:xfrm>
            <a:off x="6357960" y="4286160"/>
            <a:ext cx="2246400" cy="2246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003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Конституция РФ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– основной закон государства. Она представляет право человеку на обеспечение своей личной безопасности, безопасности семьи и имущества. Государство обязано принимать все необходимые меры для обеспечения этого 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днако, с гарантией безопасности Конституция возлагает на граждан РФ и определенные обязанности по обеспечению безопасности самого государства и его граждан. К ним относится и долг по защите Отечества и несению военной служ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Documents and Settings\AVK\Рабочий стол\Новая папка\52319018_0akonstituciya.jpg"/>
          <p:cNvPicPr/>
          <p:nvPr/>
        </p:nvPicPr>
        <p:blipFill>
          <a:blip r:embed="rId1"/>
          <a:stretch/>
        </p:blipFill>
        <p:spPr>
          <a:xfrm>
            <a:off x="5286240" y="1285920"/>
            <a:ext cx="33339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07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Закон РФ «О безопасности»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закрепляет правовую основу обеспечения безопасности личности, общества и государства. В нем определены система безопасности и ее функции, разграничение полномочий органов власти в системе безопасности, силы и средства обеспечения безопасности, определены статус Совета Безопасности РФ, его состав и задачи, установлен порядок организации и финансирования органов обеспечения безопасности, порядок надзора и контроля за законностью их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Documents and Settings\AVK\Рабочий стол\Новая папка\58238.jpg"/>
          <p:cNvPicPr/>
          <p:nvPr/>
        </p:nvPicPr>
        <p:blipFill>
          <a:blip r:embed="rId1"/>
          <a:stretch/>
        </p:blipFill>
        <p:spPr>
          <a:xfrm>
            <a:off x="5214960" y="1143000"/>
            <a:ext cx="3718080" cy="54640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защите населения и территорий от ЧС природного и техногенного характера»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определяет нормы в области защиты граждан РФ, иностранных граждан и лиц без гражданства от ЧС, и нормы социальной защиты пострадавших от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:\Documents and Settings\AVK\Рабочий стол\Новая папка\big_gosduma500.jpg"/>
          <p:cNvPicPr/>
          <p:nvPr/>
        </p:nvPicPr>
        <p:blipFill>
          <a:blip r:embed="rId1"/>
          <a:stretch/>
        </p:blipFill>
        <p:spPr>
          <a:xfrm>
            <a:off x="1928880" y="242892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716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пожарной безопасности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общие правовые, экономические и социальные основы обеспечения пожарной безопасности в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Законом предусмотрено обязательное обучение населения, в том числе и школьников, мерам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законе определены права,  обязанности и ответственность  граждан РФ в области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Documents and Settings\AVK\Рабочий стол\Новая папка\2166100.jpg"/>
          <p:cNvPicPr/>
          <p:nvPr/>
        </p:nvPicPr>
        <p:blipFill>
          <a:blip r:embed="rId1"/>
          <a:stretch/>
        </p:blipFill>
        <p:spPr>
          <a:xfrm>
            <a:off x="5143680" y="1357200"/>
            <a:ext cx="3333600" cy="51246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2143080"/>
            <a:ext cx="48578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б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основы и организацию обороны РФ, полномочия органов власти субъектов, организаций и должностных лиц, права и обязанности граждан в области обороны, силы и средства,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Documents and Settings\AVK\Рабочий стол\Новая папка\p907010.jpg"/>
          <p:cNvPicPr/>
          <p:nvPr/>
        </p:nvPicPr>
        <p:blipFill>
          <a:blip r:embed="rId1"/>
          <a:stretch/>
        </p:blipFill>
        <p:spPr>
          <a:xfrm>
            <a:off x="5118120" y="1428840"/>
            <a:ext cx="3414600" cy="4714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932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б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тмечает, что граждане Р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сполняют воинскую обязанность в соответствии с Ф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инимают участие в мероприятиях по гражданской и территориальной оборо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огут создавать организации и общественные объединения, содействующие укреплению обор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оставляют в военное время для нужд обороны здания, сооружения, транспорт и им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Documents and Settings\AVK\Рабочий стол\Новая папка\2275360.jpg"/>
          <p:cNvPicPr/>
          <p:nvPr/>
        </p:nvPicPr>
        <p:blipFill>
          <a:blip r:embed="rId1"/>
          <a:stretch/>
        </p:blipFill>
        <p:spPr>
          <a:xfrm>
            <a:off x="5357880" y="1214280"/>
            <a:ext cx="3333600" cy="5334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427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гражданской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задачи в области гражданской обороны (ГО) и правовые основы их осущест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AVK\Рабочий стол\Новая папка\p483125.jpg"/>
          <p:cNvPicPr/>
          <p:nvPr/>
        </p:nvPicPr>
        <p:blipFill>
          <a:blip r:embed="rId1"/>
          <a:stretch/>
        </p:blipFill>
        <p:spPr>
          <a:xfrm>
            <a:off x="5000760" y="1214280"/>
            <a:ext cx="3448080" cy="530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AVK\Рабочий стол\Новая папка\446994.jpg"/>
          <p:cNvPicPr/>
          <p:nvPr/>
        </p:nvPicPr>
        <p:blipFill>
          <a:blip r:embed="rId2"/>
          <a:stretch/>
        </p:blipFill>
        <p:spPr>
          <a:xfrm>
            <a:off x="357120" y="321480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0:50:27Z</dcterms:created>
  <dc:creator>cempes</dc:creator>
  <dc:description/>
  <dc:language>en-US</dc:language>
  <cp:lastModifiedBy>LEGION</cp:lastModifiedBy>
  <dcterms:modified xsi:type="dcterms:W3CDTF">2015-01-28T10:12:31Z</dcterms:modified>
  <cp:revision>32</cp:revision>
  <dc:subject/>
  <dc:title>Законы и другие нормативно-правовые акты РФ по обеспечению безопасности</dc:title>
</cp:coreProperties>
</file>