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207D-9F05-4406-AEC2-8A5EBBAAC8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Автор: Коробков А.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МОУ ЖСОШ №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0000"/>
                </a:solidFill>
                <a:latin typeface="Calibri"/>
              </a:rPr>
              <a:t>2010 год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2698-F5D9-4308-A318-340E0C8371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4E5C-7ED9-49AD-A7BE-44ABF9ED4B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 РФ «О безопасности» (1992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защите населения и территорий от ЧС природного и техногенного характера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пожарной безопасности»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б обороне» (1996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ФЗ «О гражданской обороне» (199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53E2-EA60-4DA2-99CC-B49612180C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Конституция РФ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1943-6622-442E-A79F-B2B1C3AF91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Закон РФ «О безопасности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8EFA-DD65-4598-B850-E776BA9D89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защите населения и территорий от ЧС природного и техногенного характера»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34C4-A3CE-4B95-A479-0B2D09030D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пожарной безопасности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43B3-1213-419E-BDF7-4A89CCF2BC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1DD2-E6C2-49A5-AD08-8EFF286285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б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тмечает, что граждане Р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сполняют воинскую обязанность в соответствии с Ф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инимают участие в мероприятиях по гражданской и территориальной оборо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8411-71CC-4482-80A6-EAA8637945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Calibri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ФЗ «О гражданской обороне»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A5E1-7452-4C61-9B0D-A167F88733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B7A-D043-44E4-B706-45FF259F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292-785B-44FF-8827-78A8ED64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F80-3E40-4954-8293-67EBDD3A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10F-ACD5-46BF-9CB0-71CCB2AA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455-784A-45F6-B3FD-80489530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436-FC65-493F-9565-922689AD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E48-D704-4346-A4CF-A9EF0E37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9CE-BE0E-43C6-821D-7FF24D2C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D6B-47BE-43A1-BC98-1EFEF225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DCE-5108-4F6C-B9FD-627FF311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DDD-E319-4F19-94D9-F516EC0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365-F421-4963-9CE9-2754C52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8EDF-A40C-4C2E-842B-60E820A3E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872320"/>
            <a:ext cx="370512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 Коробк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У Ж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VK\Рабочий стол\Новая папка\47102.jpg"/>
          <p:cNvPicPr/>
          <p:nvPr/>
        </p:nvPicPr>
        <p:blipFill>
          <a:blip r:embed="rId1"/>
          <a:stretch/>
        </p:blipFill>
        <p:spPr>
          <a:xfrm>
            <a:off x="2357280" y="2286000"/>
            <a:ext cx="4786560" cy="3549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gerb"/>
          <p:cNvPicPr/>
          <p:nvPr/>
        </p:nvPicPr>
        <p:blipFill>
          <a:blip r:embed="rId1"/>
          <a:stretch/>
        </p:blipFill>
        <p:spPr>
          <a:xfrm>
            <a:off x="179280" y="765000"/>
            <a:ext cx="1047960" cy="113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флаг"/>
          <p:cNvPicPr/>
          <p:nvPr/>
        </p:nvPicPr>
        <p:blipFill>
          <a:blip r:embed="rId2"/>
          <a:stretch/>
        </p:blipFill>
        <p:spPr>
          <a:xfrm>
            <a:off x="8101080" y="765000"/>
            <a:ext cx="10429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КАВ - ФОТО"/>
          <p:cNvPicPr/>
          <p:nvPr/>
        </p:nvPicPr>
        <p:blipFill>
          <a:blip r:embed="rId3"/>
          <a:stretch/>
        </p:blipFill>
        <p:spPr>
          <a:xfrm>
            <a:off x="4597560" y="765000"/>
            <a:ext cx="331452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8"/>
          <p:cNvSpPr txBox="1"/>
          <p:nvPr/>
        </p:nvSpPr>
        <p:spPr>
          <a:xfrm>
            <a:off x="395280" y="1557360"/>
            <a:ext cx="4608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755640" y="436572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втор: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РОБКОВ А.В.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7164360" y="5805360"/>
            <a:ext cx="1228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010 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WordArt 11"/>
          <p:cNvSpPr txBox="1"/>
          <p:nvPr/>
        </p:nvSpPr>
        <p:spPr>
          <a:xfrm>
            <a:off x="179280" y="5445000"/>
            <a:ext cx="849816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У "Жиздринская средняя общеобразовательная школа №1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кон РФ «О безопасности» (199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защите населения и территорий от ЧС природного и техногенного характера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пожарной безопасности» (1994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б обороне» (1996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ФЗ «О гражданской обороне» (1998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Documents and Settings\AVK\Рабочий стол\Новая папка\Const.jpg"/>
          <p:cNvPicPr/>
          <p:nvPr/>
        </p:nvPicPr>
        <p:blipFill>
          <a:blip r:embed="rId1"/>
          <a:stretch/>
        </p:blipFill>
        <p:spPr>
          <a:xfrm>
            <a:off x="6357960" y="4286160"/>
            <a:ext cx="2246400" cy="2246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Конституция РФ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– основной закон государства. Она представляет право человеку на обеспечение своей личной безопасности, безопасности семьи и имущества. Государство обязано принимать все необходимые меры для обеспечения эт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днако, с гарантией безопасности Конституция возлагает на граждан РФ и определенные обязанности по обеспечению безопасности самого государства и его граждан. К ним относится и долг по защите Отечества и несению военной сл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Documents and Settings\AVK\Рабочий стол\Новая папка\52319018_0akonstituciya.jpg"/>
          <p:cNvPicPr/>
          <p:nvPr/>
        </p:nvPicPr>
        <p:blipFill>
          <a:blip r:embed="rId1"/>
          <a:stretch/>
        </p:blipFill>
        <p:spPr>
          <a:xfrm>
            <a:off x="5286240" y="1285920"/>
            <a:ext cx="33339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0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Закон РФ «О безопасности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закрепляет правовую основу обеспечения безопасности личности, общества и государства. В нем определены система безопасности и ее функции, разграничение полномочий органов власти в системе безопасности, силы и средства обеспечения безопасности, определены статус Совета Безопасности РФ, его состав и задачи, установлен порядок организации и финансирования органов обеспечения безопасности, порядок надзора и контроля за законностью их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AVK\Рабочий стол\Новая папка\58238.jpg"/>
          <p:cNvPicPr/>
          <p:nvPr/>
        </p:nvPicPr>
        <p:blipFill>
          <a:blip r:embed="rId1"/>
          <a:stretch/>
        </p:blipFill>
        <p:spPr>
          <a:xfrm>
            <a:off x="5214960" y="1143000"/>
            <a:ext cx="3718080" cy="54640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защите населения и территорий от ЧС природного и техногенного характера»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определяет нормы в области защиты граждан РФ, иностранных граждан и лиц без гражданства от ЧС, и нормы социальной защиты пострадавших от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Documents and Settings\AVK\Рабочий стол\Новая папка\big_gosduma500.jpg"/>
          <p:cNvPicPr/>
          <p:nvPr/>
        </p:nvPicPr>
        <p:blipFill>
          <a:blip r:embed="rId1"/>
          <a:stretch/>
        </p:blipFill>
        <p:spPr>
          <a:xfrm>
            <a:off x="1928880" y="24289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71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пожарной безопасности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бщие правовые, экономические и социальные основы обеспечения пожарной безопасности в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Законом предусмотрено обязательное обучение населения, в том числе и школьников, мерам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 законе определены права,  обязанности и ответственность  граждан РФ в области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Documents and Settings\AVK\Рабочий стол\Новая папка\2166100.jpg"/>
          <p:cNvPicPr/>
          <p:nvPr/>
        </p:nvPicPr>
        <p:blipFill>
          <a:blip r:embed="rId1"/>
          <a:stretch/>
        </p:blipFill>
        <p:spPr>
          <a:xfrm>
            <a:off x="5143680" y="1357200"/>
            <a:ext cx="3333600" cy="51246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4857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основы и организацию обороны РФ, полномочия органов власти субъектов, организаций и должностных лиц, права и обязанности граждан в области обороны, силы и средства, ответств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Documents and Settings\AVK\Рабочий стол\Новая папка\p907010.jpg"/>
          <p:cNvPicPr/>
          <p:nvPr/>
        </p:nvPicPr>
        <p:blipFill>
          <a:blip r:embed="rId1"/>
          <a:stretch/>
        </p:blipFill>
        <p:spPr>
          <a:xfrm>
            <a:off x="5118120" y="1428840"/>
            <a:ext cx="3414600" cy="4714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932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б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тмечает, что граждане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сполняют воинскую обязанность в соответствии с Ф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инимают участие в мероприятиях по гражданской и территориальной об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огут создавать организации и общественные объединения, содействующие укреплению обор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00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редоставляют в военное время для нужд обороны здания, сооружения, транспорт и им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:\Documents and Settings\AVK\Рабочий стол\Новая папка\2275360.jpg"/>
          <p:cNvPicPr/>
          <p:nvPr/>
        </p:nvPicPr>
        <p:blipFill>
          <a:blip r:embed="rId1"/>
          <a:stretch/>
        </p:blipFill>
        <p:spPr>
          <a:xfrm>
            <a:off x="5357880" y="1214280"/>
            <a:ext cx="3333600" cy="5334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коны и другие нормативно-правовые акты РФ по обеспечению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ФЗ «О гражданской обороне»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пределяет задачи в области гражданской обороны (ГО) и правовые основы их осущест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VK\Рабочий стол\Новая папка\p483125.jpg"/>
          <p:cNvPicPr/>
          <p:nvPr/>
        </p:nvPicPr>
        <p:blipFill>
          <a:blip r:embed="rId1"/>
          <a:stretch/>
        </p:blipFill>
        <p:spPr>
          <a:xfrm>
            <a:off x="5000760" y="1214280"/>
            <a:ext cx="3448080" cy="530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AVK\Рабочий стол\Новая папка\446994.jpg"/>
          <p:cNvPicPr/>
          <p:nvPr/>
        </p:nvPicPr>
        <p:blipFill>
          <a:blip r:embed="rId2"/>
          <a:stretch/>
        </p:blipFill>
        <p:spPr>
          <a:xfrm>
            <a:off x="357120" y="321480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50:27Z</dcterms:created>
  <dc:creator>cempes</dc:creator>
  <dc:description/>
  <dc:language>en-US</dc:language>
  <cp:lastModifiedBy>LEGION</cp:lastModifiedBy>
  <dcterms:modified xsi:type="dcterms:W3CDTF">2015-01-28T10:12:31Z</dcterms:modified>
  <cp:revision>32</cp:revision>
  <dc:subject/>
  <dc:title>Законы и другие нормативно-правовые акты РФ по обеспечению безопасности</dc:title>
</cp:coreProperties>
</file>