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0A5C-1313-4DC0-BC4B-2A005DEB1D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РЕАЛИЗАЦ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6998-063D-410C-800E-8C800C12C99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менение права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именение пра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5673-9459-4506-92D8-EE71D5D1B0B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ИМЕН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властный харак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яд стад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о с вынесением индивидуального юридического решения, акта применения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60CB-15E2-4B4D-BEE1-66FE5353C83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НЕНИЕ ПРАВА НЕОБХОДИМО, ЕС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в установлении юридически значимых обстоятель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субъектами права существует спор об их правах и обязан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обходимость принять решение о награждении отличившихся гражд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1E5F-3727-4EA2-99C5-7E98EFF43D6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адии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факт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юридической основы д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по дел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ени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B39F-B2C5-4960-8E8D-2FFBF2FD95F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4. Правоприменительный акт: понятие, признаки, част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Акт применения права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–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C60F-A541-48A0-B25C-F8980B88236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у и место из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органа, издавшего ак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ного адреса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ись ответственного л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64D7-09C0-4D50-ABEE-F1C0BA29F0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иды актов применения права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1. По субъектам, издающим а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едстав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исполнительных органов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правоохранительных органов(прокуратуры, судов и др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 органов государственного контроля(налоговых, таможенных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0F45-B8A5-45DB-B61A-D1776C50E58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2. По форм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, приговоры, решения, приказ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3. По функц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b050"/>
                </a:solidFill>
                <a:uFillTx/>
                <a:latin typeface="Calibri"/>
              </a:rPr>
              <a:t>4. По юридической приро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сновные(выражают конечное решение юридического дела, например, приговор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помогательны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1547-4D3B-4A80-B773-90387115A1C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, какие формы реализации права являются активными, какие пассив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643E-2690-4677-BEA6-E2CA256BA85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пределите форму реализации прав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ция предприятия предоставила слесарю И. очередной отпус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подарила внучке на 18-летие золотое коль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туриент А. был зачислен в число студентов в бюджетную груп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 А. вынес приговор по уголов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Е. написал картину и продал ее художественному сал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р - рецидивист Н. бежал из колонии усиленного реж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2222-8DA9-48A4-9BAE-3497F3A7470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нятие реализации права. Формы реализации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актическое осуществление (воплощение) правовых предписаний в поведении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лощение предписаний правовых норм в реальной деятельности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Реализация прав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0F86-3334-4079-AEAB-C60A14366E9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B6E7-8CA2-4EA9-A192-66C1A02A7B1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опираясь на правоприменительную деятельность государственных орг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32B2-EE82-4486-A905-5C5DF73CF02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Использование 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5E9C-D751-49EB-AF53-C5748141727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Исполнение -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форма реализации права, исполнение субъектами права обязанностей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обязывающих норм, предусматривающих позитивные обяза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активных действий в интересах управомоченной сторо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D7A9-F45E-420B-8EF0-DBBCAE09E28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облюдение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орма реализации права,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ржание от совершения запрещен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уются запрещающие и охранительные нор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A07A-5C26-407A-9542-3799377A43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DAC6-2D60-4B60-8FEE-CCB14A414BB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2BBD-41A4-43AF-872A-03E105F7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4F8-FF9F-4B15-A039-A86ECDDF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CD4-0909-41A0-9A03-2C7A478D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E740-DA45-44C6-BCC7-5CFB95B9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61E6-FEC5-420F-B322-BDCEF13A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122F-C97F-49C6-A802-9B3EB570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F241-44B4-4E28-8707-43B555A7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BF0C-CCB6-4629-9EC3-637C0E45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CB18-D9F1-463C-8150-64491F2D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5819B-F44D-40F2-B80F-E527CD73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DD69-D999-4879-9621-6A16D19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364-DDF0-404A-8F74-030D8425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5892-2F6D-469C-A6A9-D300E08B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40A5-89C7-4705-B611-286BA220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8B0A-8797-4C25-AFCF-618A1F51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3FB6-B7DA-4B9B-BC43-5920EF06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542F-931C-4E1D-9D50-331558E4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1DF-3033-4662-B32A-F73E819A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1832-C1B0-4904-BAC9-9A339764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F94-C9C0-4389-A15D-3016242F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BB84-B574-4F76-B8F6-D81451C9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89A-DF93-46BB-97AA-2D2B083E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8F8-339B-495D-9CB9-782ED437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4FC5-A28D-4EB8-995A-8F483C89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AC92-F811-4A5B-BBE0-9A4B975EBD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6180-C031-4186-920C-140CBAFE2B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Тема 13. РЕАЛИЗАЦИЯ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4920" y="1628280"/>
            <a:ext cx="828036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онятие реализации права. Формы реализаци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Применение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Стадии применения пр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Правоприменительный акт: понятие, признаки,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Виды актов применения пра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2. Применение права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рименение права 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– деятельность компетентных государственных органов по реализации правовых норм в конкретных жизненных ситуациях путем вынесения индивидуальных конкретных правовых предписаний – актов применения права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ЗНАКИ ПРИМЕНЕНИЯ ПРАВА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14200" y="785880"/>
            <a:ext cx="8715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осит властный характер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меет ряд стадий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существляется в процессуальной форме, (т.е. данная деятельность жестко регламентирована нормами права)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связано с вынесением индивидуального юридического решения, акта применения права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аправлено на установление конкретных правовых последствий- субъективных прав и обязанностей, мер поощрения и наказания и т.п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3840" y="277560"/>
            <a:ext cx="8472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РИМЕНЕНИЕ ПРАВА НЕОБХОДИМО, ЕСЛИ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42560" y="1071720"/>
            <a:ext cx="8543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бъективное право гражданина не может быть реализовано без государственно- властного вел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в установлении юридически значимых обстоятельст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жду субъектами права существует спор об их правах и обязанност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буется привлечь правонарушителя к ответственности, т.е. реализовать санкцию правовой нор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ует необходимость принять решение о награждении отличившихся гражд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3. Стадии применения права:</a:t>
            </a:r>
            <a:br>
              <a:rPr sz="4400"/>
            </a:b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факт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установление юридической основы дела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нятие решения по делу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полнение реш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200" y="277560"/>
            <a:ext cx="87868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4. Правоприменительный акт: понятие, признаки, части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2920" y="1357200"/>
            <a:ext cx="885816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ru-RU" sz="4200" spc="-1" strike="noStrike">
                <a:solidFill>
                  <a:srgbClr val="ff0000"/>
                </a:solidFill>
                <a:latin typeface="Tahoma"/>
              </a:rPr>
              <a:t>Акт применения права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–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фициальный документ компетентного государственного органа, изданный на основе норм права и содержащий индивидуальное  государственно- властное предписание по конкретному дел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29"/>
                </a:solidFill>
                <a:latin typeface="Arial"/>
              </a:rPr>
              <a:t>Акт применения права издаются в установленной законом форме и имеют следующие реквизиты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у и место изда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именование органа, издавшего ак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кретного адреса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пись ответственного лиц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5. Виды актов применения права: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050"/>
                </a:solidFill>
                <a:uFillTx/>
                <a:latin typeface="Tahoma"/>
              </a:rPr>
              <a:t>1. По субъектам, издающим ак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едстав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исполнительных органов вла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правоохранительных органов(прокуратуры, судов и др.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ы органов государственного контроля(налоговых, таможенных и др.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Arial"/>
              </a:rPr>
              <a:t>2. По форме:</a:t>
            </a:r>
            <a:endParaRPr b="0" lang="en-US" sz="2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Указы, приговоры, решения, приказы и др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3. По функция права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регулятивные(приказ о повышении по службе) и охранительные( постановление о возбуждении уголовного дела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b050"/>
                </a:solidFill>
                <a:uFillTx/>
                <a:latin typeface="Tahoma"/>
              </a:rPr>
              <a:t>4. По юридической природе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на 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основные(выражают конечное решение юридического дела, например, приговор)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спомогательные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(подготавливают издание основных, в частности, постановление о привлечении лица в качестве обвиняемого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, какие формы реализации права являются активными, какие пассивными.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19" name="Содержимое 3" descr=""/>
          <p:cNvPicPr/>
          <p:nvPr/>
        </p:nvPicPr>
        <p:blipFill>
          <a:blip r:embed="rId1"/>
          <a:stretch/>
        </p:blipFill>
        <p:spPr>
          <a:xfrm>
            <a:off x="500040" y="1542960"/>
            <a:ext cx="8229600" cy="53388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277920"/>
            <a:ext cx="8472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Определите форму реализации права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4200" y="928800"/>
            <a:ext cx="87868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дминистрация предприятия предоставила слесарю И. очередной отпус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бушка подарила внучке на 18-летие золотое кольц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битуриент А. был зачислен в число студентов в бюджетную групп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ья А. вынес приговор по уголовному дел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удожник Е. написал картину и продал ее художественному салон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р - рецидивист Н. бежал из колонии усиленного режи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bbd71"/>
                </a:solidFill>
                <a:latin typeface="Arial"/>
              </a:rPr>
              <a:t>1. Понятие реализации права. Формы реализации права.</a:t>
            </a:r>
            <a:endParaRPr b="0" lang="en-US" sz="3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7120" y="1599840"/>
            <a:ext cx="860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фактическое осуществление (воплощение) правовых предписаний в поведении субъе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площение предписаний правовых норм в реальной деятельности люд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Реализация права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Organization Chart 5"/>
          <p:cNvGrpSpPr/>
          <p:nvPr/>
        </p:nvGrpSpPr>
        <p:grpSpPr>
          <a:xfrm>
            <a:off x="250920" y="189000"/>
            <a:ext cx="8713080" cy="6407640"/>
            <a:chOff x="250920" y="189000"/>
            <a:chExt cx="8713080" cy="6407640"/>
          </a:xfrm>
        </p:grpSpPr>
        <p:cxnSp>
          <p:nvCxnSpPr>
            <p:cNvPr id="166" name="_s1028"/>
            <p:cNvCxnSpPr>
              <a:stCxn id="167" idx="0"/>
              <a:endCxn id="168" idx="1"/>
            </p:cNvCxnSpPr>
            <p:nvPr/>
          </p:nvCxnSpPr>
          <p:spPr>
            <a:xfrm flipV="1">
              <a:off x="7426440" y="2476800"/>
              <a:ext cx="3600" cy="458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69" name="_s1029"/>
            <p:cNvCxnSpPr>
              <a:stCxn id="170" idx="0"/>
              <a:endCxn id="171" idx="3"/>
            </p:cNvCxnSpPr>
            <p:nvPr/>
          </p:nvCxnSpPr>
          <p:spPr>
            <a:xfrm rot="10800000">
              <a:off x="1787760" y="2476800"/>
              <a:ext cx="513000" cy="366228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2" name="_s1030"/>
            <p:cNvCxnSpPr>
              <a:stCxn id="173" idx="0"/>
              <a:endCxn id="171" idx="2"/>
            </p:cNvCxnSpPr>
            <p:nvPr/>
          </p:nvCxnSpPr>
          <p:spPr>
            <a:xfrm rot="10800000">
              <a:off x="1787760" y="2476800"/>
              <a:ext cx="513000" cy="22892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4" name="_s1031"/>
            <p:cNvCxnSpPr>
              <a:stCxn id="175" idx="0"/>
              <a:endCxn id="171" idx="1"/>
            </p:cNvCxnSpPr>
            <p:nvPr/>
          </p:nvCxnSpPr>
          <p:spPr>
            <a:xfrm rot="10800000">
              <a:off x="1787760" y="2476800"/>
              <a:ext cx="513000" cy="91584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6" name="_s1032"/>
            <p:cNvCxnSpPr>
              <a:stCxn id="168" idx="0"/>
              <a:endCxn id="177" idx="1"/>
            </p:cNvCxnSpPr>
            <p:nvPr/>
          </p:nvCxnSpPr>
          <p:spPr>
            <a:xfrm flipV="1" rot="16200000">
              <a:off x="5787000" y="-77400"/>
              <a:ext cx="458280" cy="281988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78" name="_s1033"/>
            <p:cNvCxnSpPr>
              <a:stCxn id="171" idx="0"/>
              <a:endCxn id="177" idx="0"/>
            </p:cNvCxnSpPr>
            <p:nvPr/>
          </p:nvCxnSpPr>
          <p:spPr>
            <a:xfrm flipH="1" flipV="1" rot="5400000">
              <a:off x="2968560" y="-77040"/>
              <a:ext cx="458280" cy="2819160"/>
            </a:xfrm>
            <a:prstGeom prst="bentConnector3">
              <a:avLst>
                <a:gd name="adj1" fmla="val 26965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7" name="_s1034"/>
            <p:cNvSpPr/>
            <p:nvPr/>
          </p:nvSpPr>
          <p:spPr>
            <a:xfrm>
              <a:off x="3069360" y="18900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8a5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еализация прав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_s1035"/>
            <p:cNvSpPr/>
            <p:nvPr/>
          </p:nvSpPr>
          <p:spPr>
            <a:xfrm>
              <a:off x="25092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непосредственна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>
              <a:off x="5888880" y="156204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808000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опосредован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5" name="_s1037"/>
            <p:cNvSpPr/>
            <p:nvPr/>
          </p:nvSpPr>
          <p:spPr>
            <a:xfrm>
              <a:off x="2301120" y="29350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соблюд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_s1038"/>
            <p:cNvSpPr/>
            <p:nvPr/>
          </p:nvSpPr>
          <p:spPr>
            <a:xfrm>
              <a:off x="2301120" y="430848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_s1039"/>
            <p:cNvSpPr/>
            <p:nvPr/>
          </p:nvSpPr>
          <p:spPr>
            <a:xfrm>
              <a:off x="2301120" y="5681520"/>
              <a:ext cx="29185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использов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_s1040"/>
            <p:cNvSpPr/>
            <p:nvPr/>
          </p:nvSpPr>
          <p:spPr>
            <a:xfrm>
              <a:off x="5888880" y="2935080"/>
              <a:ext cx="3075120" cy="915120"/>
            </a:xfrm>
            <a:prstGeom prst="bevel">
              <a:avLst>
                <a:gd name="adj" fmla="val 12500"/>
              </a:avLst>
            </a:prstGeom>
            <a:solidFill>
              <a:srgbClr val="ffcc66">
                <a:alpha val="50000"/>
              </a:srgbClr>
            </a:solidFill>
            <a:ln w="936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примене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SmartArt 9" descr=""/>
          <p:cNvPicPr/>
          <p:nvPr/>
        </p:nvPicPr>
        <p:blipFill>
          <a:blip r:embed="rId1"/>
          <a:stretch/>
        </p:blipFill>
        <p:spPr>
          <a:xfrm>
            <a:off x="128520" y="139680"/>
            <a:ext cx="8813880" cy="657864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Непосредственная форма реализации имеет место в тех случаях, когда субъекты права реализуют правовые предписания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самостоятельно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, </a:t>
            </a:r>
            <a:r>
              <a:rPr b="0" lang="ru-RU" sz="4000" spc="-1" strike="noStrike" u="sng">
                <a:solidFill>
                  <a:srgbClr val="dbbd71"/>
                </a:solidFill>
                <a:uFillTx/>
                <a:latin typeface="Arial"/>
              </a:rPr>
              <a:t>не опираясь на правоприменительную деятельность государственных органов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спользование –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осуществление субъектами права предоставленных им прав по своему усмотрению.</a:t>
            </a:r>
            <a:br>
              <a:rPr sz="3200"/>
            </a:b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4200" y="2143080"/>
            <a:ext cx="871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ализуются управомочивающие нормы, в диспозициях которых предусмотрены субъективные прав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лагает свободу выбора и может быть осуществлено путем собственных фактических действий, посредством совершения юридических действий, через предъявление требования к обязанному лицу и в форме притязания, т.е. обращения в компетентный государственный орган за защитой нарушенного пр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8548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сполнение -</a:t>
            </a: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 форма реализации права, исполнение субъектами права обязанностей</a:t>
            </a:r>
            <a:br>
              <a:rPr sz="3600"/>
            </a:b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5840" y="2428920"/>
            <a:ext cx="85010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ация обязывающих норм, предусматривающих позитивные обязанности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требует активных действий в интересах управомоченной сторон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обязанность считается исполненной в случае, если она выполнена вовремя. В надлежащем месте и надлежащим образом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6439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блюдение -</a:t>
            </a: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 форма реализации права,   </a:t>
            </a:r>
            <a:br>
              <a:rPr sz="3200"/>
            </a:b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воздержание от совершения запрещенных действий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4200" y="2357280"/>
            <a:ext cx="878688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реализуются запрещающие и охранительные нормы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не требует совершения каких- либо специальных действий по воплощению требований норм прав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3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4200" y="277920"/>
            <a:ext cx="8715600" cy="622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</a:t>
            </a:r>
            <a:r>
              <a:rPr b="0" lang="ru-RU" sz="4200" spc="-1" strike="noStrike">
                <a:solidFill>
                  <a:srgbClr val="dbbd71"/>
                </a:solidFill>
                <a:latin typeface="Arial"/>
              </a:rPr>
              <a:t>ри  опосредованной  форме реализации права осуществление прав и обязанностей субъектов права происходит с помощью правоприменительной деятельности государственных органов и должностных лиц.</a:t>
            </a:r>
            <a:endParaRPr b="0" lang="en-US" sz="4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7:33:38Z</dcterms:created>
  <dc:creator>Кутузова</dc:creator>
  <dc:description/>
  <dc:language>en-US</dc:language>
  <cp:lastModifiedBy>LEGION</cp:lastModifiedBy>
  <dcterms:modified xsi:type="dcterms:W3CDTF">2015-01-28T10:13:17Z</dcterms:modified>
  <cp:revision>45</cp:revision>
  <dc:subject/>
  <dc:title>Слайд 1</dc:title>
</cp:coreProperties>
</file>