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591C9-9701-4D38-A441-A0E274E176B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13. РЕАЛИЗАЦИЯ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онятие реализации права. Формы реализации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рименение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Стадии применения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Правоприменительный акт: понятие, признаки, ч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Виды актов применения пра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34627-9738-4782-9052-EB033CD3D2D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рименение права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Применение прав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деятельность компетентных государственных органов по реализации правовых норм в конкретных жизненных ситуациях путем вынесения индивидуальных конкретных правовых предписаний – актов применения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5263B-654D-4ABE-AB24-11618D9769F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ПРИМЕНЕНИЯ ПР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сит властный характер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ет ряд стад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яется в процессуальной форме, (т.е. данная деятельность жестко регламентирована нормами прав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язано с вынесением индивидуального юридического решения, акта применения пра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о на установление конкретных правовых последствий- субъективных прав и обязанностей, мер поощрения и наказания и т.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02A8F-02DA-4824-A79F-690C28D1C87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МЕНЕНИЕ ПРАВА НЕОБХОДИМО, ЕСЛ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ивное право гражданина не может быть реализовано без государственно- властного ве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необходимость в установлении юридически значимых обстоятельст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 субъектами права существует спор об их правах и обязанностя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буется привлечь правонарушителя к ответственности, т.е. реализовать санкцию правовой норм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необходимость принять решение о награждении отличившихся гражда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D5568-4796-452B-B82D-5CD6FE6BC57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Стадии применения права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ие фактической основы де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ие юридической основы де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ятие решения по дел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нение ре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2ADC4-8F06-47B8-B153-0C975C7DC83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4. Правоприменительный акт: понятие, признаки, части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Акт применения права </a:t>
            </a:r>
            <a:r>
              <a:rPr b="0" lang="ru-RU" sz="1400" spc="-1" strike="noStrike">
                <a:solidFill>
                  <a:srgbClr val="ff0000"/>
                </a:solidFill>
                <a:latin typeface="Calibri"/>
              </a:rPr>
              <a:t>–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фициальный документ компетентного государственного органа, изданный на основе норм права и содержащий индивидуальное  государственно- властное предписание по конкретному дел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16690-4326-4240-B096-F57850A5B44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Акт применения права издаются в установленной законом форме и имеют следующие реквизи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у и место изд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менование органа, издавшего ак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ретного адреса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пись ответственного лиц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AF5E4-2859-40C2-999D-B62F5728828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Виды актов применения права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b050"/>
                </a:solidFill>
                <a:uFillTx/>
                <a:latin typeface="Calibri"/>
              </a:rPr>
              <a:t>1. По субъектам, издающим ак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ы представительных органов вла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ы исполнительных органов вла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ы правоохранительных органов(прокуратуры, судов и др.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ы органов государственного контроля(налоговых, таможенных и др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7F324-1421-489C-A39E-E2656A8371F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b050"/>
                </a:solidFill>
                <a:uFillTx/>
                <a:latin typeface="Calibri"/>
              </a:rPr>
              <a:t>2. По форм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азы, приговоры, решения, приказы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b050"/>
                </a:solidFill>
                <a:uFillTx/>
                <a:latin typeface="Calibri"/>
              </a:rPr>
              <a:t>3. По функция пр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регулятивные(приказ о повышении по службе) и охранительные( постановление о возбуждении уголовного дел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b050"/>
                </a:solidFill>
                <a:uFillTx/>
                <a:latin typeface="Calibri"/>
              </a:rPr>
              <a:t>4. По юридической природ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сновные(выражают конечное решение юридического дела, например, приговор)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вспомогательные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(подготавливают издание основных, в частности, постановление о привлечении лица в качестве обвиняемог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511B9-277C-4D73-845E-C67D3ACED7C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те, какие формы реализации права являются активными, какие пассивны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BDD7F-B522-48E2-9563-EE5FF928337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пределите форму реализации прав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ция предприятия предоставила слесарю И. очередной отпус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бушка подарила внучке на 18-летие золотое кольц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битуриент А. был зачислен в число студентов в бюджетную групп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ья А. вынес приговор по уголовному дел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удожник Е. написал картину и продал ее художественному салон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р - рецидивист Н. бежал из колонии усиленного режи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9D459-539C-41E9-B6AF-A990F29A16C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онятие реализации права. Формы реализации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Реализация права 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фактическое осуществление (воплощение) правовых предписаний в поведении субъек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Реализация права 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лощение предписаний правовых норм в реальной деятельности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Реализация права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CA4F6-C791-4BCA-8608-A4E0D46C4A9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F6531-4FB9-4F64-A922-60617EB57C7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осредственная форма реализации имеет место в тех случаях, когда субъекты права реализуют правовые предписания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амостоятельн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е опираясь на правоприменительную деятельность государственных орга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92CC6-D2E3-4040-892D-741968AFDBF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Использование –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форма реализации права, осуществление субъектами права предоставленных им прав по своему усмотрению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изуются управомочивающие нормы, в диспозициях которых предусмотрены субъективные пра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лагает свободу выбора и может быть осуществлено путем собственных фактических действий, посредством совершения юридических действий, через предъявление требования к обязанному лицу и в форме притязания, т.е. обращения в компетентный государственный орган за защитой нарушенного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E8180-4CF2-4508-99D4-5455B729832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ff0000"/>
                </a:solidFill>
                <a:latin typeface="Calibri"/>
              </a:rPr>
              <a:t>Исполнение -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форма реализации права, исполнение субъектами права обязанностей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изация обязывающих норм, предусматривающих позитивные обязан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бует активных действий в интересах управомоченной сторо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нность считается исполненной в случае, если она выполнена вовремя. В надлежащем месте и надлежащим образ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548C0-8551-40D2-871A-C92AE48DB83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Соблюдение 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форма реализации права,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держание от совершения запрещенных 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изуются запрещающие и охранительные норм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требует совершения каких- либо специальных действий по воплощению требований норм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EB3A0-6C20-49CC-B192-D63BD4D8B32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 опосредованной  форме реализации права осуществление прав и обязанностей субъектов права происходит с помощью правоприменительной деятельности государственных органов и должностных лиц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F1619-5AD4-4EFF-90AD-36D3AAEAAD1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3EBE-28F4-43C3-A8A7-0B2AD8C26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228C-1E9F-4D1A-B3B5-01D465A1C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8E3E-0DE0-4901-B858-1F929159E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040E-CF1A-4A47-A446-689DA5250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181A9-CCB3-4FEE-A7D9-2124D58AB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918FF-04DD-4AD6-867A-55C92853A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5D6F1-6BAC-4CE6-8D34-8CA32FD1A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8488F-93FD-4A76-A4DA-046FF3C20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FDDD9-65F9-418E-9CF2-32B3025B3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F022A-8A39-485E-BEE5-FFC2EA7A5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790D4-C41B-47FB-A16F-D1DA38D3F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C5B1-CEA5-446B-BE5C-9ABEF601C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C7495-799C-4826-8184-675023B8F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1E6AB-F698-47BE-B718-E452FAC1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BAA86-A618-4BE9-9A06-B694408AE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95B93-4CAC-433D-A97F-BC9BC14DF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C6C46-E283-408C-86DE-C7D5F53E3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46CF-39DB-489D-B14D-961A8D2CC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0546-7190-4966-B5A9-5935B2621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C5E4-B263-4B33-BA42-A40E425B4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4A4A-602A-430A-BC3B-ADEE544D4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593C-C69C-4FDE-A982-F7499B2A2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BAEC-9F69-4C6D-8F4B-CE3206813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60F8-036F-4101-BBC4-EBEE3F47B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3756A-18CC-4EDA-AC1A-04015FF4CD0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BAE23-1134-4F92-A794-00D63F2625D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954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Тема 13. РЕАЛИЗАЦИЯ ПРАВА.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394920" y="1628280"/>
            <a:ext cx="8280360" cy="47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Понятие реализации права. Формы реализации пра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Применение пра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Стадии применения пра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 Правоприменительный акт: понятие, признаки, ча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. Виды актов применения прав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72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dbbd71"/>
                </a:solidFill>
                <a:latin typeface="Arial"/>
              </a:rPr>
              <a:t>2. Применение права.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Применение права </a:t>
            </a:r>
            <a:r>
              <a:rPr b="0" lang="ru-RU" sz="3600" spc="-1" strike="noStrike">
                <a:solidFill>
                  <a:srgbClr val="dbbd71"/>
                </a:solidFill>
                <a:latin typeface="Arial"/>
              </a:rPr>
              <a:t>– деятельность компетентных государственных органов по реализации правовых норм в конкретных жизненных ситуациях путем вынесения индивидуальных конкретных правовых предписаний – актов применения права.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6" name="Місце для нижнього колонтитула 2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ПРИЗНАКИ ПРИМЕНЕНИЯ ПРАВА: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214200" y="785880"/>
            <a:ext cx="8715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носит властный характер;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имеет ряд стадий;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осуществляется в процессуальной форме, (т.е. данная деятельность жестко регламентирована нормами права);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связано с вынесением индивидуального юридического решения, акта применения права;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направлено на установление конкретных правовых последствий- субъективных прав и обязанностей, мер поощрения и наказания и т.п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3840" y="277560"/>
            <a:ext cx="8472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ПРИМЕНЕНИЕ ПРАВА НЕОБХОДИМО, ЕСЛИ: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42560" y="1071720"/>
            <a:ext cx="85438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705600" indent="-2714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убъективное право гражданина не может быть реализовано без государственно- властного веле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уществует необходимость в установлении юридически значимых обстоятельств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ежду субъектами права существует спор об их правах и обязанностях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ребуется привлечь правонарушителя к ответственности, т.е. реализовать санкцию правовой норм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уществует необходимость принять решение о награждении отличившихся гражда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3. Стадии применения права:</a:t>
            </a:r>
            <a:br>
              <a:rPr sz="4400"/>
            </a:b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643040"/>
            <a:ext cx="8229600" cy="44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установление фактической основы дела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установление юридической основы дела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ринятие решения по делу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Исполнение решени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4200" y="277560"/>
            <a:ext cx="878688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4. Правоприменительный акт: понятие, признаки, части.</a:t>
            </a:r>
            <a:br>
              <a:rPr sz="3200"/>
            </a:b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42920" y="1357200"/>
            <a:ext cx="8858160" cy="47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0" lang="ru-RU" sz="4200" spc="-1" strike="noStrike">
                <a:solidFill>
                  <a:srgbClr val="ff0000"/>
                </a:solidFill>
                <a:latin typeface="Tahoma"/>
              </a:rPr>
              <a:t>Акт применения права </a:t>
            </a:r>
            <a:r>
              <a:rPr b="0" lang="ru-RU" sz="4000" spc="-1" strike="noStrike">
                <a:solidFill>
                  <a:srgbClr val="ff0000"/>
                </a:solidFill>
                <a:latin typeface="Tahoma"/>
              </a:rPr>
              <a:t>–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официальный документ компетентного государственного органа, изданный на основе норм права и содержащий индивидуальное  государственно- властное предписание по конкретному делу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5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b829"/>
                </a:solidFill>
                <a:latin typeface="Arial"/>
              </a:rPr>
              <a:t>Акт применения права издаются в установленной законом форме и имеют следующие реквизиты: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2214720"/>
            <a:ext cx="8229600" cy="39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ату и место издан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именование органа, издавшего акт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нкретного адресат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дпись ответственного лиц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5. Виды актов применения права:</a:t>
            </a:r>
            <a:br>
              <a:rPr sz="3200"/>
            </a:b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071360"/>
            <a:ext cx="82296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b050"/>
                </a:solidFill>
                <a:uFillTx/>
                <a:latin typeface="Tahoma"/>
              </a:rPr>
              <a:t>1. По субъектам, издающим акт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кты представительных органов власт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кты исполнительных органов власт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кты правоохранительных органов(прокуратуры, судов и др.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кты органов государственного контроля(налоговых, таможенных и др.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b050"/>
                </a:solidFill>
                <a:uFillTx/>
                <a:latin typeface="Arial"/>
              </a:rPr>
              <a:t>2. По форме:</a:t>
            </a:r>
            <a:endParaRPr b="0" lang="en-US" sz="2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1430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Указы, приговоры, решения, приказы и др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b050"/>
                </a:solidFill>
                <a:uFillTx/>
                <a:latin typeface="Tahoma"/>
              </a:rPr>
              <a:t>3. По функция права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На регулятивные(приказ о повышении по службе) и охранительные( постановление о возбуждении уголовного дела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b050"/>
                </a:solidFill>
                <a:uFillTx/>
                <a:latin typeface="Tahoma"/>
              </a:rPr>
              <a:t>4. По юридической природе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на </a:t>
            </a:r>
            <a:r>
              <a:rPr b="0" i="1" lang="ru-RU" sz="2600" spc="-1" strike="noStrike">
                <a:solidFill>
                  <a:srgbClr val="ffffff"/>
                </a:solidFill>
                <a:latin typeface="Tahoma"/>
              </a:rPr>
              <a:t>основные(выражают конечное решение юридического дела, например, приговор) 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и 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вспомогательные</a:t>
            </a:r>
            <a:r>
              <a:rPr b="0" i="1" lang="ru-RU" sz="2600" spc="-1" strike="noStrike">
                <a:solidFill>
                  <a:srgbClr val="ffffff"/>
                </a:solidFill>
                <a:latin typeface="Tahoma"/>
              </a:rPr>
              <a:t>(подготавливают издание основных, в частности, постановление о привлечении лица в качестве обвиняемого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Определите, какие формы реализации права являются активными, какие пассивными. 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19" name="Содержимое 3" descr=""/>
          <p:cNvPicPr/>
          <p:nvPr/>
        </p:nvPicPr>
        <p:blipFill>
          <a:blip r:embed="rId1"/>
          <a:stretch/>
        </p:blipFill>
        <p:spPr>
          <a:xfrm>
            <a:off x="500040" y="1542960"/>
            <a:ext cx="8229600" cy="5338800"/>
          </a:xfrm>
          <a:prstGeom prst="rect">
            <a:avLst/>
          </a:prstGeom>
          <a:ln w="0">
            <a:noFill/>
          </a:ln>
        </p:spPr>
      </p:pic>
      <p:sp>
        <p:nvSpPr>
          <p:cNvPr id="220" name="Місце для нижнього колонтитула 2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3840" y="277920"/>
            <a:ext cx="84726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Определите форму реализации права.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214200" y="928800"/>
            <a:ext cx="878688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дминистрация предприятия предоставила слесарю И. очередной отпуск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абушка подарила внучке на 18-летие золотое кольц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битуриент А. был зачислен в число студентов в бюджетную групп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удья А. вынес приговор по уголовному дел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Художник Е. написал картину и продал ее художественному салон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р - рецидивист Н. бежал из колонии усиленного режим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dbbd71"/>
                </a:solidFill>
                <a:latin typeface="Arial"/>
              </a:rPr>
              <a:t>1. Понятие реализации права. Формы реализации права.</a:t>
            </a:r>
            <a:endParaRPr b="0" lang="en-US" sz="3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57120" y="1599840"/>
            <a:ext cx="8607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c00000"/>
                </a:solidFill>
                <a:latin typeface="Tahoma"/>
              </a:rPr>
              <a:t>Реализация права -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фактическое осуществление (воплощение) правовых предписаний в поведении субъект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c00000"/>
                </a:solidFill>
                <a:latin typeface="Tahoma"/>
              </a:rPr>
              <a:t>Реализация права -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площение предписаний правовых норм в реальной деятельности люд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c00000"/>
                </a:solidFill>
                <a:latin typeface="Tahoma"/>
              </a:rPr>
              <a:t>Реализация права -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Organization Chart 5"/>
          <p:cNvGrpSpPr/>
          <p:nvPr/>
        </p:nvGrpSpPr>
        <p:grpSpPr>
          <a:xfrm>
            <a:off x="250920" y="189000"/>
            <a:ext cx="8713080" cy="6407640"/>
            <a:chOff x="250920" y="189000"/>
            <a:chExt cx="8713080" cy="6407640"/>
          </a:xfrm>
        </p:grpSpPr>
        <p:cxnSp>
          <p:nvCxnSpPr>
            <p:cNvPr id="166" name="_s1028"/>
            <p:cNvCxnSpPr>
              <a:stCxn id="167" idx="0"/>
              <a:endCxn id="168" idx="1"/>
            </p:cNvCxnSpPr>
            <p:nvPr/>
          </p:nvCxnSpPr>
          <p:spPr>
            <a:xfrm flipV="1">
              <a:off x="7426440" y="2476800"/>
              <a:ext cx="3600" cy="45828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169" name="_s1029"/>
            <p:cNvCxnSpPr>
              <a:stCxn id="170" idx="0"/>
              <a:endCxn id="171" idx="3"/>
            </p:cNvCxnSpPr>
            <p:nvPr/>
          </p:nvCxnSpPr>
          <p:spPr>
            <a:xfrm rot="10800000">
              <a:off x="1787760" y="2476800"/>
              <a:ext cx="513000" cy="366228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172" name="_s1030"/>
            <p:cNvCxnSpPr>
              <a:stCxn id="173" idx="0"/>
              <a:endCxn id="171" idx="2"/>
            </p:cNvCxnSpPr>
            <p:nvPr/>
          </p:nvCxnSpPr>
          <p:spPr>
            <a:xfrm rot="10800000">
              <a:off x="1787760" y="2476800"/>
              <a:ext cx="513000" cy="228924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174" name="_s1031"/>
            <p:cNvCxnSpPr>
              <a:stCxn id="175" idx="0"/>
              <a:endCxn id="171" idx="1"/>
            </p:cNvCxnSpPr>
            <p:nvPr/>
          </p:nvCxnSpPr>
          <p:spPr>
            <a:xfrm rot="10800000">
              <a:off x="1787760" y="2476800"/>
              <a:ext cx="513000" cy="91584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176" name="_s1032"/>
            <p:cNvCxnSpPr>
              <a:stCxn id="168" idx="0"/>
              <a:endCxn id="177" idx="1"/>
            </p:cNvCxnSpPr>
            <p:nvPr/>
          </p:nvCxnSpPr>
          <p:spPr>
            <a:xfrm flipV="1" rot="16200000">
              <a:off x="5787000" y="-77400"/>
              <a:ext cx="458280" cy="2819880"/>
            </a:xfrm>
            <a:prstGeom prst="bentConnector3">
              <a:avLst>
                <a:gd name="adj1" fmla="val 26965"/>
              </a:avLst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178" name="_s1033"/>
            <p:cNvCxnSpPr>
              <a:stCxn id="171" idx="0"/>
              <a:endCxn id="177" idx="0"/>
            </p:cNvCxnSpPr>
            <p:nvPr/>
          </p:nvCxnSpPr>
          <p:spPr>
            <a:xfrm flipH="1" flipV="1" rot="5400000">
              <a:off x="2968560" y="-77040"/>
              <a:ext cx="458280" cy="2819160"/>
            </a:xfrm>
            <a:prstGeom prst="bentConnector3">
              <a:avLst>
                <a:gd name="adj1" fmla="val 26965"/>
              </a:avLst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177" name="_s1034"/>
            <p:cNvSpPr/>
            <p:nvPr/>
          </p:nvSpPr>
          <p:spPr>
            <a:xfrm>
              <a:off x="3069360" y="189000"/>
              <a:ext cx="3075120" cy="915120"/>
            </a:xfrm>
            <a:prstGeom prst="bevel">
              <a:avLst>
                <a:gd name="adj" fmla="val 12500"/>
              </a:avLst>
            </a:prstGeom>
            <a:solidFill>
              <a:srgbClr val="f8a500">
                <a:alpha val="50000"/>
              </a:srgbClr>
            </a:solidFill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Реализация права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1" name="_s1035"/>
            <p:cNvSpPr/>
            <p:nvPr/>
          </p:nvSpPr>
          <p:spPr>
            <a:xfrm>
              <a:off x="250920" y="1562040"/>
              <a:ext cx="3075120" cy="915120"/>
            </a:xfrm>
            <a:prstGeom prst="bevel">
              <a:avLst>
                <a:gd name="adj" fmla="val 12500"/>
              </a:avLst>
            </a:prstGeom>
            <a:solidFill>
              <a:srgbClr val="808000">
                <a:alpha val="50000"/>
              </a:srgbClr>
            </a:solidFill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непосредственная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8" name="_s1036"/>
            <p:cNvSpPr/>
            <p:nvPr/>
          </p:nvSpPr>
          <p:spPr>
            <a:xfrm>
              <a:off x="5888880" y="1562040"/>
              <a:ext cx="3075120" cy="915120"/>
            </a:xfrm>
            <a:prstGeom prst="bevel">
              <a:avLst>
                <a:gd name="adj" fmla="val 12500"/>
              </a:avLst>
            </a:prstGeom>
            <a:solidFill>
              <a:srgbClr val="808000">
                <a:alpha val="50000"/>
              </a:srgbClr>
            </a:solidFill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опосредованная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5" name="_s1037"/>
            <p:cNvSpPr/>
            <p:nvPr/>
          </p:nvSpPr>
          <p:spPr>
            <a:xfrm>
              <a:off x="2301120" y="2935080"/>
              <a:ext cx="2918520" cy="915120"/>
            </a:xfrm>
            <a:prstGeom prst="bevel">
              <a:avLst>
                <a:gd name="adj" fmla="val 12500"/>
              </a:avLst>
            </a:prstGeom>
            <a:solidFill>
              <a:srgbClr val="ffcc66">
                <a:alpha val="50000"/>
              </a:srgbClr>
            </a:solidFill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соблюдение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3" name="_s1038"/>
            <p:cNvSpPr/>
            <p:nvPr/>
          </p:nvSpPr>
          <p:spPr>
            <a:xfrm>
              <a:off x="2301120" y="4308480"/>
              <a:ext cx="2918520" cy="915120"/>
            </a:xfrm>
            <a:prstGeom prst="bevel">
              <a:avLst>
                <a:gd name="adj" fmla="val 12500"/>
              </a:avLst>
            </a:prstGeom>
            <a:solidFill>
              <a:srgbClr val="ffcc66">
                <a:alpha val="50000"/>
              </a:srgbClr>
            </a:solidFill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исполнение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0" name="_s1039"/>
            <p:cNvSpPr/>
            <p:nvPr/>
          </p:nvSpPr>
          <p:spPr>
            <a:xfrm>
              <a:off x="2301120" y="5681520"/>
              <a:ext cx="2918520" cy="915120"/>
            </a:xfrm>
            <a:prstGeom prst="bevel">
              <a:avLst>
                <a:gd name="adj" fmla="val 12500"/>
              </a:avLst>
            </a:prstGeom>
            <a:solidFill>
              <a:srgbClr val="ffcc66">
                <a:alpha val="50000"/>
              </a:srgbClr>
            </a:solidFill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использование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7" name="_s1040"/>
            <p:cNvSpPr/>
            <p:nvPr/>
          </p:nvSpPr>
          <p:spPr>
            <a:xfrm>
              <a:off x="5888880" y="2935080"/>
              <a:ext cx="3075120" cy="915120"/>
            </a:xfrm>
            <a:prstGeom prst="bevel">
              <a:avLst>
                <a:gd name="adj" fmla="val 12500"/>
              </a:avLst>
            </a:prstGeom>
            <a:solidFill>
              <a:srgbClr val="ffcc66">
                <a:alpha val="50000"/>
              </a:srgbClr>
            </a:solidFill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применение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7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Рисунок SmartArt 9" descr=""/>
          <p:cNvPicPr/>
          <p:nvPr/>
        </p:nvPicPr>
        <p:blipFill>
          <a:blip r:embed="rId1"/>
          <a:stretch/>
        </p:blipFill>
        <p:spPr>
          <a:xfrm>
            <a:off x="128520" y="139680"/>
            <a:ext cx="8813880" cy="6578640"/>
          </a:xfrm>
          <a:prstGeom prst="rect">
            <a:avLst/>
          </a:prstGeom>
          <a:ln w="0">
            <a:noFill/>
          </a:ln>
        </p:spPr>
      </p:pic>
      <p:sp>
        <p:nvSpPr>
          <p:cNvPr id="18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13840" y="285480"/>
            <a:ext cx="8643960" cy="607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Непосредственная форма реализации имеет место в тех случаях, когда субъекты права реализуют правовые предписания </a:t>
            </a:r>
            <a:r>
              <a:rPr b="0" lang="ru-RU" sz="4000" spc="-1" strike="noStrike" u="sng">
                <a:solidFill>
                  <a:srgbClr val="dbbd71"/>
                </a:solidFill>
                <a:uFillTx/>
                <a:latin typeface="Arial"/>
              </a:rPr>
              <a:t>самостоятельно</a:t>
            </a: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, </a:t>
            </a:r>
            <a:r>
              <a:rPr b="0" lang="ru-RU" sz="4000" spc="-1" strike="noStrike" u="sng">
                <a:solidFill>
                  <a:srgbClr val="dbbd71"/>
                </a:solidFill>
                <a:uFillTx/>
                <a:latin typeface="Arial"/>
              </a:rPr>
              <a:t>не опираясь на правоприменительную деятельность государственных органов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0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Использование –</a:t>
            </a: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 форма реализации права, осуществление субъектами права предоставленных им прав по своему усмотрению.</a:t>
            </a:r>
            <a:br>
              <a:rPr sz="3200"/>
            </a:b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214200" y="2143080"/>
            <a:ext cx="8715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еализуются управомочивающие нормы, в диспозициях которых предусмотрены субъективные прав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дполагает свободу выбора и может быть осуществлено путем собственных фактических действий, посредством совершения юридических действий, через предъявление требования к обязанному лицу и в форме притязания, т.е. обращения в компетентный государственный орган за защитой нарушенного пра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13840" y="285480"/>
            <a:ext cx="864396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Исполнение -</a:t>
            </a:r>
            <a:r>
              <a:rPr b="0" lang="ru-RU" sz="3600" spc="-1" strike="noStrike">
                <a:solidFill>
                  <a:srgbClr val="dbbd71"/>
                </a:solidFill>
                <a:latin typeface="Arial"/>
              </a:rPr>
              <a:t> форма реализации права, исполнение субъектами права обязанностей</a:t>
            </a:r>
            <a:br>
              <a:rPr sz="3600"/>
            </a:b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85840" y="2428920"/>
            <a:ext cx="850104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реализация обязывающих норм, предусматривающих позитивные обязанности;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требует активных действий в интересах управомоченной стороны;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обязанность считается исполненной в случае, если она выполнена вовремя. В надлежащем месте и надлежащим образом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85480" y="-360"/>
            <a:ext cx="864396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облюдение -</a:t>
            </a: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 форма реализации права,   </a:t>
            </a:r>
            <a:br>
              <a:rPr sz="3200"/>
            </a:b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воздержание от совершения запрещенных действий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214200" y="2357280"/>
            <a:ext cx="878688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реализуются запрещающие и охранительные нормы;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не требует совершения каких- либо специальных действий по воплощению требований норм права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14200" y="277920"/>
            <a:ext cx="8715600" cy="622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П</a:t>
            </a:r>
            <a:r>
              <a:rPr b="0" lang="ru-RU" sz="4200" spc="-1" strike="noStrike">
                <a:solidFill>
                  <a:srgbClr val="dbbd71"/>
                </a:solidFill>
                <a:latin typeface="Arial"/>
              </a:rPr>
              <a:t>ри  опосредованной  форме реализации права осуществление прав и обязанностей субъектов права происходит с помощью правоприменительной деятельности государственных органов и должностных лиц.</a:t>
            </a:r>
            <a:endParaRPr b="0" lang="en-US" sz="4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4" name="Місце для нижнього колонтитула 2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9T07:33:38Z</dcterms:created>
  <dc:creator>Кутузова</dc:creator>
  <dc:description/>
  <dc:language>en-US</dc:language>
  <cp:lastModifiedBy>LEGION</cp:lastModifiedBy>
  <dcterms:modified xsi:type="dcterms:W3CDTF">2015-01-28T10:13:17Z</dcterms:modified>
  <cp:revision>45</cp:revision>
  <dc:subject/>
  <dc:title>Слайд 1</dc:title>
</cp:coreProperties>
</file>