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5BE92-EB92-483B-ADBC-3F0D214EFBE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br>
              <a:rPr sz="8000"/>
            </a:br>
            <a:br>
              <a:rPr sz="8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Тема урока</a:t>
            </a:r>
            <a:br>
              <a:rPr sz="8000"/>
            </a:b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«Закон и власть»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0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0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0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0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1DC00-E3E5-4E0F-8D6D-EE212595C00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« Сильна Россия чудес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ff"/>
                </a:solidFill>
                <a:latin typeface="Times New Roman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 не устала их пле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десь выбирают овцы с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ебе волков себя пасти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cc"/>
                </a:solidFill>
                <a:latin typeface="Times New Roman"/>
              </a:rPr>
              <a:t>«Никакая власть не должна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ru-RU" sz="1200" spc="-1" strike="noStrike">
                <a:solidFill>
                  <a:srgbClr val="3333cc"/>
                </a:solidFill>
                <a:latin typeface="Times New Roman"/>
              </a:rPr>
              <a:t>превышать законы» (лат.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-Что объединяет содержание этих цитат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- Как это объяснить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- С какой позицией Вы согласны?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C71FE-57A7-4FD4-9EC3-54F7F811122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чём сущность власт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каком отношении находятся власть и закон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ое отношение имеет закон к власт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чём состоит смысл принципа разделения властей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овы функци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законодательной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исполнительной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судебно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твей власт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Согласны ли ВЫ с тем, что </a:t>
            </a:r>
            <a:r>
              <a:rPr b="1" lang="ru-RU" sz="1200" spc="-1" strike="noStrike">
                <a:solidFill>
                  <a:srgbClr val="808080"/>
                </a:solidFill>
                <a:latin typeface="Times New Roman"/>
              </a:rPr>
              <a:t>«закон, что дышло: куда повернёшь, туда и вышло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15CFD-1B90-4F25-BCAA-6492138CE90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понятия тем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ласть, разделение властей, законодательная власть, исполнительная власть, судебная власть, закон, конституция,  кодекс, подзаконный акт, правовой обычай, судебный прецедент, прокуратура, Конституционный суд, арбитражный суд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ды общей юрисдикции,  уголовный процесс, гражданский процесс, судебный иск, принципы правосуд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3D365-0C0D-4791-903C-66BD7489C61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4EC24-3F2F-48F4-874E-E5173E93FB0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ПС-форму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зиция (я думаю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снование (потому что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р (аргумен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едствие (вывод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Times New Roman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cc"/>
                </a:solidFill>
                <a:latin typeface="Times New Roman"/>
              </a:rPr>
              <a:t>«Закон суров, но это закон» - 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согласны ли Вы с этой поговоркой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Могут ли 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власть 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и 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закон 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жить в мире и согласии в нашем государстве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99"/>
                </a:solidFill>
                <a:latin typeface="Times New Roman"/>
              </a:rPr>
              <a:t>Есть ли такое, что мешает представителям власти соблюдать законы</a:t>
            </a:r>
            <a:r>
              <a:rPr b="0" lang="en-US" sz="1200" spc="-1" strike="noStrike">
                <a:solidFill>
                  <a:srgbClr val="cc0099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Когда я буду совершеннолетним гражданином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554AC-B5D3-4A6C-8A47-64B8233BFAA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CD760-D70A-4656-9C04-A1CBCC64C99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F0F3-FA3B-46ED-9803-9DF2CF552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23D1-85A3-438E-8588-C91D4E2C0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9282-DA89-4758-A1F1-7D15FDD06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39FA-408C-4DE5-8674-DB6FD8AFA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0ED5-8AA7-4C06-A324-325C53F17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B5E7-5F25-4C79-AE01-4F53A4EFE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562A-5C2C-4681-B020-3FA7B9658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AED2-3922-40D4-B833-54C7F929F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6D2C-1C92-4636-B306-2F58CEBCB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5931-5CF1-4423-A0E3-E896A022A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0AFE-064F-431F-B444-4838142B0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1D98-2A5C-43F7-8652-BE684399A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2A380-90CF-41F5-A0C8-5F91C45A691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br>
              <a:rPr sz="8000"/>
            </a:br>
            <a:br>
              <a:rPr sz="8000"/>
            </a:br>
            <a:r>
              <a:rPr b="1" lang="ru-RU" sz="4000" spc="-1" strike="noStrike">
                <a:solidFill>
                  <a:srgbClr val="808000"/>
                </a:solidFill>
                <a:latin typeface="Times New Roman"/>
              </a:rPr>
              <a:t>Тема урока</a:t>
            </a:r>
            <a:br>
              <a:rPr sz="8000"/>
            </a:br>
            <a:r>
              <a:rPr b="1" lang="ru-RU" sz="7200" spc="-1" strike="noStrike">
                <a:solidFill>
                  <a:srgbClr val="808000"/>
                </a:solidFill>
                <a:latin typeface="Times New Roman"/>
              </a:rPr>
              <a:t>«Закон и власть»</a:t>
            </a:r>
            <a:endParaRPr b="0" lang="en-US" sz="7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89000"/>
            <a:ext cx="7772400" cy="59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 Сильна Россия чудеса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 не устала их плес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десь выбирают овцы са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ебе волков себя пасти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«Никакая власть не должна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превышать законы» (лат.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-Что объединяет содержание этих цитат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- Как это объяснить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- С какой позицией Вы согласны?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620280"/>
            <a:ext cx="77724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чём сущность власт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каком отношении находятся власть и закон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ое отношение имеет закон к власт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чём состоит смысл принципа разделения властей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овы функци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законодательной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исполнительной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судебно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твей власт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Согласны ли ВЫ с тем, что </a:t>
            </a:r>
            <a:r>
              <a:rPr b="1" lang="ru-RU" sz="2800" spc="-1" strike="noStrike">
                <a:solidFill>
                  <a:srgbClr val="666633"/>
                </a:solidFill>
                <a:latin typeface="Times New Roman"/>
              </a:rPr>
              <a:t>«закон, что дышло: куда повернёшь, туда и вышло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Основные понятия темы: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ласть, разделение властей, законодательная власть, исполнительная власть, судебная власть, закон, конституция,  кодекс, подзаконный акт, правовой обычай, судебный прецедент, прокуратура, Конституционный суд, арбитражный суд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уды общей юрисдикции,  уголовный процесс, гражданский процесс, судебный иск, принципы правосуди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ПОПС-формула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362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зиция (я думаю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основание (потому что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мер (аргумент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едствие (вывод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800000"/>
                </a:solidFill>
                <a:latin typeface="Times New Roman"/>
              </a:rPr>
              <a:t>рефлексия</a:t>
            </a:r>
            <a:endParaRPr b="0" lang="en-US" sz="6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«Закон суров, но это закон» -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согласны ли Вы с этой поговоркой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Могут ли </a:t>
            </a: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власть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и </a:t>
            </a: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закон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жить в мире и согласии в нашем государстве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99"/>
                </a:solidFill>
                <a:latin typeface="Times New Roman"/>
              </a:rPr>
              <a:t>Есть ли такое, что мешает представителям власти соблюдать законы</a:t>
            </a:r>
            <a:r>
              <a:rPr b="0" lang="en-US" sz="2000" spc="-1" strike="noStrike">
                <a:solidFill>
                  <a:srgbClr val="cc0099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Когда я буду совершеннолетним гражданином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пасибо за работу 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08:05:17Z</dcterms:created>
  <dc:creator>Елена Владимировна</dc:creator>
  <dc:description/>
  <dc:language>en-US</dc:language>
  <cp:lastModifiedBy>LEGION</cp:lastModifiedBy>
  <dcterms:modified xsi:type="dcterms:W3CDTF">2015-01-28T10:51:33Z</dcterms:modified>
  <cp:revision>10</cp:revision>
  <dc:subject/>
  <dc:title>ПОПС-формула</dc:title>
</cp:coreProperties>
</file>