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9E86F-8F1D-479B-B696-C4438CE27D4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br>
              <a:rPr sz="8000"/>
            </a:br>
            <a:br>
              <a:rPr sz="8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Тема урока</a:t>
            </a:r>
            <a:br>
              <a:rPr sz="8000"/>
            </a:b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«Закон и власть»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0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0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0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0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F5121-5620-42AB-882C-B6FF1415CD9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« Сильна Россия чудес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ff"/>
                </a:solidFill>
                <a:latin typeface="Times New Roman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 не устала их пле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десь выбирают овцы с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ебе волков себя пасти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cc"/>
                </a:solidFill>
                <a:latin typeface="Times New Roman"/>
              </a:rPr>
              <a:t>«Никакая власть не должна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ru-RU" sz="1200" spc="-1" strike="noStrike">
                <a:solidFill>
                  <a:srgbClr val="3333cc"/>
                </a:solidFill>
                <a:latin typeface="Times New Roman"/>
              </a:rPr>
              <a:t>превышать законы» (лат.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-Что объединяет содержание этих цитат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- Как это объяснить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- С какой позицией Вы согласны?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B51A3-7387-42EF-95D9-CA89433DAC5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чём сущность власт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каком отношении находятся власть и закон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ое отношение имеет закон к власт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чём состоит смысл принципа разделения властей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овы функци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законодательной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исполнительной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судебно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твей власт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Согласны ли ВЫ с тем, что </a:t>
            </a:r>
            <a:r>
              <a:rPr b="1" lang="ru-RU" sz="1200" spc="-1" strike="noStrike">
                <a:solidFill>
                  <a:srgbClr val="808080"/>
                </a:solidFill>
                <a:latin typeface="Times New Roman"/>
              </a:rPr>
              <a:t>«закон, что дышло: куда повернёшь, туда и вышло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FD32A-D551-4445-8E77-00E452E2E4A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понятия тем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ласть, разделение властей, законодательная власть, исполнительная власть, судебная власть, закон, конституция,  кодекс, подзаконный акт, правовой обычай, судебный прецедент, прокуратура, Конституционный суд, арбитражный суд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ды общей юрисдикции,  уголовный процесс, гражданский процесс, судебный иск, принципы правосуд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B6474-46BC-47A4-8C2C-9980BD3281D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5C2F2-1335-4E8B-8A43-943C6BDA6FB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ПС-форму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зиция (я думаю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снование (потому что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р (аргумен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едствие (вывод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Times New Roman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cc"/>
                </a:solidFill>
                <a:latin typeface="Times New Roman"/>
              </a:rPr>
              <a:t>«Закон суров, но это закон» - 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согласны ли Вы с этой поговоркой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Могут ли 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власть 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и 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закон 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жить в мире и согласии в нашем государстве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99"/>
                </a:solidFill>
                <a:latin typeface="Times New Roman"/>
              </a:rPr>
              <a:t>Есть ли такое, что мешает представителям власти соблюдать законы</a:t>
            </a:r>
            <a:r>
              <a:rPr b="0" lang="en-US" sz="1200" spc="-1" strike="noStrike">
                <a:solidFill>
                  <a:srgbClr val="cc0099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Когда я буду совершеннолетним гражданином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D8237-BC8F-43E4-8C59-6525741F6E8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35435-D726-4383-B829-DED377D3B87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BEE5-B013-454E-A882-D27809415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C383-17D2-497F-8CA9-454C58408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828A-207B-4870-986E-13873A058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4BFA-3473-48AE-933B-DC3BF0793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F941-EF2C-4DCA-AAEA-58F302B7B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AE5E-9EB7-4180-A761-14738BA0E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E2FE-9372-493E-A929-6EB0AD68F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3BB2-BE47-486A-80F0-8545FD419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4C31-50A9-4A70-B6ED-00F11F65F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7B29-2526-4E7C-8B55-F7895626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7278-F12F-466D-8E01-886F91E55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F19E-D9C8-44BC-8BA2-EA125B25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A9911-D5CC-436C-9E9C-2CC3444F495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br>
              <a:rPr sz="8000"/>
            </a:br>
            <a:br>
              <a:rPr sz="8000"/>
            </a:br>
            <a:r>
              <a:rPr b="1" lang="ru-RU" sz="4000" spc="-1" strike="noStrike">
                <a:solidFill>
                  <a:srgbClr val="808000"/>
                </a:solidFill>
                <a:latin typeface="Times New Roman"/>
              </a:rPr>
              <a:t>Тема урока</a:t>
            </a:r>
            <a:br>
              <a:rPr sz="8000"/>
            </a:br>
            <a:r>
              <a:rPr b="1" lang="ru-RU" sz="7200" spc="-1" strike="noStrike">
                <a:solidFill>
                  <a:srgbClr val="808000"/>
                </a:solidFill>
                <a:latin typeface="Times New Roman"/>
              </a:rPr>
              <a:t>«Закон и власть»</a:t>
            </a:r>
            <a:endParaRPr b="0" lang="en-US" sz="7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89000"/>
            <a:ext cx="7772400" cy="59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 Сильна Россия чудеса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 не устала их плес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десь выбирают овцы са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ебе волков себя пасти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«Никакая власть не должна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превышать законы» (лат.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-Что объединяет содержание этих цитат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- Как это объяснить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- С какой позицией Вы согласны?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620280"/>
            <a:ext cx="77724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чём сущность власт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каком отношении находятся власть и закон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ое отношение имеет закон к власт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чём состоит смысл принципа разделения властей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овы функци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законодательной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исполнительной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судебно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твей власт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Согласны ли ВЫ с тем, что </a:t>
            </a:r>
            <a:r>
              <a:rPr b="1" lang="ru-RU" sz="2800" spc="-1" strike="noStrike">
                <a:solidFill>
                  <a:srgbClr val="666633"/>
                </a:solidFill>
                <a:latin typeface="Times New Roman"/>
              </a:rPr>
              <a:t>«закон, что дышло: куда повернёшь, туда и вышло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Основные понятия темы: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ласть, разделение властей, законодательная власть, исполнительная власть, судебная власть, закон, конституция,  кодекс, подзаконный акт, правовой обычай, судебный прецедент, прокуратура, Конституционный суд, арбитражный суд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уды общей юрисдикции,  уголовный процесс, гражданский процесс, судебный иск, принципы правосуди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ПОПС-формула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362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зиция (я думаю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основание (потому что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мер (аргумент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едствие (вывод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800000"/>
                </a:solidFill>
                <a:latin typeface="Times New Roman"/>
              </a:rPr>
              <a:t>рефлексия</a:t>
            </a:r>
            <a:endParaRPr b="0" lang="en-US" sz="6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«Закон суров, но это закон» -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согласны ли Вы с этой поговоркой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Могут ли </a:t>
            </a: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власть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и </a:t>
            </a: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закон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жить в мире и согласии в нашем государстве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99"/>
                </a:solidFill>
                <a:latin typeface="Times New Roman"/>
              </a:rPr>
              <a:t>Есть ли такое, что мешает представителям власти соблюдать законы</a:t>
            </a:r>
            <a:r>
              <a:rPr b="0" lang="en-US" sz="2000" spc="-1" strike="noStrike">
                <a:solidFill>
                  <a:srgbClr val="cc0099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Когда я буду совершеннолетним гражданином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пасибо за работу 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08:05:17Z</dcterms:created>
  <dc:creator>Елена Владимировна</dc:creator>
  <dc:description/>
  <dc:language>en-US</dc:language>
  <cp:lastModifiedBy>LEGION</cp:lastModifiedBy>
  <dcterms:modified xsi:type="dcterms:W3CDTF">2015-01-28T10:51:33Z</dcterms:modified>
  <cp:revision>10</cp:revision>
  <dc:subject/>
  <dc:title>ПОПС-формула</dc:title>
</cp:coreProperties>
</file>