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BC82-C884-4E26-9F24-256D446CF1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втор – Кригер Ю.Н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8755-1AA5-4A6F-9443-420A3FD868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торой момент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3B72-A702-47FF-9C4F-8744163F59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0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СОЗДАНИЕ УСЛОВИЙ ДЛЯ ПОСТЕПЕННОГО ВОЗРАСТАНИЯ СТЕПЕНИ ОТВЕТСТВЕННОСТИ ЧЕРЕЗ ВСЕ БОЛЬШЕЕ РАЗДЕЛЕНИЕ ЕЕ С ВЗРОСЛЫ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-ЕДИНСТВЕННО ВОЗМОЖНЫЙ ПУТЬ НАУЧИТЬ РЕБЕНКА БЫТЬ ОТВЕТСТВЕННЫМ ЗА СВОИ ПОСТУПКИ И ЖИЗНЬ ПЕРЕД ДРУГИМИ И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8B88-0C6D-462A-885A-6889F494A1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1C9F-2BD5-42C2-966A-2695E9CCAB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CB40-E9A8-4A77-BCD9-D88955184E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5A4E-5409-4F51-A091-459578F548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ава и обязанности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Воспитан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36CD-6AA6-4345-8113-EA349400F2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АЯ КУЛЬТУ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4D93-30CF-4658-B5F8-142E6BE40A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дительские права и обязанност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Забота о детях, их воспитание - равное право и обязанность родителей (ч.2 ст.38 Конституции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B71F-BF83-4A21-827E-A56EA6FF69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Родит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■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8B0C-0B2D-41AE-8203-E959905CCB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070d"/>
                </a:solidFill>
                <a:latin typeface="Calibri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1200" spc="-1" strike="noStrike">
                <a:solidFill>
                  <a:srgbClr val="03070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2B33-36D0-4225-AF4B-7537173DD7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Де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9FD5-2736-49B4-9F04-B071FD35DE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15968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623B-BC17-41A4-A52D-BA256D53C2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12A5-F743-490F-A15B-B6520BBB0E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957-9951-4FCA-B5E5-7E37298D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4B5-75E0-49D8-A511-7FF1FD13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537-9D54-4D90-876F-86478792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D83-3D93-4273-A9E3-ACFC5D68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3FA9-5D37-42A5-863F-57E3676C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C69E-6BB0-4A2F-89D3-9D0684F9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0B5E-1283-4994-A985-4D0A4DB8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D7B3-F951-4601-A852-56BE868F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3AC8-29B4-418A-AA37-C2E0E3D9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DB88-62B1-4E9F-BD53-B77A7019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8495-8FC2-4E32-8B63-436C038E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93A-834D-4B73-9AB1-7518A574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F4E1-3BB4-40E3-8C1A-FF6A1F38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2882-F4FE-4A98-907B-CA7C6550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48EF-6C2A-42FF-8735-4C20EA31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D5DA-CC7B-4217-BF31-6A1B90DE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F3B3-D505-4449-9369-0D4167FD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950-4A17-4D5F-8FD7-40B88658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2B0-66F3-4937-A0DB-5C62D53C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9B5-174F-4FCF-B9D3-97D211F6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97A-3072-4753-9F61-BEA8427F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6EB-3EC6-45C1-822B-CF99E9A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DB0-32BC-4593-B291-D1A9AFE2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169-D48A-4D45-8919-03B75031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C134-04B9-4594-9868-A4253856631C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53DC-14DD-49EC-9D5A-B51AC194F88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0DFC-1010-49B3-A690-4B0913FDA035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1D4C-2335-44E2-9EFC-CF0082E7275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9064800" cy="5834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838760"/>
            <a:ext cx="6400800" cy="16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 – Кригер Ю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571680" y="78588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1928880"/>
            <a:ext cx="721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торой момент –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571680" y="3935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Rectangle 1"/>
          <p:cNvGrpSpPr/>
          <p:nvPr/>
        </p:nvGrpSpPr>
        <p:grpSpPr>
          <a:xfrm>
            <a:off x="347760" y="1547640"/>
            <a:ext cx="8583480" cy="3468960"/>
            <a:chOff x="347760" y="1547640"/>
            <a:chExt cx="8583480" cy="3468960"/>
          </a:xfrm>
        </p:grpSpPr>
        <p:pic>
          <p:nvPicPr>
            <p:cNvPr id="129" name="Rectangle 1" descr=""/>
            <p:cNvPicPr/>
            <p:nvPr/>
          </p:nvPicPr>
          <p:blipFill>
            <a:blip r:embed="rId1"/>
            <a:stretch/>
          </p:blipFill>
          <p:spPr>
            <a:xfrm>
              <a:off x="347760" y="1547640"/>
              <a:ext cx="8583480" cy="34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00040" y="1656000"/>
              <a:ext cx="8215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СОЗДАНИЕ УСЛОВИЙ ДЛЯ ПОСТЕПЕННОГО ВОЗРАСТАНИЯ СТЕПЕНИ ОТВЕТСТВЕННОСТИ ЧЕРЕЗ ВСЕ БОЛЬШЕЕ РАЗДЕЛЕНИЕ ЕЕ С ВЗРОСЛЫМ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-ЕДИНСТВЕННО ВОЗМОЖНЫЙ ПУТЬ НАУЧИТЬ РЕБЕНКА БЫТЬ ОТВЕТСТВЕННЫМ ЗА СВОИ ПОСТУПКИ И ЖИЗНЬ ПЕРЕД ДРУГИМИ И САМИМ СОБО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5"/>
          <p:cNvSpPr/>
          <p:nvPr/>
        </p:nvSpPr>
        <p:spPr>
          <a:xfrm>
            <a:off x="0" y="-561960"/>
            <a:ext cx="392904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600" spc="-1" strike="noStrike">
                <a:solidFill>
                  <a:srgbClr val="333333"/>
                </a:solidFill>
                <a:latin typeface="Arial"/>
                <a:ea typeface="Times New Roman"/>
              </a:rPr>
              <a:t>Вывод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428840" y="312840"/>
            <a:ext cx="5286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7168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B_ne.gif"/>
          <p:cNvPicPr/>
          <p:nvPr/>
        </p:nvPicPr>
        <p:blipFill>
          <a:blip r:embed="rId1"/>
          <a:stretch/>
        </p:blipFill>
        <p:spPr>
          <a:xfrm>
            <a:off x="1285920" y="1143000"/>
            <a:ext cx="5715000" cy="53578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500040" y="285840"/>
            <a:ext cx="531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571680" y="1643040"/>
            <a:ext cx="56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ок вызвал подозр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571680" y="2071800"/>
            <a:ext cx="51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2" descr="ФОТО:"/>
          <p:cNvPicPr/>
          <p:nvPr/>
        </p:nvPicPr>
        <p:blipFill>
          <a:blip r:embed="rId1"/>
          <a:stretch/>
        </p:blipFill>
        <p:spPr>
          <a:xfrm>
            <a:off x="4857840" y="185724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ава и обязанности родителей и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Воспитание ответств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Если подросток попал в милици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57120" y="4287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АВОВАЯ КУЛЬТУР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286000" y="3714840"/>
            <a:ext cx="642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 flipV="1" rot="10800000">
            <a:off x="357120" y="213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дительские права и обязанности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090440"/>
            <a:ext cx="9169560" cy="35179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9"/>
          <p:cNvGrpSpPr/>
          <p:nvPr/>
        </p:nvGrpSpPr>
        <p:grpSpPr>
          <a:xfrm>
            <a:off x="6071760" y="2857680"/>
            <a:ext cx="2714040" cy="3726720"/>
            <a:chOff x="6071760" y="2857680"/>
            <a:chExt cx="2714040" cy="3726720"/>
          </a:xfrm>
        </p:grpSpPr>
        <p:pic>
          <p:nvPicPr>
            <p:cNvPr id="101" name="Object 4" descr="Зеленый мрамор"/>
            <p:cNvPicPr/>
            <p:nvPr/>
          </p:nvPicPr>
          <p:blipFill>
            <a:blip r:embed="rId2"/>
            <a:stretch/>
          </p:blipFill>
          <p:spPr>
            <a:xfrm>
              <a:off x="6072120" y="2857680"/>
              <a:ext cx="2709720" cy="331092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102" name="Text Box 38"/>
            <p:cNvSpPr/>
            <p:nvPr/>
          </p:nvSpPr>
          <p:spPr>
            <a:xfrm flipH="1">
              <a:off x="6071400" y="6216120"/>
              <a:ext cx="271404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57120" y="922680"/>
            <a:ext cx="7500960" cy="1008720"/>
          </a:xfrm>
          <a:prstGeom prst="rect">
            <a:avLst/>
          </a:prstGeom>
          <a:solidFill>
            <a:srgbClr val="dfdae3"/>
          </a:soli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57120" y="2357280"/>
            <a:ext cx="750096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 flipV="1" rot="10800000">
            <a:off x="357120" y="3761640"/>
            <a:ext cx="7500960" cy="39888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 flipV="1" rot="10800000">
            <a:off x="357120" y="4642560"/>
            <a:ext cx="742968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285840" y="3571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43466"/>
                </a:solidFill>
                <a:uFillTx/>
                <a:latin typeface="Times New Roman"/>
              </a:rPr>
              <a:t>Р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57120" y="2872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428760" y="128592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117"/>
                </a:solidFill>
                <a:latin typeface="Times New Roman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4400" spc="-1" strike="noStrike">
                <a:solidFill>
                  <a:srgbClr val="141117"/>
                </a:solidFill>
                <a:latin typeface="Book Antiqu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00040" y="441000"/>
            <a:ext cx="785808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57120" y="285840"/>
            <a:ext cx="46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  </a:t>
            </a: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Дет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14200" y="7873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82971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14200" y="150012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2971"/>
                </a:solidFill>
                <a:latin typeface="Times New Roman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57120" y="290160"/>
            <a:ext cx="82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5840" y="178596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857160" y="282888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786120" y="415836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8:21Z</dcterms:created>
  <dc:creator>Роман</dc:creator>
  <dc:description/>
  <dc:language>en-US</dc:language>
  <cp:lastModifiedBy>LEGION</cp:lastModifiedBy>
  <dcterms:modified xsi:type="dcterms:W3CDTF">2015-01-28T10:15:59Z</dcterms:modified>
  <cp:revision>9</cp:revision>
  <dc:subject/>
  <dc:title>    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 </dc:title>
</cp:coreProperties>
</file>