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2B69-9A2D-4C47-BF02-8AAE5DD049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втор – Кригер Ю.Н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BFF1-FFDF-4686-8751-412D6505EF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момент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22CE-609D-4DDE-8373-76484FC5AD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0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ЗДАНИЕ УСЛОВИЙ ДЛЯ ПОСТЕПЕННОГО ВОЗРАСТАНИЯ СТЕПЕНИ ОТВЕТСТВЕННОСТИ ЧЕРЕЗ ВСЕ БОЛЬШЕЕ РАЗДЕЛЕНИЕ ЕЕ С ВЗРОСЛЫ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ЕДИНСТВЕННО ВОЗМОЖНЫЙ ПУТЬ НАУЧИТЬ РЕБЕНКА БЫТЬ ОТВЕТСТВЕННЫМ ЗА СВОИ ПОСТУПКИ И ЖИЗНЬ ПЕРЕД ДРУГИМИ И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6ED3-8EEB-4AEE-9156-759754B8DB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7294-D0F8-457A-8234-A17F1FF14D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B2FB-B7BA-4F26-9927-535CCF97F0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EBB1-8E0F-41CA-83B4-37587E382F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ава и обязанности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Воспитан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6A5E-4CBD-4A4D-A716-12DBE1F4F0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EED7-3472-4B4E-A1D5-3578198846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ьские права и обязанност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Забота о детях, их воспитание - равное право и обязанность родителей (ч.2 ст.38 Конституции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39E2-F9AD-489B-B372-453AED3879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Род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■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EDA7-05B0-4490-B094-9222D7209E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070d"/>
                </a:solidFill>
                <a:latin typeface="Calibri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1200" spc="-1" strike="noStrike">
                <a:solidFill>
                  <a:srgbClr val="03070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BB3A-4563-4472-B661-4D1407249D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Де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2E1F-BEA2-4106-9A81-8699921340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15968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FDF-24FA-4372-89E1-2AF6700984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3EBC-DFAE-46AE-831E-DFE4B43728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7A6-70C6-4855-B17E-019EB6F3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5FE-687E-45A4-8A5C-837761E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B0C-C7B3-4417-A141-EA3A3657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4E6-CBEF-4368-BF7E-4FE68CD5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EA9D-44C3-41AE-8CAF-E7F2D052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DE11-B47D-4707-B872-17C2FC4B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9B53-EC0D-40F8-9BD3-D4D4924F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CA53-D23F-4A2F-A7C6-0CBE6F6B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7118-FAB3-4ABE-8A8D-8302CC8F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3E6F-BF84-43A8-86D5-4746DE3E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12F7-94F2-411C-97A7-F90CAB1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EAE-4774-4F2B-B86A-BC97E9C3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3D68-2CB0-4151-AA50-B7B8B95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F7E6-2464-489A-83B2-3883EFE6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6344-0AF5-4E13-9309-83FED3DF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2FD6-EDAC-46FE-B43D-601D239A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4262-394B-4FAB-B426-53039831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4CE-5CD1-4202-9A31-2F73B4D8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124-F026-4686-A369-EA1F3BF4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490-5C52-4F3D-8929-2FEADCA6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7A8-4AFF-4E8C-8A82-D19CEED0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E24-4E56-4E91-AC4F-3425B81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A64-9A97-40A0-8C84-9BC12757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706-5874-4DF3-81B8-E0BBBCB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A214-22E1-435F-A05D-4C6CABD1EF7C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9442-9090-4D4E-BD42-32F224AA9ED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51AE-8E55-406E-804D-8242D58BE8C1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E30A-5800-4955-A805-7EE1FFF0498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9064800" cy="5834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838760"/>
            <a:ext cx="640080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– Кригер Ю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71680" y="7858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192888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момент –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71680" y="3935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1"/>
          <p:cNvGrpSpPr/>
          <p:nvPr/>
        </p:nvGrpSpPr>
        <p:grpSpPr>
          <a:xfrm>
            <a:off x="347760" y="1547640"/>
            <a:ext cx="8583480" cy="3468960"/>
            <a:chOff x="347760" y="1547640"/>
            <a:chExt cx="8583480" cy="3468960"/>
          </a:xfrm>
        </p:grpSpPr>
        <p:pic>
          <p:nvPicPr>
            <p:cNvPr id="129" name="Rectangle 1" descr=""/>
            <p:cNvPicPr/>
            <p:nvPr/>
          </p:nvPicPr>
          <p:blipFill>
            <a:blip r:embed="rId1"/>
            <a:stretch/>
          </p:blipFill>
          <p:spPr>
            <a:xfrm>
              <a:off x="347760" y="1547640"/>
              <a:ext cx="858348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00040" y="1656000"/>
              <a:ext cx="8215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ОЗДАНИЕ УСЛОВИЙ ДЛЯ ПОСТЕПЕННОГО ВОЗРАСТАНИЯ СТЕПЕНИ ОТВЕТСТВЕННОСТИ ЧЕРЕЗ ВСЕ БОЛЬШЕЕ РАЗДЕЛЕНИЕ ЕЕ С ВЗРОСЛЫМ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-ЕДИНСТВЕННО ВОЗМОЖНЫЙ ПУТЬ НАУЧИТЬ РЕБЕНКА БЫТЬ ОТВЕТСТВЕННЫМ ЗА СВОИ ПОСТУПКИ И ЖИЗНЬ ПЕРЕД ДРУГИМИ И САМИМ СОБО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5"/>
          <p:cNvSpPr/>
          <p:nvPr/>
        </p:nvSpPr>
        <p:spPr>
          <a:xfrm>
            <a:off x="0" y="-561960"/>
            <a:ext cx="392904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600" spc="-1" strike="noStrike">
                <a:solidFill>
                  <a:srgbClr val="333333"/>
                </a:solidFill>
                <a:latin typeface="Arial"/>
                <a:ea typeface="Times New Roman"/>
              </a:rPr>
              <a:t>Вывод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428840" y="3128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7168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B_ne.gif"/>
          <p:cNvPicPr/>
          <p:nvPr/>
        </p:nvPicPr>
        <p:blipFill>
          <a:blip r:embed="rId1"/>
          <a:stretch/>
        </p:blipFill>
        <p:spPr>
          <a:xfrm>
            <a:off x="1285920" y="1143000"/>
            <a:ext cx="5715000" cy="53578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00040" y="285840"/>
            <a:ext cx="531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571680" y="1643040"/>
            <a:ext cx="56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ок вызвал подозр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571680" y="2071800"/>
            <a:ext cx="51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2" descr="ФОТО:"/>
          <p:cNvPicPr/>
          <p:nvPr/>
        </p:nvPicPr>
        <p:blipFill>
          <a:blip r:embed="rId1"/>
          <a:stretch/>
        </p:blipFill>
        <p:spPr>
          <a:xfrm>
            <a:off x="4857840" y="185724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ава и обязанности родителей и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Воспитание ответств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Если подросток попал в милици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ВАЯ КУЛЬТУ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37148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 flipV="1" rot="10800000">
            <a:off x="357120" y="213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ие права и обязанности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90440"/>
            <a:ext cx="916956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9"/>
          <p:cNvGrpSpPr/>
          <p:nvPr/>
        </p:nvGrpSpPr>
        <p:grpSpPr>
          <a:xfrm>
            <a:off x="6071760" y="2857680"/>
            <a:ext cx="2714040" cy="3726720"/>
            <a:chOff x="6071760" y="2857680"/>
            <a:chExt cx="2714040" cy="3726720"/>
          </a:xfrm>
        </p:grpSpPr>
        <p:pic>
          <p:nvPicPr>
            <p:cNvPr id="101" name="Object 4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6072120" y="2857680"/>
              <a:ext cx="2709720" cy="3310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02" name="Text Box 38"/>
            <p:cNvSpPr/>
            <p:nvPr/>
          </p:nvSpPr>
          <p:spPr>
            <a:xfrm flipH="1">
              <a:off x="6071400" y="6216120"/>
              <a:ext cx="27140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57120" y="922680"/>
            <a:ext cx="7500960" cy="1008720"/>
          </a:xfrm>
          <a:prstGeom prst="rect">
            <a:avLst/>
          </a:prstGeom>
          <a:solidFill>
            <a:srgbClr val="dfdae3"/>
          </a:soli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2357280"/>
            <a:ext cx="750096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 flipV="1" rot="10800000">
            <a:off x="357120" y="3761640"/>
            <a:ext cx="7500960" cy="39888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 flipV="1" rot="10800000">
            <a:off x="357120" y="4642560"/>
            <a:ext cx="742968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285840" y="357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43466"/>
                </a:solidFill>
                <a:uFillTx/>
                <a:latin typeface="Times New Roman"/>
              </a:rPr>
              <a:t>Р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872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428760" y="128592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117"/>
                </a:solidFill>
                <a:latin typeface="Times New Roman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4400" spc="-1" strike="noStrike">
                <a:solidFill>
                  <a:srgbClr val="141117"/>
                </a:solidFill>
                <a:latin typeface="Book Antiqu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00040" y="441000"/>
            <a:ext cx="7858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57120" y="2858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  </a:t>
            </a: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Де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14200" y="7873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82971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14200" y="150012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2971"/>
                </a:solidFill>
                <a:latin typeface="Times New Roman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57120" y="29016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5840" y="178596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57160" y="28288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786120" y="41583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8:21Z</dcterms:created>
  <dc:creator>Роман</dc:creator>
  <dc:description/>
  <dc:language>en-US</dc:language>
  <cp:lastModifiedBy>LEGION</cp:lastModifiedBy>
  <dcterms:modified xsi:type="dcterms:W3CDTF">2015-01-28T10:15:59Z</dcterms:modified>
  <cp:revision>9</cp:revision>
  <dc:subject/>
  <dc:title>    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 </dc:title>
</cp:coreProperties>
</file>