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34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3.png" ContentType="image/png"/>
  <Override PartName="/ppt/media/image22.png" ContentType="image/png"/>
  <Override PartName="/ppt/media/image7.png" ContentType="image/png"/>
  <Override PartName="/ppt/media/image19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43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jpeg" ContentType="image/jpeg"/>
  <Override PartName="/ppt/media/image20.png" ContentType="image/png"/>
  <Override PartName="/ppt/media/image3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9D24-C381-4572-92FB-C0073A55E9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Человек и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F76E-1A9A-445B-B385-DECFED281A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раждане Российской Федерации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B1CF-F993-4DD2-B9BD-71DD713F25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порядок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стремится установить справедл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границы свободы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7C35-CA05-4F0C-A672-4D30459F7A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B92B-F129-447D-92A2-DEABE3D280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АВЕДЛИВОСТЬ- это когда каждый получает то, на что имеет прав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вобода состоит в возмож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елать все, что не нарушает зак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причиняет вреда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одумай!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Тво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заканчивается там, гд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начинаетс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4B4A-1706-4FE8-A5C7-9C39574A77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лг и обяз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чем нуж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ая ар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тов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9A4-44AE-4963-8A0A-765918D0B8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                               ст. 59 Конституция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3F16-138E-46DB-9DC1-6ECB11CE5A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озможные внешние угро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регион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нутренние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7786-7333-4B89-BE47-B36DE94067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тать на воинский учет в год достижения 17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остоять на воинском учете по месту жительства в военном комиссариате (военкома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ходить обязательную подготовку к военной служ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военную службу призываются граждане РФ от 18 до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т, стоящие и обязанные состоять на военном уч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ок военной службы по призыву 12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746-EDE3-4051-A0FF-3CFB3D6912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ть себя 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97AE-3208-4EEB-9368-CB1EDBA38C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 чем ты узнаеш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ие бывают социальные нормы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едует ли соблюдать дисциплину? Кто от этого выигрывает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 какие проступки ты уже сейчас несешь ответственност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ему служат правоохранительные орга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какие вопросы ответи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чему нужно соблюдат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ое поведение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тивоправ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то и как должен защищать Роди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313D-BE6E-409A-895F-28555688FE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ногообразие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«Привычка свыше нам дан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ила этикета и хорошие ма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4CB7-E0D6-4D91-87CA-BE28186662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становленный порядок действий в тех или иных случа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Социальные нормы</a:t>
            </a:r>
            <a:r>
              <a:rPr b="0" lang="ru-RU" sz="1600" spc="-1" strike="noStrike">
                <a:solidFill>
                  <a:srgbClr val="4f81bd"/>
                </a:solidFill>
                <a:latin typeface="Calibri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направл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едписывающие                запреща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степени обязатель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нормы-правила                  нормы-ожи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форм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формальные               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F428-857A-463A-9E8D-214A47B06B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ривычка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ложившийся способ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поведения (стереотип) в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определ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ычай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традиционн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ившийся порядок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итуал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выработанный обыча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или установленный поряд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овершения чего-ли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ряд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овокупнос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Церемония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торжественны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6972-DBFD-46A4-82F2-7A9F8AF138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Этикет </a:t>
            </a: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манерами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F7FC-2D01-4DEE-B17D-37C0869BFE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Санкции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еры воздейств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именяемые к нарушител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ленных норм,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пособ о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ощрения,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FE59-BE64-4FBC-AB93-5E9DC55E6C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то и как обеспечивает тво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де проходит граница тво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т прав без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C7A-0141-450D-B4FA-D6E2F473E3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сеобщая декларация прав человека, 1948 г.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Международные пакты о правах человека, 1966 г.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всеоб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тчужда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елимый характер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Конституции государст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закрепление прав на своей территории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ача им обязательно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686-E27E-461E-9C27-3AD5DA52EE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B71-75E5-4DFC-BD20-9E6201F3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1BA-D62A-4068-8E71-F1733D65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08B-5970-4884-B195-CE062FB5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BD5-683B-4BB9-86FB-5303CF4F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727D-27AC-4CED-BB0F-A87CFCAC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1B86-2320-4D42-A22F-B16EC45D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ED86-EE43-4DC9-906B-5E810FDC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6C85-CBE9-4709-9ABF-198F19D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F36B-D9B8-43BF-BA0C-3F0EE85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E4D8-AF83-491A-BC16-1965E321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41FF-DB52-4F5B-8EBA-FF7A965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E4C-2F35-48C5-9235-0645FE6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9650-FBEC-46F4-BC83-F5F86D4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E77F-956A-4985-A2D2-202E91D7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8551-750A-4954-8B90-3DC5006D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EFA6-5EB7-443C-A485-ECF1954B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10F9-7C91-464C-93E7-61961785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D1B-84EA-46D1-B5D8-74782069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188-2DD0-404F-AD36-E62EA23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751-3032-4EBB-8863-3B07FC6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2EC-DB27-4896-BED3-8A6E9E43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8CE-D454-4468-9007-1E055039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F84-AC29-4F39-8F9B-767F3720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78A-BCCC-48A1-AF22-E78CA76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5B1B-9B7F-4CF4-9A9C-F45E995D43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40A4-0543-4D38-994E-D2320BEA49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Глава 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50920" y="270828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Tahoma"/>
              </a:rPr>
              <a:t>Человек и зако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Граждане Российской Федерации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яза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826920" y="2349360"/>
            <a:ext cx="1943280" cy="69876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92360" y="537372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227640" y="2349360"/>
            <a:ext cx="2303640" cy="6256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900000" y="4076640"/>
            <a:ext cx="1871640" cy="7714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6443640" y="393372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08764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Line 9"/>
          <p:cNvSpPr/>
          <p:nvPr/>
        </p:nvSpPr>
        <p:spPr>
          <a:xfrm flipH="1" flipV="1">
            <a:off x="2700360" y="314136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2700360" y="3716280"/>
            <a:ext cx="720720" cy="2890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1"/>
          <p:cNvSpPr/>
          <p:nvPr/>
        </p:nvSpPr>
        <p:spPr>
          <a:xfrm flipV="1">
            <a:off x="5651640" y="3068640"/>
            <a:ext cx="647640" cy="43344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5651640" y="371628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аво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осударство гарантирует дать своим гражданам, а </a:t>
            </a: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язанность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раждане гарантируют дать своему государ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язанность государства – гарантировать права конкретного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порядок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стремится установить справедл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границы свободы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449720" cy="191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1484280" cy="216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4"/>
          <a:stretch/>
        </p:blipFill>
        <p:spPr>
          <a:xfrm>
            <a:off x="7751880" y="1413000"/>
            <a:ext cx="13921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"/>
          <p:cNvPicPr/>
          <p:nvPr/>
        </p:nvPicPr>
        <p:blipFill>
          <a:blip r:embed="rId5"/>
          <a:stretch/>
        </p:blipFill>
        <p:spPr>
          <a:xfrm>
            <a:off x="326880" y="3860640"/>
            <a:ext cx="1339920" cy="197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6"/>
          <a:stretch/>
        </p:blipFill>
        <p:spPr>
          <a:xfrm>
            <a:off x="2771640" y="2060640"/>
            <a:ext cx="1324080" cy="196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419120" cy="194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8"/>
          <a:stretch/>
        </p:blipFill>
        <p:spPr>
          <a:xfrm>
            <a:off x="3851280" y="3284640"/>
            <a:ext cx="134316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9"/>
          <a:stretch/>
        </p:blipFill>
        <p:spPr>
          <a:xfrm>
            <a:off x="7236000" y="213372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"/>
          <p:cNvPicPr/>
          <p:nvPr/>
        </p:nvPicPr>
        <p:blipFill>
          <a:blip r:embed="rId10"/>
          <a:stretch/>
        </p:blipFill>
        <p:spPr>
          <a:xfrm>
            <a:off x="6804000" y="2637000"/>
            <a:ext cx="1274760" cy="18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11"/>
          <a:stretch/>
        </p:blipFill>
        <p:spPr>
          <a:xfrm>
            <a:off x="6372360" y="3141720"/>
            <a:ext cx="1333440" cy="18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2"/>
          <a:stretch/>
        </p:blipFill>
        <p:spPr>
          <a:xfrm>
            <a:off x="5940360" y="3860640"/>
            <a:ext cx="1308240" cy="2086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13"/>
          <a:stretch/>
        </p:blipFill>
        <p:spPr>
          <a:xfrm>
            <a:off x="4284720" y="4005360"/>
            <a:ext cx="1382760" cy="201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14"/>
          <a:stretch/>
        </p:blipFill>
        <p:spPr>
          <a:xfrm>
            <a:off x="1332000" y="4653000"/>
            <a:ext cx="143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ПРАВЕДЛИВОСТЬ- это когда каждый получает то, на что имеет право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Свобода состоит в возможнос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делать все, что не нарушает зако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не причиняет вреда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думай!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Тво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заканчивается там, где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начинаетс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929280" y="5346720"/>
            <a:ext cx="2214720" cy="15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0" y="5354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Долг и обяза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чем нуж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егулярная ар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оенная служ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отовить себ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 исполнению воинского дол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           ст. 59 Конституция Р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38436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2585880" cy="1974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146320" cy="2508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672000" cy="232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7020000" y="2565360"/>
            <a:ext cx="18558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5219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озможные внешние угроз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глоб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регион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ча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35280" y="3715920"/>
            <a:ext cx="37083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нутренние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71640" y="4221000"/>
            <a:ext cx="0" cy="107964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356000" y="4221000"/>
            <a:ext cx="0" cy="158292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81304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2702520" y="321300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рвые полки регулярной Красной Арм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136960" cy="1603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118800" y="321300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гулярная армия Петра 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2225880" cy="1670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6804000" y="3213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ая арм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стать на воинский учет в год достижения 1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остоять на воинском учете по месту жительства в военном комиссариате (военкома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ходить обязательную подготовку к военной служ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На военную службу призываются граждане РФ от 18 до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лет, стоящие и обязанные состоять на военном уче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рок военной службы по призыву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7020000" y="4984920"/>
            <a:ext cx="1979640" cy="1714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44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товить себя к исполнению воинского дол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704960" cy="249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197640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154240" cy="143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455920" cy="19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471760" cy="1854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7"/>
          <a:stretch/>
        </p:blipFill>
        <p:spPr>
          <a:xfrm>
            <a:off x="1908000" y="529128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"/>
          <p:cNvPicPr/>
          <p:nvPr/>
        </p:nvPicPr>
        <p:blipFill>
          <a:blip r:embed="rId8"/>
          <a:stretch/>
        </p:blipFill>
        <p:spPr>
          <a:xfrm>
            <a:off x="4140360" y="5291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"/>
          <p:cNvPicPr/>
          <p:nvPr/>
        </p:nvPicPr>
        <p:blipFill>
          <a:blip r:embed="rId9"/>
          <a:stretch/>
        </p:blipFill>
        <p:spPr>
          <a:xfrm>
            <a:off x="7667640" y="692280"/>
            <a:ext cx="1182600" cy="1660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"/>
          <p:cNvPicPr/>
          <p:nvPr/>
        </p:nvPicPr>
        <p:blipFill>
          <a:blip r:embed="rId10"/>
          <a:stretch/>
        </p:blipFill>
        <p:spPr>
          <a:xfrm>
            <a:off x="2268360" y="3392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Arial"/>
              </a:rPr>
              <a:t>О чем ты узнаеш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Какие бывают социальные нормы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Следует ли соблюдать дисциплину? Кто от этого выигрывает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За какие проступки ты уже сейчас несешь ответственност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Чему служат правоохранительные орган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5075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Tahoma"/>
              </a:rPr>
              <a:t>На какие вопросы ответи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очему нужно соблюдать зако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акое поведение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ротивоправ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то и как должен защищать Родин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2395440" cy="158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269064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6012000" y="4376880"/>
            <a:ext cx="2663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Многообразие прав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«Привычка свыше нам дана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ила этикета и хорошие ма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76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авило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установленный порядок действий в тех или иных случа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Социальные нормы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направле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едписывающие                запрещаю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степени обяза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нормы-правила                  нормы-ожид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форм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формальные               неформаль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3348000" y="3141720"/>
            <a:ext cx="122400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572000" y="3141720"/>
            <a:ext cx="115236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3348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572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635280" y="5661000"/>
            <a:ext cx="93672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572000" y="5661000"/>
            <a:ext cx="86364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ивычка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– сложившийся способ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поведения (стереотип) в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определенных ситуациях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468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ычай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традиционн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ившийся порядок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итуал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выработанный обыч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или установленный порядок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овершения чего-ли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ряд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совокупност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Церемония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торжественны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2000" cy="127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0" y="1969920"/>
            <a:ext cx="2556000" cy="15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21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1676520" cy="251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6"/>
          <a:stretch/>
        </p:blipFill>
        <p:spPr>
          <a:xfrm>
            <a:off x="7020000" y="5337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7"/>
          <a:stretch/>
        </p:blipFill>
        <p:spPr>
          <a:xfrm>
            <a:off x="6588000" y="378936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Этикет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7327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манерами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190656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2039760" cy="200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773000" cy="13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142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анкции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меры воздейств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именяемые к наруш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ленных норм, прав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пособ одобр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ощрения, поддер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059280" y="765000"/>
            <a:ext cx="1512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572000" y="765000"/>
            <a:ext cx="1440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838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то и как обеспечивает тво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де проходит граница твои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Нет прав без обяза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365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4"/>
          <p:cNvGrpSpPr/>
          <p:nvPr/>
        </p:nvGrpSpPr>
        <p:grpSpPr>
          <a:xfrm>
            <a:off x="324000" y="333360"/>
            <a:ext cx="8569080" cy="2448000"/>
            <a:chOff x="324000" y="333360"/>
            <a:chExt cx="8569080" cy="2448000"/>
          </a:xfrm>
        </p:grpSpPr>
        <p:sp>
          <p:nvSpPr>
            <p:cNvPr id="205" name="AutoShape 15"/>
            <p:cNvSpPr/>
            <p:nvPr/>
          </p:nvSpPr>
          <p:spPr>
            <a:xfrm>
              <a:off x="324000" y="333360"/>
              <a:ext cx="8569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3180240" y="333360"/>
              <a:ext cx="319176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ahoma"/>
                </a:rPr>
                <a:t>Права челове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658080" y="1085760"/>
              <a:ext cx="2353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граждан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3515760" y="1085760"/>
              <a:ext cx="252072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9"/>
            <p:cNvSpPr/>
            <p:nvPr/>
          </p:nvSpPr>
          <p:spPr>
            <a:xfrm>
              <a:off x="6542280" y="1085760"/>
              <a:ext cx="2182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0"/>
            <p:cNvSpPr/>
            <p:nvPr/>
          </p:nvSpPr>
          <p:spPr>
            <a:xfrm>
              <a:off x="2005560" y="1839240"/>
              <a:ext cx="235044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5196240" y="1839240"/>
              <a:ext cx="235368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2" name="Text Box 22"/>
          <p:cNvSpPr/>
          <p:nvPr/>
        </p:nvSpPr>
        <p:spPr>
          <a:xfrm>
            <a:off x="468360" y="2924280"/>
            <a:ext cx="84963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Всеобщая декларация прав человека, 1948 г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Международные пакты о правах человека, 1966 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всеоб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отчуждаем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делимый характер прав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онституции государ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закрепление прав на своей территории 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дача им обязательной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24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1245960" cy="191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1290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9:55:56Z</dcterms:created>
  <dc:creator>Admin</dc:creator>
  <dc:description/>
  <dc:language>en-US</dc:language>
  <cp:lastModifiedBy>LEGION</cp:lastModifiedBy>
  <dcterms:modified xsi:type="dcterms:W3CDTF">2015-01-28T10:16:33Z</dcterms:modified>
  <cp:revision>10</cp:revision>
  <dc:subject/>
  <dc:title>Человек и закон</dc:title>
</cp:coreProperties>
</file>