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C591-C9FE-494A-B54F-7C9D4376CC7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оль права в жизни человека и общ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6B19-9BFB-4E0E-B42C-6E19B5131118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ком виде они существу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6D69-EF13-4CCC-BFA4-8A9A8BF55E46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ормативно-правовых а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1B64-FFE8-43E8-9A35-6D8E891583AC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–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истема общепринятых обязательных норм, регулирующих поведение людей, установленных и охраняемых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E601-C27A-4020-A93E-872555FC82E8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тавьте нормативно-правовые акты по степени значимости, пронумеруйте их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президента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акты министерств, ведомств, органов местного само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88A5-2089-4FE7-987A-B421BEE3754C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последовательности вы бы расположили эти два понятия, например, для обозначения темы уро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3FB4-7A0E-464E-81AA-790F7FDE2D2C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и в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624E-6418-4D32-B31C-37C3CE381149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бы вы были правителями  государств с различными политическими режимами (авторитарный, тоталитарный, демократический), как бы вы продолжили фраз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BF80-E022-4018-94D0-DB45D9A3FF47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поставьте между собой содержание двух колонок 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отношения между органами власти и гражда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ет преступность и меру наказания за 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(уголовно)-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порядок наследования, владения и распоряжения собственностью, заключения сделок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отношения между мужчиной и женщиной при вступлении в брак, разводе и в процессе семейно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ет порядок отношений работодателей и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порядок разрешения гражданских и уголовных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0561-3181-4A9A-A61B-CA1E30B9D6CB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делите приведенные понятия на четыре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, правопорядок, добро, грех, справедливость, молитва, договор, зло, собственность, свобода совести, доверие, благодарность, референдум, раскаяние, совесть, преступление ,стыд, любовь, причастие, дееспособность, суеверие, устав, свобода слова, пока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D6EE-7392-40FE-8C8F-A47F9A0C3803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ределите, в какой ситуации нарушены нормы прав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подаватель МХК подошла к сидящему в коридоре учащемуся и стала с ним разговаривать. Учащийся, продолжая сидеть, охотно отвечал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йся бросил окурок на пол в коридор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йся профессионального училища опоздал к началу практических занятий на 30 минут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F0B6-4469-4AC9-AD60-DD9FEDD6E349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онимания необходимости получения правовых зн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ботка умений высказывать свое мнение, анализировать ситу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мений работать в группе и уважать мнение друг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современного цивилизованного человека, подготовленного к жизни в условиях сегодняшней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670A-C3D3-484D-8F25-916287DB2172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ределите, в какой ситуации нарушены нормы прав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к Крылов В. сегодня не поздоровался с учителем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ца 10 класса не уступила место в автобусе пожилому пассажи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а учащихся после «отбоя» в общежитии шумно играла в      « кошки – мыш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щийся Рыбин изготовил нож с наборной ручко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8313-178C-41E7-9E48-5E410B01AAD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анализируйте ситуацию с точки зрения морали и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-летние подростки взяли чужой автомобиль, чтобы покататься и совершили наезд на стол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подал заявление о расторжении трудового договора, а через две недели директор завода сказал, что уволить Андрея не может, т.к. на его место не найден новый работник.»А если не выйдешь на работу – уволю за прогул!» - сказал дире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мир Сергеевич считает, что воспитать настоящего мужчину можно лишь очень строгими мерами, и поэтому часто применяет к сыну телесные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купил билет на поезд, зашел в вагон и  выяснил, что его место занято.Он обратился к проводнику за разъяснениями, а он сказал, что может предложить ему лишь худш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3891-5CE9-48B9-8268-D3641E8DFF2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ыграйте ситуаци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сле уроков ученик 8 класса Евгений К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дел не свое пальто, а понравившуюся е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жаную куртку ученика 9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Администрация школы, где учится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одители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уд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4 групп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дноклассники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21A4-2CA4-4230-9C48-7E53F4BDA564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з ниже приведенных признаков найдите общие для права и морал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 воздействует на поведение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мирает вместе с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словлено экономическими интере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никает раньше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нение обеспечивается принуждением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ражает общественное м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32A4-0EF6-4BD6-9FCA-8E205C20D98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чи фраз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ажно для меня, потому что…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ажно для страны, потому что…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8800-0478-4F5E-82E1-13E97AD41D92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помните определ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во – это система общепринятых, обязательных норм, регулирующих поведение людей, установленных и охраняемых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5F37-B7AE-4D7A-8D08-22A76E849FFE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системный характер, формально выражено в источниках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о на принципах справедливости и ценностях, уважаемых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о с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общеобязатель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5BE2-4195-46B6-884D-F1AFB99B3270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существует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х принципах право основа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создается и охраняется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характер носит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B5A7-42C4-4013-9CEB-D16D1E0A1A16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енств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ая ответственность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защита прав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вла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.Законод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.Испол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.Суд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F56E-4F71-4F11-9467-72206C4D5BB6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– что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905C-3420-4512-9021-915253DD5601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D045-64E4-40D3-BA16-53AF9B6F95C8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чег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ужна система нор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F0BE-F3C3-44ED-8540-2A57E787785C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регуляции жизни людей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5868-3359-4813-A810-778585B2FBFD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устанавливает эти нор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8562-CDC4-4B29-9341-1BD27062D896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970D-73B8-4F48-A05A-B707B6E9A622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ED9-8C0D-4330-B7EF-3886DEB2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C2E-8FA0-4EA0-9FA9-53807987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2A9-777D-488A-AA96-62F1FD41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CAC-E686-4C96-8117-84372E86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8987-189C-48B7-8FFE-7FBF409E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7EC0-D397-4BB1-98D4-9ABE8F5B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E873-F35C-4A0E-BBB7-52D03F98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95A7-90D6-4DB7-8766-FB9454DE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B106-DF77-4272-BA5F-9C86CCF9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F9C1-8A43-4B9C-BEA9-1296FBB8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039F-D2A7-47B9-A012-3934A0B8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288-4E23-4F4F-9CFE-1306EE5D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DEB4-47A3-415D-BDA1-A6333C37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BBAC-64F6-4555-8C12-16580849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92A7-CB30-4D70-B8C3-0136CC3A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6174-087A-4783-B5B5-2F67A355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5F26-C8DE-479D-827A-C1B587CF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2E7-E0FD-4E00-AE74-21894594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8436-D0AF-4734-8F57-44E69254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511-9155-4EF4-857F-AC8A83CD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12E-8CA8-49C0-B1F7-797C0A7E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7885-852E-4664-97FF-0CEA543B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0E2-155E-4DE5-9F58-AEA26872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68E-2E21-45BD-B8F3-CB01113E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6DF6-7D60-4475-B4BD-A4E6B9EC55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E799-AAFB-4029-AFFB-B022C08FA88F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5880" y="14288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рактику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56800" y="3071880"/>
            <a:ext cx="8286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«Роль права в жизни человека и общества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6" descr="j0300840"/>
          <p:cNvPicPr/>
          <p:nvPr/>
        </p:nvPicPr>
        <p:blipFill>
          <a:blip r:embed="rId1"/>
          <a:stretch/>
        </p:blipFill>
        <p:spPr>
          <a:xfrm>
            <a:off x="7020000" y="4941720"/>
            <a:ext cx="1814400" cy="15289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143000" y="2858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униципальное общеобразовательное учреждение средняя общеобразовательная школа № 20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643200" y="5500800"/>
            <a:ext cx="17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ыбинс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2008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357800" y="42148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читель истории  и обществознания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ичугина  А.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В каком виде они существуют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В нормативно-правовых актах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Picture 3" descr="j0299125"/>
          <p:cNvPicPr/>
          <p:nvPr/>
        </p:nvPicPr>
        <p:blipFill>
          <a:blip r:embed="rId1"/>
          <a:stretch/>
        </p:blipFill>
        <p:spPr>
          <a:xfrm>
            <a:off x="4284720" y="4437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68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68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Право –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это система общепринятых обязательных норм, регулирующих поведение людей, установленных и охраняемых государством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сставьте нормативно-правовые акты по степени значимости, пронумеруйте их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казы президента Росс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рмативные акты министерств, ведомств, органов местного самоуправ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Федеральные зако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нституция РФ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становления правительств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7487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ВЛАСТ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Verdana"/>
              </a:rPr>
              <a:t>ЗАКО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какой последовательности вы бы расположили эти два понятия, например, для обозначения темы урок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чему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4" descr="BD14844_"/>
          <p:cNvPicPr/>
          <p:nvPr/>
        </p:nvPicPr>
        <p:blipFill>
          <a:blip r:embed="rId1"/>
          <a:stretch/>
        </p:blipFill>
        <p:spPr>
          <a:xfrm>
            <a:off x="539640" y="249228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new-top_01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Закон и власть.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Если бы вы были правителями  государств с различными политическими режимами (авторитарный, тоталитарный, демократический), как бы вы продолжили фразу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66" name="Organization Chart 3"/>
          <p:cNvGrpSpPr/>
          <p:nvPr/>
        </p:nvGrpSpPr>
        <p:grpSpPr>
          <a:xfrm>
            <a:off x="431640" y="2781360"/>
            <a:ext cx="8208360" cy="3815280"/>
            <a:chOff x="431640" y="2781360"/>
            <a:chExt cx="8208360" cy="3815280"/>
          </a:xfrm>
        </p:grpSpPr>
        <p:cxnSp>
          <p:nvCxnSpPr>
            <p:cNvPr id="167" name="_s1028"/>
            <p:cNvCxnSpPr>
              <a:stCxn id="168" idx="0"/>
              <a:endCxn id="169" idx="2"/>
            </p:cNvCxnSpPr>
            <p:nvPr/>
          </p:nvCxnSpPr>
          <p:spPr>
            <a:xfrm flipV="1" rot="16200000">
              <a:off x="5590440" y="3251520"/>
              <a:ext cx="763560" cy="2873520"/>
            </a:xfrm>
            <a:prstGeom prst="bentConnector3">
              <a:avLst>
                <a:gd name="adj1" fmla="val 12783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0" name="_s1029"/>
            <p:cNvCxnSpPr>
              <a:stCxn id="171" idx="0"/>
              <a:endCxn id="169" idx="2"/>
            </p:cNvCxnSpPr>
            <p:nvPr/>
          </p:nvCxnSpPr>
          <p:spPr>
            <a:xfrm flipV="1">
              <a:off x="4536000" y="4306680"/>
              <a:ext cx="3600" cy="7635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2" name="_s1030"/>
            <p:cNvCxnSpPr>
              <a:stCxn id="173" idx="0"/>
              <a:endCxn id="169" idx="2"/>
            </p:cNvCxnSpPr>
            <p:nvPr/>
          </p:nvCxnSpPr>
          <p:spPr>
            <a:xfrm flipH="1" flipV="1" rot="5400000">
              <a:off x="2717640" y="3251880"/>
              <a:ext cx="763560" cy="2873520"/>
            </a:xfrm>
            <a:prstGeom prst="bentConnector3">
              <a:avLst>
                <a:gd name="adj1" fmla="val 12783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69" name="_s1031"/>
            <p:cNvSpPr/>
            <p:nvPr/>
          </p:nvSpPr>
          <p:spPr>
            <a:xfrm>
              <a:off x="3304440" y="27813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Когда надо принять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решение, я…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3" name="_s1032"/>
            <p:cNvSpPr/>
            <p:nvPr/>
          </p:nvSpPr>
          <p:spPr>
            <a:xfrm>
              <a:off x="431640" y="507060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…советуюсь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с народом.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1" name="_s1033"/>
            <p:cNvSpPr/>
            <p:nvPr/>
          </p:nvSpPr>
          <p:spPr>
            <a:xfrm>
              <a:off x="3304440" y="507060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…приказываю.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8" name="_s1034"/>
            <p:cNvSpPr/>
            <p:nvPr/>
          </p:nvSpPr>
          <p:spPr>
            <a:xfrm>
              <a:off x="6177600" y="507060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Arial"/>
                </a:rPr>
                <a:t>«…повелеваю.»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опоставьте между собой содержание двух колонок таблиц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39640" y="836640"/>
          <a:ext cx="8229600" cy="6126120"/>
        </p:xfrm>
        <a:graphic>
          <a:graphicData uri="http://schemas.openxmlformats.org/drawingml/2006/table">
            <a:tbl>
              <a:tblPr/>
              <a:tblGrid>
                <a:gridCol w="2819520"/>
                <a:gridCol w="54100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аименование отрасли пр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одержание отрасли прав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голов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егулирует отношения между органами власти и гражданам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дминистратив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станавливает преступность и меру наказания за не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ражданско-(уголовно)- процессуаль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пределяет порядок наследования, владения и распоряжения собственностью, заключения сделок и т.д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Трудов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егулирует отношения между мужчиной и женщиной при вступлении в брак, разводе и в процессе семейной жизн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емейн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Устанавливает порядок отношений работодателей и работников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ражданское пра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пределяет порядок разрешения гражданских и уголовных дел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зделите приведенные понятия на четыре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Закон, правопорядок, добро, грех, справедливость, молитва, договор, зло, собственность, свобода совести, доверие, благодарность, референдум, раскаяние, совесть, преступление ,стыд, любовь, причастие, дееспособность, суеверие, устав, свобода слова, покая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79280" y="5084640"/>
          <a:ext cx="8785440" cy="1578240"/>
        </p:xfrm>
        <a:graphic>
          <a:graphicData uri="http://schemas.openxmlformats.org/drawingml/2006/table">
            <a:tbl>
              <a:tblPr/>
              <a:tblGrid>
                <a:gridCol w="2273400"/>
                <a:gridCol w="2057400"/>
                <a:gridCol w="2057400"/>
                <a:gridCol w="23972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равовая сфе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орально-нравственная сфе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елигиозная сфе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дновременно несколько сфе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пределите, в какой ситуации нарушены нормы прав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Преподаватель МХК подошла к сидящему в коридоре учащемуся и стала с ним разговаривать. Учащийся, продолжая сидеть, охотно отвечал на вопрос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ащийся бросил окурок на пол в коридоре школ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ащийся профессионального училища опоздал к началу практических занятий на 30 минут без уважительной причин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ормирование понимания необходимости получения правовых знаний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тработка умений высказывать свое мнение, анализировать ситуацию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Формирование умений работать в группе и уважать мнение других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спитание современного цивилизованного человека, подготовленного к жизни в условиях сегодняшней Росс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пределите, в какой ситуации нарушены нормы прав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еник Крылов В. сегодня не поздоровался с учителем пра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еница 10 класса не уступила место в автобусе пожилому пассажир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Группа учащихся после «отбоя» в общежитии шумно играла в      « кошки – мышки»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чащийся Рыбин изготовил нож с наборной ручкой.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анализируйте ситуацию с точки зрения морали и пра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15-летние подростки взяли чужой автомобиль, чтобы покататься и совершили наезд на столб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ндрей подал заявление о расторжении трудового договора, а через две недели директор завода сказал, что уволить Андрея не может, т.к. на его место не найден новый работник.»А если не выйдешь на работу – уволю за прогул!» - сказал директо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ладимир Сергеевич считает, что воспитать настоящего мужчину можно лишь очень строгими мерами, и поэтому часто применяет к сыну телесные наказа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ергей купил билет на поезд, зашел в вагон и  выяснил, что его место занято.Он обратился к проводнику за разъяснениями, а он сказал, что может предложить ему лишь худшее мест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быграйте ситуацию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Verdana"/>
              </a:rPr>
              <a:t>После уроков ученик 8 класса Евгений К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Verdana"/>
              </a:rPr>
              <a:t>надел не свое пальто, а понравившуюся ему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Verdana"/>
              </a:rPr>
              <a:t>кожаную куртку ученика 9 класс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1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Администрация школы, где учится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авонарушител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2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Родители правонарушител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3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Судь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4 групп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- Одноклассники правонарушител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Из ниже приведенных признаков найдите общие для права и морали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Активно воздействует на поведение люд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Отмирает вместе с государств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Обусловлено экономическими интересам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Возникает раньше государст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Исполнение обеспечивается принуждением государст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Выражает общественное мн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Закончи фр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</a:t>
            </a: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Право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ажно для меня, потому что…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</a:t>
            </a: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Право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ажно для страны, потому что…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Запомните определение: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Право – это система общепринятых, обязательных норм, регулирующих поведение людей, установленных и охраняемых государств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68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68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сит системный характер, формально выражено в источниках пра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сновано на принципах справедливости и ценностях, уважаемых в обществ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вязано с государств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сит общеобязательный характе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В какой форме существует прав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На каких принципах право основан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ем создается и охраняется прав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акой характер носит право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овое государ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ерховенство зако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заимная ответственность личности и государств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удебная защита прав гражд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деление властей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1.Законодательн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2.Исполнительн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3.Судебн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Право – что это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Система норм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Для чего </a:t>
            </a:r>
            <a:br>
              <a:rPr sz="7200"/>
            </a:b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нужна система норм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5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Для регуляции жизни людей в обществе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3" descr="new-top_05"/>
          <p:cNvPicPr/>
          <p:nvPr/>
        </p:nvPicPr>
        <p:blipFill>
          <a:blip r:embed="rId1"/>
          <a:stretch/>
        </p:blipFill>
        <p:spPr>
          <a:xfrm>
            <a:off x="3780000" y="4292640"/>
            <a:ext cx="5225760" cy="25653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Arial"/>
              </a:rPr>
              <a:t>Кто устанавливает эти нормы?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Государство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68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68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6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07:47Z</dcterms:created>
  <dc:creator>Самойлов Н.Г.</dc:creator>
  <dc:description/>
  <dc:language>en-US</dc:language>
  <cp:lastModifiedBy>LEGION</cp:lastModifiedBy>
  <dcterms:modified xsi:type="dcterms:W3CDTF">2015-01-28T10:17:51Z</dcterms:modified>
  <cp:revision>71</cp:revision>
  <dc:subject/>
  <dc:title>Урок-практикум</dc:title>
</cp:coreProperties>
</file>