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88B3-6EEE-4752-91D6-087D624AB1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оль права в жизни человека и обще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98CE-DD27-42A4-9846-950C5C59C5F6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каком виде они существу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9FB6-39DB-47B8-8242-BCED65B93607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ормативно-правовых а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1470-DB4C-48FB-BB17-E77EF6BF97A3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–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истема общепринятых обязательных норм, регулирующих поведение людей, установленных и охраняемых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37E2-4180-468C-8C85-1C51346649E4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тавьте нормативно-правовые акты по степени значимости, пронумеруйте их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 президента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е акты министерств, ведомств, органов местного само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913C-3F90-4C35-8E6D-0D9369130200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К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последовательности вы бы расположили эти два понятия, например, для обозначения темы уро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7DA8-3EB6-4D1B-B04B-500B9401264D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и в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804F-1D93-4955-A68C-A33B2B076D8C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бы вы были правителями  государств с различными политическими режимами (авторитарный, тоталитарный, демократический), как бы вы продолжили фраз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9BBC-A589-41E2-8B77-EBDF06D25852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поставьте между собой содержание двух колонок 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ование 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отношения между органами власти и гражда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ет преступность и меру наказания за 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(уголовно)- 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порядок наследования, владения и распоряжения собственностью, заключения сделок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отношения между мужчиной и женщиной при вступлении в брак, разводе и в процессе семейно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ет порядок отношений работодателей и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порядок разрешения гражданских и уголовных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7210-59F2-4FC4-90ED-4B1FD527015D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делите приведенные понятия на четыре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кон, правопорядок, добро, грех, справедливость, молитва, договор, зло, собственность, свобода совести, доверие, благодарность, референдум, раскаяние, совесть, преступление ,стыд, любовь, причастие, дееспособность, суеверие, устав, свобода слова, пока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E6A6-8BC9-400C-8FD7-F2B7487E350A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ределите, в какой ситуации нарушены нормы прав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подаватель МХК подошла к сидящему в коридоре учащемуся и стала с ним разговаривать. Учащийся, продолжая сидеть, охотно отвечал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щийся бросил окурок на пол в коридоре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щийся профессионального училища опоздал к началу практических занятий на 30 минут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BE89-ECFF-4A9E-BC8D-A8FBD4E6D274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онимания необходимости получения правовых зн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ботка умений высказывать свое мнение, анализировать ситу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умений работать в группе и уважать мнение друг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современного цивилизованного человека, подготовленного к жизни в условиях сегодняшней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15EC-4692-4356-A4D5-E59C1D6B3E13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ределите, в какой ситуации нарушены нормы прав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ик Крылов В. сегодня не поздоровался с учителем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ица 10 класса не уступила место в автобусе пожилому пассажи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а учащихся после «отбоя» в общежитии шумно играла в      « кошки – мыш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щийся Рыбин изготовил нож с наборной ручко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7A9F-A625-47EB-987B-9C852090C0AB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анализируйте ситуацию с точки зрения морали и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-летние подростки взяли чужой автомобиль, чтобы покататься и совершили наезд на стол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подал заявление о расторжении трудового договора, а через две недели директор завода сказал, что уволить Андрея не может, т.к. на его место не найден новый работник.»А если не выйдешь на работу – уволю за прогул!» - сказал дире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имир Сергеевич считает, что воспитать настоящего мужчину можно лишь очень строгими мерами, и поэтому часто применяет к сыну телесные на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купил билет на поезд, зашел в вагон и  выяснил, что его место занято.Он обратился к проводнику за разъяснениями, а он сказал, что может предложить ему лишь худше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946B-7B8C-48BF-BA5C-B57B570A7752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ыграйте ситуаци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сле уроков ученик 8 класса Евгений К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дел не свое пальто, а понравившуюся е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жаную куртку ученика 9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 групп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Администрация школы, где учится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 групп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одители правонаруш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 групп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уд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4 групп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дноклассники правонаруш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7F90-CED3-42C4-9A08-B5F6CD32B4B4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ниже приведенных признаков найдите общие для права и морал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 воздействует на поведение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мирает вместе с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словлено экономическими интере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никает раньше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нение обеспечивается принуждением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ражает общественное м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1D1D-A639-413C-B292-6C88C23D0DF3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чи фраз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ажно для меня, потому что…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ажно для страны, потому что…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ADE6-B203-4456-926E-757F40B2CEDA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помните определ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во – это система общепринятых, обязательных норм, регулирующих поведение людей, установленных и охраняемых государ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03ED-68ED-4493-945D-DAFFAE671516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системный характер, формально выражено в источниках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о на принципах справедливости и ценностях, уважаемых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о с государ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общеобязатель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C174-FAF5-4FE3-AC86-82DB1147902E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форме существует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х принципах право основа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создается и охраняется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характер носит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4511-B292-43E0-8429-8EA4ECA9EDEF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овенств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ая ответственность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защита прав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вла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.Законод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.Испол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.Судеб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1257-AD57-43B6-BD09-86D8EB872313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– что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2AB8-E302-482C-9580-E40D6CE712EF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3A9C-B680-4318-A3A8-F1C38C747CCA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чег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ужна система нор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498D-2837-4808-8A71-37E37F97468F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регуляции жизни людей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7EF4-5C2C-4817-AC9C-709CE3165338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то устанавливает эти нор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40F0-DB60-4D51-A868-8961A71746C0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FD81-4FDB-4745-85E5-E8438E3454B1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90B-B1AA-4C02-9982-1713B2D8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0C7-E37B-4C06-8F3B-CAD38504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8AAF-823A-465F-B364-C7E45B74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2A2-866C-40CA-A89E-34B31334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3939-A48D-48B2-AF72-12103E6C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24D8-67E2-43C1-BB5F-D94F7D24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99CD-D1A2-4258-B987-873C0C02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CE19-62B8-4DCA-9855-96945559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3171-729C-4C4E-AA3A-D35256C8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EFB7-5C70-440A-9B03-45C98833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5F98-2F5C-4A54-A1FF-87D53122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D4B7-F6B6-4E61-AAB7-87EFB311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DCE4-26EE-4C1C-B7B2-8AE4BAFF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C317-A234-4895-B564-8BA7D257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A374-1986-46AD-882D-B94FB796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A3DF-3F83-4D18-AD8F-63B8EA69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6D41-AA50-4476-AADD-0E30CC8B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934-9387-437E-877A-A007E921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618E-3C1A-4903-971F-77E13AB1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933-E24D-45B9-99DB-161D8550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FC00-2122-4656-BD96-3D0C5935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2CBF-7C8D-4131-A431-846E07E0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D10C-1872-474F-84FE-C301D524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984-9012-435B-A45F-D2993A48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5A72-58ED-4F06-BB5E-33DEAA7F29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E67D-B08E-494C-B78A-473A0A38991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85880" y="14288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рок-практикум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56800" y="3071880"/>
            <a:ext cx="8286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«Роль права в жизни человека и общества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6" descr="j0300840"/>
          <p:cNvPicPr/>
          <p:nvPr/>
        </p:nvPicPr>
        <p:blipFill>
          <a:blip r:embed="rId1"/>
          <a:stretch/>
        </p:blipFill>
        <p:spPr>
          <a:xfrm>
            <a:off x="7020000" y="4941720"/>
            <a:ext cx="1814400" cy="15289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1143000" y="2858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униципальное общеобразовательное учреждение средняя общеобразовательная школа № 20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643200" y="5500800"/>
            <a:ext cx="178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Рыбинс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2008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357800" y="42148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учитель истории  и обществознания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ичугина  А.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В каком виде они существуют?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В нормативно-правовых актах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1" name="Picture 3" descr="j0299125"/>
          <p:cNvPicPr/>
          <p:nvPr/>
        </p:nvPicPr>
        <p:blipFill>
          <a:blip r:embed="rId1"/>
          <a:stretch/>
        </p:blipFill>
        <p:spPr>
          <a:xfrm>
            <a:off x="4284720" y="4437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68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68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0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Право –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это система общепринятых обязательных норм, регулирующих поведение людей, установленных и охраняемых государством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асставьте нормативно-правовые акты по степени значимости, пронумеруйте их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казы президента Росси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ормативные акты министерств, ведомств, органов местного самоуправ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Федеральные закон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онституция РФ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становления правительств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7487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Verdana"/>
              </a:rPr>
              <a:t>ВЛАСТ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Verdana"/>
              </a:rPr>
              <a:t>ЗАКО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какой последовательности вы бы расположили эти два понятия, например, для обозначения темы урок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чему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4" descr="BD14844_"/>
          <p:cNvPicPr/>
          <p:nvPr/>
        </p:nvPicPr>
        <p:blipFill>
          <a:blip r:embed="rId1"/>
          <a:stretch/>
        </p:blipFill>
        <p:spPr>
          <a:xfrm>
            <a:off x="539640" y="249228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new-top_01"/>
          <p:cNvPicPr/>
          <p:nvPr/>
        </p:nvPicPr>
        <p:blipFill>
          <a:blip r:embed="rId1"/>
          <a:stretch/>
        </p:blipFill>
        <p:spPr>
          <a:xfrm>
            <a:off x="0" y="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Закон и власть.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Если бы вы были правителями  государств с различными политическими режимами (авторитарный, тоталитарный, демократический), как бы вы продолжили фразу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66" name="Organization Chart 3"/>
          <p:cNvGrpSpPr/>
          <p:nvPr/>
        </p:nvGrpSpPr>
        <p:grpSpPr>
          <a:xfrm>
            <a:off x="431640" y="2781360"/>
            <a:ext cx="8208360" cy="3815280"/>
            <a:chOff x="431640" y="2781360"/>
            <a:chExt cx="8208360" cy="3815280"/>
          </a:xfrm>
        </p:grpSpPr>
        <p:cxnSp>
          <p:nvCxnSpPr>
            <p:cNvPr id="167" name="_s1028"/>
            <p:cNvCxnSpPr>
              <a:stCxn id="168" idx="0"/>
              <a:endCxn id="169" idx="2"/>
            </p:cNvCxnSpPr>
            <p:nvPr/>
          </p:nvCxnSpPr>
          <p:spPr>
            <a:xfrm flipV="1" rot="16200000">
              <a:off x="5590440" y="3251520"/>
              <a:ext cx="763560" cy="2873520"/>
            </a:xfrm>
            <a:prstGeom prst="bentConnector3">
              <a:avLst>
                <a:gd name="adj1" fmla="val 12783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0" name="_s1029"/>
            <p:cNvCxnSpPr>
              <a:stCxn id="171" idx="0"/>
              <a:endCxn id="169" idx="2"/>
            </p:cNvCxnSpPr>
            <p:nvPr/>
          </p:nvCxnSpPr>
          <p:spPr>
            <a:xfrm flipV="1">
              <a:off x="4536000" y="4306680"/>
              <a:ext cx="3600" cy="7635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2" name="_s1030"/>
            <p:cNvCxnSpPr>
              <a:stCxn id="173" idx="0"/>
              <a:endCxn id="169" idx="2"/>
            </p:cNvCxnSpPr>
            <p:nvPr/>
          </p:nvCxnSpPr>
          <p:spPr>
            <a:xfrm flipH="1" flipV="1" rot="5400000">
              <a:off x="2717640" y="3251880"/>
              <a:ext cx="763560" cy="2873520"/>
            </a:xfrm>
            <a:prstGeom prst="bentConnector3">
              <a:avLst>
                <a:gd name="adj1" fmla="val 12783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69" name="_s1031"/>
            <p:cNvSpPr/>
            <p:nvPr/>
          </p:nvSpPr>
          <p:spPr>
            <a:xfrm>
              <a:off x="3304440" y="27813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«Когда надо принять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решение, я…»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3" name="_s1032"/>
            <p:cNvSpPr/>
            <p:nvPr/>
          </p:nvSpPr>
          <p:spPr>
            <a:xfrm>
              <a:off x="431640" y="507060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«…советуюсь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с народом.»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1" name="_s1033"/>
            <p:cNvSpPr/>
            <p:nvPr/>
          </p:nvSpPr>
          <p:spPr>
            <a:xfrm>
              <a:off x="3304440" y="507060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«…приказываю.»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8" name="_s1034"/>
            <p:cNvSpPr/>
            <p:nvPr/>
          </p:nvSpPr>
          <p:spPr>
            <a:xfrm>
              <a:off x="6177600" y="507060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«…повелеваю.»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опоставьте между собой содержание двух колонок таблицы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39640" y="836640"/>
          <a:ext cx="8229600" cy="6126120"/>
        </p:xfrm>
        <a:graphic>
          <a:graphicData uri="http://schemas.openxmlformats.org/drawingml/2006/table">
            <a:tbl>
              <a:tblPr/>
              <a:tblGrid>
                <a:gridCol w="2819520"/>
                <a:gridCol w="54100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Наименование отрасли пра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одержание отрасли пра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головн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егулирует отношения между органами власти и гражданам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дминистративн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станавливает преступность и меру наказания за не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ражданско-(уголовно)- процессуальн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пределяет порядок наследования, владения и распоряжения собственностью, заключения сделок и т.д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рудов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егулирует отношения между мужчиной и женщиной при вступлении в брак, разводе и в процессе семейной жизн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емейн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станавливает порядок отношений работодателей и работник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ражданск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пределяет порядок разрешения гражданских и уголовных дел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азделите приведенные понятия на четыре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Закон, правопорядок, добро, грех, справедливость, молитва, договор, зло, собственность, свобода совести, доверие, благодарность, референдум, раскаяние, совесть, преступление ,стыд, любовь, причастие, дееспособность, суеверие, устав, свобода слова, покая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79280" y="5084640"/>
          <a:ext cx="8785440" cy="1578240"/>
        </p:xfrm>
        <a:graphic>
          <a:graphicData uri="http://schemas.openxmlformats.org/drawingml/2006/table">
            <a:tbl>
              <a:tblPr/>
              <a:tblGrid>
                <a:gridCol w="2273400"/>
                <a:gridCol w="2057400"/>
                <a:gridCol w="2057400"/>
                <a:gridCol w="23972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равовая сфе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Морально-нравственная сфе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елигиозная сфе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дновременно несколько сфе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пределите, в какой ситуации нарушены нормы прав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Преподаватель МХК подошла к сидящему в коридоре учащемуся и стала с ним разговаривать. Учащийся, продолжая сидеть, охотно отвечал на вопрос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ащийся бросил окурок на пол в коридоре школ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ащийся профессионального училища опоздал к началу практических занятий на 30 минут без уважительной причин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Формирование понимания необходимости получения правовых знаний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тработка умений высказывать свое мнение, анализировать ситуацию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Формирование умений работать в группе и уважать мнение других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спитание современного цивилизованного человека, подготовленного к жизни в условиях сегодняшней Росси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пределите, в какой ситуации нарушены нормы прав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еник Крылов В. сегодня не поздоровался с учителем пра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еница 10 класса не уступила место в автобусе пожилому пассажир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Группа учащихся после «отбоя» в общежитии шумно играла в      « кошки – мышки»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ащийся Рыбин изготовил нож с наборной ручкой.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анализируйте ситуацию с точки зрения морали и пра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15-летние подростки взяли чужой автомобиль, чтобы покататься и совершили наезд на столб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ндрей подал заявление о расторжении трудового договора, а через две недели директор завода сказал, что уволить Андрея не может, т.к. на его место не найден новый работник.»А если не выйдешь на работу – уволю за прогул!» - сказал директор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ладимир Сергеевич считает, что воспитать настоящего мужчину можно лишь очень строгими мерами, и поэтому часто применяет к сыну телесные наказа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ергей купил билет на поезд, зашел в вагон и  выяснил, что его место занято.Он обратился к проводнику за разъяснениями, а он сказал, что может предложить ему лишь худшее мест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быграйте ситуацию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Verdana"/>
              </a:rPr>
              <a:t>После уроков ученик 8 класса Евгений К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Verdana"/>
              </a:rPr>
              <a:t>надел не свое пальто, а понравившуюся ему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Verdana"/>
              </a:rPr>
              <a:t>кожаную куртку ученика 9 класс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1 групп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- Администрация школы, где учится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авонарушител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2 групп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- Родители правонарушител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3 групп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- Судь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4 групп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- Одноклассники правонарушител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Из ниже приведенных признаков найдите общие для права и морали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Активно воздействует на поведение люде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Отмирает вместе с государств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Обусловлено экономическими интересам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Возникает раньше государств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Исполнение обеспечивается принуждением государств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Выражает общественное мн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Закончи фраз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«</a:t>
            </a: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Право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важно для меня, потому что…»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«</a:t>
            </a: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Право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важно для страны, потому что…»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Запомните определение: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Право – это система общепринятых, обязательных норм, регулирующих поведение людей, установленных и охраняемых государство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68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68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осит системный характер, формально выражено в источниках прав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сновано на принципах справедливости и ценностях, уважаемых в обществ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вязано с государство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осит общеобязательный характе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В какой форме существует право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На каких принципах право основано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ем создается и охраняется право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акой характер носит право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вое государст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ерховенство зако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заимная ответственность личности и государств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удебная защита прав гражда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деление властей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1.Законодательна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2.Исполнительна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3.Судебна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Право – что это?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Система норм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Для чего </a:t>
            </a:r>
            <a:br>
              <a:rPr sz="7200"/>
            </a:b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нужна система норм?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51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Для регуляции жизни людей в обществе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3" descr="new-top_05"/>
          <p:cNvPicPr/>
          <p:nvPr/>
        </p:nvPicPr>
        <p:blipFill>
          <a:blip r:embed="rId1"/>
          <a:stretch/>
        </p:blipFill>
        <p:spPr>
          <a:xfrm>
            <a:off x="3780000" y="4292640"/>
            <a:ext cx="5225760" cy="25653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02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Кто устанавливает эти нормы?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16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Государство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68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68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68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68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07:47Z</dcterms:created>
  <dc:creator>Самойлов Н.Г.</dc:creator>
  <dc:description/>
  <dc:language>en-US</dc:language>
  <cp:lastModifiedBy>LEGION</cp:lastModifiedBy>
  <dcterms:modified xsi:type="dcterms:W3CDTF">2015-01-28T10:17:51Z</dcterms:modified>
  <cp:revision>71</cp:revision>
  <dc:subject/>
  <dc:title>Урок-практикум</dc:title>
</cp:coreProperties>
</file>