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B2B-7F10-4F8E-BEA1-62B92527EF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EE2D-8D95-4770-A1AE-ED30306562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7F65-8A0A-41F5-8226-C92B93984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CEC0-0301-4636-AA8B-A65553A96D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3985-1C89-41FF-9D97-F8D5895A24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19C-579A-4279-B3B4-20DACD5DAB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FEFC-E214-47C6-882D-88124AB90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2C88-5EED-47F8-B1BE-6853255D3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D95E-2D96-4E0E-AD92-A443800CAB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FF5-980A-4C18-9CEC-AFFF7978F8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D341-7789-4E9F-B2AF-22657EFCB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775D-7A18-440A-B741-0C4E7428E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32BB-52CB-4AB3-A208-A23573BBF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795A-24DF-4668-B7CA-B5DE3E00E6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5a99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5C5-FD5C-4CB0-A4C2-8DFF793311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86EE-5602-49EB-918F-B94EAB902A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EF0-2349-4DCD-BBCD-67D952C1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741-E03E-40A6-9B51-03D26FA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7D2-D116-46D2-B87E-6510200D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AB9-BBB9-42A4-A42D-3BD7A118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1B04-6AA3-4305-8D44-25967190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B6A-BC48-4BBE-9C88-6DFD5FF0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538F-A653-4453-8DBA-7DFC7450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6A5D-2786-48FE-96AF-5F2BD50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C807-3ACF-47C2-A835-E2CD50E0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FF6E-214B-45C4-A37F-A2C6C28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E4B6-A681-4B0B-90A3-567CE419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DD6-0A3D-45DC-A5E1-ED624988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8A8-CB80-4BC8-B84A-36AC887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CB00-CAD9-4DC0-97C5-7ABF90BF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4BC9-B062-4E8D-910F-D9105EC4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3464-D8A2-40A4-9862-179162E9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D506-D261-4468-AA33-20F65562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6C1-3684-4EF2-9582-7B8583EA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8DA-CAC3-432D-B1E3-BD6CEC05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230-0745-4C37-85AF-3CF854E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262-EC19-45B5-B628-E880837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741-24DD-4178-96E3-6729A99E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7AD-4555-4D2A-8715-D630841A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1CA-2EA0-4358-BE2D-A4E2EF9F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85A6-FE61-4066-AF2E-72E3E521C05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D40-B07C-4063-9110-44B1DE6F98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748F-889D-4D72-B2FF-5B38BD2D5F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C622-DF4B-4E84-A502-AE66190642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0:18:20Z</dcterms:modified>
  <cp:revision>25</cp:revision>
  <dc:subject/>
  <dc:title>Роль права в жизни общества</dc:title>
</cp:coreProperties>
</file>