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8BD4-FA32-4E3A-A4AE-B5D939998E8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права в жизни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ла учитель обществознания МОУ СОШ с. Варны Коребо О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F3B4-EFC3-48B8-AF15-C8357110C2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ключает в себя экономическая сф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 и потреб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ных трудом человека бл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63C6-1F56-4FD8-B345-9551D45716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ключает социальная сф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довлетворение насущных потребностей человека (потребности работать, есть, пить, одеваться и т. п.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вышение благосостояния людей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аботоспособных и тех, кто не способен прокормиться своим трудом: детей, учащихся, пенсионеров, безработных, инвалидов, беженцев, переселенцев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80D8-2C17-49C9-9754-E5D0413A9D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ключает в себя духовная сф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у, культуру, образование, отправление религиозных культов, самопознание, нравственность, этикет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3486-3F0A-46B6-97C3-5ABAB71760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права в различных сферах общественно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96F7-95FB-4C90-9EDB-C755911D56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закреп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Что было бы, если бы права не было? Поясните ответ на  конкретных  приме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Как можно определить пра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Почему право регулирует не все вопросы общественной жизн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7C10-7513-4D40-B4F0-C7E07DCBA5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§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нятия 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F351-7A15-473A-A885-DB001A3BD2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изучения новой т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нятие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ение права в различных сферах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B8A6-3CD8-4EF3-A616-3E4C9A0617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юдям необходимы даже самые дурные законы, ибо, не будь их, люди пожрали бы друг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B143-2266-49CD-A861-D33CF82ECD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ь современного общества невозможно представить без права. Если отменить правовые нормы, то каждый из нас будет действовать так, как ему заблагорассудится, и жизнь станет подобной хору, в котором каждый участник поет свою песн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441C-ED1C-4B98-A485-41AC589E22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система обязательных правил поведения, закрепленных в официальных документах, охраняемых силой государственного прину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регулирует многие вопросы нашей жизни. Однако не все в ней требует регулирования с помощью правовых но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вы считаете какие стороны нашей жизни не требуют правового регулирова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39AF-5890-4324-9E26-7F36142E38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, которое в нашей жизни занимает право, можно графически изобразить  следующим  обра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9ADF-D8FB-4BDA-A53D-17723AD91E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ение права в различных сферах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играет в обществе главную роль потому, что регулирует самые важные общественные отношения. Оно представляет собой очень сильное оружие, ведь за правовыми нормами стоит государственное принуждение, т. е. возможность применения сан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4D7D-0EC0-4310-9F6B-9A40124960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5a99"/>
                </a:solidFill>
                <a:latin typeface="Calibri"/>
              </a:rPr>
              <a:t>Вспомните, какие четыре сферы общества вы зн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25EF-D798-4F82-9DA0-300ADE2426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то относится к политической сфере и какие вопросы здесь регулируются  с  помощью  права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программ развития обще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политических партий и других общественных объедине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государственных органов и определение их компетенц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отношения между нациями, классами и другими общественными группами, существующими в государств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отношения с другими государствам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BB56-E990-46B5-BB17-0943F7BA76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A845-C70C-42FB-BB32-BE00A4AAB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F8E1-0EBB-4121-8D83-58956FD2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DB4B-C07A-4150-9530-713E89534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937D-2E22-40CE-B992-5C49F8825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63AB-7EE8-4C2F-80C6-A66C8B877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113C-301D-44FF-A1E7-26BE0B66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E0CE-F68E-4F0F-AC4D-367F9330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1E79C-7B3E-4935-B450-F6EC38B3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49BC-192E-46C6-B7BF-8DBA7809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2B3E-4336-4F95-81F4-132BFAB9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13AF-ED40-413A-8EBA-AC8A7037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FB01-F88E-4E43-9C47-309A4C59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E867-C0B9-4390-B19F-FFB6FBDC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8D75-8C3A-4A02-B8EB-BECBFAD6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2653-349C-41E5-834B-7C6B81C9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A33B-BBEB-4B55-852F-6FAFC80E0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39FA-0657-4DCA-A36B-6F719C5AC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3570-5670-43AC-8889-E47FFB98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8C40-5C70-4E9B-846F-5635334D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C082-8651-46D2-910E-EA7E6E12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6121-9520-4C11-BCAE-F57A37E4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282A-ABDE-4296-86B7-A6D83407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1B36-04AB-4187-81AB-502B98A9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FB9A-4095-468E-B6D6-A045E663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F39C-8FF9-4D80-83CC-0FB993808BC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9FD0-3B48-40D0-B8F0-87EB947A89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862B-65F9-4500-8DD9-BF417008E4B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FFC1-66EB-4CAE-AA12-3D7A6D0FA8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erhmedia.ru/docs/20070917125126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28440" y="766800"/>
            <a:ext cx="772164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Роль права в жизни обществ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28800" y="5301720"/>
            <a:ext cx="7929360" cy="11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готовила учитель обществознания МОУ СОШ с. Варны Коребо О.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Картинка 9 из 460263"/>
          <p:cNvPicPr/>
          <p:nvPr/>
        </p:nvPicPr>
        <p:blipFill>
          <a:blip r:embed="rId1"/>
          <a:stretch/>
        </p:blipFill>
        <p:spPr>
          <a:xfrm>
            <a:off x="2928960" y="1604880"/>
            <a:ext cx="3720960" cy="37195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то включает в себя экономическая сфера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71360" y="1500120"/>
            <a:ext cx="4647960" cy="24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изводство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ределение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мен и потреб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ных трудом человека бла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http://news.rin.ru/pictures/26/111233.jpg"/>
          <p:cNvPicPr/>
          <p:nvPr/>
        </p:nvPicPr>
        <p:blipFill>
          <a:blip r:embed="rId1"/>
          <a:stretch/>
        </p:blipFill>
        <p:spPr>
          <a:xfrm>
            <a:off x="6000840" y="164304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Картинка 115 из 209508"/>
          <p:cNvPicPr/>
          <p:nvPr/>
        </p:nvPicPr>
        <p:blipFill>
          <a:blip r:embed="rId2"/>
          <a:stretch/>
        </p:blipFill>
        <p:spPr>
          <a:xfrm>
            <a:off x="5715000" y="3929040"/>
            <a:ext cx="2928960" cy="232740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5"/>
          <p:cNvSpPr/>
          <p:nvPr/>
        </p:nvSpPr>
        <p:spPr>
          <a:xfrm>
            <a:off x="1071720" y="40006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номика способна к саморегулированию, поэтому степень  участия права по сравнению с политической  сферой  гораздо  мен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6"/>
          <p:cNvSpPr/>
          <p:nvPr/>
        </p:nvSpPr>
        <p:spPr>
          <a:xfrm>
            <a:off x="1143000" y="602784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иведите примеры правового регулирования экономических вопро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Картинка 14 из 11212"/>
          <p:cNvPicPr/>
          <p:nvPr/>
        </p:nvPicPr>
        <p:blipFill>
          <a:blip r:embed="rId1"/>
          <a:srcRect l="0" t="31877" r="2500" b="0"/>
          <a:stretch/>
        </p:blipFill>
        <p:spPr>
          <a:xfrm>
            <a:off x="6000840" y="3786120"/>
            <a:ext cx="2786040" cy="25956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то включает социальная сфера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28440" y="1571400"/>
            <a:ext cx="55004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довлетворение насущных потребностей человека (потребности работать, есть, пить, одеваться и т. п.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ышение благосостояния людей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работоспособных и тех, кто не способен прокормиться своим трудом: детей, учащихся, пенсионеров, безработных, инвалидов, беженцев, переселенцев и др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2" descr="Картинка 10 из 11212"/>
          <p:cNvPicPr/>
          <p:nvPr/>
        </p:nvPicPr>
        <p:blipFill>
          <a:blip r:embed="rId2"/>
          <a:stretch/>
        </p:blipFill>
        <p:spPr>
          <a:xfrm>
            <a:off x="6072120" y="1500120"/>
            <a:ext cx="2643120" cy="217332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5"/>
          <p:cNvSpPr/>
          <p:nvPr/>
        </p:nvSpPr>
        <p:spPr>
          <a:xfrm>
            <a:off x="1071720" y="5904000"/>
            <a:ext cx="75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раведливо ли с помощью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ераспределять созданные благ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то включает в себя духовная сфера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14240" y="1499760"/>
            <a:ext cx="514368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ку, культуру, образование, отправление религиозных культов, самопознание, нравственность, этикет и д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2" descr="Картинка 3 из 1659"/>
          <p:cNvPicPr/>
          <p:nvPr/>
        </p:nvPicPr>
        <p:blipFill>
          <a:blip r:embed="rId1"/>
          <a:stretch/>
        </p:blipFill>
        <p:spPr>
          <a:xfrm>
            <a:off x="7423200" y="1214280"/>
            <a:ext cx="1720800" cy="2286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Картинка 37 из 1659"/>
          <p:cNvPicPr/>
          <p:nvPr/>
        </p:nvPicPr>
        <p:blipFill>
          <a:blip r:embed="rId2"/>
          <a:stretch/>
        </p:blipFill>
        <p:spPr>
          <a:xfrm>
            <a:off x="6286680" y="3643200"/>
            <a:ext cx="2473200" cy="1928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Картинка 5 из 300157"/>
          <p:cNvPicPr/>
          <p:nvPr/>
        </p:nvPicPr>
        <p:blipFill>
          <a:blip r:embed="rId3"/>
          <a:stretch/>
        </p:blipFill>
        <p:spPr>
          <a:xfrm>
            <a:off x="5857920" y="1143000"/>
            <a:ext cx="1466640" cy="235728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6"/>
          <p:cNvSpPr/>
          <p:nvPr/>
        </p:nvSpPr>
        <p:spPr>
          <a:xfrm>
            <a:off x="1083960" y="3429000"/>
            <a:ext cx="50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чем право вмешивается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уховную жизнь, ведь в этой сфе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изни все так индивидуальн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7"/>
          <p:cNvSpPr/>
          <p:nvPr/>
        </p:nvSpPr>
        <p:spPr>
          <a:xfrm>
            <a:off x="1143000" y="4714920"/>
            <a:ext cx="542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о устанавливает стандарты образования, определяет объемы финансирования образования, культуры, науки, порядок  регистрации  религиозных  объединений   и 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Роль права в различных сферах общественной жизни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0" name="Содержимое 3" descr=""/>
          <p:cNvPicPr/>
          <p:nvPr/>
        </p:nvPicPr>
        <p:blipFill>
          <a:blip r:embed="rId1"/>
          <a:stretch/>
        </p:blipFill>
        <p:spPr>
          <a:xfrm>
            <a:off x="1847880" y="1987560"/>
            <a:ext cx="6168960" cy="363852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ая соединительная линия 5"/>
          <p:cNvSpPr/>
          <p:nvPr/>
        </p:nvSpPr>
        <p:spPr>
          <a:xfrm flipH="1">
            <a:off x="3499920" y="1999440"/>
            <a:ext cx="4000680" cy="342900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http://im8-tub.yandex.net/i?id=66367062&amp;tov=8"/>
          <p:cNvPicPr/>
          <p:nvPr/>
        </p:nvPicPr>
        <p:blipFill>
          <a:blip r:embed="rId2"/>
          <a:stretch/>
        </p:blipFill>
        <p:spPr>
          <a:xfrm>
            <a:off x="1857240" y="2857680"/>
            <a:ext cx="1352520" cy="9144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http://im7-tub.yandex.net/i?id=135305913&amp;tov=7"/>
          <p:cNvPicPr/>
          <p:nvPr/>
        </p:nvPicPr>
        <p:blipFill>
          <a:blip r:embed="rId3"/>
          <a:stretch/>
        </p:blipFill>
        <p:spPr>
          <a:xfrm>
            <a:off x="1857240" y="1928880"/>
            <a:ext cx="1314720" cy="981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http://im6-tub.yandex.net/i?id=32861835&amp;tov=6"/>
          <p:cNvPicPr/>
          <p:nvPr/>
        </p:nvPicPr>
        <p:blipFill>
          <a:blip r:embed="rId4"/>
          <a:stretch/>
        </p:blipFill>
        <p:spPr>
          <a:xfrm>
            <a:off x="1857240" y="371484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http://im0-tub.yandex.net/i?id=37677649&amp;tov=0"/>
          <p:cNvPicPr/>
          <p:nvPr/>
        </p:nvPicPr>
        <p:blipFill>
          <a:blip r:embed="rId5"/>
          <a:stretch/>
        </p:blipFill>
        <p:spPr>
          <a:xfrm>
            <a:off x="1857240" y="4714920"/>
            <a:ext cx="1333800" cy="97164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Вопросы для закрепления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 Что было бы, если бы права не было? Поясните ответ на  конкретных  пример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  Как можно определить прав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  Почему право регулирует не все вопросы общественной жизн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Домашнее задание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§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нятия тем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План изучения новой темы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нятие пра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начение права в различных сферах жиз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Картинка 6 из 16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43200" y="3214800"/>
            <a:ext cx="3272040" cy="327168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Эпиграф урок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643200" y="1752480"/>
            <a:ext cx="50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Людям необходимы даже самые дурные законы, ибо, не будь их, люди пожрали бы друг друг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" descr="Картинка 3 из 393"/>
          <p:cNvPicPr/>
          <p:nvPr/>
        </p:nvPicPr>
        <p:blipFill>
          <a:blip r:embed="rId1"/>
          <a:stretch/>
        </p:blipFill>
        <p:spPr>
          <a:xfrm>
            <a:off x="1000080" y="142884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4"/>
          <p:cNvSpPr/>
          <p:nvPr/>
        </p:nvSpPr>
        <p:spPr>
          <a:xfrm>
            <a:off x="1576080" y="5214960"/>
            <a:ext cx="11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пик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999000" y="557208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342/341 - 271/270 гг. до н.э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6"/>
          <p:cNvSpPr/>
          <p:nvPr/>
        </p:nvSpPr>
        <p:spPr>
          <a:xfrm>
            <a:off x="1086480" y="5929200"/>
            <a:ext cx="286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евнегреческий филосо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000080" y="500040"/>
            <a:ext cx="485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изнь современного общества невозможно представить без права. Если отменить правовые нормы, то каждый из нас будет действовать так, как ему заблагорассудится, и жизнь станет подобной хору, в котором каждый участник поет свою песн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Картинка 20 из 16191"/>
          <p:cNvPicPr/>
          <p:nvPr/>
        </p:nvPicPr>
        <p:blipFill>
          <a:blip r:embed="rId1"/>
          <a:stretch/>
        </p:blipFill>
        <p:spPr>
          <a:xfrm>
            <a:off x="6215040" y="428760"/>
            <a:ext cx="2500200" cy="3510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Картинка 54 из 16191"/>
          <p:cNvPicPr/>
          <p:nvPr/>
        </p:nvPicPr>
        <p:blipFill>
          <a:blip r:embed="rId2"/>
          <a:stretch/>
        </p:blipFill>
        <p:spPr>
          <a:xfrm>
            <a:off x="6215040" y="4071960"/>
            <a:ext cx="2571840" cy="25718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3219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раво -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00080" y="1213920"/>
            <a:ext cx="79344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о система обязательных правил поведения, закрепленных в официальных документах, охраняемых силой государственного принужд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о регулирует многие вопросы нашей жизни. Однако не все в ней требует регулирования с помощью правовых нор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вы считаете какие стороны нашей жизни не требуют правового регулировани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066320" y="428400"/>
            <a:ext cx="76201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сто, которое в нашей жизни занимает право, можно графически изобразить  следующим  образом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Схема 3" descr=""/>
          <p:cNvPicPr/>
          <p:nvPr/>
        </p:nvPicPr>
        <p:blipFill>
          <a:blip r:embed="rId1"/>
          <a:stretch/>
        </p:blipFill>
        <p:spPr>
          <a:xfrm>
            <a:off x="927000" y="2182680"/>
            <a:ext cx="7358040" cy="40356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Значение права в различных сферах жизни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1752480"/>
            <a:ext cx="7720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о играет в обществе главную роль потому, что регулирует самые важные общественные отношения. Оно представляет собой очень сильное оружие, ведь за правовыми нормами стоит государственное принуждение, т. е. возможность применения санкц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c2b09"/>
                </a:solidFill>
                <a:latin typeface="Times New Roman"/>
              </a:rPr>
              <a:t>Вспомните, какие четыре сферы общества вы знаете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6" name="Содержимое 3" descr=""/>
          <p:cNvPicPr/>
          <p:nvPr/>
        </p:nvPicPr>
        <p:blipFill>
          <a:blip r:embed="rId1"/>
          <a:stretch/>
        </p:blipFill>
        <p:spPr>
          <a:xfrm>
            <a:off x="858960" y="1914480"/>
            <a:ext cx="7772400" cy="441324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4"/>
          <p:cNvSpPr/>
          <p:nvPr/>
        </p:nvSpPr>
        <p:spPr>
          <a:xfrm>
            <a:off x="1580400" y="2071800"/>
            <a:ext cx="23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итическая сф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5"/>
          <p:cNvSpPr/>
          <p:nvPr/>
        </p:nvSpPr>
        <p:spPr>
          <a:xfrm>
            <a:off x="5508000" y="207180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кономическая 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6"/>
          <p:cNvSpPr/>
          <p:nvPr/>
        </p:nvSpPr>
        <p:spPr>
          <a:xfrm>
            <a:off x="1655640" y="5214960"/>
            <a:ext cx="21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циальная 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7"/>
          <p:cNvSpPr/>
          <p:nvPr/>
        </p:nvSpPr>
        <p:spPr>
          <a:xfrm>
            <a:off x="5930280" y="5500800"/>
            <a:ext cx="18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уховная 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13880" y="380520"/>
            <a:ext cx="821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1304"/>
                </a:solidFill>
                <a:latin typeface="Times New Roman"/>
              </a:rPr>
              <a:t>Что относится к политической сфере и какие вопросы здесь регулируются  с  помощью  права?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28440" y="1643040"/>
            <a:ext cx="550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ение программ развития обществ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ятельность политических партий и других общественных объединени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государственных органов и определение их компетенци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между нациями, классами и другими общественными группами, существующими в государств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с другими государствами и т.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3"/>
          <p:cNvSpPr/>
          <p:nvPr/>
        </p:nvSpPr>
        <p:spPr>
          <a:xfrm>
            <a:off x="6072120" y="5143680"/>
            <a:ext cx="307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о максим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улирует э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орону жиз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Картинка 195 из 174751"/>
          <p:cNvPicPr/>
          <p:nvPr/>
        </p:nvPicPr>
        <p:blipFill>
          <a:blip r:embed="rId1"/>
          <a:stretch/>
        </p:blipFill>
        <p:spPr>
          <a:xfrm>
            <a:off x="6286680" y="1500120"/>
            <a:ext cx="2571480" cy="1682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Картинка 200 из 174751"/>
          <p:cNvPicPr/>
          <p:nvPr/>
        </p:nvPicPr>
        <p:blipFill>
          <a:blip r:embed="rId2"/>
          <a:stretch/>
        </p:blipFill>
        <p:spPr>
          <a:xfrm>
            <a:off x="6286680" y="3286080"/>
            <a:ext cx="2558880" cy="17146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8T10:18:20Z</dcterms:modified>
  <cp:revision>25</cp:revision>
  <dc:subject/>
  <dc:title>Роль права в жизни общества</dc:title>
</cp:coreProperties>
</file>