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F113-F02F-4569-92B0-6019FAB72A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мет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3f1f"/>
                </a:solidFill>
                <a:latin typeface="Calibri"/>
              </a:rPr>
              <a:t>Формирование правовой культуры: аспекты, проблемы, пут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3C57-1103-4022-9A9E-22F27F6D54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43B5-BC94-4FDF-A5AC-8DBF0C3DBA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3ED2-336A-4501-A7CF-83CE6BE917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Сделать изучение Конституции Российской Федерации в школе постоянным и всеоб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. Рекомендов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образовательным учрежд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C5EB-1620-4C85-98CA-21C7BB1FC9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реждениям высшего и дополнительного профессионального образ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F8F3-3C04-4344-A242-20BF5D3709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A032-72C7-4944-A573-843399133B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AF55-B9A4-4FE8-9133-97555F3554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libri"/>
              </a:rPr>
              <a:t>Правовое воспитание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D4EC-E739-4438-B736-129EE8C32C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4b25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714b25"/>
                </a:solidFill>
                <a:latin typeface="Calibri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4D82-8755-4C4A-8B2C-6C17F4DED9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ректор московского центра образования "Царицыно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фим Рачев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2267-7508-4A0A-BAE4-D569918021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чаль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рш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26E9-3F39-4AE2-9B1E-74E309B6EE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40D-14F4-4571-A3FB-7DD792E9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528-2DB8-44CA-8CD6-4E80C346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CB2-990D-4D5E-BAC9-9FBC7563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507-3DF1-4756-AF26-3A823899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B8C-AAD4-40CE-8443-3BDB5FC2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7E1-344E-4F11-B967-8672750D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948-7D1D-4CBC-B11B-5C709518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711-FBAC-4E1E-BE3A-6D63B7E7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287-D774-43E6-AD5F-F121ED4B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CA4-6B72-46D0-9937-71AC1D55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236-64F1-4568-B117-5C35AC6D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C9E-9821-4A64-B2A0-869F2D27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99A1-CD24-4DF9-9681-EA6041A09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403280" y="45086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3f1f"/>
                </a:solidFill>
                <a:latin typeface="Arial"/>
              </a:rPr>
              <a:t>Формирование правовой культуры: аспекты, проблемы, пути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4"/>
          <p:cNvSpPr txBox="1"/>
          <p:nvPr/>
        </p:nvSpPr>
        <p:spPr>
          <a:xfrm>
            <a:off x="2195640" y="2133720"/>
            <a:ext cx="669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659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мет право.</a:t>
            </a:r>
            <a:endParaRPr b="0" lang="en-US" sz="1800" spc="1" strike="noStrike">
              <a:ln w="9360">
                <a:solidFill>
                  <a:srgbClr val="8659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835280" y="1700280"/>
            <a:ext cx="730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835280" y="3429000"/>
            <a:ext cx="712944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660014ab71789b0df5d43a2d86040128"/>
          <p:cNvPicPr/>
          <p:nvPr/>
        </p:nvPicPr>
        <p:blipFill>
          <a:blip r:embed="rId2"/>
          <a:stretch/>
        </p:blipFill>
        <p:spPr>
          <a:xfrm>
            <a:off x="0" y="0"/>
            <a:ext cx="3419640" cy="218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7"/>
          <p:cNvPicPr/>
          <p:nvPr/>
        </p:nvPicPr>
        <p:blipFill>
          <a:blip r:embed="rId3"/>
          <a:stretch/>
        </p:blipFill>
        <p:spPr>
          <a:xfrm>
            <a:off x="5508720" y="4387680"/>
            <a:ext cx="3635280" cy="2470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324000" y="2421000"/>
            <a:ext cx="871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5"/>
          <p:cNvPicPr/>
          <p:nvPr/>
        </p:nvPicPr>
        <p:blipFill>
          <a:blip r:embed="rId1"/>
          <a:stretch/>
        </p:blipFill>
        <p:spPr>
          <a:xfrm>
            <a:off x="0" y="3522600"/>
            <a:ext cx="5003640" cy="333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12"/>
          <p:cNvPicPr/>
          <p:nvPr/>
        </p:nvPicPr>
        <p:blipFill>
          <a:blip r:embed="rId2"/>
          <a:stretch/>
        </p:blipFill>
        <p:spPr>
          <a:xfrm>
            <a:off x="4224240" y="3556080"/>
            <a:ext cx="4956120" cy="330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8"/>
          <p:cNvPicPr/>
          <p:nvPr/>
        </p:nvPicPr>
        <p:blipFill>
          <a:blip r:embed="rId3"/>
          <a:stretch/>
        </p:blipFill>
        <p:spPr>
          <a:xfrm>
            <a:off x="0" y="0"/>
            <a:ext cx="5364000" cy="357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6"/>
          <p:cNvPicPr/>
          <p:nvPr/>
        </p:nvPicPr>
        <p:blipFill>
          <a:blip r:embed="rId4"/>
          <a:stretch/>
        </p:blipFill>
        <p:spPr>
          <a:xfrm>
            <a:off x="3816360" y="0"/>
            <a:ext cx="5364000" cy="357336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1835280" y="1844640"/>
            <a:ext cx="712944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Сделать изучение Конституции Российской Федерации в школе постоянным и всеобщ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Рекомендоват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образовательным учреждения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763640" y="1628640"/>
            <a:ext cx="7380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реждениям высшего и дополнительного профессионального образ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835280" y="1989000"/>
            <a:ext cx="70578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7650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124000" y="765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правов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763640" y="1893960"/>
            <a:ext cx="7272360" cy="40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image005"/>
          <p:cNvPicPr/>
          <p:nvPr/>
        </p:nvPicPr>
        <p:blipFill>
          <a:blip r:embed="rId2"/>
          <a:stretch/>
        </p:blipFill>
        <p:spPr>
          <a:xfrm>
            <a:off x="5003640" y="2708280"/>
            <a:ext cx="1441440" cy="1512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136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0" y="3284640"/>
            <a:ext cx="914400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908000" y="2637000"/>
            <a:ext cx="69850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"/>
              </a:rPr>
              <a:t>Правовое воспит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ergey-Naryshkin-ne-podderzhal-pravoslavnye-popravki-v-Konstitutsiyu-Naryshkin"/>
          <p:cNvPicPr/>
          <p:nvPr/>
        </p:nvPicPr>
        <p:blipFill>
          <a:blip r:embed="rId1"/>
          <a:stretch/>
        </p:blipFill>
        <p:spPr>
          <a:xfrm>
            <a:off x="6012000" y="293760"/>
            <a:ext cx="3060720" cy="1982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4920" y="-27000"/>
            <a:ext cx="590544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227640" y="240660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кер Госдумы Сергей Нары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baburin4_200_auto"/>
          <p:cNvPicPr/>
          <p:nvPr/>
        </p:nvPicPr>
        <p:blipFill>
          <a:blip r:embed="rId2"/>
          <a:stretch/>
        </p:blipFill>
        <p:spPr>
          <a:xfrm>
            <a:off x="179280" y="4221000"/>
            <a:ext cx="2160720" cy="2117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0" y="3500280"/>
            <a:ext cx="23400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й Бабур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340000" y="3141720"/>
            <a:ext cx="673272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4b25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714b25"/>
                </a:solidFill>
                <a:latin typeface="Arial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005cx6p"/>
          <p:cNvPicPr/>
          <p:nvPr/>
        </p:nvPicPr>
        <p:blipFill>
          <a:blip r:embed="rId1"/>
          <a:stretch/>
        </p:blipFill>
        <p:spPr>
          <a:xfrm>
            <a:off x="5724360" y="189000"/>
            <a:ext cx="3241800" cy="2165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4360" y="404640"/>
            <a:ext cx="558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 московского центра образования "Царицыно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фим Рачев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2565360"/>
            <a:ext cx="889308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184464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чаль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78136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0" y="436572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рш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8:47:14Z</dcterms:created>
  <dc:creator>user</dc:creator>
  <dc:description/>
  <dc:language>en-US</dc:language>
  <cp:lastModifiedBy>LEGION</cp:lastModifiedBy>
  <dcterms:modified xsi:type="dcterms:W3CDTF">2015-01-28T10:19:28Z</dcterms:modified>
  <cp:revision>12</cp:revision>
  <dc:subject/>
  <dc:title>Предмет право</dc:title>
</cp:coreProperties>
</file>