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6B75-CCCD-4F11-A856-01676D453E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с приве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Муниципа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школа № 44  г.Яросла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D924-CF8A-4CE7-B4DA-A19227EF3DA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процессе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изучения общеобразовательных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(5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Ж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оведение (5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(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(7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фильное обучение(9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акультативные курсы по предм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абота школьного научного общества «Иска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жегодная школьная научно-практическая конференция «Открыт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0E0F-8B5B-4C83-B09A-6CE470FFBE0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методов и форм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б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южетно-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онный кл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ый жур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51D1-1538-4D13-A79A-CC076BD533A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воспитательном процесс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деля правовых знаний» 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Конвенции о правах ребенка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Воинской Славы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военно- патриотической работы «Слава защитникам Отечества!»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 практическая конференция «Открытие» (8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безопасности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импийские игры знаний» (5-8 кл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94DF-4E3F-4632-AD27-7AA382ED3E3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 проведения Дней Конвенции в МОУ СОШ № 44 г. Ярославля с 30.10.07 по 12.12.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дачи проведения Дней Конв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 учащихся интереса к историческим события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и гражданской актив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рганизацион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проведения Дней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стенда по Дням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Дней Конвенции на МО классных руководителей 1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едиапродуктов «Памяти достойны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5245-39C0-4FA5-AC2F-BB0648188EE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ниги Памяти «Ярославцы - герои Отечества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ини-сочинений «Моя глава в Конституцию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-викторина «Я, ты, он, она – вместе дружная семья» (1-4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по станциям «Наши права и обязанности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по теме «Когда мы едины» (1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– масок «Жизнь с улыбкой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ов «Права и свободы человека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педколлекти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родителя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8E19-8F62-439E-A939-CD72FA42840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став 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правилами поведения уча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 права и обяза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праздники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символы РФ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и правопоряд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лерантность и 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неклассные мероприятия и мероприятия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урнир знатаков права»(8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сценировка суда над табаком»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Ассамблея сказочных героев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экологической этики «Берегите землю» (2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 «Мы – будущие избиратели» (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Умники и умницы» (9-10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A306-9E3D-4BAA-986B-B36646016E6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вместные собрания родителей и учащихся («Мост доверия от сердца к сердцу» 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частие классов в общешкольны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B588-D871-42B5-A636-8CBD060B3C4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 - наши союз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класс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ила безопасного поведения»(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зья разного происхождения» (2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ращение с деньгами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вязчивые идеи» (5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к воспитывать ответственность в ребенке» 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признание или чувство собственного достоинства» (7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углый стол» с родителями: «желаю» и «обязан» в педагогическом     союзе (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» дети – подростки: какие они?» (10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школь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частие родительской общественности в общешкольных и классных дел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ой турнир» (7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гра «Мой взгляд» (8 класс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 «Выборы в местную думу»(5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нь открытых дверей для родителей (1-4; 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1901-59E8-476F-865D-46FCD4AC16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8161-2598-4285-960A-A72A0C7920C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ализ деятельности педколлектива по гражданско-правовому образованию учащих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и анализ воспитатель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ониторинг воспитательного процесса по направл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ченического колл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адаптированнос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дез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ланирование дальнейшей работы по результатам монитор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63E4-E9B2-4A8A-B14C-E8956A05573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Calibri"/>
              </a:rPr>
              <a:t>(из опыта работы МОУ СОШ № 4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691C-1429-40ED-9FFA-15624720F40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7CD7-2176-4651-BBCD-72B193A8EEB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 в рамках гражданско-правов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и семьями, находящимися в социально опасном по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–психолого-педагогическая поддержка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и предупреждение аддиктивного поведе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7582-5983-4E5D-AD5C-99C861DEED4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чка отсчё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совет «Гражданско-правовое образование учащих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ение 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 воспит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иоритетных на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E789-28BD-4F0D-80FC-8215A40147E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гражданско-правового образования учащихся МОУ СОШ № 44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Ярославля на 2006-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порт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для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 основных мероприяти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конечные результат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исполнением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B896-8548-4A13-AE74-4D5F876BCBA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роприяти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ереподготовка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реализаци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9DBE-1874-42DD-97D2-C471F6BBC73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ормативно-прав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61B0-2368-44CD-B4D2-4EDC63C5AAD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DC60-C3D2-4521-98F7-25FE948510B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430-ADBF-4CD1-B056-428799BD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985-BC19-4ECE-8795-6E7CE8CB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3C0-C93A-442C-B688-9786FB93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FB7-51DC-4255-9F40-D2FFA6D3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2563-F2D7-4CE7-9F73-51389D1F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6B0B-8A65-4F34-8A0E-8FEFEB4C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D264-6468-4EF6-8109-AC8331C1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5D80-5797-4B29-86A4-CB080590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C33A-D034-436D-8A62-F6C12C45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2112-22CB-491D-8A16-BD3F3C2B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5D6C-ED37-4B08-BF27-1012F01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34D-06ED-477C-BD5E-3C28B9BD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5C9C-0C80-4BC7-86BB-4F27FFE1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74DB-A35A-40E8-BA3B-78A9DE58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FF98-6AD5-43AF-B42E-80AA07D8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C77A-B069-4095-881B-7A894F20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C73F-9646-4DEE-B5AA-98816BAB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FD6-DADD-4106-A3A1-429E01A9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C9F-5DD2-462B-B356-B2DF44B8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64D-43D6-4F34-856A-7E9C0F65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273-F302-4F23-B5A9-E863CC30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ECD-06EC-4384-BA84-91CCF804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42A-4922-48D5-B7E5-036C53F3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F0C-BDF9-4F7B-9F22-B155DD50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FE81-81DB-4EF1-BE49-0165D28FA7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4037-2B66-4143-9A7B-C851539A782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ас приветству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Муниципальное 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редня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школа № 44  г.Ярослав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877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процессе обуч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амках изучения общеобразовательных предме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тория (5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ществознание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Ж(1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графия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кружающий мир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родоведение (5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итература (5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имия (7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тение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Профильное обучение(9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Факультативные курсы по предмет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 Работа школьного научного общества «Искател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 Ежегодная школьная научно-практическая конференция «Открытие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спользование различных методов и форм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тфоли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б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ная презен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о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глый 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южетно-роле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скуссионный кл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ный жур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ок-путешест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воспитательном процесс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деля правовых знаний» (1-11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Конвенции о правах ребенка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Воинской Славы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военно- патриотической работы «Слава защитникам Отечества!»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научно- практическая конференция «Открытие» (8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безопасности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лимпийские игры знаний» (5-8 кл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лан проведения Дней Конвенции в МОУ СОШ № 44 г. Ярославля с 30.10.07 по 12.12.07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сновные задачи проведения Дней Конвен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вышение у учащихся интереса к историческим событиям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ормирование правовой культуры и гражданской активности учащих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Организационная рабо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ление плана проведения Дней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формление стенда по Дням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ведение итогов Дней Конвенции на МО классных руководителей 1-11 клас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Работа с учащими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едиапродуктов «Памяти достойны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зентация Книги Памяти «Ярославцы - герои Отечества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ини-сочинений «Моя глава в Конституцию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-викторина «Я, ты, он, она – вместе дружная семья» (1-4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 по станциям «Наши права и обязанности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по теме «Когда мы едины» (1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– масок «Жизнь с улыбкой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плакатов «Права и свободы человека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педколлектив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родителя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матические классные час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Устав школ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накомство с правилами поведения учащихс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Наши права и обязаннос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праздники РФ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символы РФ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Закон и правопорядо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олерантность и м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Внеклассные мероприятия и мероприятия по предмета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урнир знатаков права»(8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Инсценировка суда над табаком»(6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равовая Ассамблея сказочных героев» (3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рок экологической этики «Берегите землю» (2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левая игра «Мы – будущие избиратели» (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гра «Умники и умницы» (9-10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Совместные собрания родителей и учащихся («Мост доверия от сердца к сердцу» 8-9 кл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частие классов в общешкольных дел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одители - наши союзн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Тематические класс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ила безопасного поведения»(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Друзья разного происхождения» (2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ращение с деньгами» (3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вязчивые идеи» (5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ак воспитывать ответственность в ребенке» (6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мопризнание или чувство собственного достоинства» (7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руглый стол» с родителями: «желаю» и «обязан» в педагогическом     союзе (8-9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ши» дети – подростки: какие они?» (10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Общешколь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Участие родительской общественности в общешкольных и классных дела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овой турнир» (7 класс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авовая игра «Мой взгляд» (8 класс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еловая игра «Выборы в местную думу»(5 класс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День открытых дверей для родителей (1-4; 5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6118200" y="2819520"/>
            <a:ext cx="3025800" cy="6094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ДН, КДН 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Киров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553080" y="4724280"/>
            <a:ext cx="175284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ВФЭ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Хрулё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200400" y="3429000"/>
            <a:ext cx="1905120" cy="12952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705720" y="5562720"/>
            <a:ext cx="198108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ащитник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714920" y="5143680"/>
            <a:ext cx="2071800" cy="17143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ск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дико - психолог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и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228600" y="4724280"/>
            <a:ext cx="1752480" cy="12956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Киновидеоцентр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600200" y="5562720"/>
            <a:ext cx="137160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04920" y="3886200"/>
            <a:ext cx="198108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 - филиал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80880" y="2895480"/>
            <a:ext cx="205740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Н.А. Некрасо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457200" y="2057400"/>
            <a:ext cx="205740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Ц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124080" y="5410080"/>
            <a:ext cx="1600200" cy="14479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дет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И.А. Крылов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2819520" y="1905120"/>
            <a:ext cx="190476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Д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5029200" y="1828800"/>
            <a:ext cx="121932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ОП №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6477120" y="1752480"/>
            <a:ext cx="2271600" cy="10670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Д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рославской обла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95680" y="4419720"/>
            <a:ext cx="1524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26708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9"/>
          <p:cNvSpPr/>
          <p:nvPr/>
        </p:nvSpPr>
        <p:spPr>
          <a:xfrm flipH="1">
            <a:off x="3733560" y="45720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0"/>
          <p:cNvSpPr/>
          <p:nvPr/>
        </p:nvSpPr>
        <p:spPr>
          <a:xfrm flipH="1" flipV="1">
            <a:off x="2590560" y="342864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4724280" y="28195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2"/>
          <p:cNvSpPr/>
          <p:nvPr/>
        </p:nvSpPr>
        <p:spPr>
          <a:xfrm flipV="1">
            <a:off x="39625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4724280" y="34290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2514600" y="27428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2437920" y="44956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2057400" y="4343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27"/>
          <p:cNvSpPr/>
          <p:nvPr/>
        </p:nvSpPr>
        <p:spPr>
          <a:xfrm flipV="1">
            <a:off x="4495680" y="28195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36196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5562720" y="3429000"/>
            <a:ext cx="358128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сихолого-медик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Ярославля («Лад», «Развитие» и др.)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4343400" y="4419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47242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7025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625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3625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9325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27275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Анализ деятельности педколлектива по гражданско-правовому образованию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щение и анализ воспитательных мероприя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Мониторинг воспитательного процесса по направления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ученического коллекти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ая адаптированность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дезадап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омет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Планирование дальнейшей работы по результатам мониторин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(из опыта работы МОУ СОШ № 4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граммы воспитания, реализуемые в школ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оровьесберегающая программа «Мы выбираем жизнь!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Ярославль тысячеликий» (к 1000-летию Ярослав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гражданско – правового образования «Я- гражданин России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Вместе дружная семья» (в рамках Года семьи 2008г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аправления работы в рамках гражданско-правового образ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 учащимися и семьями, находящимися в социально опасном полож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ико–психолого-педагогическая поддержка семь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илактика и предупреждение аддиктивного поведения учащих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Точка отсчё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совет «Гражданско-правовое образование учащихс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суждение тем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ка задач воспитательного проце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приоритетных направл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нировани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724280" y="4495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724280" y="2590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ограмма гражданско-правового образования учащихся МОУ СОШ № 44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г. Ярославля на 2006-2008 г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аспорт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именовани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шение для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азчик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направления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полнители основных мероприятий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жидаемые конечные результат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троль за исполнением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держание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цели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мероприятий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еб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спит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сихологическая служб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готовка и переподготовка педагогических кадр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ханизм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ценка эффективност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ормативно-правовая баз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я Р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 РФ «Об образовани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общая декларация прав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 правах ребе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62120" y="2286000"/>
            <a:ext cx="1752480" cy="14479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еничес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914400" y="3962520"/>
            <a:ext cx="160020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дитель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ществен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057400" y="5334120"/>
            <a:ext cx="22096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лассны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уководител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343400" y="5257800"/>
            <a:ext cx="220968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ителя-предметни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629400" y="4876920"/>
            <a:ext cx="15238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блиотекар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6172200" y="1905120"/>
            <a:ext cx="167652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ьный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нспек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2819520" y="1752480"/>
            <a:ext cx="2743200" cy="16765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едико-психологиче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лужб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(логопед, психолог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ач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5029200" y="3124080"/>
            <a:ext cx="1447920" cy="7621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3200400" y="5029200"/>
            <a:ext cx="99072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362320" y="3429000"/>
            <a:ext cx="1676160" cy="457200"/>
          </a:xfrm>
          <a:prstGeom prst="line">
            <a:avLst/>
          </a:prstGeom>
          <a:ln w="2844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724280" y="4952880"/>
            <a:ext cx="1219320" cy="38124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4343400" y="3429000"/>
            <a:ext cx="0" cy="3808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6"/>
          <p:cNvSpPr/>
          <p:nvPr/>
        </p:nvSpPr>
        <p:spPr>
          <a:xfrm flipH="1" flipV="1">
            <a:off x="5334120" y="4571640"/>
            <a:ext cx="182880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429000" y="3733920"/>
            <a:ext cx="198108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5410080" y="4114440"/>
            <a:ext cx="1371600" cy="1522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705720" y="3429000"/>
            <a:ext cx="1600200" cy="12193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едагог –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иза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33:24Z</dcterms:created>
  <dc:creator>Пользователь</dc:creator>
  <dc:description/>
  <dc:language>en-US</dc:language>
  <cp:lastModifiedBy>LEGION</cp:lastModifiedBy>
  <dcterms:modified xsi:type="dcterms:W3CDTF">2015-01-28T10:20:18Z</dcterms:modified>
  <cp:revision>29</cp:revision>
  <dc:subject/>
  <dc:title>Вас приветствует</dc:title>
</cp:coreProperties>
</file>