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C384-07E1-4F8B-B99E-0A1D9B2BF0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181B-128C-4041-BB4A-8B5938C829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зависимость величины спроса на данном товарном рынке от цен, по которым товары могут быть предложены на продаж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еличи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, которое покупатели хотят и могут приобрести по данной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3064-43CE-4B42-970F-84C56323EB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кон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вышение цен ведет к снижению величины спроса, а снижение цен – к ее увели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2038-4BF0-45C3-9244-AFE4837EE6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он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5E4B-188B-4E1A-828F-1E5A96DBE9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док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она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докс состоит в том, что их объяснение так же укладывается в рамки закона спроса, а это значит, что обратная зависимость величины спроса  от динамики цены действительно является экономическим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 парадо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инамику величины спроса влияет не только реальное движение цены, но и ожидаемое покупателем, т. Е. не только реальная, но и ожидаемая цена. Социально – психологическое состояние становится экономическим фактором (в будущем еще дороже, надо брать сейча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 парадо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цены может вызвать не увеличение спроса, как требует закон, а стимулировать падение. В движение величины спроса вмешивается фактор ожидаемой цены. Т.Е. раз этот товар снижается в цене, то потом его можно будет купить еще дешев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 парадокс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ый спрос на традиционно дорогие товары. Выгода, которую получает покупатель – беспроигрышное помещение  сбережений, их цена имеет тенденцию к возраст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E7CF-FCB8-44AA-97B3-4C0E50F82C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Эластичность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масштаб изменения величины спроса (в %) при изменении цены на 1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C2F2-A764-443D-A051-C39296F01D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1E4-9133-42EC-BBFA-1BBD770E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3B9-8814-4DE9-A201-3325941E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4EE-63B9-40CE-9F76-A44246B0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638-359A-4187-8802-71D9EF91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A64-4834-401E-A77C-9C4D48F6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D96-A494-48BD-B05C-C0F564F2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56F-0729-4A0F-8A13-60C6A42A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378-A78D-4E9F-81DF-22B896BC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6D3-CD8C-441D-AE50-FE32A7B6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2AD7-474E-45C4-BCCC-038B2C1C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809-D68F-4DE8-87DA-2CE357B8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9AA-B6A8-4DC6-B789-C416B542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5152-3A9C-4A9E-96B7-E250EECC73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ED9D-7F79-4908-BAF0-C9A55B176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ро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зависимость величины спроса на данном товарном рынке от цен, по которым товары могут быть предложены на продаж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685800" y="15238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еличина спро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количество товара, которое покупатели хотят и могут приобрести по данной ц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6"/>
          <p:cNvCxnSpPr/>
          <p:nvPr/>
        </p:nvCxnSpPr>
        <p:spPr>
          <a:xfrm flipV="1">
            <a:off x="912960" y="2895120"/>
            <a:ext cx="2160" cy="2364480"/>
          </a:xfrm>
          <a:prstGeom prst="straightConnector1">
            <a:avLst/>
          </a:prstGeom>
          <a:ln cap="rnd" w="2844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3" name="Прямая со стрелкой 8"/>
          <p:cNvCxnSpPr/>
          <p:nvPr/>
        </p:nvCxnSpPr>
        <p:spPr>
          <a:xfrm>
            <a:off x="914400" y="5257800"/>
            <a:ext cx="2820240" cy="2160"/>
          </a:xfrm>
          <a:prstGeom prst="straightConnector1">
            <a:avLst/>
          </a:prstGeom>
          <a:ln cap="rnd"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TextBox 9"/>
          <p:cNvSpPr/>
          <p:nvPr/>
        </p:nvSpPr>
        <p:spPr>
          <a:xfrm>
            <a:off x="0" y="26668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228600" y="3124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990720" y="56386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личество тов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200400" y="5715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уга 13"/>
          <p:cNvSpPr/>
          <p:nvPr/>
        </p:nvSpPr>
        <p:spPr>
          <a:xfrm rot="11094600">
            <a:off x="912600" y="219960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  <a:lnTo>
                  <a:pt x="2617788" y="1381125"/>
                </a:lnTo>
                <a:cubicBezTo>
                  <a:pt x="2617788" y="920750"/>
                  <a:pt x="2617787" y="460375"/>
                  <a:pt x="2617787" y="0"/>
                </a:cubicBezTo>
                <a:close/>
              </a:path>
              <a:path fill="none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</a:path>
            </a:pathLst>
          </a:custGeom>
          <a:noFill/>
          <a:ln cap="rnd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4"/>
          <p:cNvSpPr/>
          <p:nvPr/>
        </p:nvSpPr>
        <p:spPr>
          <a:xfrm>
            <a:off x="1371600" y="4191120"/>
            <a:ext cx="76320" cy="7596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5"/>
          <p:cNvSpPr/>
          <p:nvPr/>
        </p:nvSpPr>
        <p:spPr>
          <a:xfrm flipV="1">
            <a:off x="2362320" y="4724280"/>
            <a:ext cx="75960" cy="7632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4572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38088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38088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3808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114300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05740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297180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6"/>
          <p:cNvSpPr/>
          <p:nvPr/>
        </p:nvSpPr>
        <p:spPr>
          <a:xfrm flipH="1">
            <a:off x="914040" y="4255920"/>
            <a:ext cx="468360" cy="111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8"/>
          <p:cNvSpPr/>
          <p:nvPr/>
        </p:nvSpPr>
        <p:spPr>
          <a:xfrm>
            <a:off x="1436040" y="4255920"/>
            <a:ext cx="11160" cy="100188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0"/>
          <p:cNvSpPr/>
          <p:nvPr/>
        </p:nvSpPr>
        <p:spPr>
          <a:xfrm flipH="1">
            <a:off x="914400" y="4789440"/>
            <a:ext cx="1512720" cy="111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2"/>
          <p:cNvSpPr/>
          <p:nvPr/>
        </p:nvSpPr>
        <p:spPr>
          <a:xfrm flipH="1">
            <a:off x="2361960" y="4789440"/>
            <a:ext cx="11160" cy="4683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3"/>
          <p:cNvSpPr/>
          <p:nvPr/>
        </p:nvSpPr>
        <p:spPr>
          <a:xfrm>
            <a:off x="12952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4"/>
          <p:cNvSpPr/>
          <p:nvPr/>
        </p:nvSpPr>
        <p:spPr>
          <a:xfrm>
            <a:off x="236232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7"/>
          <p:cNvSpPr/>
          <p:nvPr/>
        </p:nvSpPr>
        <p:spPr>
          <a:xfrm>
            <a:off x="3048120" y="2590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20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 = 10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8"/>
          <p:cNvSpPr/>
          <p:nvPr/>
        </p:nvSpPr>
        <p:spPr>
          <a:xfrm>
            <a:off x="5791320" y="2590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P= 10, Q =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9"/>
          <p:cNvSpPr/>
          <p:nvPr/>
        </p:nvSpPr>
        <p:spPr>
          <a:xfrm>
            <a:off x="3962520" y="3200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0"/>
          <p:cNvSpPr/>
          <p:nvPr/>
        </p:nvSpPr>
        <p:spPr>
          <a:xfrm>
            <a:off x="4038480" y="37339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еличина спроса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чки на граф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уга 42"/>
          <p:cNvSpPr/>
          <p:nvPr/>
        </p:nvSpPr>
        <p:spPr>
          <a:xfrm rot="11094600">
            <a:off x="1250640" y="189468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  <a:lnTo>
                  <a:pt x="2617788" y="1381125"/>
                </a:lnTo>
                <a:cubicBezTo>
                  <a:pt x="2617788" y="920750"/>
                  <a:pt x="2617787" y="460375"/>
                  <a:pt x="2617787" y="0"/>
                </a:cubicBezTo>
                <a:close/>
              </a:path>
              <a:path fill="none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Дуга 43"/>
          <p:cNvSpPr/>
          <p:nvPr/>
        </p:nvSpPr>
        <p:spPr>
          <a:xfrm rot="11094600">
            <a:off x="793440" y="265680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3475109" y="76167"/>
                </a:moveTo>
                <a:cubicBezTo>
                  <a:pt x="4252245" y="218282"/>
                  <a:pt x="4857597" y="544835"/>
                  <a:pt x="5109638" y="957901"/>
                </a:cubicBezTo>
                <a:lnTo>
                  <a:pt x="2617788" y="1381125"/>
                </a:lnTo>
                <a:lnTo>
                  <a:pt x="3475109" y="76167"/>
                </a:lnTo>
                <a:close/>
              </a:path>
              <a:path fill="none" w="5235575" h="2762250">
                <a:moveTo>
                  <a:pt x="3475109" y="76167"/>
                </a:moveTo>
                <a:cubicBezTo>
                  <a:pt x="4252245" y="218282"/>
                  <a:pt x="4857597" y="544835"/>
                  <a:pt x="5109638" y="957901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45"/>
          <p:cNvCxnSpPr/>
          <p:nvPr/>
        </p:nvCxnSpPr>
        <p:spPr>
          <a:xfrm flipV="1">
            <a:off x="1141920" y="3580560"/>
            <a:ext cx="229320" cy="2293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1" name="Прямая со стрелкой 47"/>
          <p:cNvCxnSpPr/>
          <p:nvPr/>
        </p:nvCxnSpPr>
        <p:spPr>
          <a:xfrm flipV="1">
            <a:off x="1904040" y="4266720"/>
            <a:ext cx="153000" cy="153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2" name="Прямая со стрелкой 49"/>
          <p:cNvCxnSpPr/>
          <p:nvPr/>
        </p:nvCxnSpPr>
        <p:spPr>
          <a:xfrm flipH="1">
            <a:off x="1218600" y="4343040"/>
            <a:ext cx="153000" cy="1530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Прямая со стрелкой 51"/>
          <p:cNvCxnSpPr/>
          <p:nvPr/>
        </p:nvCxnSpPr>
        <p:spPr>
          <a:xfrm flipH="1">
            <a:off x="1904400" y="4723920"/>
            <a:ext cx="153000" cy="2293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4" name="TextBox 52"/>
          <p:cNvSpPr/>
          <p:nvPr/>
        </p:nvSpPr>
        <p:spPr>
          <a:xfrm>
            <a:off x="3581280" y="4800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3"/>
          <p:cNvSpPr/>
          <p:nvPr/>
        </p:nvSpPr>
        <p:spPr>
          <a:xfrm>
            <a:off x="3429000" y="4191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4"/>
          <p:cNvSpPr/>
          <p:nvPr/>
        </p:nvSpPr>
        <p:spPr>
          <a:xfrm>
            <a:off x="2590920" y="50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5"/>
          <p:cNvSpPr/>
          <p:nvPr/>
        </p:nvSpPr>
        <p:spPr>
          <a:xfrm>
            <a:off x="4114800" y="4876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величение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6"/>
          <p:cNvSpPr/>
          <p:nvPr/>
        </p:nvSpPr>
        <p:spPr>
          <a:xfrm>
            <a:off x="4191120" y="54100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ru-RU" sz="1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ньшение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кон спро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повышение цен ведет к снижению величины спроса, а снижение цен – к ее увеличе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38280" y="1295280"/>
            <a:ext cx="4496040" cy="520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ффекты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а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533520" y="2133720"/>
            <a:ext cx="236196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ового покупате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3352680" y="2133720"/>
            <a:ext cx="221004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замещ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6172200" y="2133720"/>
            <a:ext cx="205740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дох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БОН\Рабочий стол\Новая папка\женя\Картинки\стандартные-3\BS00615_.WMF"/>
          <p:cNvPicPr/>
          <p:nvPr/>
        </p:nvPicPr>
        <p:blipFill>
          <a:blip r:embed="rId1"/>
          <a:stretch/>
        </p:blipFill>
        <p:spPr>
          <a:xfrm>
            <a:off x="6400800" y="4767120"/>
            <a:ext cx="2057400" cy="20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Documents and Settings\БОН\Рабочий стол\Новая папка\женя\Картинки\стандартные-3\BS00608_.WMF"/>
          <p:cNvPicPr/>
          <p:nvPr/>
        </p:nvPicPr>
        <p:blipFill>
          <a:blip r:embed="rId2"/>
          <a:stretch/>
        </p:blipFill>
        <p:spPr>
          <a:xfrm>
            <a:off x="457200" y="4894200"/>
            <a:ext cx="1828800" cy="1963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БОН\Рабочий стол\Новая папка\женя\Картинки\стандартные-3\BS00652_.WMF"/>
          <p:cNvPicPr/>
          <p:nvPr/>
        </p:nvPicPr>
        <p:blipFill>
          <a:blip r:embed="rId3"/>
          <a:stretch/>
        </p:blipFill>
        <p:spPr>
          <a:xfrm>
            <a:off x="3581280" y="5241960"/>
            <a:ext cx="1676520" cy="1616040"/>
          </a:xfrm>
          <a:prstGeom prst="rect">
            <a:avLst/>
          </a:prstGeom>
          <a:ln w="0">
            <a:noFill/>
          </a:ln>
        </p:spPr>
      </p:pic>
      <p:sp>
        <p:nvSpPr>
          <p:cNvPr id="98" name="TextBox 9"/>
          <p:cNvSpPr/>
          <p:nvPr/>
        </p:nvSpPr>
        <p:spPr>
          <a:xfrm>
            <a:off x="533520" y="30481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оятность того, что покупка произойдет, выше у товара с низкой це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352680" y="312408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т цен на товар приведет к увеличению спроса на товар – замени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5791320" y="320040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ланировании расходов, если цена окажется ниже ожидаемой, высока вероятность, что «доход» тоже будет потра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кона спрос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380880" y="1447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лавный факто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т которого зависит спрос –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цена (ценовой факто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981080" y="1905120"/>
            <a:ext cx="3810240" cy="3682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ценовые факторы спро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" y="2362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е предпочтений потребителей (мода, сезоны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57200" y="2743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е числа покупателей на рынке  (сезон отпусков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57200" y="3124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меры доходов потреб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57200" y="3581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личие товара заменителя – субститута, способного удовлетворить ту же потребность (сок, компо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33520" y="4343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личие взаимодополняющих товаров (автомобиль – бензин, электроигрушка – батарейки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33520" y="51055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я в полезности товара (ПК до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33520" y="54864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нфляционные ожидания (покупки впро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Documents and Settings\БОН\Рабочий стол\Новая папка\женя\Картинки\стандартные-3\BS00645_.WMF"/>
          <p:cNvPicPr/>
          <p:nvPr/>
        </p:nvPicPr>
        <p:blipFill>
          <a:blip r:embed="rId1"/>
          <a:stretch/>
        </p:blipFill>
        <p:spPr>
          <a:xfrm>
            <a:off x="7020000" y="4362480"/>
            <a:ext cx="2124000" cy="24955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радокс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кона спро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33520" y="16002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адокс состоит в том, что их объяснение так же укладывается в рамки закона спроса, а это значит, что обратная зависимость величины спроса  от динамики цены действительно является экономическим зак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28600" y="2743200"/>
            <a:ext cx="3048120" cy="33858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 парадо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динамику величины спроса влияет не только реальное движение цены, но и ожидаемое покупателем, т. Е. не только реальная, но и ожидаемая цена. Социально – психологическое состояние становится экономическим фактором (в будущем еще дороже, надо брать сейча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505320" y="2743200"/>
            <a:ext cx="2743200" cy="36601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 парадо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 цены может вызвать не увеличение спроса, как требует закон, а стимулировать падение. В движение величины спроса вмешивается фактор ожидаемой цены. Т.Е. раз этот товар снижается в цене, то потом его можно будет купить еще дешев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553080" y="2743200"/>
            <a:ext cx="2210040" cy="3660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 парадокс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ый спрос на традиционно дорогие товары. Выгода, которую получает покупатель – беспроигрышное помещение  сбережений, их цена имеет тенденцию к возраст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Эластичность спрос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штаб изменения величины спроса (в %) при изменении цены на 1 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129528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676520" y="1828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2057400" y="16765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057400" y="1752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1337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 . 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28600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0481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3962520" y="1905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42670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18148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4343400" y="1676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4495680" y="220968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685800" y="2743200"/>
            <a:ext cx="8229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ластичность спроса;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количество товара по старой цене;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количество товара по новой цене;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тарая цена;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новая ц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1981080" y="3657600"/>
            <a:ext cx="2514600" cy="23151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Е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&lt;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1 спрос неэласти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неэластичного спро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ы первой необходим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малой стоим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удно заменяемые това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6248520" y="3581280"/>
            <a:ext cx="2361960" cy="23151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Е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&gt;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1 спрос эласти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эластичного спро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ы роско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с высокой це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 заменяемые това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20"/>
          <p:cNvCxnSpPr/>
          <p:nvPr/>
        </p:nvCxnSpPr>
        <p:spPr>
          <a:xfrm flipV="1">
            <a:off x="378360" y="4192200"/>
            <a:ext cx="3960" cy="17532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Прямая со стрелкой 22"/>
          <p:cNvCxnSpPr/>
          <p:nvPr/>
        </p:nvCxnSpPr>
        <p:spPr>
          <a:xfrm>
            <a:off x="380880" y="5943600"/>
            <a:ext cx="1372320" cy="2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8" name="TextBox 23"/>
          <p:cNvSpPr/>
          <p:nvPr/>
        </p:nvSpPr>
        <p:spPr>
          <a:xfrm>
            <a:off x="0" y="4191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137160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6"/>
          <p:cNvSpPr/>
          <p:nvPr/>
        </p:nvSpPr>
        <p:spPr>
          <a:xfrm>
            <a:off x="685800" y="4419720"/>
            <a:ext cx="457200" cy="1143000"/>
          </a:xfrm>
          <a:prstGeom prst="line">
            <a:avLst/>
          </a:prstGeom>
          <a:ln cap="rnd"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27"/>
          <p:cNvCxnSpPr/>
          <p:nvPr/>
        </p:nvCxnSpPr>
        <p:spPr>
          <a:xfrm flipV="1">
            <a:off x="4800600" y="4190760"/>
            <a:ext cx="2160" cy="17532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Прямая со стрелкой 28"/>
          <p:cNvCxnSpPr/>
          <p:nvPr/>
        </p:nvCxnSpPr>
        <p:spPr>
          <a:xfrm>
            <a:off x="4802040" y="5942160"/>
            <a:ext cx="1372320" cy="36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3" name="Прямая соединительная линия 29"/>
          <p:cNvSpPr/>
          <p:nvPr/>
        </p:nvSpPr>
        <p:spPr>
          <a:xfrm>
            <a:off x="4952880" y="5105520"/>
            <a:ext cx="1219320" cy="685800"/>
          </a:xfrm>
          <a:prstGeom prst="line">
            <a:avLst/>
          </a:prstGeom>
          <a:ln cap="rnd"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6"/>
          <p:cNvSpPr/>
          <p:nvPr/>
        </p:nvSpPr>
        <p:spPr>
          <a:xfrm>
            <a:off x="4422240" y="41911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7"/>
          <p:cNvSpPr/>
          <p:nvPr/>
        </p:nvSpPr>
        <p:spPr>
          <a:xfrm>
            <a:off x="5793480" y="6019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10T09:38:02Z</dcterms:modified>
  <cp:revision>16</cp:revision>
  <dc:subject/>
  <dc:title>Спрос.</dc:title>
</cp:coreProperties>
</file>