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B8A1-D2B9-4068-B09E-AA6CCEFA43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4556-01B1-49AD-9FFC-FCC1EBF199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C584-8094-4212-8E97-8C7BB65EA8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9071-3365-4619-BA21-AE82DEB6C5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540C-3792-45A6-B1E8-27E5E7F19E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85FA-2C3A-4D8C-9B6D-1C24BDD72A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асштаб изменения величины спроса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F3AC-F9E3-4973-8640-2004B089F2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D6C-2912-40FB-8481-AB18E935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761-5EC4-47B9-AD28-6BA4A120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1CE-4D9F-49D0-9537-64D15A9D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E36-1278-49AF-B21C-8B34D0A0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859-0E2D-4E89-BF7B-362A70A2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409-A99D-4D31-B095-81564889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2D2-A48F-45BD-A7DD-74353E70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51D-46B2-493E-B1D1-267645D2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5E2-D4DB-40BC-A0B6-DBAD703E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F60-5580-48B0-8DBE-812FCD00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44E-58FE-48AF-BE9D-8FD2F117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4BD-3DCB-4185-A926-A67E6913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8C8A-7FBA-488C-BA29-0345ACB6E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9F97-91CE-4A80-B10D-A6EEA8FA8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685800" y="1523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6"/>
          <p:cNvCxnSpPr/>
          <p:nvPr/>
        </p:nvCxnSpPr>
        <p:spPr>
          <a:xfrm flipV="1">
            <a:off x="912960" y="2895120"/>
            <a:ext cx="2160" cy="2364480"/>
          </a:xfrm>
          <a:prstGeom prst="straightConnector1">
            <a:avLst/>
          </a:prstGeom>
          <a:ln cap="rnd" w="284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3" name="Прямая со стрелкой 8"/>
          <p:cNvCxnSpPr/>
          <p:nvPr/>
        </p:nvCxnSpPr>
        <p:spPr>
          <a:xfrm>
            <a:off x="914400" y="5257800"/>
            <a:ext cx="2820240" cy="2160"/>
          </a:xfrm>
          <a:prstGeom prst="straightConnector1">
            <a:avLst/>
          </a:prstGeom>
          <a:ln cap="rnd"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Box 9"/>
          <p:cNvSpPr/>
          <p:nvPr/>
        </p:nvSpPr>
        <p:spPr>
          <a:xfrm>
            <a:off x="0" y="26668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2286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990720" y="5638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личество тов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20040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3"/>
          <p:cNvSpPr/>
          <p:nvPr/>
        </p:nvSpPr>
        <p:spPr>
          <a:xfrm rot="11094600">
            <a:off x="912600" y="21996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4"/>
          <p:cNvSpPr/>
          <p:nvPr/>
        </p:nvSpPr>
        <p:spPr>
          <a:xfrm>
            <a:off x="1371600" y="4191120"/>
            <a:ext cx="76320" cy="7596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5"/>
          <p:cNvSpPr/>
          <p:nvPr/>
        </p:nvSpPr>
        <p:spPr>
          <a:xfrm flipV="1">
            <a:off x="2362320" y="4724280"/>
            <a:ext cx="75960" cy="7632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4572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3808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38088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3808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11430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0574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29718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6"/>
          <p:cNvSpPr/>
          <p:nvPr/>
        </p:nvSpPr>
        <p:spPr>
          <a:xfrm flipH="1">
            <a:off x="914040" y="4255920"/>
            <a:ext cx="46836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8"/>
          <p:cNvSpPr/>
          <p:nvPr/>
        </p:nvSpPr>
        <p:spPr>
          <a:xfrm>
            <a:off x="1436040" y="4255920"/>
            <a:ext cx="11160" cy="100188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0"/>
          <p:cNvSpPr/>
          <p:nvPr/>
        </p:nvSpPr>
        <p:spPr>
          <a:xfrm flipH="1">
            <a:off x="914400" y="4789440"/>
            <a:ext cx="151272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2"/>
          <p:cNvSpPr/>
          <p:nvPr/>
        </p:nvSpPr>
        <p:spPr>
          <a:xfrm flipH="1">
            <a:off x="2361960" y="4789440"/>
            <a:ext cx="11160" cy="4683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3"/>
          <p:cNvSpPr/>
          <p:nvPr/>
        </p:nvSpPr>
        <p:spPr>
          <a:xfrm>
            <a:off x="12952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23623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>
            <a:off x="3048120" y="2590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0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 = 10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579132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P= 10, Q =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9"/>
          <p:cNvSpPr/>
          <p:nvPr/>
        </p:nvSpPr>
        <p:spPr>
          <a:xfrm>
            <a:off x="3962520" y="3200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4038480" y="37339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и на граф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42"/>
          <p:cNvSpPr/>
          <p:nvPr/>
        </p:nvSpPr>
        <p:spPr>
          <a:xfrm rot="11094600">
            <a:off x="1250640" y="189468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43"/>
          <p:cNvSpPr/>
          <p:nvPr/>
        </p:nvSpPr>
        <p:spPr>
          <a:xfrm rot="11094600">
            <a:off x="793440" y="26568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  <a:lnTo>
                  <a:pt x="2617788" y="1381125"/>
                </a:lnTo>
                <a:lnTo>
                  <a:pt x="3475109" y="76167"/>
                </a:lnTo>
                <a:close/>
              </a:path>
              <a:path fill="none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45"/>
          <p:cNvCxnSpPr/>
          <p:nvPr/>
        </p:nvCxnSpPr>
        <p:spPr>
          <a:xfrm flipV="1">
            <a:off x="1141920" y="3580560"/>
            <a:ext cx="22932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Прямая со стрелкой 47"/>
          <p:cNvCxnSpPr/>
          <p:nvPr/>
        </p:nvCxnSpPr>
        <p:spPr>
          <a:xfrm flipV="1">
            <a:off x="1904040" y="4266720"/>
            <a:ext cx="153000" cy="153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Прямая со стрелкой 49"/>
          <p:cNvCxnSpPr/>
          <p:nvPr/>
        </p:nvCxnSpPr>
        <p:spPr>
          <a:xfrm flipH="1">
            <a:off x="1218600" y="4343040"/>
            <a:ext cx="153000" cy="153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Прямая со стрелкой 51"/>
          <p:cNvCxnSpPr/>
          <p:nvPr/>
        </p:nvCxnSpPr>
        <p:spPr>
          <a:xfrm flipH="1">
            <a:off x="1904400" y="4723920"/>
            <a:ext cx="15300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52"/>
          <p:cNvSpPr/>
          <p:nvPr/>
        </p:nvSpPr>
        <p:spPr>
          <a:xfrm>
            <a:off x="358128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3"/>
          <p:cNvSpPr/>
          <p:nvPr/>
        </p:nvSpPr>
        <p:spPr>
          <a:xfrm>
            <a:off x="3429000" y="4191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4"/>
          <p:cNvSpPr/>
          <p:nvPr/>
        </p:nvSpPr>
        <p:spPr>
          <a:xfrm>
            <a:off x="25909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5"/>
          <p:cNvSpPr/>
          <p:nvPr/>
        </p:nvSpPr>
        <p:spPr>
          <a:xfrm>
            <a:off x="4114800" y="4876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елич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4191120" y="54100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ньш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38280" y="1295280"/>
            <a:ext cx="449604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33520" y="2133720"/>
            <a:ext cx="236196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ового покупат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352680" y="2133720"/>
            <a:ext cx="221004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замещ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172200" y="2133720"/>
            <a:ext cx="205740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дох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БОН\Рабочий стол\Новая папка\женя\Картинки\стандартные-3\BS00615_.WMF"/>
          <p:cNvPicPr/>
          <p:nvPr/>
        </p:nvPicPr>
        <p:blipFill>
          <a:blip r:embed="rId1"/>
          <a:stretch/>
        </p:blipFill>
        <p:spPr>
          <a:xfrm>
            <a:off x="6400800" y="4767120"/>
            <a:ext cx="2057400" cy="20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БОН\Рабочий стол\Новая папка\женя\Картинки\стандартные-3\BS00608_.WMF"/>
          <p:cNvPicPr/>
          <p:nvPr/>
        </p:nvPicPr>
        <p:blipFill>
          <a:blip r:embed="rId2"/>
          <a:stretch/>
        </p:blipFill>
        <p:spPr>
          <a:xfrm>
            <a:off x="457200" y="4894200"/>
            <a:ext cx="1828800" cy="196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БОН\Рабочий стол\Новая папка\женя\Картинки\стандартные-3\BS00652_.WMF"/>
          <p:cNvPicPr/>
          <p:nvPr/>
        </p:nvPicPr>
        <p:blipFill>
          <a:blip r:embed="rId3"/>
          <a:stretch/>
        </p:blipFill>
        <p:spPr>
          <a:xfrm>
            <a:off x="3581280" y="5241960"/>
            <a:ext cx="1676520" cy="1616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533520" y="30481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оятность того, что покупка произойдет, выше у товара с низкой це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352680" y="312408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 цен на товар приведет к увеличению спроса на товар – замен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5791320" y="320040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ланировании расходов, если цена окажется ниже ожидаемой, высока вероятность, что «доход» тоже будет потра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80880" y="1447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лавный факто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т которого зависит спрос –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на (ценовой факто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981080" y="1905120"/>
            <a:ext cx="3810240" cy="3682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ценовые факторы спро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" y="2362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предпочтений потребителей (мода, сезоны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5720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числа покупателей на рынке  (сезон отпусков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7200" y="3124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меры доходов потреб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57200" y="3581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товара заменителя – субститута, способного удовлетворить ту же потребность (сок, компо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33520" y="4343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взаимодополняющих товаров (автомобиль – бензин, электроигрушка – батарейки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33520" y="51055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я в полезности товара (ПК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33520" y="54864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нфляционные ожидания (покупки впр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БОН\Рабочий стол\Новая папка\женя\Картинки\стандартные-3\BS00645_.WMF"/>
          <p:cNvPicPr/>
          <p:nvPr/>
        </p:nvPicPr>
        <p:blipFill>
          <a:blip r:embed="rId1"/>
          <a:stretch/>
        </p:blipFill>
        <p:spPr>
          <a:xfrm>
            <a:off x="7020000" y="4362480"/>
            <a:ext cx="2124000" cy="2495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33520" y="16002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28600" y="2743200"/>
            <a:ext cx="3048120" cy="3385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505320" y="2743200"/>
            <a:ext cx="2743200" cy="3660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553080" y="2743200"/>
            <a:ext cx="2210040" cy="3660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штаб изменения величины спроса (в %) при изменении цены на 1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12952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676520" y="1828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057400" y="16765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057400" y="1752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1337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 . 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28600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0481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3962520" y="1905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1814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4343400" y="1676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4495680" y="220968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685800" y="2743200"/>
            <a:ext cx="8229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ластичность спроса;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старой цене;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новой цене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арая цена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новая ц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1981080" y="3657600"/>
            <a:ext cx="251460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l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не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не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малой сто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удн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6248520" y="3581280"/>
            <a:ext cx="236196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роско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с высокой це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378360" y="4192200"/>
            <a:ext cx="39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Прямая со стрелкой 22"/>
          <p:cNvCxnSpPr/>
          <p:nvPr/>
        </p:nvCxnSpPr>
        <p:spPr>
          <a:xfrm>
            <a:off x="380880" y="5943600"/>
            <a:ext cx="1372320" cy="2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8" name="TextBox 23"/>
          <p:cNvSpPr/>
          <p:nvPr/>
        </p:nvSpPr>
        <p:spPr>
          <a:xfrm>
            <a:off x="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371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6"/>
          <p:cNvSpPr/>
          <p:nvPr/>
        </p:nvSpPr>
        <p:spPr>
          <a:xfrm>
            <a:off x="685800" y="4419720"/>
            <a:ext cx="457200" cy="11430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27"/>
          <p:cNvCxnSpPr/>
          <p:nvPr/>
        </p:nvCxnSpPr>
        <p:spPr>
          <a:xfrm flipV="1">
            <a:off x="4800600" y="4190760"/>
            <a:ext cx="21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Прямая со стрелкой 28"/>
          <p:cNvCxnSpPr/>
          <p:nvPr/>
        </p:nvCxnSpPr>
        <p:spPr>
          <a:xfrm>
            <a:off x="4802040" y="5942160"/>
            <a:ext cx="1372320" cy="36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3" name="Прямая соединительная линия 29"/>
          <p:cNvSpPr/>
          <p:nvPr/>
        </p:nvSpPr>
        <p:spPr>
          <a:xfrm>
            <a:off x="4952880" y="5105520"/>
            <a:ext cx="1219320" cy="6858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6"/>
          <p:cNvSpPr/>
          <p:nvPr/>
        </p:nvSpPr>
        <p:spPr>
          <a:xfrm>
            <a:off x="4422240" y="4191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7"/>
          <p:cNvSpPr/>
          <p:nvPr/>
        </p:nvSpPr>
        <p:spPr>
          <a:xfrm>
            <a:off x="5793480" y="6019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10T09:38:02Z</dcterms:modified>
  <cp:revision>16</cp:revision>
  <dc:subject/>
  <dc:title>Спрос.</dc:title>
</cp:coreProperties>
</file>