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96C9-B122-4A73-A845-47D440ABEA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ОЦИАЛЬНЫЕ 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DE83-9815-4239-BC9A-2C45401CC7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Цель: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пособствовать формированию представлений учащихся о группе социальных прав человека и их направленности для жизни людей в государ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омочь учащимся разобраться в своих правах закрепленных Конституцией РФ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-пробудить интерес учащихся к решению проблем по социальным пра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c0504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оспитывать толерант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- ответственное отношение к порученному де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EB74-85CF-491D-8325-ED430A2090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Что вы понимаете под термином  «Социальное государство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38B0-898B-4A9F-A284-3E16BFF7CD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 в каком государстве мы жив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452E-AF18-49C4-AC70-559F70A0E6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- Назовите основные направления социальной политики нашего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6D06-3B79-4F45-B098-0E0EE6D600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-Как решаются социальные проблемы в нашем государств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2E73-1C47-47E5-88A7-DFBC307727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314F-FA83-46C3-81D1-870702B5C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1D37-FA65-4070-B2AF-A47D85DB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D661-4433-4D0F-A1D0-FBDFDE34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98FF-6A3A-4CDB-9921-D5C8024F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EA9F-A417-4CA6-8707-16D73E4A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87C8-8A3E-4B9E-B595-91A5CA37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C932-50D7-4508-B429-410CBA65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A8B5-FA15-4E59-B8D6-8501253B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461A-1FA7-4EB5-9D14-58504346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B459-A129-4C98-A278-3B11F35B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68DA-DD45-4B94-88D3-20CBAC3C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6590-4983-4914-8E59-859EA48B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2A10-D0AC-4742-AB9F-A74BC62470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99"/>
                </a:solidFill>
                <a:latin typeface="Arial"/>
              </a:rPr>
              <a:t>СОЦИАЛЬНЫЕ ПРАВА ЧЕЛОВЕ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298120"/>
            <a:ext cx="6400800" cy="1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Цель: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пособствовать формированию представлений учащихся о группе социальных прав человека и их направленности для жизни людей в государ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79405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мочь учащимся разобраться в своих правах закрепленных Конституцией РФ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пробудить интерес учащихся к решению проблем по социальным прав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оспитывать толерант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- ответственное отношение к порученному де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1197000"/>
            <a:ext cx="705672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Что вы понимаете под термином  «Социальное государство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А в каком государстве мы жив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- Назовите основные направления социальной политики нашего государст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-Как решаются социальные проблемы в нашем государств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03:16:34Z</dcterms:created>
  <dc:creator>User</dc:creator>
  <dc:description/>
  <dc:language>en-US</dc:language>
  <cp:lastModifiedBy>LEGION</cp:lastModifiedBy>
  <dcterms:modified xsi:type="dcterms:W3CDTF">2015-01-28T11:27:29Z</dcterms:modified>
  <cp:revision>6</cp:revision>
  <dc:subject/>
  <dc:title>СОЦИАЛЬНЫЕ ПРАВА ЧЕЛОВЕКА</dc:title>
</cp:coreProperties>
</file>