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04E8-5F4D-4CB8-B5FE-C183F02EB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ЦИАЛЬНЫЕ 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CE1-19E6-40E9-812B-4AFD8816D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Цель: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мочь учащимся разобраться в своих правах закрепленных Конституцией РФ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пробудить интерес учащихся к решению проблем по социальным пра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спитывать толеран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ответственное отношение к поручен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275-EBAA-4537-A430-C0577876F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то вы понимаете под термином  «Социальное государств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7AD-F8F6-4118-B654-A6A42C8241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в каком государстве мы жив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1391-6C47-4FEB-9B73-02585B4A8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Назовите основные направления социальной политики наше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D198-F312-4227-A126-008EA3E37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Как решаются социальные проблемы в нашем государ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90E1-D659-42B6-86C2-D737594334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6FD-37CC-44AF-BFCF-3A172510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C5F-CE7F-49C1-820D-8F67211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EF4-B3EF-4832-BB03-6D44DD0D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1EB-AEA1-4441-AC4D-D1A8C635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84E-5DCB-4B75-9AFA-67569F1F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28B-CA6D-4922-81E1-16AF90F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0BF-B5C1-49B2-8B88-AEE50926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3D6-E9F7-4836-BB05-CDDDDDF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58C-FD8A-419B-ADAF-2591A90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9E7-CECB-4FF3-B2B8-34ED3DA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58C-6A27-4694-ADDE-E4842B5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EA8-2681-4BE3-A7AD-9801B56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365-8EBC-4E9B-BDEB-63C9EE6B0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СОЦИАЛЬНЫЕ ПРАВА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Цель: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7940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чь учащимся разобраться в своих правах закрепленных Конституцией РФ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пробудить интерес учащихся к решению проблем по социальным пра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итывать толера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тветственное отношение к порученному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05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вы понимаете под термином  «Социальное государство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А в каком государстве мы жив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- Назовите основные направления социальной политики нашего государ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-Как решаются социальные проблемы в нашем государств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3:16:34Z</dcterms:created>
  <dc:creator>User</dc:creator>
  <dc:description/>
  <dc:language>en-US</dc:language>
  <cp:lastModifiedBy>LEGION</cp:lastModifiedBy>
  <dcterms:modified xsi:type="dcterms:W3CDTF">2015-01-28T11:27:29Z</dcterms:modified>
  <cp:revision>6</cp:revision>
  <dc:subject/>
  <dc:title>СОЦИАЛЬНЫЕ ПРАВА ЧЕЛОВЕКА</dc:title>
</cp:coreProperties>
</file>