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CADB-5508-40B3-8BAF-6C5A924FF8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Calibri"/>
              </a:rPr>
              <a:t>Вильдянова Райхан Ариф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Calibri"/>
              </a:rPr>
              <a:t>Учитель русского языка и литературы и обществ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Calibri"/>
              </a:rPr>
              <a:t>ГОУ СОШ № 269 «Школа здоровь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4B78-D134-4C39-BE64-A32108E254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итература к уроку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И.Элиасберг. Учебник «Обществознание. Права человека в свободной стране». 8-9 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И.Элиасберг. Программа и примерное план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1A73-77AC-4599-8F5A-0301D8051B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Права человека в свободной стране. Обществознание. </a:t>
            </a: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Модуль </a:t>
            </a:r>
            <a:r>
              <a:rPr b="1" i="1" lang="en-US" sz="1200" spc="-1" strike="noStrike">
                <a:solidFill>
                  <a:srgbClr val="3333cc"/>
                </a:solidFill>
                <a:latin typeface="Times New Roman"/>
              </a:rPr>
              <a:t>II</a:t>
            </a: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. «Человек и общество. Государство и право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Урок №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Гражданское об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8EC0-9A10-4DFF-8E9D-5E176D4A64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Эпиграф к уро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« Поэтом можешь ты не бы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Но гражданином быть обязан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Н.А.Некрас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916D-BF13-44C8-A2DA-8594A6FD65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Цели и задачи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Цель:</a:t>
            </a: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формирование представлений о месте гражданина России в существующей системе экономических и политических отношений , регулируемых пра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воспитание гражданской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развитие критического мышления в процессе восприятия социаль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овладение умениями познавательной и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9B32-A95C-4352-93EC-D3FA91BB04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Форма и структура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Форма:</a:t>
            </a: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 лекция с элементами бес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Структур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лекция: «Гражданское обществ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просмотр видеоматериалов (фрагменты х/т ф. «Ревизор» 1952г. реж. В.Петров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обсуждение с творческим задани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домашнее задание</a:t>
            </a:r>
            <a:r>
              <a:rPr b="0" lang="ru-RU" sz="1200" spc="-1" strike="noStrike">
                <a:solidFill>
                  <a:srgbClr val="3333cc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FB0D-5BA5-475D-BAD8-8BAB31DE01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Используемые видео материалы Единой коллекции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Видеофрагменты х/ф «Ревиз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1365-7526-4E84-BF2B-18CC27F98D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Информационный матери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Условия возникновения гражданск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Введение понятий «Гражданин», «Гражданское обществ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Основные черты гражданск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2E8E-05A1-46EE-89B8-C5DC5C86CD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311D-0746-4AA3-BC40-C54C084347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Ожидаемый результа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Наличие</a:t>
            </a: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 представлений о месте гражданина России в существующей системе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Умение </a:t>
            </a: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проектировать правомерные способы действий в различных жизненных ситуациях, давать правовую оценку поступкам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Овладение</a:t>
            </a: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 знаниями о регулировании отношений между гражданами и государством в сфере охраны правопоря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80A5-7AD7-415C-A9F4-7C960A7679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C25C-277C-4C06-9879-051E0C21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3637-ACA8-4FC2-85ED-E88F0120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7002-CF6C-4D64-8037-A7BCDCD9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D599-5E0B-4891-92A6-C56A6BE3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5A0B-2364-4ABC-A4E1-A0DF32A7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33D2-1041-43CE-B6DC-AC59F0AF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38C7-CED4-451C-9132-0554AEE7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12F5-1FAB-491A-A108-6AF2260D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81A7-466E-48D6-BC20-E2701859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C9D9-0E7C-40E4-B040-58F47347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E58A-107E-4D91-8303-63E495D0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0119-DBDA-4B23-9597-619B1142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BD0D-5313-4278-BF13-1FC9E5EFDB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cc"/>
                </a:solidFill>
                <a:latin typeface="Arial"/>
              </a:rPr>
              <a:t>Вильдянова Райхан Арифов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cc"/>
                </a:solidFill>
                <a:latin typeface="Arial"/>
              </a:rPr>
              <a:t>Учитель русского языка и литературы и обществозн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cc"/>
                </a:solidFill>
                <a:latin typeface="Arial"/>
              </a:rPr>
              <a:t>ГОУ СОШ № 269 «Школа здоровь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ература к уроку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И.Элиасберг. Учебник «Обществознание. Права человека в свободной стране». 8-9 к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И.Элиасберг. Программа и примерное планир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Права человека в свободной стране. Обществознание. </a:t>
            </a: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8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9640" y="3284280"/>
            <a:ext cx="80647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Модуль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II</a:t>
            </a: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. «Человек и общество. Государство и право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Урок №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Гражданское обществ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Эпиграф к уро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« Поэтом можешь ты не быт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Но гражданином быть обязан!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Н.А.Некрас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Цели и задачи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Цель: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формирование представлений о месте гражданина России в существующей системе экономических и политических отношений , регулируемых пра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воспитание гражданской ответств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развитие критического мышления в процессе восприятия социальной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овладение умениями познавательной и практиче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Форма и структура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cc"/>
                </a:solidFill>
                <a:uFillTx/>
                <a:latin typeface="Times New Roman"/>
              </a:rPr>
              <a:t>Форма:</a:t>
            </a: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 лекция с элементами бес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cc"/>
                </a:solidFill>
                <a:uFillTx/>
                <a:latin typeface="Times New Roman"/>
              </a:rPr>
              <a:t>Структура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лекция: «Гражданское общество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просмотр видеоматериалов (фрагменты х/т ф. «Ревизор» 1952г. реж. В.Петров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обсуждение с творческим задани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домашнее задание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Используемые видео материалы Единой коллекции ресурс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Видеофрагменты х/ф «Ревиз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рев"/>
          <p:cNvPicPr/>
          <p:nvPr/>
        </p:nvPicPr>
        <p:blipFill>
          <a:blip r:embed="rId1"/>
          <a:stretch/>
        </p:blipFill>
        <p:spPr>
          <a:xfrm>
            <a:off x="900000" y="2205000"/>
            <a:ext cx="2880000" cy="1766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рев"/>
          <p:cNvPicPr/>
          <p:nvPr/>
        </p:nvPicPr>
        <p:blipFill>
          <a:blip r:embed="rId2"/>
          <a:stretch/>
        </p:blipFill>
        <p:spPr>
          <a:xfrm>
            <a:off x="900000" y="4149720"/>
            <a:ext cx="2880000" cy="172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рев"/>
          <p:cNvPicPr/>
          <p:nvPr/>
        </p:nvPicPr>
        <p:blipFill>
          <a:blip r:embed="rId3"/>
          <a:stretch/>
        </p:blipFill>
        <p:spPr>
          <a:xfrm>
            <a:off x="4932360" y="4149720"/>
            <a:ext cx="2952720" cy="172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рев"/>
          <p:cNvPicPr/>
          <p:nvPr/>
        </p:nvPicPr>
        <p:blipFill>
          <a:blip r:embed="rId4"/>
          <a:stretch/>
        </p:blipFill>
        <p:spPr>
          <a:xfrm>
            <a:off x="4932360" y="2205000"/>
            <a:ext cx="3024360" cy="18003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Информационный матери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Условия возникновения гражданского об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Введение понятий «Гражданин», «Гражданское общество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Основные черты гражданского об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Деятельность учащихся на уро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Слуш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Запись в тетради информационн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Просмотр и обсуждение видео фрагментов филь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Работа над творческим заданием: поиск социальной информации по заданной социальной теме с и её первичный анали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075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Ожидаемый результа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3333cc"/>
                </a:solidFill>
                <a:uFillTx/>
                <a:latin typeface="Times New Roman"/>
              </a:rPr>
              <a:t>Наличие</a:t>
            </a:r>
            <a:r>
              <a:rPr b="1" i="1" lang="ru-RU" sz="3000" spc="-1" strike="noStrike">
                <a:solidFill>
                  <a:srgbClr val="3333cc"/>
                </a:solidFill>
                <a:latin typeface="Times New Roman"/>
              </a:rPr>
              <a:t> представлений о месте гражданина России в существующей системе отнош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3333cc"/>
                </a:solidFill>
                <a:uFillTx/>
                <a:latin typeface="Times New Roman"/>
              </a:rPr>
              <a:t>Умение </a:t>
            </a:r>
            <a:r>
              <a:rPr b="1" i="1" lang="ru-RU" sz="3000" spc="-1" strike="noStrike">
                <a:solidFill>
                  <a:srgbClr val="3333cc"/>
                </a:solidFill>
                <a:latin typeface="Times New Roman"/>
              </a:rPr>
              <a:t>проектировать правомерные способы действий в различных жизненных ситуациях, давать правовую оценку поступкам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3333cc"/>
                </a:solidFill>
                <a:uFillTx/>
                <a:latin typeface="Times New Roman"/>
              </a:rPr>
              <a:t>Овладение</a:t>
            </a:r>
            <a:r>
              <a:rPr b="1" i="1" lang="ru-RU" sz="3000" spc="-1" strike="noStrike">
                <a:solidFill>
                  <a:srgbClr val="3333cc"/>
                </a:solidFill>
                <a:latin typeface="Times New Roman"/>
              </a:rPr>
              <a:t> знаниями о регулировании отношений между гражданами и государством в сфере охраны правопоряд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8:50:36Z</dcterms:created>
  <dc:creator>Нафися'па</dc:creator>
  <dc:description/>
  <dc:language>en-US</dc:language>
  <cp:lastModifiedBy>LEGION</cp:lastModifiedBy>
  <dcterms:modified xsi:type="dcterms:W3CDTF">2015-01-28T11:27:53Z</dcterms:modified>
  <cp:revision>9</cp:revision>
  <dc:subject/>
  <dc:title>Права человека в свободной стране. Обществознание.  8 класс</dc:title>
</cp:coreProperties>
</file>