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F587-9D67-48F1-83E4-8798656139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Вильдянова Райхан Ариф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Учитель русского языка и литературы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ГОУ СОШ № 269 «Школа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134C-FFB7-4381-98CD-881D2293C2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тература к урок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И.Элиасберг. Учебник «Обществознание. Права человека в свободной стране». 8-9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И.Элиасберг. Программа и примерное план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CF1D-526B-4353-B5F6-5418E74DC2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рава человека в свободной стране. Обществознание. 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Модуль </a:t>
            </a:r>
            <a:r>
              <a:rPr b="1" i="1" lang="en-US" sz="12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. «Человек и общество. Государство и право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Урок №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Гражданское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399B-D539-437D-85E9-604739EB15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Эпиграф к уро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« Поэтом можешь ты не бы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Но гражданином быть обязан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Н.А.Некра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1695-F62F-45BA-B337-5260D8797D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Цели и задач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Цель:</a:t>
            </a: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формирование представлений о месте гражданина России в существующей системе экономических и политических отношений , регулируемых 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воспитание гражданской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развитие критического мышления в процессе восприятия социаль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овладение умениями познавательной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FE99-9BC4-4EC8-BC27-B1C3626885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Форма и структура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Форма:</a:t>
            </a: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 лекция с элементами бес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Структур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лекция: «Гражданское обще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просмотр видеоматериалов (фрагменты х/т ф. «Ревизор» 1952г. реж. В.Петро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обсуждение с творческим зада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D1BF-B942-4C99-92E7-45E1DB20E5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спользуемые видео материалы Единой коллекции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Видеофрагменты х/ф «Ревиз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AD63-C3CA-4168-ACAB-AA78A09156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нформационн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Условия возникновения граждан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Введение понятий «Гражданин», «Гражданское обще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Основные черты граждан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8413-631B-4AFE-ACAD-4467022C45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75E9-9C0C-4C2C-9BC3-D092669244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жидаемый результа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Наличие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 представлений о месте гражданина России в существующей системе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Умение 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проектировать правомерные способы действий в различных жизненных ситуациях, давать правовую оценку поступкам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Овладение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 знаниями о регулировании отношений между гражданами и государством в сфере охраны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11FC-4645-4F07-BB63-C174B1F712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000-E645-4787-A49A-1D24F8D0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05A-8C9D-4EC5-A938-91129116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1D0-D1A7-4F14-9311-BAB07134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DD4-ACF9-4A3F-B793-25B541C5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5FC-89EC-4CC5-B01E-69536C29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0C6-1750-4B33-8E54-B025C90A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1BC-E4CB-4CE0-9E38-6853A31F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0EC-3477-4479-B37E-6BAD515D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387-5465-4505-BA22-F354DAAF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72C-526A-4DFE-ABDC-CE0D2C8E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B4D-547A-4BD6-B87E-2BDF3466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6A6-DF5E-49C5-A416-92921782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92A1-53A7-48C0-8ECC-2A095B85A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Вильдянова Райхан Арифо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Учитель русского языка и литературы и обществозн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ГОУ СОШ № 269 «Школа здоровь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 к урок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И.Элиасберг. Учебник «Обществознание. Права человека в свободной стране». 8-9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И.Элиасберг. Программа и примерное план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Права человека в свободной стране. Обществознание.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3284280"/>
            <a:ext cx="80647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Модуль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. «Человек и общество. Государство и право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Урок №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Гражданское обще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« Поэтом можешь ты не бы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Но гражданином быть обязан!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Н.А.Некра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Цели и задачи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Цель: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формирование представлений о месте гражданина России в существующей системе экономических и политических отношений , регулируемых пр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воспитание гражданской ответств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развитие критического мышления в процессе восприятия социаль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овладение умениями познавательной и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Форма и структура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Форма:</a:t>
            </a: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 лекция с элементами бес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Структур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лекция: «Гражданское общест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просмотр видеоматериалов (фрагменты х/т ф. «Ревизор» 1952г. реж. В.Петров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обсуждение с творческим зада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Используемые видео материалы Единой коллекции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идеофрагменты х/ф «Ревиз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рев"/>
          <p:cNvPicPr/>
          <p:nvPr/>
        </p:nvPicPr>
        <p:blipFill>
          <a:blip r:embed="rId1"/>
          <a:stretch/>
        </p:blipFill>
        <p:spPr>
          <a:xfrm>
            <a:off x="900000" y="2205000"/>
            <a:ext cx="2880000" cy="17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рев"/>
          <p:cNvPicPr/>
          <p:nvPr/>
        </p:nvPicPr>
        <p:blipFill>
          <a:blip r:embed="rId2"/>
          <a:stretch/>
        </p:blipFill>
        <p:spPr>
          <a:xfrm>
            <a:off x="900000" y="4149720"/>
            <a:ext cx="2880000" cy="17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ев"/>
          <p:cNvPicPr/>
          <p:nvPr/>
        </p:nvPicPr>
        <p:blipFill>
          <a:blip r:embed="rId3"/>
          <a:stretch/>
        </p:blipFill>
        <p:spPr>
          <a:xfrm>
            <a:off x="4932360" y="4149720"/>
            <a:ext cx="2952720" cy="172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рев"/>
          <p:cNvPicPr/>
          <p:nvPr/>
        </p:nvPicPr>
        <p:blipFill>
          <a:blip r:embed="rId4"/>
          <a:stretch/>
        </p:blipFill>
        <p:spPr>
          <a:xfrm>
            <a:off x="4932360" y="2205000"/>
            <a:ext cx="3024360" cy="18003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Информационный 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Условия возникновения гражданского об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Введение понятий «Гражданин», «Гражданское общество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Основные черты гражданского об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Деятельность учащихся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луш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Запись в тетради информацион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росмотр и обсуждение видео фрагментов фил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Работа над творческим заданием: поиск социальной информации по заданной социальной теме с и её первичный 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Ожидаемый результа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Наличие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 представлений о месте гражданина России в существующей системе отнош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Умение 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проектировать правомерные способы действий в различных жизненных ситуациях, давать правовую оценку поступкам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Овладение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 знаниями о регулировании отношений между гражданами и государством в сфере охраны правопоряд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8:50:36Z</dcterms:created>
  <dc:creator>Нафися'па</dc:creator>
  <dc:description/>
  <dc:language>en-US</dc:language>
  <cp:lastModifiedBy>LEGION</cp:lastModifiedBy>
  <dcterms:modified xsi:type="dcterms:W3CDTF">2015-01-28T11:27:53Z</dcterms:modified>
  <cp:revision>9</cp:revision>
  <dc:subject/>
  <dc:title>Права человека в свободной стране. Обществознание.  8 класс</dc:title>
</cp:coreProperties>
</file>