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3821-9E5D-4BD1-BB10-B19D291CE4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Основы законодательства РФ об охране здоровья гражданин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а презент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A81C-FED2-4221-82DA-062E42D69B1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Частная система здравоохран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частной системе здравоохранения относя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ечебно-профилактические и аптечные учреждения, имущество которых находится в частной собственности, а также лица, занимающиеся частной медицинской практикой и частной фармацевтической деятель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1A7E-F9FE-4AE6-9ABC-A70A12C22F4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РАЗДЕЛ I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ПРАВА ГРАЖДАН В ОБЛАСТИ ОХРАНЫ ЗДОРОВЬ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ждане РФ обладают неотъемлемым правом на охрану здоровь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то право обеспечивается охраной окружающей природной среды, созданием благоприятных условий труда, быта, отдыха, воспитания и обучения граждан, производством и реализацией доброкачественных продуктов питания, а также предоставлением населению доступной медико-социальн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D446-B2AD-439E-A3E3-FDD8940B5A4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обеспечивает гражданам охрану здоровья независимо от пола, расы, национальности, языка, социального происхождения, должностного положения, места жительства, отношения к религии, убеждений, принадлежности к общественным объединениям, а также других обстоя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гарантирует гражданам защиту от любых форм дискриминации, обусловленной наличием у них каких-либо заболе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2693-4F44-49CD-8AAF-2877D47FC78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 граждан на медико-социальную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заболевании, утрате трудоспособности и в иных случаях граждане имеют право на медико-социальную помощь, которая включает профилактическую, лечебно-диагностическую, реабилитационную, протезно-ортопедическую и зубопротезную помощь, а также меры социального характера по уходу за больными, нетрудоспособными и инвалидами, включая выплату пособия по временной нетрудоспособ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ко-социальная помощь оказывается медицинскими, социальными работниками и иными специалистами в учреждениях государственной, муниципальной и частной систем здравоохранения, а также в учреждениях системы социальной защиты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 имеют право на бесплатную медицинскую помощь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40DF-F2FC-4C93-A592-387411564B4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ДЕЛ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V ПРАВА ОТДЕЛЬНЫХ ГРУПП НАСЕЛЕНИЯ В ОБЛА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ХРАНЫ ЗДОРОВЬ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гражданин имеет право по медицинским показаниям на бесплатные консультации по вопросам планирования семьи, наличия социально значимых заболеваний и заболеваний, представляющих опасность для окружающих, по медико-психологическим аспектам семейно-брачных отношений, а также на медико-генетические, другие консультации и обследования в учреждениях государственной или муниципальной системы здравоохранения с целью предупреждения возможных наследственных заболеваний у потом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20DD-2B2D-483C-BCAC-60246A0B84A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ава беременных женщин и матере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обеспечивает беременным женщинам право на работу в условиях, отвечающих их физиологическим особенностям и состоянию здоровь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нщины во время беременности и в связи с рождением ребенка, а также во время ухода за больными детьми в возрасте до 15 лет имеют право на получение пособия и оплачиваемого отпуска в установленном законом поряд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D1CA-60B4-42C5-A83A-5FB8D6B784B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а несовершеннолетни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пансерное наблюдение и лечение в детской и подростковой службах в порядке, устанавливаемом Министерством здравоохранения РФ, министерствами здравоохранения республик в составе РФ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ко-социальную помощь и питание на льготных условиях, устанавливаемых Правительством РФ, за счет средств бюджетов всех уровн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итарно-гигиеническое образование, на обучение и труд в условиях, отвечающих их физиологическим особенностям и состоянию здоровья и исключающих воздействие на них неблагоприятных фактор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платную медицинскую консультацию за счет средств бюджетов всех уровней при определении профессиональной пригод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необходимой информации о состоянии здоровья в доступной для них фор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0B57-077B-49B6-942F-AFA23E46E30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а военнослужащ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еннослужащие имеют право на медицинское освидетельствование для определения годности к военной службе и досрочное увольнение с военной службы на основании заключения военно-врачебной комисс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еннослужащие, граждане, подлежащие призыву на военную службу и поступающие на военную службу по контракту, имеют право на получение медицинской помощи в учреждениях государственной или муниципальной системы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74C0-F8E7-4CCF-874F-03E396D9E52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а граждан пожилого возра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 пожилого возраста имеют право на медико-социальную помощь на дому, в учреждениях государственной или муниципальной системы здравоохранения, а также в учреждениях системы социальной защиты населения и на лекарственное обеспечение, в том числе на льготных условиях. Медико-социальная помощь гражданам пожилого возраста направлена на лечение имеющихся у них заболеваний и уход, поддержание их активного образа жизни и социальную защиту в случае болезни и неспособности удовлетворять свои основные жизненные потреб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 пожилого возраста на основании медицинского заключения имеют право на санаторно-курортное лечение и реабилитацию бесплатно или на льготных условиях за счет средств социального страхования, органов социальной защиты населения и за счет средств предприятий, учреждений и организаций при их согла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41D2-D4D5-48B5-AD32-1F7887DFDDB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а инвали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алиды, в том числе дети-инвалиды и инвалиды с детства, имеют право на медико-социальную помощь, реабилитацию, обеспечение лекарствами, протезами, протезно-ортопедическими изделиями, средствами передвижения на льготных условиях, а также на профессиональную подготовку и переподготовк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рудоспособные инвалиды имеют право на бесплатную медико-социальную помощь в учреждениях государственной или муниципальной системы здравоохранения, на уход на дому, а в случае неспособности удовлетворять основные жизненные потребности - на содержание в учреждениях системы социальной защиты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52AD-3693-409D-AAAD-8703050F507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CDB0-C39E-4C8E-94CE-68A151CC68F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РАЗДЕЛ V ПРАВА ГРАЖДАН ПРИ ОКАЗАНИИ МЕДИКО-СОЦИАЛЬНОЙ ПОМОЩ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важительное и гуманное отношение со стороны медицинского и обслуживающего персон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следование, лечение и содержание в условиях, соответствующих санитарно-гигиеническим требован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дение по его просьбе консилиума и консультаций других специалис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медицинских и иных услуг в рамках программ добровольного медицинского страх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учае нарушения прав пациента он может обращаться с жалобой непосредственно к руководителю или иному должностному лицу лечебно-профилактического учреждения, в котором ему оказывается медицинская помощь, в соответствующие профессиональные медицинские ассоциации и лицензионные комиссии либо в су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2F4C-2167-4530-B010-A227C0C7529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раво граждан на информацию о состоянии здоровья</a:t>
            </a:r>
            <a:br>
              <a:rPr sz="1000"/>
            </a:br>
            <a:br>
              <a:rPr sz="16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гражданин имеет право в доступной для него форме получить имеющуюся информацию о состоянии своего здоровья, включая сведения о результатах обследования, наличии заболевания, его диагнозе и прогнозе, методах лечения, связанном с ними риске, возможных вариантах медицинского вмешательства, их последствиях и результатах проведенного ле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DEA6-7161-464C-BB56-35404D9E21B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РАЗДЕЛ VII ГАРАНТИИ ОСУЩЕСТВЛЕНИЯ МЕДИКО-СОЦИАЛЬНОЙ ПОМОЩИ ГРАЖДАНА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наиболее распространенных болезней, а также травм, отравлений и других неотложных состоя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санитарно-гигиенических и противоэпидемических мероприятий, медицинской профилактики важнейших заболев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итарно-гигиеническое образ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мер по охране семьи, материнства, отцовства и детства, других мероприятий, связанных с оказанием медико-санитарной помощи гражданам по месту житель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3D6E-3630-4E73-A272-290C09315A6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орая медицинск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рая медицинская помощь оказывается гражданам при состояниях, требующих срочного медицинского вмешательства (при несчастных случаях, травмах, отравлениях и других состояниях и заболеваниях), осуществляется безотлагательно лечебно-профилактическими учреждениями независимо от территориальной, ведомственной подчиненности и формы собственности, медицинскими работниками, а также лицами, обязанными ее оказывать в виде первой помощи по закону или по специальному прави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E64A-F4A0-4730-9384-FE73FD4C7D0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изированная медицинск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ированная медицинская помощь оказывается гражданам при заболеваниях, требующих специальных методов диагностики, лечения и использования сложных медицинских технолог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ированная медицинская помощь оказывается за счет средств бюджетов всех уровней, целевых фондов, предназначенных для охраны здоровья граждан, личных средств граждан и других источников, не запрещенных законодательством РФ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244B-1D1C-4DED-9A6D-0915E3367B6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Что такое охрана здоровь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Назовите основные задачи законодательства РФ об охране здоровья гражд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Назовите три уровня на которых осуществляется здравоохранение в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Что относится к Государственной системе здравоохранения РФ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Что относится к Муниципальной системе здравоохранения РФ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Что относится к Частной системе здравоохранения РФ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Каким неотъемлемым правом обладают граждане РФ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Перечислите основные группы населения, которые обладают правами в области охраны здоро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Назовите три основных права паци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Перечислите три гарантированных вида осуществления медико-социальн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5DA1-6061-4308-9EAE-633438045B9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ДЕЛ I ОБЩИЕ ПОЛОЖЕНИЯ</a:t>
            </a:r>
            <a:br>
              <a:rPr sz="12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Охрана здоровья гражда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храна здоровья гражд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совокупность мер политического, экономического, правового, социального, культурного, научного, медицинского, санитарно-гигиенического и противоэпидемического характера, направленных на сохранение и укрепление физического и психического здоровья каждого человека, поддержание его долголетней активной жизни, предоставление ему медицинской помощи в случае утраты здоро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EB04-FD64-429F-9E11-6F88260511C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сновные принципы охраны здоровья граждан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ение прав человека и гражданина в области охраны здоровья и обеспечение связанных с этими правами государственных гарант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ритет профилактических мер в области охраны здоровья граждан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упность медико-социальной помощ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защищенность граждан в случае утраты здоровь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 органов государственной власти и управления, предприятий, учреждений и организаций независимо от формы собственности, должностных лиц за обеспечение прав граждан в области охраны здоро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72AE-480B-4E53-A7C9-B2626B63569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законодательства РФ об охране здоровья гражд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ответственности и компетенции РФ, республик в составе РФ, автономной области, автономных округов, краев, областей, городов Москвы и Санкт-Петербурга по вопросам охраны здоровья граждан в соответствии с Федеративным договором, а также определение ответственности и компетенции органов местного самоуправления по вопросам охраны здоровья граждан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вое регул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области охраны здоровья граждан деятельности предприятий, учреждений и организаций независимо от формы собственности, а также государственной, муниципальной и частной систем здравоохран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ределение прав гражд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тдельных групп населения в области охраны здоровья и установление гарантий их соблюд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ределение профессиональных пра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бязанностей и ответственности медицинских и фармацевтических работников, установление гарантий их социальной защ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101A-2478-403B-9728-DBCCB64DF8C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ДЕЛ II ОРГАНИЗАЦИЯ ОХРАНЫ ЗДОРОВЬЯ ГРАЖДАН 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бюджетов всех уровн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, направляемые на обязательное и добровольное медицинское страхование в соответствии с Законом РФ "О медицинском страховании граждан в РФ"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целевых фондов, предназначенных для охраны здоровья гражд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государственных и муниципальных предприятий, организаций и других хозяйствующих субъектов, общественных объедин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от ценных бума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банков и других кредит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возмездные и (или) благотворительные взносы и пожертв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ые источники, не запрещенные законодательством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74CD-B20F-492B-8934-6F6C764BE6A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дравоохранение в РФ осуществляется на трех уровня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сударственны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ниципальны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астны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5009-690E-40D6-BC1C-A49F064F6D0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Государственная система здравоохран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государственной системе здравоохранения относя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инистерство здравоохранения РФ, органы управления здравоохранением субъектов в составе РФ, Российская академия медицинских наук, Государственный комитет санитарно-эпидемиологического надзора РФ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9B67-E155-4C43-A2AA-CB24F21150D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униципальная система здравоохран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муниципальной системе здравоохранения относя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униципальные органы управления здравоохранением и находящиеся в муниципальной собственности лечебно-профилактические и научно-исследовательские учреждения, фармацевтические предприятия и организации, аптечные учреждения, учреждения судебно-медицинской экспертизы, образовательные учрежд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4896-8E12-4031-A01F-D91C5E9F645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D6D7-8423-4163-AD17-D262EAD6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2539-B837-4479-8B3A-C9FED1B8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3CAB-9D0A-4201-94BC-9D4A338CE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E4D2-FFC9-4335-AD34-1A205C320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2833-2861-48A7-B865-BA6F8E2C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1CE2-716F-4042-903D-8FF883B2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082F-9BAD-4DFE-988F-067EA424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8067-9855-41FC-B244-63F17D2C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9092-0183-4D52-8B6B-399C6409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6886-945D-4033-BD5C-E1D2B175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EEDB-E343-4A8E-8A46-800E9C1D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8EE3-2073-4ABE-B3E6-D9B0F011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68CC-92E3-495E-ABF8-EFB9B156F49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«Основы законодательства РФ об охране здоровья гражданина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Тема презентаци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Частная система здравоохранения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 частной системе здравоохранения относятс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лечебно-профилактические и аптечные учреждения, имущество которых находится в частной собственности, а также лица, занимающиеся частной медицинской практикой и частной фармацевтической деятельность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4704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РАЗДЕЛ I</a:t>
            </a: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II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 ПРАВА ГРАЖДАН В ОБЛАСТИ ОХРАНЫ ЗДОРОВЬ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раждане РФ обладают неотъемлемым правом на охрану здоровь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Это право обеспечивается охраной окружающей природной среды, созданием благоприятных условий труда, быта, отдыха, воспитания и обучения граждан, производством и реализацией доброкачественных продуктов питания, а также предоставлением населению доступной медико-социальной помощ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58000" y="1412280"/>
            <a:ext cx="49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аво граждан РФ на охрану здоровь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сударство обеспечивает гражданам охрану здоровья независимо от пола, расы, национальности, языка, социального происхождения, должностного положения, места жительства, отношения к религии, убеждений, принадлежности к общественным объединениям, а также других обстоятельст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сударство гарантирует гражданам защиту от любых форм дискриминации, обусловленной наличием у них каких-либо заболевани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раво граждан на медико-социальную помощь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заболевании, утрате трудоспособности и в иных случаях граждане имеют право на медико-социальную помощь, которая включает профилактическую, лечебно-диагностическую, реабилитационную, протезно-ортопедическую и зубопротезную помощь, а также меры социального характера по уходу за больными, нетрудоспособными и инвалидами, включая выплату пособия по временной нетрудоспособ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дико-социальная помощь оказывается медицинскими, социальными работниками и иными специалистами в учреждениях государственной, муниципальной и частной систем здравоохранения, а также в учреждениях системы социальной защиты насе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ждане имеют право на бесплатную медицинскую помощь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РАЗДЕЛ </a:t>
            </a: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I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V ПРАВА ОТДЕЛЬНЫХ ГРУПП НАСЕЛЕНИЯ В ОБЛАСТИ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ОХРАНЫ ЗДОРОВЬ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ждый гражданин имеет право по медицинским показаниям на бесплатные консультации по вопросам планирования семьи, наличия социально значимых заболеваний и заболеваний, представляющих опасность для окружающих, по медико-психологическим аспектам семейно-брачных отношений, а также на медико-генетические, другие консультации и обследования в учреждениях государственной или муниципальной системы здравоохранения с целью предупреждения возможных наследственных заболеваний у потом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016280" y="1264680"/>
            <a:ext cx="25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ава семь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рава беременных женщин и матерей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сударство обеспечивает беременным женщинам право на работу в условиях, отвечающих их физиологическим особенностям и состоянию здоровь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енщины во время беременности и в связи с рождением ребенка, а также во время ухода за больными детьми в возрасте до 15 лет имеют право на получение пособия и оплачиваемого отпуска в установленном законом поряд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Права несовершеннолетних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спансерное наблюдение и лечение в детской и подростковой службах в порядке, устанавливаемом Министерством здравоохранения РФ, министерствами здравоохранения республик в составе РФ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дико-социальную помощь и питание на льготных условиях, устанавливаемых Правительством РФ, за счет средств бюджетов всех уровней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анитарно-гигиеническое образование, на обучение и труд в условиях, отвечающих их физиологическим особенностям и состоянию здоровья и исключающих воздействие на них неблагоприятных факторов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сплатную медицинскую консультацию за счет средств бюджетов всех уровней при определении профессиональной пригодности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учение необходимой информации о состоянии здоровья в доступной для них форм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рава военнослужащих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803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еннослужащие имеют право на медицинское освидетельствование для определения годности к военной службе и досрочное увольнение с военной службы на основании заключения военно-врачебно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мисс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еннослужащие, граждане, подлежащие призыву на военную службу и поступающие на военную службу по контракту, имеют право на получение медицинской помощи в учреждениях государственной или муниципальной системы здравоохран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рава граждан пожилого возраста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ждане пожилого возраста имеют право на медико-социальную помощь на дому, в учреждениях государственной или муниципальной системы здравоохранения, а также в учреждениях системы социальной защиты населения и на лекарственное обеспечение, в том числе на льготных условиях. Медико-социальная помощь гражданам пожилого возраста направлена на лечение имеющихся у них заболеваний и уход, поддержание их активного образа жизни и социальную защиту в случае болезни и неспособности удовлетворять свои основные жизненные потреб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ждане пожилого возраста на основании медицинского заключения имеют право на санаторно-курортное лечение и реабилитацию бесплатно или на льготных условиях за счет средств социального страхования, органов социальной защиты населения и за счет средств предприятий, учреждений и организаций при их соглас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рава инвалидов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Инвалиды, в том числе дети-инвалиды и инвалиды с детства, имеют право на медико-социальную помощь, реабилитацию, обеспечение лекарствами, протезами, протезно-ортопедическими изделиями, средствами передвижения на льготных условиях, а также на профессиональную подготовку и переподготовку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Нетрудоспособные инвалиды имеют право на бесплатную медико-социальную помощь в учреждениях государственной или муниципальной системы здравоохранения, на уход на дому, а в случае неспособности удовлетворять основные жизненные потребности - на содержание в учреждениях системы социальной защиты населения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7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держ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58680" y="907200"/>
            <a:ext cx="38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I ОБЩИЕ ПОЛОЖ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94320" y="1412280"/>
            <a:ext cx="744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II ОРГАНИЗАЦИЯ ОХРАНЫ ЗДОРОВЬЯ ГРАЖДАН В Р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0" y="19155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I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ПРАВА ГРАЖДАН В ОБЛАСТИ ОХРАНЫ ЗДОРОВЬ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0" y="2349000"/>
            <a:ext cx="888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V ПРАВА ОТДЕЛЬНЫХ ГРУПП НАСЕЛЕНИЯ В ОБЛАСТИ ОХРАНЫ ЗДОРОВЬ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0" y="3068280"/>
            <a:ext cx="87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V ПРАВА ГРАЖДАН ПРИ ОКАЗАНИИ МЕДИКО-СОЦИАЛЬНОЙ ПОМОЩ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0" y="371592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VI МЕДИЦИНСКАЯ ДЕЯТЕЛЬНОСТЬ ПО ПЛАНИРОВАНИЮ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ЕМЬИ И РЕГУЛИРОВАНИЮ РЕПРОДУКТИВНОЙ ФУНКЦИИ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0" y="4436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VII ГАРАНТИИ ОСУЩЕСТВЛЕНИЯ МЕДИКО-СОЦИАЛЬНОЙ ПОМОЩИ ГРАЖДАНА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85680" y="5157000"/>
            <a:ext cx="513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VIII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МЕДИЦИНСКАЯ ЭКСПЕРТИЗ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46080" y="5589000"/>
            <a:ext cx="750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X ПРАВА И СОЦИАЛЬНАЯ ЗАЩИТА МЕДИЦИНСКИХ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ФАРМАЦЕВТИЧЕСКИХ РАБОТНИКО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435880" cy="13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РАЗДЕЛ V ПРАВА ГРАЖДАН ПРИ ОКАЗАНИИ МЕДИКО-СОЦИАЛЬНОЙ ПОМОЩИ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уважительное и гуманное отношение со стороны медицинского и обслуживающего персонала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обследование, лечение и содержание в условиях, соответствующих санитарно-гигиеническим требованиям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проведение по его просьбе консилиума и консультаций других специалистов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получение медицинских и иных услуг в рамках программ добровольного медицинского страхования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случае нарушения прав пациента он может обращаться с жалобой непосредственно к руководителю или иному должностному лицу лечебно-профилактического учреждения, в котором ему оказывается медицинская помощь, в соответствующие профессиональные медицинские ассоциации и лицензионные комиссии либо в суд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64200" y="1131840"/>
            <a:ext cx="278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ава пациента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Право граждан на информацию о состоянии здоровья</a:t>
            </a:r>
            <a:br>
              <a:rPr sz="2000"/>
            </a:br>
            <a:br>
              <a:rPr sz="4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ждый гражданин имеет право в доступной для него форме получить имеющуюся информацию о состоянии своего здоровья, включая сведения о результатах обследования, наличии заболевания, его диагнозе и прогнозе, методах лечения, связанном с ними риске, возможных вариантах медицинского вмешательства, их последствиях и результатах проведенного леч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РАЗДЕЛ VII ГАРАНТИИ ОСУЩЕСТВЛЕНИЯ МЕДИКО-СОЦИАЛЬНОЙ ПОМОЩИ ГРАЖДАНАМ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746000"/>
            <a:ext cx="8675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чение наиболее распространенных болезней, а также травм, отравлений и других неотложных состоян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едение санитарно-гигиенических и противоэпидемических мероприятий, медицинской профилактики важнейших заболеван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нитарно-гигиеническое образова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едение мер по охране семьи, материнства, отцовства и детства, других мероприятий, связанных с оказанием медико-санитарной помощи гражданам по месту житель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259560" y="1006920"/>
            <a:ext cx="66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ервичная медико-санитарная помощ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Скорая медицинская помощь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Скорая медицинская помощь оказывается гражданам при состояниях, требующих срочного медицинского вмешательства (при несчастных случаях, травмах, отравлениях и других состояниях и заболеваниях), осуществляется безотлагательно лечебно-профилактическими учреждениями независимо от территориальной, ведомственной подчиненности и формы собственности, медицинскими работниками, а также лицами, обязанными ее оказывать в виде первой помощи по закону или по специальному правилу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Специализированная медицинская помощь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ециализированная медицинская помощь оказывается гражданам при заболеваниях, требующих специальных методов диагностики, лечения и использования сложных медицинских технолог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ециализированная медицинская помощь оказывается за счет средств бюджетов всех уровней, целевых фондов, предназначенных для охраны здоровья граждан, личных средств граждан и других источников, не запрещенных законодательством РФ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613080" y="-360"/>
            <a:ext cx="2881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Arial"/>
              </a:rPr>
              <a:t>Тест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Что такое охрана здоровья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Назовите основные задачи законодательства РФ об охране здоровья гражда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Назовите три уровня на которых осуществляется здравоохранение в РФ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 Что относится к Государственной системе здравоохранения РФ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. Что относится к Муниципальной системе здравоохранения РФ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. Что относится к Частной системе здравоохранения РФ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. Каким неотъемлемым правом обладают граждане РФ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8. Перечислите основные группы населения, которые обладают правами в области охраны здоровь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9. Назовите три основных права пациен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0. Перечислите три гарантированных вида осуществления медико-социальной помощ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РАЗДЕЛ I ОБЩИЕ ПОЛОЖЕНИЯ</a:t>
            </a:r>
            <a:br>
              <a:rPr sz="2400"/>
            </a:b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Охрана здоровья граждан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777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храна здоровья граждан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это совокупность мер политического, экономического, правового, социального, культурного, научного, медицинского, санитарно-гигиенического и противоэпидемического характера, направленных на сохранение и укрепление физического и психического здоровья каждого человека, поддержание его долголетней активной жизни, предоставление ему медицинской помощи в случае утраты здоровь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Основные принципы охраны здоровья граждан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блюдение прав человека и гражданина в области охраны здоровья и обеспечение связанных с этими правами государственных гарантий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оритет профилактических мер в области охраны здоровья граждан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ступность медико-социальной помощи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циальная защищенность граждан в случае утраты здоровь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ветственность органов государственной власти и управления, предприятий, учреждений и организаций независимо от формы собственности, должностных лиц за обеспечение прав граждан в области охраны здоровь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560" y="380520"/>
            <a:ext cx="843588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Задачи законодательства РФ об охране здоровья граждан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пределение ответственности и компетенции РФ, республик в составе РФ, автономной области, автономных округов, краев, областей, городов Москвы и Санкт-Петербурга по вопросам охраны здоровья граждан в соответствии с Федеративным договором, а также определение ответственности и компетенции органов местного самоуправления по вопросам охраны здоровья граждан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авовое регулировани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области охраны здоровья граждан деятельности предприятий, учреждений и организаций независимо от формы собственности, а также государственной, муниципальной и частной систем здравоохранения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пределение прав гражда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отдельных групп населения в области охраны здоровья и установление гарантий их соблюдения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пределение профессиональных пра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обязанностей и ответственности медицинских и фармацевтических работников, установление гарантий их социальной защи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РАЗДЕЛ II ОРГАНИЗАЦИЯ ОХРАНЫ ЗДОРОВЬЯ ГРАЖДАН В РФ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едства бюджетов всех уровне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едства, направляемые на обязательное и добровольное медицинское страхование в соответствии с Законом РФ "О медицинском страховании граждан в РФ"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едства целевых фондов, предназначенных для охраны здоровья граждан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едства государственных и муниципальных предприятий, организаций и других хозяйствующих субъектов, общественных объединени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ходы от ценных бумаг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едиты банков и других кредитор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звозмездные и (или) благотворительные взносы и пожертвова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ные источники, не запрещенные законодательством РФ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70440" y="981000"/>
            <a:ext cx="55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Финансирование охраны здоровья гражд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209160" y="1484280"/>
            <a:ext cx="79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сточниками финансирования охраны здоровья граждан являются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Здравоохранение в РФ осуществляется на трех уровнях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государственный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униципальный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астны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50752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Государственная система здравоохранения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 государственной системе здравоохранения относятс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Министерство здравоохранения РФ, органы управления здравоохранением субъектов в составе РФ, Российская академия медицинских наук, Государственный комитет санитарно-эпидемиологического надзора РФ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Муниципальная система здравоохранени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 муниципальной системе здравоохранения относятс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муниципальные органы управления здравоохранением и находящиеся в муниципальной собственности лечебно-профилактические и научно-исследовательские учреждения, фармацевтические предприятия и организации, аптечные учреждения, учреждения судебно-медицинской экспертизы, образовательные учрежд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6:39:45Z</dcterms:created>
  <dc:creator>Рома</dc:creator>
  <dc:description/>
  <dc:language>en-US</dc:language>
  <cp:lastModifiedBy>LEGION</cp:lastModifiedBy>
  <dcterms:modified xsi:type="dcterms:W3CDTF">2015-01-28T11:29:53Z</dcterms:modified>
  <cp:revision>7</cp:revision>
  <dc:subject/>
  <dc:title>«Основы законодательства РФ об охране здоровья гражданина»</dc:title>
</cp:coreProperties>
</file>