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4192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1E62-6C1D-46D7-A65A-CF77DF13BC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менение Европейской конвенции о защите прав человека и основных свобод в правовой системе России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оль юрис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он Бурков, к.ю.н., ОО «Сутяжни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B6E4-563C-4CE6-9ED5-CA80373305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нская конвенция о применении международных догов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нкт 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ч. 3 ст. 31 Венской конвенции о праве международных договор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 толковании международного договора наряду с его контекстом должна учитываться последующая практика применения договора…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То есть применять Конвенцию, значит делать это так, как это делает единственный международный орган, специально созданный для применения и толкования Конвенции – Европейский суд по правам челове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EA05-B47E-45FE-8E6B-F0BB6F4CD8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рирода Конвенц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значит выражение «Конвенция - живой организм»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едатель Евросуда: «Во время совещания мы очень редко когда обращаемся к тексту Конвенц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озможно выяснить, что имеется ввиду под тем или иным словом текста Конвенции без обращения к практике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9FC4-709B-404D-8D6B-C0394BB862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тус Конвенции в Российском законодательств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. 4 ст. 15 Конституции РФ и ст. 5 ФЗ «О международных договора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…международные договоры Российской Федерации являются составной частью ее правовой системы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международным договором РФ установлены иные правила, чем предусмотренные законом, то применяются правила международного договора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приоритет над закон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венция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Гражданского процессуального кодек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4590-3A45-483E-BE2A-180314D769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едеральное законодательство о применении Конв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. 3 ФКЗ «О судебной системе»: «российские суды обязаны применять международные договоры Росс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З «О ратификации Конвенции»: «Российская Федерация в соответствии со статьей 46 Конвенции признае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силу самого фак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и без специального соглашения юрисдикцию Европейского Суда по правам человека обязательной по вопросам толкования и применения Конвенции и Протоколов к ней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D523-B8A4-49D7-8108-2A6EB75A5A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комендации Комитета Министров СЕ о применении Конвен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еобходимое условие эффективной защиты прав человека в Европе с помощью Конвенции состоит в том, что государства применяют Конвенцию в своих правовых системах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ак она понимается в практике Европейского суд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ункт 3 Рекомендации Комитета Министров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(2004)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7A49-9B5B-4152-843B-A15C790DE9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одатель и Конституционный суд о применении Конве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ктика Конституционного суда говорит об обязанности применять Конвенцию, как она понимается в практике Европейского суда по правам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4 февраля 1992 г. № 2-П - «суды обязаны также оценивать подлежащий применению закон с точки зрения его соответствия принципам и нормам международного прав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бз 8 п. 6 постановления Конституционного Суда РФ от 2 февраля 1996 г. № 4-П - обязательство придать решениям международных органов, включая Европейский суд по правам человека, непосредственное действи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2529-C364-4FFB-A32C-2A18AA2409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ституционный суд о применении Конвенции (продолж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25 января 2001 г. N 1-П - «Российская Федерация признала юрисдикцию Европейского Суда по правам человека и обязалась привести правоприменительную, в том числе судебную, практику в полное соответствие с обязательствами Российской Федерации, вытекающими из участия в Конвенции и Протоколах к ней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2 февраля 2007 г. – «... как и Конвенция о защите прав человека и основных свобод, решения Европейского Суда по правам человека... являются составной частью российской правовой системы, а потому должны учитываться федеральным законодателем при регулировании общественных отношений и правоприменительными органами при применении соответствующих норм прав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7E08-2207-4292-94C0-B92DDC8D86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ачал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ПВ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«О некоторых вопросах применения судами Конституции Российской Федерации при осуществлении правосудия» от 31 октября 1995 г. № 8 пунк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проинструктировал нижестоящие суды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применять международное прав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н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дал разъяснений 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орядке примен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ложений международного прав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F36F-7A1A-4644-B76F-A3C0706B81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ПВС «О применении судами общей юрисдикции общепризнанных принципов и норм международного права и международных договоров Российской Федерации» № 5 от 10 октября 2003 г.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торяет конституционное указание применять Конвенц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ъясняет как это делать – с учетом постановлений Европейского су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правильное применение может привести к отмене судебного реш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аткий обзор судебной практики Евросуда по ст. 3, 5, 6 и 13 Конвен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3866-3E32-47D4-A0CF-18E6EE78AE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пункт «в» п. 4 ППВС «О судебном решении» № 23 от 19 декабря 2003 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сть указывать в мотивировочной части решения примененный судом материальный или процессуальный закон, в частности Конвенцию, принимая во внимание постановления Европейского Суда по правам человека, в которых дано толкование положений Конвенции, подлежащих применению в данном де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779B-0074-4670-A8C4-3826A82AB3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Интервью Председателя Свердловского областного с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ет, мы не проводим каких-либо тренингов по Конвенции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акие тренинги необходимы, чтобы соблюдать требования ст. 6 Конвенции!? Все, что необходимо – это следовать национальному законодательству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(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SimSun"/>
              </a:rPr>
              <a:t>Из интернет пресс-конференции «Судья должен знать все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FA16-7F0A-4081-A6FF-47C97C6427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конча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ПВС «О судебной практике по делам о защите чести и достоинства граждан, а также деловой репутации граждан и юридических лиц» № 3 от 24 февраля 2005 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ъяснения о порядке применения ст. 10 Конвенции «Свобода выражения мнения»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8EE1-ACC5-41B9-8EBF-A60B0FF27D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остановления Пленума ВАС о применении Конвенци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издавал каких-либо постановлений по вопросам применения Конвенции, 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ся Информационное письмо Высшего арбитражного Суда РФ от 20 декабря 1999 г. № С1-7/СМП-1341 «Об основных положениях, применяемых Европейским судом по правам человека при защите имущественных прав и права на правосудие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но было подписано 1,5 года спустя после ратификации Конвен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кумент содержит краткое изложение основных положений, применяемых Евросудо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нем отсутствуют ссылки на конкретные судебные решения Евросуд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33F0-2744-4A54-8872-DCE06A020B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ктика применения Конвенции российскими суд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9CAD-B416-477E-A212-618C41D325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итуционный с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 сентября 2004 г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характер применения Конвенции – как правило, цитирование статей, то есть не применение постановлений Евросу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сентябрь 2004 года имелось только 12 (!) постановлений, в которых Суд обращался к прецедентам Евросуда, из общего числа постановлений (5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дние изменения с 2004 год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С стал обращаться к решения Евросуда (более 50 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х качество улучшилос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енялись решения Евросуда не только вынесенные против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6608-AF55-48FF-A0AB-D33B326B37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ховный с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ит одно (ППВС) – делает другое (практи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 2004 г. исследовано 3911 судебных решен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 при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лько в 8 применялась Конвен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 решений содержат ссылки на постановления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авило, только указывается номер стать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учшем случае, ВС пересказывает содержание стать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удшем ВС указывает, что то или иное действие не противоречит Конвенции в цел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ле 2003 года (принятие ППВС № 5) ситуация не изменила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646C-DB17-4B9F-9F5D-076CFC4DBD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битражные су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следовано 38 068 судебных постановлени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3 постановлениях содержатся ссылки на статьи Конвенц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 в одном постановлении не содержится какой-либо ссылки на прецедентное право Европейского суд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авило, указывался только номер статьи Конв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учшем случае суды переписывали статью Конв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удшем случае суды указывали, что то или иное действие не противоречит Конвенции в цело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9E3B-EF04-43C9-A9BD-B88AB82A3A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йонные и областные суд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йонные суды применяли прецеденты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обственной инициативе суд не применяет Конв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йкое нежелание судей применять Конвенц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я районных судов к судебной практике Евросуда были вызваны представлением сторонами исчерпывающих обоснов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ьи стараются избежать упоминания Конвенции в судебных решениях даже в тех случаях, когда положения Конвенции были в пользу лица, выигрывшего де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ьи стараются вынести решение по делу на основании только российского законодательства или только Конвенции без обращения к анализу прецедентного права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венция применялась теми судьями, которые регулярно сталкивались с аргументами сторон, основанных на положениях Конв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5AEF-07DE-4089-BFDD-AD136009C0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Конвенции судами не удовлетворитель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баланс между положениями законодательства и последующей судебной практи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ициатива по применению Конвенции остается за адвокатами (юристами) участвующими в процесса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33E2-7E8A-43D4-A415-364910527A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репятствия для применения Конвенци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отсутствие достаточных знаний норм международного права и прецедентов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тсутствие понимания судьями особой природы международного прецед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отсуствие официальног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вода решений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тказ суда применять норму Конвенции или прецедентную норму из постановления Евросуда на том основании, чт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 надлежащим образом урегулирован российским законодательств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редвзятое рассмотрение дел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есть «желание» рассмотреть дело в пользу государственного органа, судья целенаправленно не заметит ссылки сторон по делу на Конвенцию и судебную практику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Решение, основанное на статье Конвенции может привести к далеко идущим последствиям для государственного орг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F865-88DC-43FC-81F7-BAF42B8F3E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нение Конвенции в судах России: общие наблю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В 1996 г. ни мы, ни кто-либо другой в России не имели представления о том, как применять Конвенцию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.”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 (С. Беляев, Президент ОО «Сутяжник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Никто не знал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где применять Конвенцию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как применять Конвенц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5A80-A9F5-4D2A-B2D1-0243BBFA5B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Политическое вступление России в Совет Европ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Качество применение Конвенции в российской паравовой систем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атус Конвенции в российском прав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енение Конвенции российскими судами как способ исчерпания внутренних средств правовой защи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Роль адвокатов (юристов) в применении Конвенции в судах Росс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чины не применения Конвенции в судах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принимаемые меры для применения Конвен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85D3-F792-4AD9-B144-F0A9CE3695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ратегическая кампания по применению Конвен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Само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Подача 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Каждый иск содержал параграф со ссылкой на Конвенцию и положения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Каждое обоснование по делу содержало ссылку на Конвенцию и положения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Каждое выступление в суде содержало ссылку на Конвенцию и положения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66C6-3CC2-43D2-963F-C0DE654A7D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ругие методы стратегической камп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Обучение тому, что мы изучили на тренингах и на собственной практ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На специальных тренинг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В университетах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как правило частных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Публ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Статей в газетах и юридических журнал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Кни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Работа с пресс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Пресс-рели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Пресс-конфе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Круглые ст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Конфе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Обучающий сайт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Изучаем Европейскую Конвенцию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SimSun"/>
              </a:rPr>
              <a:t>www.sutyajnik.ru/rus/echr/school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Подача жалоб в Европейский с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7275-9C97-4ACE-A32E-C0543A9A8C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НИГА «Применение Конвенции в судах Росс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Примене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Европейской конвенции о защите прав человека в судах России / Под ред. А. Л. Буркова. ― Екатеринбург: Изд-во Урал. ун-та, 2006. ― 264 с. (Междунар. Защита прав человека; Вып. 6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www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sutyajni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/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ru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/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lib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Книга распространяется бесплат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B5CF-AD8B-42EC-9509-810714D0FF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тория политического вступления России в Совет Европ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вет Евро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оссия (МИ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аковое заключение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авовой порядок Российской Федерации не соответствует стандартам Совета Евро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7582-5E8B-4371-A90B-BC40CEA38B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следствия политического присоед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сказания ученых: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«учитывая отсутствие у Российской Федерации опыта защиты прав человека на национальном уровне, в России может быть совершено много нарушений европейских стандартов прав человека, и они не будут устранены в рамках национальной правовой системы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арк Джанис, 199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йствительность спустя 10 лет после присоединения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я лидирует по числу жалоб в Европейском суде по правам человека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ют своего рассмотрения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000 (21.2 %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лоб против России из общего числа -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9600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лоб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равнения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лько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350 (2.6%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лоб против Великобритании ждет своего рассмотрения в Европейском суде по правам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18CC-7E86-4C67-8555-82F7DB26B9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чина большого количества жалоб против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утствие опыта защиты прав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рименение гарантий Конвенции в национальных судах и как следствие не исчерпание внутренних средств правовой защи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BB9D-6EE6-4009-85CB-46C87A1DB2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нимание защиты, предоставляемой Конвенц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атья 1. Обязательство соблюдать права человека: «Высокие Договаривающиеся Государства обеспечивают каждому находящемуся под их юрисдикцией права и свободы, определеные в разделе 1 Конвенци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имание Совета Европы: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а, закрепленные в Конвенции защищаются в первую очередь в России (субсидиарный характер защиты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ссийское понимание: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о «писать в Страсбург»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жаловаться в международный орган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а защищаются в Страсбург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316A-A56C-4069-B5FB-FB91BF5632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ая идея международного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прав человека состоит в том, чтобы «принести права человека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ОМ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защиты не Франция, а Россия (основа этой идеи закреплена в ее статье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вен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901A-663D-4A19-A8C6-D776D94D07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применять Конвенцию, нужно знать, 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венция не «панацея от всех бед» (ст. 1 Конвен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яется Конвенция главным образом в российских судах, а не в Европейском суде по правам человека (ст. 1 Конвенции, Рекомендациях Комитета Министров Е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ить Конвенцию значит применить статью Конвенции как она понимается в постановлениях Европейского суда по правам человека (практика Евросуда, Рекомендации Комитета Министров ЕС, российск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1E11-1E15-4290-AEAD-FE4B0DCE87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F3E8-320C-4DEA-AA32-1E4234117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157F-F853-4BD0-ABAE-03AB96F8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1D9C-46C0-41E1-B8B8-A0E28C364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A647-7E52-4DFE-A509-6999C8572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9FDE-D0AD-495E-98CF-6C842751F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C54E-36C6-42D2-AF5B-4BD61CAA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F041-DEB9-426C-91BD-CEC1F7C2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7829-8DA3-4E3B-9354-93DCFB51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278D-5317-4CB7-AB7A-F90FE511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A8F2-90E4-428F-B5BB-1DF0FA5D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1E51-101A-4515-8F96-67571A77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0CBF-EFA7-414A-9D75-8A9DA79D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E439-A313-40EB-8B7D-A56F167F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9074-71F5-4220-8FB6-4F9BC04F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730E-09E9-4E84-8EE3-A1EB45DF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631C-39D0-4CF6-9A7C-9AA2560A5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1DAA-D4BF-437C-9D9E-2EC987160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33BE-7C6D-4525-BA68-461CEA00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591B-020F-4AEF-9E58-012E5F0A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8CC4-4DD0-4FDE-8D3D-4F3F621D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5CF9-BE59-4076-AB4B-06D60126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175C-9E7D-491C-ACD8-EA51C85C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4ACA-14D4-4075-8F33-3D8AF2A3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2941-8B4D-40B3-89E2-7BD19B1B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6262-2C9C-4AF9-B88E-75537A32B38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C574-D5D2-49FF-B2D8-5278AE3BEFC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Применение Европейской конвенции о защите прав человека и основных свобод в правовой системе России</a:t>
            </a:r>
            <a:r>
              <a:rPr b="1" lang="en-GB" sz="2800" spc="-1" strike="noStrike">
                <a:solidFill>
                  <a:srgbClr val="330033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роль юристов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тон Бурков, к.ю.н., ОО «Сутяжни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Венская конвенция о применении международных договоров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нкт 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ч. 3 ст. 31 Венской конвенции о праве международных договор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ри толковании международного договора наряду с его контекстом должна учитываться последующая практика применения договора…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есть применять Конвенцию, значит делать это так, как это делает единственный международный орган, специально созданный для применения и толкования Конвенции – Европейский суд по правам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Природа Конвенции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значит выражение «Конвенция - живой организм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дседатель Евросуда: «Во время совещания мы очень редко когда обращаемся к тексту Конвенции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возможно выяснить, что имеется ввиду под тем или иным словом текста Конвенции без обращения к практике Евросу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татус Конвенции в Российском законодательстве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. 4 ст. 15 Конституции РФ и ст. 5 ФЗ «О международных договора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…международные договоры Российской Федерации являются составной частью ее правовой системы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международным договором РФ установлены иные правила, чем предусмотренные законом, то применяются правила международного договора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приоритет над закон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венция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ажданского процессуального кодек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4356000" y="4076640"/>
            <a:ext cx="432000" cy="574560"/>
          </a:xfrm>
          <a:prstGeom prst="downArrow">
            <a:avLst>
              <a:gd name="adj1" fmla="val 50000"/>
              <a:gd name="adj2" fmla="val 3325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Федеральное законодательство о применении Конвенции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. 3 ФКЗ «О судебной системе»: «российские суды обязаны применять международные договоры Росс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ФЗ «О ратификации Конвенции»: «Российская Федерация в соответствии со статьей 46 Конвенции признае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силу самого фак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и без специального соглашения юрисдикцию Европейского Суда по правам человека обязательной по вопросам толкования и применения Конвенции и Протоколов к ней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Рекомендации Комитета Министров СЕ о применении Конвенци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Необходимое условие эффективной защиты прав человека в Европе с помощью Конвенции состоит в том, что государства применяют Конвенцию в своих правовых системах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 она понимается в практике Европейского суд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пункт 3 Рекомендации Комитета Министров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(2004)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Законодатель и Конституционный суд о применении Конвенци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ктика Конституционного суда говорит об обязанности применять Конвенцию, как она понимается в практике Европейского суда по правам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4 февраля 1992 г. № 2-П - «суды обязаны также оценивать подлежащий применению закон с точки зрения его соответствия принципам и нормам международного прав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бз 8 п. 6 постановления Конституционного Суда РФ от 2 февраля 1996 г. № 4-П - обязательство придать решениям международных органов, включая Европейский суд по правам человека, непосредственное действи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Конституционный суд о применении Конвенции (продолжение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25 января 2001 г. N 1-П - «Российская Федерация признала юрисдикцию Европейского Суда по правам человека и обязалась привести правоприменительную, в том числе судебную, практику в полное соответствие с обязательствами Российской Федерации, вытекающими из участия в Конвенции и Протоколах к ней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2 февраля 2007 г. – «... как и Конвенция о защите прав человека и основных свобод, решения Европейского Суда по правам человека... являются составной частью российской правовой системы, а потому должны учитываться федеральным законодателем при регулировании общественных отношений и правоприменительными органами при применении соответствующих норм прав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начало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ПВС«О некоторых вопросах применения судами Конституции Российской Федерации при осуществлении правосудия» от 31 октября 1995 г. № 8 пунк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инструктировал нижестоящие суды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применять международное прав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о не дал разъяснений о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орядке примене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оложений международного прав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продолжение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ПВС «О применении судами общей юрисдикции общепризнанных принципов и норм международного права и международных договоров Российской Федерации» № 5 от 10 октября 2003 г.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торяет конституционное указание применять Конвенц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ъясняет как это делать – с учетом постановлений Европейского су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правильное применение может привести к отмене судебного реш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аткий обзор судебной практики Евросуда по ст. 3, 5, 6 и 13 Конвен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продолжение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пункт «в» п. 4 ППВС «О судебном решении» № 23 от 19 декабря 2003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обходимость указывать в мотивировочной части решения примененный судом материальный или процессуальный закон, в частности Конвенцию, принимая во внимание постановления Европейского Суда по правам человека, в которых дано толкование положений Конвенции, подлежащих применению в данном дел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тервью Председателя Свердловского областного суд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ет, мы не проводим каких-либо тренингов по Конвенции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кие тренинги необходимы, чтобы соблюдать требования ст. 6 Конвенции!? Все, что необходимо – это следовать национальному законодательству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интернет пресс-конференции «Судья должен знать все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окончание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ПВС «О судебной практике по делам о защите чести и достоинства граждан, а также деловой репутации граждан и юридических лиц» № 3 от 24 февраля 2005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ъяснения о порядке применения ст. 10 Конвенции «Свобода выражения мнения»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становления Пленума ВАС о применении Конвенц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издавал каких-либо постановлений по вопросам применения Конвенции, 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ся Информационное письмо Высшего арбитражного Суда РФ от 20 декабря 1999 г. № С1-7/СМП-1341 «Об основных положениях, применяемых Европейским судом по правам человека при защите имущественных прав и права на правосудие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но было подписано 1,5 года спустя после ратификации Конвен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кумент содержит краткое изложение основных положений, применяемых Евросудо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нем отсутствуют ссылки на конкретные судебные решения Евросуд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ктика применения Конвенции российскими суд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Конституционный суд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 сентября 2004 г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характер применения Конвенции – как правило, цитирование статей, то есть не применение постановлений Евросу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сентябрь 2004 года имелось только 12 (!) постановлений, в которых Суд обращался к прецедентам Евросуда, из общего числа постановлений (5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дние изменения с 2004 год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С стал обращаться к решения Евросуда (более 50 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х качество улучшилос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енялись решения Евросуда не только вынесенные против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ерховный суд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ворит одно (ППВС) – делает другое (практи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 2004 г. исследовано 3911 судебных реше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 приме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ько в 8 применялась Конвен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 решений содержат ссылки на постановления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правило, только указывается номер стат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лучшем случае, ВС пересказывает содержание стат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худшем ВС указывает, что то или иное действие не противоречит Конвенции в це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ле 2003 года (принятие ППВС № 5) ситуация не изменила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рбитражные суд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но 38 068 судебных постановл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23 постановлениях содержатся ссылки на статьи Конвен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 в одном постановлении не содержится какой-либо ссылки на прецедентное право Европейского су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равило, указывался только номер статьи Конв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лучшем случае суды переписывали статью Конвен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худшем случае суды указывали, что то или иное действие не противоречит Конвенции в цел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айонные и областные суды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йонные суды применяли прецеденты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собственной инициативе суд не применяет Конв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йкое нежелание судей применять Конвенц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щения районных судов к судебной практике Евросуда были вызваны представлением сторонами исчерпывающих обоснова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дьи стараются избежать упоминания Конвенции в судебных решениях даже в тех случаях, когда положения Конвенции были в пользу лица, выигрывшего д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дьи стараются вынести решение по делу на основании только российского законодательства или только Конвенции без обращения к анализу прецедентного права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венция применялась теми судьями, которые регулярно сталкивались с аргументами сторон, основанных на положениях Конв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ывод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Конвенции судами не удовлетвор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баланс между положениями законодательства и последующей судебной практи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ициатива по применению Конвенции остается за адвокатами (юристами) участвующими в процесса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 rot="5400000">
            <a:off x="3914640" y="3438360"/>
            <a:ext cx="1439640" cy="846000"/>
          </a:xfrm>
          <a:custGeom>
            <a:avLst/>
            <a:gdLst>
              <a:gd name="textAreaLeft" fmla="*/ 225000 w 1439640"/>
              <a:gd name="textAreaRight" fmla="*/ 1260000 w 1439640"/>
              <a:gd name="textAreaTop" fmla="*/ 211320 h 846000"/>
              <a:gd name="textAreaBottom" fmla="*/ 634680 h 84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епятствия для применения Конвенц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отсутствие достаточных знаний норм международного права и прецедентов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тсутствие понимания судьями особой природы международного прецед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отсуствие официальног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вода решений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тказ суда применять норму Конвенции или прецедентную норму из постановления Евросуда на том основании, чт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 надлежащим образом урегулирован российским законодательств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редвзятое рассмотрение дел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есть «желание» рассмотреть дело в пользу государственного органа, судья целенаправленно не заметит ссылки сторон по делу на Конвенцию и судебную практику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Решение, основанное на статье Конвенции может привести к далеко идущим последствиям для государственного орг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нение Конвенции в судах России: общие наблюдени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996 г. ни мы, ни кто-либо другой в России не имели представления о том, как применять Конвенцию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.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С. Беляев, Президент ОО «Сутяжник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кто не знал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де применять Конвенцию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 применять Конвенци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л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3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Политическое вступление России в Совет Европ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Качество применение Конвенции в российской паравовой систем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атус Конвенции в российском прав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енение Конвенции российскими судами как способ исчерпания внутренних средств правовой защи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Роль адвокатов (юристов) в применении Конвенции в судах Росс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чины не применения Конвенции в судах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принимаемые меры для применения Конвен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тратегическая кампания по применению Конвенци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обра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ача ис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ый иск содержал параграф со ссылкой на Конвенцию и положения Евросу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ое обоснование по делу содержало ссылку на Конвенцию и положения Евросу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ое выступление в суде содержало ссылку на Конвенцию и положения Евросу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ругие методы стратегической кампани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3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ение тому, что мы изучили на тренингах и на собственной практ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специальных тренинг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университетах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правило частных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бл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тей в газетах и юридических журнал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ни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с пресс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сс-рели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сс-конфе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углые ст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фе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ающий сайт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аем Европейскую Конвенцию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7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www.sutyajnik.ru/rus/echr/school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ача жалоб в Европейский с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КНИГА «Применение Конвенции в судах России»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00720" y="1844280"/>
            <a:ext cx="446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Применение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Европейской конвенции о защите прав человека в судах России / Под ред. А. Л. Буркова. ― Екатеринбург: Изд-во Урал. ун-та, 2006. ― 264 с. (Междунар. Защита прав человека; Вып. 6)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SimSun"/>
              </a:rPr>
              <a:t>www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SimSun"/>
              </a:rPr>
              <a:t>sutyajnik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SimSun"/>
              </a:rPr>
              <a:t>ru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SimSun"/>
              </a:rPr>
              <a:t>rus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SimSun"/>
              </a:rPr>
              <a:t>libra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Книга распространяется бесплатн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cover"/>
          <p:cNvPicPr/>
          <p:nvPr/>
        </p:nvPicPr>
        <p:blipFill>
          <a:blip r:embed="rId1">
            <a:alphaModFix amt="89000"/>
          </a:blip>
          <a:stretch/>
        </p:blipFill>
        <p:spPr>
          <a:xfrm>
            <a:off x="971640" y="1773360"/>
            <a:ext cx="3300480" cy="462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История политического вступления России в Совет Европы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14040" y="159984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ет Евро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858920" y="1989000"/>
            <a:ext cx="38098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сия (МИ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920" y="42922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аковое заключени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авовой порядок Российской Федерации не соответствует стандартам Совета Евро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0"/>
          <p:cNvSpPr/>
          <p:nvPr/>
        </p:nvSpPr>
        <p:spPr>
          <a:xfrm rot="20031000">
            <a:off x="2842920" y="2708280"/>
            <a:ext cx="752400" cy="1407960"/>
          </a:xfrm>
          <a:prstGeom prst="downArrow">
            <a:avLst>
              <a:gd name="adj1" fmla="val 50000"/>
              <a:gd name="adj2" fmla="val 46782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1"/>
          <p:cNvSpPr/>
          <p:nvPr/>
        </p:nvSpPr>
        <p:spPr>
          <a:xfrm rot="1561800">
            <a:off x="5724000" y="2565360"/>
            <a:ext cx="708120" cy="1584360"/>
          </a:xfrm>
          <a:prstGeom prst="downArrow">
            <a:avLst>
              <a:gd name="adj1" fmla="val 50000"/>
              <a:gd name="adj2" fmla="val 5593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2"/>
          <p:cNvSpPr/>
          <p:nvPr/>
        </p:nvSpPr>
        <p:spPr>
          <a:xfrm>
            <a:off x="4500720" y="4724280"/>
            <a:ext cx="485640" cy="505080"/>
          </a:xfrm>
          <a:prstGeom prst="downArrow">
            <a:avLst>
              <a:gd name="adj1" fmla="val 50000"/>
              <a:gd name="adj2" fmla="val 26001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Последствия политического присоединения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редсказания ученых: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«учитывая отсутствие у Российской Федерации опыта защиты прав человека на национальном уровне, в России может быть совершено много нарушений европейских стандартов прав человека, и они не будут устранены в рамках национальной правовой системы»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(Марк Джанис, 1996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Действительность спустя 10 лет после присоединения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оссия лидирует по числу жалоб в Европейском суде по правам человека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жидают своего рассмотрения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19000 (21.2 %)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жалоб против России из общего числа -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89600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жалоб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сравнения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олько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2350 (2.6%)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жалоб против Великобритании ждет своего рассмотрения в Европейском суде по правам человек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Причина большого количества жалоб против Росси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ие опыта защиты прав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именение гарантий Конвенции в национальных судах и как следствие не исчерпание внутренних средств правовой защ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Понимание защиты, предоставляемой Конвенцией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атья 1. Обязательство соблюдать права человека: «Высокие Договаривающиеся Государства обеспечивают каждому находящемуся под их юрисдикцией права и свободы, определеные в разделе 1 Конвенци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имание Совета Европы: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а, закрепленные в Конвенции защищаются в первую очередь в России (субсидиарный характер защиты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ссийское понимание: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о «писать в Страсбург»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жаловаться в международный орган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а защищаются в Страсбург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4140360" y="3141720"/>
            <a:ext cx="936360" cy="71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Главная идея международного прав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щита прав человека состоит в том, чтобы «принести права человека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ОМ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о защиты не Франция, а Россия (основа этой идеи закреплена в ее статье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вен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 rot="5400000">
            <a:off x="4248000" y="2889360"/>
            <a:ext cx="1152360" cy="136836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342000 h 1368360"/>
              <a:gd name="textAreaBottom" fmla="*/ 1026360 h 1368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Чтобы применять Конвенцию, нужно знать, что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венция не «панацея от всех бед» (ст. 1 Конвен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яется Конвенция главным образом в российских судах, а не в Европейском суде по правам человека (ст. 1 Конвенции, Рекомендациях Комитета Министров Е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ить Конвенцию значит применить статью Конвенции как она понимается в постановлениях Европейского суда по правам человека (практика Евросуда, Рекомендации Комитета Министров ЕС, российское пра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15:48:41Z</dcterms:created>
  <dc:creator>ab636</dc:creator>
  <dc:description/>
  <dc:language>en-US</dc:language>
  <cp:lastModifiedBy>LEGION</cp:lastModifiedBy>
  <dcterms:modified xsi:type="dcterms:W3CDTF">2015-01-28T11:33:16Z</dcterms:modified>
  <cp:revision>166</cp:revision>
  <dc:subject/>
  <dc:title>Применение Европейской конвенции о защите прав человека и основных свобод в правовой системе России: роль юристов</dc:title>
</cp:coreProperties>
</file>