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2AE-FFDB-42CF-A7D4-2E2AC3E300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ль ю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07BE-C7A5-4DE3-87F0-77DDFCB87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ая конвенция о применении международ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20E7-39B4-45E3-BEFF-4A7107D83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рода Конвен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2A9A-E752-47E6-ACD7-E26A3B2D4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законодатель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E0E3-7DB2-4CE2-B467-094A4DD26B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о применении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2F75-2056-42A1-8707-D35B7BBB4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Комитета Министров СЕ о применении Кон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1F4E-9FE8-4F3E-A7B3-78184DC46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F74B-1DA7-47EF-95A9-D74E79B68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1F2B-2F41-4FCE-8CA5-DF02F8AC96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ча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оинструктировал нижестоящие суд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ять международное 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ал разъяснений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BDBD-8DB5-4051-A151-4AE83D996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7E9-F70B-404B-8485-107F3EFC7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D190-3E16-47AC-88C3-C470D8C5F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Интервью Председателя Свердловского областн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SimSun"/>
              </a:rPr>
              <a:t>Из интернет пресс-конференции «Судья должен знать все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E4D7-B6E5-455D-B6E3-4C7CC9130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AEE5-FAF2-4A3C-AD3E-24FB0481E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F85E-0AB0-4D65-A45A-B79E3E7A0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820F-1BF4-44E8-A10E-FCDBBBB196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F995-AC28-4140-8C70-E9B110A1F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6A92-EEED-4124-94AF-9C08CA21F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е 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536C-74D7-4443-A9F6-707E9A4C5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и областные су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E99D-79EC-4124-8F79-70105F836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F8D8-FF02-4295-952B-E1E54E1A5A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536-D5A5-44FA-BAAC-03F0AB890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 (С. Беляев, Президент ОО «Сутяжник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икто не зна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где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к применять Конвен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FDF7-1984-4C98-AE5B-9F56F086E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CC70-7E3F-4BAB-AEC2-F757F0784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одача 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ый иск содержал параграф со ссылкой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обоснование по делу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выступление в суде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41D5-4683-4C8E-B283-CFE3F6180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SimSun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AAB5-A115-4637-AAD9-5AB87FE43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Применение Конвенции в суд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нига распространяется беспла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7304-A8D1-4833-ADDD-3533B1A760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ого вступления России в Совет Евр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453F-3810-4D2D-ABF6-84C4AA5A67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дствия политического присо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F09D-3B2A-4D72-B0B1-D0BB64816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а большого количества жалоб проти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65C0-2397-4CB4-9179-A903FB2609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962F-0B21-4064-BB4E-9145862C6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идея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144-04A4-4FF0-9972-412B361DA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рименять Конвенцию, нужно зна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2D2C-65D0-4D40-9BEA-F5D180273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C46-C3D2-4749-BDDD-4435457A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3FC-9843-4EA1-A514-5EC8AFB6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630-46C7-4BF9-B710-16CD9482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877-C130-4E0E-A508-FB09DA9C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5ABE-76CB-403F-BCCC-C8CB9457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F27D-EFC8-4521-A490-F5EE66E9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E9C9-42EA-44E1-B5DF-C2C3F1A5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0408-DF5E-43B8-A8C4-E5B2DA3B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94C8-1438-4452-AF2D-A7DDCAC5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92C6-382E-4807-B596-8BAEBF7E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E682-8334-4C5D-A9C6-E29A21CA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D11-EF1E-436F-862F-F91E7626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E621-CBFB-4A8F-8E2C-5F7D5C62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9BD8-69B6-4A61-9E45-5C56E9CD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84B5-6895-44E3-984A-4A0156A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302C-C4BB-4FC7-B042-E646BBDE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23D7-26D4-4123-B3F8-937B94EC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9D2-D8E0-4175-BDE6-7998BA06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FD9-5028-4F9F-8608-0293D1F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0A4-B010-46F9-B0D3-1980CCC7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056-979A-4DB8-87AC-9D621C96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DCF-FFE1-4B26-91FD-CCB9AD22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320-F926-426E-914F-EBB3813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5DC-F4EC-47A8-B5C0-47D9A0C5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A7FE-E248-42F6-AE96-B986D81CBCC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23C6-B399-4330-9DCC-F2E4CBF2BDD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2800" spc="-1" strike="noStrike">
                <a:solidFill>
                  <a:srgbClr val="330033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оль юрис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Венская конвенция о применении международных договоров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Природа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тус Конвенции в Российском законодательств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356000" y="4076640"/>
            <a:ext cx="432000" cy="57456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Федеральное законодательство о применении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комендации Комитета Министров СЕ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начало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нструктировал нижестоящие суд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менять международное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не дал разъяснений 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вью Председателя Свердловского областного су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интернет пресс-конференции «Судья должен знать все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оконча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ституцион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хов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битражные су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йонные и областные суд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3914640" y="3438360"/>
            <a:ext cx="1439640" cy="84600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211320 h 846000"/>
              <a:gd name="textAreaBottom" fmla="*/ 634680 h 84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. Беляев, Президент ОО «Сутяж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то не зна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применять Конвенцию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именять Конвен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ча 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иск содержал параграф со ссылкой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обоснование по делу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выступление в суде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НИГА «Применение Конвенции в судах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нига распространяется бесплат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"/>
          <p:cNvPicPr/>
          <p:nvPr/>
        </p:nvPicPr>
        <p:blipFill>
          <a:blip r:embed="rId1">
            <a:alphaModFix amt="89000"/>
          </a:blip>
          <a:stretch/>
        </p:blipFill>
        <p:spPr>
          <a:xfrm>
            <a:off x="971640" y="1773360"/>
            <a:ext cx="3300480" cy="46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стория политического вступления России в Совет Европ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8920" y="1989000"/>
            <a:ext cx="380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0"/>
          <p:cNvSpPr/>
          <p:nvPr/>
        </p:nvSpPr>
        <p:spPr>
          <a:xfrm rot="20031000">
            <a:off x="2842920" y="2708280"/>
            <a:ext cx="752400" cy="1407960"/>
          </a:xfrm>
          <a:prstGeom prst="downArrow">
            <a:avLst>
              <a:gd name="adj1" fmla="val 50000"/>
              <a:gd name="adj2" fmla="val 467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1"/>
          <p:cNvSpPr/>
          <p:nvPr/>
        </p:nvSpPr>
        <p:spPr>
          <a:xfrm rot="1561800">
            <a:off x="5724000" y="2565360"/>
            <a:ext cx="708120" cy="1584360"/>
          </a:xfrm>
          <a:prstGeom prst="downArrow">
            <a:avLst>
              <a:gd name="adj1" fmla="val 50000"/>
              <a:gd name="adj2" fmla="val 5593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4500720" y="4724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Последствия политического присоедин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чина большого количества жалоб против Росс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40360" y="3141720"/>
            <a:ext cx="93636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лавная идея международного пра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5400000">
            <a:off x="4248000" y="2889360"/>
            <a:ext cx="1152360" cy="1368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Чтобы применять Конвенцию, нужно знать, ч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5:48:41Z</dcterms:created>
  <dc:creator>ab636</dc:creator>
  <dc:description/>
  <dc:language>en-US</dc:language>
  <cp:lastModifiedBy>LEGION</cp:lastModifiedBy>
  <dcterms:modified xsi:type="dcterms:W3CDTF">2015-01-28T11:33:16Z</dcterms:modified>
  <cp:revision>166</cp:revision>
  <dc:subject/>
  <dc:title>Применение Европейской конвенции о защите прав человека и основных свобод в правовой системе России: роль юристов</dc:title>
</cp:coreProperties>
</file>