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6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427CE-9A52-48AE-AAD0-C1E213D86B6B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Труд –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право ил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обязанность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Подготовили презентацию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ХТАБИЕВА АЛЬБИН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РОКОВ РУСТ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3FA5A-AE2A-41C3-9767-7757815E3A20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РАБОТНИК»ОБЯЗА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СОБЛЮДАТЬ ТРУДОВУЮ ДИСЦИПЛИНУ,ПРАВИЛА ВНУТРЕННЕГО ТРУДОВОГО РАСПОРЯДК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СВОЕВРЕМЕННО И  ТОЧНО ИСПОЛНЯТЬ РАСПОРЯЖЕНИЯ  И ПРИКАЗЫ РАБОТОДАТЕЛ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СОБЛЮДАТЬ ТРЕБОВАНИЯ ОХРАНЫ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ПРОХОДИТЬ ОБЯЗАТЕЛЬНЫЕ ПРЕДВАРИТЕЛЬНЫЕ И ПЕРИОДИЧЕСКИЕ МЕДИЦИНСКИЕ ОСМОТРЫ И ДР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                  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704BA-86FE-47E7-8CD1-CEF3BA7AD58B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АБОТОДАТЕЛЬ»ОБЯЗА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СОБЛЮДАТЬ УСЛОВИЯ ТРУДОВОГО ДОГОВО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РЕДОСТАВЛЯТЬ РАБОТУ,ОБУСЛОВЛЕННУЮ ТРУДОВЫМ ДОГОВОР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ОБЕСПЕЧИВАТЬ ОБЯЗАТЕЛЬНОЕ СОЦИАЛЬНОЕ СТРАХОВАНИЕ В ПОРЯДКЕ ПРЕДУСМОТРЕННЫМ ФЕДЕРАЛЬНЫМ ЗАКОНОДАТЕЛЬСТВ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ВЫПЛАЧИВАТЬ В ПОЛНОМ РАЗМЕРЕ ЗАРАБОТНУЮ ПЛАТУ В СРОКИ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3ACC5-DED4-4A25-B39A-50D6BB23B6C4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Труд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деятельность человека,  направленная на достижение определённых целей, на сохранение, видоизменение, приспособление среды обитания для удовлетворение своих потребностей, на производство товаров и услу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63786-246B-4181-9800-EED969CB82B5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Т Р У Д - эт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редство для развития творческого потенциала человек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 достижения жизненных благ, карьеры, социального стату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4BA2D-BBD5-4B34-B8EB-B75AFB2D848C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Т Р У Д - эт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ребность и способ самореализ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, предоставленное мне обществ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нность, возлагаемая на меня государством, семьё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8D262-CE2E-41F1-ACE7-D85FC2335CD9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Всеобщая декларация прав человека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.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23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человек имеет право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на    труд, на свободный выбор работы, на справедливые и благоприятные условия труда и на защиту от безработиц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на равную оплату за равный труд, без какой - либо дискримин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создавать профсоюзы и входить в профсоюзы для защиты своих интерес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D172C-04BA-41FA-A38E-1CFCD7F60B9B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атья 37. Конституции РФ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определяет основные принципы использования труд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 в нашей стране свободен, это означает, что каждый гражданин вправе по своему усмотрению распоряжаться своими способностями к труду, выбирать себе род занятий и професси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удительный труд запрещён, и из этого правила нет никаких исключ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86503-7A6B-4165-87DF-4126C6B082D6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Основные принципы использования труд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человек имеет право на труд в условиях, отвечающих требованиям безопасности и гигие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 каждого должен быть соответствующим образом вознаграждё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 должен быть оплачен не ниже минимального размера оплаты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808B9-1FC2-490E-A58B-5164B20D95A4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Основные принципы использования труд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человек имеет право на защиту от безработиц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каждым человеком признаётся право на трудовые споры: индивидуальные и коллективные, включая право на забастовк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имеет право на отд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E58FF-D542-4EC6-BD64-53AD12DCBD0A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Трудовой договор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95332-4678-4765-A461-C718D364281D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F697-F3F9-4E77-9AF7-FFD602FFA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2134-D9AF-4558-9506-9C1EE5F8C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7A1C-3787-4493-B3C3-A4CB7D79B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0964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52428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500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0964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52428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552D-385E-4922-B4B4-56E952B6F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CF6FE-36D9-4151-8B4F-8DC790642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4FBA1-D7B2-4704-926D-9CD5C5BF6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63776-58EF-48FB-9664-8D9EC1BD7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A19C8-0D9B-4B14-A317-B9265DC62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74FB3-3B70-4907-BFF7-8299F9737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95000" y="277920"/>
            <a:ext cx="89154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4DE41-174A-4D06-A1E7-94B866B34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FE25F-CA9E-4305-8643-9533A67BE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D62A-E902-4C5A-90D5-FA632ACDC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12060-E402-45C2-87E1-C281DFAC2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0C3D9-1E28-4E3B-A920-AC12472F7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7C70B-1A4F-44C1-A41B-863F1643C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E6D58-5736-406D-964E-D381C2E47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0964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52428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9500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50964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52428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49099-056B-48AC-BDD9-34A80890A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884A-8682-4ECB-A401-17EB5F881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AE48-BA0C-4DEA-AB62-36B701CB1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27EC-CAB4-4861-846F-9EE7CCF8B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95000" y="277920"/>
            <a:ext cx="89154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B0D7-EACB-4BF9-8E84-921647C9A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0335-D795-457B-AD25-DE0ED0CE4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5FFD-0B66-44AC-AAF8-27C052796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4B7C-CE6C-483B-98D5-BE1557343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910440" cy="6851520"/>
            <a:chOff x="1440" y="0"/>
            <a:chExt cx="9910440" cy="6851520"/>
          </a:xfrm>
        </p:grpSpPr>
        <p:sp>
          <p:nvSpPr>
            <p:cNvPr id="1" name="Freeform 3"/>
            <p:cNvSpPr/>
            <p:nvPr/>
          </p:nvSpPr>
          <p:spPr>
            <a:xfrm>
              <a:off x="8675280" y="4168800"/>
              <a:ext cx="12366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9262080" y="6022800"/>
              <a:ext cx="64980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767520" y="6689880"/>
              <a:ext cx="1443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95000" y="0"/>
              <a:ext cx="8766360" cy="6851520"/>
              <a:chOff x="495000" y="0"/>
              <a:chExt cx="87663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795560" y="0"/>
                <a:ext cx="1285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5316840" y="0"/>
                <a:ext cx="29880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774040" y="0"/>
                <a:ext cx="57924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6320880" y="0"/>
                <a:ext cx="73404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785280" y="0"/>
                <a:ext cx="9590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7301160" y="0"/>
                <a:ext cx="118620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775640" y="0"/>
                <a:ext cx="148572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4124880" y="0"/>
                <a:ext cx="2577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382200" y="0"/>
                <a:ext cx="5158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695680" y="0"/>
                <a:ext cx="73116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939320" y="0"/>
                <a:ext cx="98892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208520" y="0"/>
                <a:ext cx="12672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95000" y="0"/>
                <a:ext cx="144432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720" y="4605480"/>
              <a:ext cx="104220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720" y="6175440"/>
              <a:ext cx="39204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213040" y="0"/>
              <a:ext cx="169200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668440" y="0"/>
              <a:ext cx="12366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203400" y="0"/>
              <a:ext cx="701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720" y="0"/>
              <a:ext cx="14756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720" y="0"/>
              <a:ext cx="10108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720" y="0"/>
              <a:ext cx="464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9021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9021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9021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901800" cy="2493720"/>
              <a:chOff x="1440" y="622440"/>
              <a:chExt cx="990180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90180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90180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90180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90180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90180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9021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9021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95360" y="624348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7098840" y="624348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F836D-08E6-4139-8041-08FFCB3414D5}" type="slidenum">
              <a:rPr b="0" lang="ru-RU" sz="11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82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lvl="1" marL="777960" indent="-298440">
              <a:spcBef>
                <a:spcPts val="8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lvl="2" marL="1197000" indent="-238320">
              <a:spcBef>
                <a:spcPts val="825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lvl="3" marL="1674720" indent="-237960">
              <a:spcBef>
                <a:spcPts val="825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lvl="4" marL="2154240" indent="-237960">
              <a:spcBef>
                <a:spcPts val="825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lvl="5" marL="2154240" indent="-237960">
              <a:spcBef>
                <a:spcPts val="8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lvl="6" marL="2154240" indent="-237960">
              <a:spcBef>
                <a:spcPts val="8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910440" cy="6851520"/>
            <a:chOff x="0" y="0"/>
            <a:chExt cx="9910440" cy="6851520"/>
          </a:xfrm>
        </p:grpSpPr>
        <p:sp>
          <p:nvSpPr>
            <p:cNvPr id="79" name="Freeform 3"/>
            <p:cNvSpPr/>
            <p:nvPr/>
          </p:nvSpPr>
          <p:spPr>
            <a:xfrm>
              <a:off x="8673840" y="4168800"/>
              <a:ext cx="12366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9260640" y="6022800"/>
              <a:ext cx="64980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766080" y="6689880"/>
              <a:ext cx="1443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93560" y="0"/>
              <a:ext cx="8766360" cy="6851520"/>
              <a:chOff x="493560" y="0"/>
              <a:chExt cx="876636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794120" y="0"/>
                <a:ext cx="1285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5315400" y="0"/>
                <a:ext cx="29880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772600" y="0"/>
                <a:ext cx="57924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6319440" y="0"/>
                <a:ext cx="73404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783840" y="0"/>
                <a:ext cx="9590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7299720" y="0"/>
                <a:ext cx="118620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774200" y="0"/>
                <a:ext cx="148572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4123440" y="0"/>
                <a:ext cx="2577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380760" y="0"/>
                <a:ext cx="5158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694240" y="0"/>
                <a:ext cx="73116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937880" y="0"/>
                <a:ext cx="98892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207080" y="0"/>
                <a:ext cx="12672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93560" y="0"/>
                <a:ext cx="144432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8280" y="4605480"/>
              <a:ext cx="104220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8280" y="6175440"/>
              <a:ext cx="39204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8211600" y="0"/>
              <a:ext cx="169200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667000" y="0"/>
              <a:ext cx="12366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9201960" y="0"/>
              <a:ext cx="701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8280" y="0"/>
              <a:ext cx="14756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8280" y="0"/>
              <a:ext cx="10108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8280" y="0"/>
              <a:ext cx="464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9021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9021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9021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901800" cy="2493720"/>
              <a:chOff x="0" y="622440"/>
              <a:chExt cx="990180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90180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90180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90180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90180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90180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9021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9021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82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lvl="1" marL="777960" indent="-298440">
              <a:spcBef>
                <a:spcPts val="8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lvl="2" marL="1197000" indent="-238320">
              <a:spcBef>
                <a:spcPts val="825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lvl="3" marL="1674720" indent="-237960">
              <a:spcBef>
                <a:spcPts val="825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lvl="4" marL="2154240" indent="-237960">
              <a:spcBef>
                <a:spcPts val="825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lvl="5" marL="2154240" indent="-237960">
              <a:spcBef>
                <a:spcPts val="8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lvl="6" marL="2154240" indent="-237960">
              <a:spcBef>
                <a:spcPts val="8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95360" y="624348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7098840" y="624348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695F6-E81F-4B16-B5DD-CE6B451DCAF7}" type="slidenum">
              <a:rPr b="0" lang="ru-RU" sz="11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3"/>
          <p:cNvSpPr/>
          <p:nvPr/>
        </p:nvSpPr>
        <p:spPr>
          <a:xfrm>
            <a:off x="1130400" y="-322200"/>
            <a:ext cx="7800840" cy="780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70000"/>
              </a:lnSpc>
              <a:spcBef>
                <a:spcPts val="3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70000"/>
              </a:lnSpc>
              <a:spcBef>
                <a:spcPts val="43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900" spc="-1" strike="noStrike">
                <a:solidFill>
                  <a:srgbClr val="ff0000"/>
                </a:solidFill>
                <a:latin typeface="Verdana"/>
              </a:rPr>
              <a:t>Труд – </a:t>
            </a:r>
            <a:endParaRPr b="0" lang="en-US" sz="69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70000"/>
              </a:lnSpc>
              <a:spcBef>
                <a:spcPts val="43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900" spc="-1" strike="noStrike">
                <a:solidFill>
                  <a:srgbClr val="ff0000"/>
                </a:solidFill>
                <a:latin typeface="Verdana"/>
              </a:rPr>
              <a:t>право или</a:t>
            </a:r>
            <a:endParaRPr b="0" lang="en-US" sz="69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70000"/>
              </a:lnSpc>
              <a:spcBef>
                <a:spcPts val="43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9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6900" spc="-1" strike="noStrike">
                <a:solidFill>
                  <a:srgbClr val="ff0000"/>
                </a:solidFill>
                <a:latin typeface="Verdana"/>
              </a:rPr>
              <a:t>обязанность?</a:t>
            </a:r>
            <a:endParaRPr b="0" lang="en-US" sz="69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00"/>
                </a:solidFill>
                <a:latin typeface="Verdana"/>
              </a:rPr>
              <a:t>Подготовили презентацию: 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0" lang="ru-RU" sz="2500" spc="-1" strike="noStrike">
                <a:solidFill>
                  <a:srgbClr val="ffffff"/>
                </a:solidFill>
                <a:latin typeface="Verdana"/>
              </a:rPr>
              <a:t>ТОХТАБИЕВА АЛЬБИНА,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500" spc="-1" strike="noStrike">
                <a:solidFill>
                  <a:srgbClr val="ffffff"/>
                </a:solidFill>
                <a:latin typeface="Verdana"/>
              </a:rPr>
              <a:t>ВОРОКОВ РУСТАМ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500" spc="-1" strike="noStrike">
                <a:solidFill>
                  <a:srgbClr val="ccecff"/>
                </a:solidFill>
                <a:latin typeface="Arial"/>
              </a:rPr>
              <a:t>«РАБОТНИК»ОБЯЗАН</a:t>
            </a:r>
            <a:r>
              <a:rPr b="0" lang="ru-RU" sz="4500" spc="-1" strike="noStrike">
                <a:solidFill>
                  <a:srgbClr val="ccecff"/>
                </a:solidFill>
                <a:latin typeface="Arial"/>
              </a:rPr>
              <a:t>:</a:t>
            </a: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000" y="1285920"/>
            <a:ext cx="8915400" cy="4844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3000"/>
          </a:bodyPr>
          <a:p>
            <a:pPr marL="444240" indent="-44424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44240" indent="-444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1. СОБЛЮДАТЬ ТРУДОВУЮ ДИСЦИПЛИНУ,ПРАВИЛА ВНУТРЕННЕГО ТРУДОВОГО РАСПОРЯДКА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44240" indent="-44424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44240" indent="-444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2. СВОЕВРЕМЕННО И  ТОЧНО ИСПОЛНЯТЬ РАСПОРЯЖЕНИЯ  И ПРИКАЗЫ РАБОТОДАТЕЛЯ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44240" indent="-444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44240" indent="-444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3. СОБЛЮДАТЬ ТРЕБОВАНИЯ ОХРАНЫ ТРУДА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44240" indent="-444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44240" indent="-444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4. ПРОХОДИТЬ ОБЯЗАТЕЛЬНЫЕ ПРЕДВАРИТЕЛЬНЫЕ И ПЕРИОДИЧЕСКИЕ МЕДИЦИНСКИЕ ОСМОТРЫ И ДР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.                               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Місце для нижнього колонтитула 3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ccecff"/>
                </a:solidFill>
                <a:latin typeface="Arial"/>
              </a:rPr>
              <a:t>«</a:t>
            </a:r>
            <a:r>
              <a:rPr b="0" i="1" lang="ru-RU" sz="4500" spc="-1" strike="noStrike">
                <a:solidFill>
                  <a:srgbClr val="ccecff"/>
                </a:solidFill>
                <a:latin typeface="Arial"/>
              </a:rPr>
              <a:t>РАБОТОДАТЕЛЬ»ОБЯЗАН:</a:t>
            </a: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64760" y="1285560"/>
            <a:ext cx="8915400" cy="4816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4000"/>
          </a:bodyPr>
          <a:p>
            <a:pPr marL="505800" indent="-50580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05800" indent="-50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1. СОБЛЮДАТЬ УСЛОВИЯ ТРУДОВОГО ДОГОВОРА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05800" indent="-50580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05800" indent="-50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2. ПРЕДОСТАВЛЯТЬ РАБОТУ,ОБУСЛОВЛЕННУЮ ТРУДОВЫМ ДОГОВОРОМ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05800" indent="-50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05800" indent="-50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3. ОБЕСПЕЧИВАТЬ ОБЯЗАТЕЛЬНОЕ СОЦИАЛЬНОЕ СТРАХОВАНИЕ В ПОРЯДКЕ ПРЕДУСМОТРЕННЫМ ФЕДЕРАЛЬНЫМ ЗАКОНОДАТЕЛЬСТВОМ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05800" indent="-50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05800" indent="-50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4. ВЫПЛАЧИВАТЬ В ПОЛНОМ РАЗМЕРЕ ЗАРАБОТНУЮ ПЛАТУ В СРОКИ И ДР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Місце для нижнього колонтитула 3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2520" y="356760"/>
            <a:ext cx="9144000" cy="6286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ccecff"/>
                </a:solidFill>
                <a:latin typeface="Arial"/>
              </a:rPr>
              <a:t>Труд</a:t>
            </a:r>
            <a:r>
              <a:rPr b="0" lang="ru-RU" sz="4100" spc="-1" strike="noStrike">
                <a:solidFill>
                  <a:srgbClr val="ccecff"/>
                </a:solidFill>
                <a:latin typeface="Arial"/>
              </a:rPr>
              <a:t> – </a:t>
            </a:r>
            <a:r>
              <a:rPr b="0" lang="ru-RU" sz="3700" spc="-1" strike="noStrike">
                <a:solidFill>
                  <a:srgbClr val="ccecff"/>
                </a:solidFill>
                <a:latin typeface="Arial"/>
              </a:rPr>
              <a:t>это деятельность человека,  направленная на достижение определённых целей, на сохранение, видоизменение, приспособление среды обитания для удовлетворение своих потребностей, на производство товаров и услуг.</a:t>
            </a:r>
            <a:endParaRPr b="0" lang="en-US" sz="37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600" spc="-1" strike="noStrike">
                <a:solidFill>
                  <a:srgbClr val="ccecff"/>
                </a:solidFill>
                <a:latin typeface="Arial"/>
              </a:rPr>
              <a:t>Т Р У Д - это</a:t>
            </a:r>
            <a:endParaRPr b="0" lang="en-US" sz="5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9240" y="1143000"/>
            <a:ext cx="4660920" cy="521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58920" indent="-358920">
              <a:lnSpc>
                <a:spcPct val="100000"/>
              </a:lnSpc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средство для развития творческого потенциала челов</a:t>
            </a: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ека;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5892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58920" indent="-35892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пособ достижения жизненных благ, карьеры, социального статуса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5892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5892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Picture 31" descr="j0195384"/>
          <p:cNvPicPr/>
          <p:nvPr/>
        </p:nvPicPr>
        <p:blipFill>
          <a:blip r:embed="rId1"/>
          <a:stretch/>
        </p:blipFill>
        <p:spPr>
          <a:xfrm>
            <a:off x="5452920" y="2927520"/>
            <a:ext cx="3738600" cy="307332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600" spc="-1" strike="noStrike">
                <a:solidFill>
                  <a:srgbClr val="ccecff"/>
                </a:solidFill>
                <a:latin typeface="Arial"/>
              </a:rPr>
              <a:t>Т Р У Д - это</a:t>
            </a:r>
            <a:endParaRPr b="0" lang="en-US" sz="5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9240" y="1499760"/>
            <a:ext cx="4560840" cy="4630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4000"/>
          </a:bodyPr>
          <a:p>
            <a:pPr marL="337320" indent="-337320">
              <a:lnSpc>
                <a:spcPct val="100000"/>
              </a:lnSpc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потребность и способ самореализации;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3732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37320" indent="-33732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право, предоставленное мне обществом;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3732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37320" indent="-337320">
              <a:lnSpc>
                <a:spcPct val="100000"/>
              </a:lnSpc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обязанность, возлагаемая на меня государством, семьёй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3732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3732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3732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3732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3" name="Picture 8" descr="j0291984"/>
          <p:cNvPicPr/>
          <p:nvPr/>
        </p:nvPicPr>
        <p:blipFill>
          <a:blip r:embed="rId1"/>
          <a:stretch/>
        </p:blipFill>
        <p:spPr>
          <a:xfrm>
            <a:off x="6310440" y="3857760"/>
            <a:ext cx="3363840" cy="30002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j0240695"/>
          <p:cNvPicPr/>
          <p:nvPr/>
        </p:nvPicPr>
        <p:blipFill>
          <a:blip r:embed="rId2"/>
          <a:stretch/>
        </p:blipFill>
        <p:spPr>
          <a:xfrm>
            <a:off x="6595920" y="1428840"/>
            <a:ext cx="2619360" cy="241776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360" y="277920"/>
            <a:ext cx="8915400" cy="1722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100" spc="-1" strike="noStrike">
                <a:solidFill>
                  <a:srgbClr val="ccecff"/>
                </a:solidFill>
                <a:latin typeface="Arial"/>
              </a:rPr>
              <a:t>Всеобщая декларация прав человека</a:t>
            </a:r>
            <a:r>
              <a:rPr b="1" lang="ru-RU" sz="4100" spc="-1" strike="noStrike">
                <a:solidFill>
                  <a:srgbClr val="ccecff"/>
                </a:solidFill>
                <a:latin typeface="Arial"/>
              </a:rPr>
              <a:t>. </a:t>
            </a:r>
            <a:r>
              <a:rPr b="0" lang="ru-RU" sz="4100" spc="-1" strike="noStrike">
                <a:solidFill>
                  <a:srgbClr val="ccecff"/>
                </a:solidFill>
                <a:latin typeface="Arial"/>
              </a:rPr>
              <a:t>Ст.</a:t>
            </a:r>
            <a:r>
              <a:rPr b="0" i="1" lang="ru-RU" sz="4100" spc="-1" strike="noStrike">
                <a:solidFill>
                  <a:srgbClr val="ccecff"/>
                </a:solidFill>
                <a:latin typeface="Arial"/>
              </a:rPr>
              <a:t> 23</a:t>
            </a:r>
            <a:br>
              <a:rPr sz="4100"/>
            </a:br>
            <a:endParaRPr b="0" lang="en-US" sz="41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-360" y="171432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9000"/>
          </a:bodyPr>
          <a:p>
            <a:pPr marL="63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Каждый человек имеет право 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3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3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1) на    труд, на свободный выбор работы, на справедливые и благоприятные условия труда и на защиту от безработицы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3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3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2) на равную оплату за равный труд, без какой - либо дискриминации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3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3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3) создавать профсоюзы и входить в профсоюзы для защиты своих интересов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3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ccecff"/>
                </a:solidFill>
                <a:latin typeface="Arial"/>
              </a:rPr>
              <a:t>Статья 37. Конституции РФ </a:t>
            </a:r>
            <a:r>
              <a:rPr b="0" i="1" lang="ru-RU" sz="3700" spc="-1" strike="noStrike">
                <a:solidFill>
                  <a:srgbClr val="ccecff"/>
                </a:solidFill>
                <a:latin typeface="Arial"/>
              </a:rPr>
              <a:t>определяет основные принципы использования труда:</a:t>
            </a:r>
            <a:endParaRPr b="0" lang="en-US" sz="37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507600" y="2000160"/>
            <a:ext cx="8915400" cy="4857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руд в нашей стране свободен, это означает, что каждый гражданин вправе по своему усмотрению распоряжаться своими способностями к труду, выбирать себе род занятий и профессию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58920" indent="-35892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58920" indent="-35892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инудительный труд запрещён, и из этого правила нет никаких исключений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58920" indent="-35892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58920" indent="-358920" algn="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marL="358920" indent="-358920">
              <a:spcBef>
                <a:spcPts val="82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100" spc="-1" strike="noStrike">
                <a:solidFill>
                  <a:srgbClr val="ccecff"/>
                </a:solidFill>
                <a:latin typeface="Arial"/>
              </a:rPr>
              <a:t>Основные принципы использования труда:</a:t>
            </a:r>
            <a:endParaRPr b="0" lang="en-US" sz="41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каждый человек имеет право на труд в условиях, отвечающих требованиям безопасности и гигиены;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58920" indent="-35892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58920" indent="-35892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труд каждого должен быть соответствующим образом вознаграждён;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58920" indent="-35892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58920" indent="-35892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труд должен быть оплачен не ниже минимального размера оплаты труда;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100" spc="-1" strike="noStrike">
                <a:solidFill>
                  <a:srgbClr val="ccecff"/>
                </a:solidFill>
                <a:latin typeface="Arial"/>
              </a:rPr>
              <a:t>Основные принципы использования труда:</a:t>
            </a:r>
            <a:endParaRPr b="0" lang="en-US" sz="41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каждый человек имеет право на защиту от безработицы;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58920" indent="-35892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58920" indent="-35892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за каждым человеком признаётся право на трудовые споры: индивидуальные и коллективные, включая право на забастовку;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58920" indent="-35892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58920" indent="-35892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каждый имеет право на отдых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58920" indent="-35892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500" spc="-1" strike="noStrike">
                <a:solidFill>
                  <a:srgbClr val="ccecff"/>
                </a:solidFill>
                <a:latin typeface="Arial"/>
              </a:rPr>
              <a:t>Трудовой договор</a:t>
            </a:r>
            <a:br>
              <a:rPr sz="4500"/>
            </a:b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9" name="Содержимое 3" descr="15.jpg"/>
          <p:cNvPicPr/>
          <p:nvPr/>
        </p:nvPicPr>
        <p:blipFill>
          <a:blip r:embed="rId1"/>
          <a:stretch/>
        </p:blipFill>
        <p:spPr>
          <a:xfrm>
            <a:off x="2322360" y="1000080"/>
            <a:ext cx="5262840" cy="5572080"/>
          </a:xfrm>
          <a:prstGeom prst="rect">
            <a:avLst/>
          </a:prstGeom>
          <a:ln w="0">
            <a:noFill/>
          </a:ln>
        </p:spPr>
      </p:pic>
      <p:sp>
        <p:nvSpPr>
          <p:cNvPr id="190" name="Місце для нижнього колонтитула 2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0T10:21:22Z</dcterms:created>
  <dc:creator>Галина Ивановна</dc:creator>
  <dc:description/>
  <dc:language>en-US</dc:language>
  <cp:lastModifiedBy>LEGION</cp:lastModifiedBy>
  <dcterms:modified xsi:type="dcterms:W3CDTF">2015-01-28T11:35:01Z</dcterms:modified>
  <cp:revision>30</cp:revision>
  <dc:subject/>
  <dc:title>Труд – право или обязанность</dc:title>
</cp:coreProperties>
</file>