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9DFE-C190-432E-8F13-E8471B2712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9893c"/>
                </a:solidFill>
                <a:latin typeface="Calibri"/>
              </a:rPr>
              <a:t>Тема урока: </a:t>
            </a:r>
            <a:br>
              <a:rPr sz="1200"/>
            </a:br>
            <a:r>
              <a:rPr b="1" i="1" lang="ru-RU" sz="1200" spc="-1" strike="noStrike">
                <a:solidFill>
                  <a:srgbClr val="19893c"/>
                </a:solidFill>
                <a:latin typeface="Calibri"/>
              </a:rPr>
              <a:t>«Право на образов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893c"/>
                </a:solidFill>
                <a:latin typeface="Calibri"/>
              </a:rPr>
              <a:t>Домой: </a:t>
            </a:r>
            <a:r>
              <a:rPr b="1" lang="en-US" sz="1600" spc="-1" strike="noStrike">
                <a:solidFill>
                  <a:srgbClr val="19893c"/>
                </a:solidFill>
                <a:latin typeface="Calibri"/>
                <a:ea typeface="Arial"/>
              </a:rPr>
              <a:t>§</a:t>
            </a:r>
            <a:r>
              <a:rPr b="1" lang="ru-RU" sz="1600" spc="-1" strike="noStrike">
                <a:solidFill>
                  <a:srgbClr val="19893c"/>
                </a:solidFill>
                <a:latin typeface="Calibri"/>
                <a:ea typeface="Arial"/>
              </a:rPr>
              <a:t> 4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4143-9FE0-4415-A1E2-6055F17BF9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 u="sng">
                <a:solidFill>
                  <a:srgbClr val="006600"/>
                </a:solidFill>
                <a:uFillTx/>
                <a:latin typeface="Calibri"/>
              </a:rPr>
              <a:t>Общеобразовательные учреждени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Calibri"/>
              </a:rPr>
              <a:t>учреждения начального общего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начальная школ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реждения основного общего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школ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гимнази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c00000"/>
                </a:solidFill>
                <a:latin typeface="Calibri"/>
              </a:rPr>
              <a:t>национальная </a:t>
            </a: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гимнази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лице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учебно-воспитательный комплекс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Экстерна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B76B-4070-46CD-88AA-2E298A9970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среднего (полного) обще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школа с углубленным изучением предм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рофильн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D209-C90A-4F75-BACA-787813B6F6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ое общее образование обязатель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 или лица, их заменяющие, обеспечивают получение детьми основного общего 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устанавливает федеральные государственные образовательные стандарты, поддерживает различные формы образования и само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3BFC-B0AA-4B73-A64C-2D8D8D573C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оссии устанавливаются следующие уровни профессионального  образ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чальное профессиональ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;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еднее профессиональ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сшее профессиональ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;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левузовское профессиональ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809F-39B0-4B72-9F79-B3511F33D0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Учреждения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начального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рофессиональный л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технический л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среднего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коллед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техник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1A58-B8C9-4DE5-B991-5789C32729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высшего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акаде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инстит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универси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федеральный универси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послевузовского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институт повышения квалификации по отрасл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BAF3-4657-43AE-92CF-0DA1C81C5D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5008"/>
                </a:solidFill>
                <a:latin typeface="Calibri"/>
              </a:rPr>
              <a:t>Нормативная осно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образование продекларировано в статье 26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сеобщей декларации прав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закреплено в статьях 13 и 14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ждународного пакта об экономических, социальных и культурных прав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татьях 28 и 29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венции о правах ребё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 статье 2 Первого протокола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вропейской Конвенции о защите прав человека и основных свобод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креплено в статье 43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ституции Росс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55CE-BB6E-4A81-90E8-492E940F0B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ие типы учре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реждения дополнительного образования де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реждения дополнительного образования взросл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ециальные (коррекционные) учреждения для обучающихся, воспитанников с ограниченными возможностями здоровь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рекционная школа по вид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реждения для детей-сирот и детей, оставшихся без попечения родителей (законных представителей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кола-интерн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тский д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тский дом семейного тип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детская шко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детский корпу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бно-производственный межшкольный комбин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A2C7-D2B4-4423-92D8-DADB3A602D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гласно ст. 43 Конституции РФ, каждый имеет право на образова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 понятием «каждый» подразумевается любой человек, независимо от пола, расы, национальности, языка, происхождения, места жительства, отношения к религии, убеждений, принадлежности к общественным организациям, возраста, состояния здоровья, социального, имущественного и должностного положения, наличия суд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рантируются общедоступность и бесплатность дошкольного, основного общего и среднего профессионального образования в государственных или муниципальных образовательных учреждениях и на предприят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ждый вправе на конкурсной основе бесплатно получить высшее образование в государственном или муниципальном образовательном учреждении и на предприятии. Основное общее образование обязательно.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     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C7C5-8E7D-4387-BEEC-5F5D394FD6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 образованием подразумевается процесс развития и саморазвития личности, связанный с овладением социально значимым опытом человечества, воплощенным в знаниях, умениях, творческой деятельности и эмоционально-ценностном отношении к миру; необходимое условие сохранения и развития материальной и духовной культуры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гласно преамбуле Закона РФ от 10 июля 1992 г. «Об образовании», образование представляет собой целенаправленный процесс обучения и вос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8D98-AB11-4D8F-8833-2D231F6D38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спитан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— создание условий для развития и саморазвития человека, освоения им социального опыта, культуры, ценностей и норм общества. В воспитании взаимодействуют личность, семья, социальные институ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учен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— процесс передачи и усвоения знаний, умений, навыков деятельности, основное средство подготовки человека к жизни и тру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8C73-DCE4-4222-A72D-B27BCE593D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Формы получения образ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йской Федерации с учётом потребностей и возможностей личности образовательные программы осваиваются в следующих формах: в образовательном учреждении — в форме </a:t>
            </a: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оч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чно-заочной (вечерней), </a:t>
            </a: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заоч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в форме семейного образования (с 1992г.), самообразования, </a:t>
            </a: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экстерн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следние годы интенсивно развивается </a:t>
            </a: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дистанционное образование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ускается сочетание различных форм получения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FDA9-FDB8-4599-85B4-5AEA32D856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Типы образовательных учреждений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 u="sng">
                <a:solidFill>
                  <a:srgbClr val="0d5008"/>
                </a:solidFill>
                <a:uFillTx/>
                <a:latin typeface="Calibri"/>
              </a:rPr>
              <a:t>Дошкольные учре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ред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я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детский с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AB51-42DB-4C3F-91DC-93615904EA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5008"/>
                </a:solidFill>
                <a:latin typeface="Calibri"/>
              </a:rPr>
              <a:t>Общее образование</a:t>
            </a:r>
            <a:br>
              <a:rPr sz="2000"/>
            </a:br>
            <a:r>
              <a:rPr b="1" i="1" lang="ru-RU" sz="2000" spc="-1" strike="noStrike">
                <a:solidFill>
                  <a:srgbClr val="0d5008"/>
                </a:solidFill>
                <a:latin typeface="Calibri"/>
              </a:rPr>
              <a:t> включает в себя три ступен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начальное образование —  с 1 по 4 клас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основное  общее образование —  с 5 по 9 кла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среднее (полное) общее образование —10 и 11 класс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продолжительность обучения в средней школе составляет 11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современных общеобразовательных учреждений регулируется Типовым положением об общеобразовательном учреждении, принятом постановлением Правительства России от 19 марта 2001 г., и Типовым положением о вечернем (сменном) общеобразовательном учреждении, положением об общеобразовательном учреждении.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65E9-F108-4746-A23B-0C1D8345C9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DE12-1358-4A24-8765-FAC0C460A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6A19-E310-4632-A818-F1BE9796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71D2-A603-4C40-B9A0-5484E5140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45FE-93E0-43AE-BD45-56072D1F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9A43-C3F4-4DFB-9DC8-E6BDE6E4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259A-58CD-4732-96AE-A0BCE307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D163-7522-4351-BC17-4A0F3EE9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6D43-E153-498A-BACE-18C15BD6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0ABF-FD1F-4B73-949D-C6FB3B9D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3250-528A-4AFC-A7DF-180FF11E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4DF4-9862-4EEA-8491-757E3256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3A1A-B51E-4BE2-963B-791ADC7F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abc"/>
            </a:gs>
            <a:gs pos="100000">
              <a:srgbClr val="c0e8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92A9-CF7B-436E-B67E-0EA27FFBF0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9360">
            <a:solidFill>
              <a:srgbClr val="0d500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9893c"/>
                </a:solidFill>
                <a:latin typeface="Arial"/>
              </a:rPr>
              <a:t>Тема урока: </a:t>
            </a:r>
            <a:br>
              <a:rPr sz="4400"/>
            </a:br>
            <a:r>
              <a:rPr b="1" i="1" lang="ru-RU" sz="4400" spc="-1" strike="noStrike">
                <a:solidFill>
                  <a:srgbClr val="19893c"/>
                </a:solidFill>
                <a:latin typeface="Arial"/>
              </a:rPr>
              <a:t>«Право на образован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360" y="4437000"/>
            <a:ext cx="6369120" cy="935280"/>
          </a:xfrm>
          <a:prstGeom prst="rect">
            <a:avLst/>
          </a:prstGeom>
          <a:gradFill rotWithShape="0">
            <a:gsLst>
              <a:gs pos="0">
                <a:srgbClr val="efefaf"/>
              </a:gs>
              <a:gs pos="100000">
                <a:srgbClr val="a3ffa3"/>
              </a:gs>
            </a:gsLst>
            <a:lin ang="5400000"/>
          </a:gradFill>
          <a:ln w="9360">
            <a:solidFill>
              <a:srgbClr val="0d5008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893c"/>
                </a:solidFill>
                <a:latin typeface="Arial"/>
              </a:rPr>
              <a:t>Домой: </a:t>
            </a:r>
            <a:r>
              <a:rPr b="1" lang="en-US" sz="4000" spc="-1" strike="noStrike">
                <a:solidFill>
                  <a:srgbClr val="19893c"/>
                </a:solidFill>
                <a:latin typeface="Arial"/>
                <a:ea typeface="Arial"/>
              </a:rPr>
              <a:t>§</a:t>
            </a:r>
            <a:r>
              <a:rPr b="1" lang="ru-RU" sz="4000" spc="-1" strike="noStrike">
                <a:solidFill>
                  <a:srgbClr val="19893c"/>
                </a:solidFill>
                <a:latin typeface="Arial"/>
                <a:ea typeface="Arial"/>
              </a:rPr>
              <a:t> 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276720" y="544500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. Л.Н. Боголюб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i"/>
          <p:cNvPicPr/>
          <p:nvPr/>
        </p:nvPicPr>
        <p:blipFill>
          <a:blip r:embed="rId1"/>
          <a:stretch/>
        </p:blipFill>
        <p:spPr>
          <a:xfrm>
            <a:off x="5724360" y="404640"/>
            <a:ext cx="2376720" cy="1729080"/>
          </a:xfrm>
          <a:prstGeom prst="rect">
            <a:avLst/>
          </a:prstGeom>
          <a:ln w="9360">
            <a:solidFill>
              <a:srgbClr val="0d5008"/>
            </a:solidFill>
            <a:miter/>
          </a:ln>
        </p:spPr>
      </p:pic>
      <p:pic>
        <p:nvPicPr>
          <p:cNvPr id="52" name="Picture 11" descr="33 Турнир иени Лосоносова"/>
          <p:cNvPicPr/>
          <p:nvPr/>
        </p:nvPicPr>
        <p:blipFill>
          <a:blip r:embed="rId2"/>
          <a:stretch/>
        </p:blipFill>
        <p:spPr>
          <a:xfrm>
            <a:off x="971640" y="333360"/>
            <a:ext cx="2087640" cy="1916280"/>
          </a:xfrm>
          <a:prstGeom prst="rect">
            <a:avLst/>
          </a:prstGeom>
          <a:ln w="9360">
            <a:solidFill>
              <a:srgbClr val="0d5008"/>
            </a:solidFill>
            <a:miter/>
          </a:ln>
        </p:spPr>
      </p:pic>
      <p:sp>
        <p:nvSpPr>
          <p:cNvPr id="53" name="Text Box 12"/>
          <p:cNvSpPr/>
          <p:nvPr/>
        </p:nvSpPr>
        <p:spPr>
          <a:xfrm>
            <a:off x="2571840" y="602136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5008"/>
                </a:solidFill>
                <a:latin typeface="Arial"/>
              </a:rPr>
              <a:t>Учитель: Руденко Н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Общеобразовательные учр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учреждения начального общег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ачальная 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реждения основного общег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гимн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национальная 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гимн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лиц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учебно-воспитательный компле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Экстер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2" descr="начальная школа.jpg"/>
          <p:cNvPicPr/>
          <p:nvPr/>
        </p:nvPicPr>
        <p:blipFill>
          <a:blip r:embed="rId1"/>
          <a:stretch/>
        </p:blipFill>
        <p:spPr>
          <a:xfrm>
            <a:off x="5867280" y="3573360"/>
            <a:ext cx="3025800" cy="29448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среднего (полного) обще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школа с углубленным изучением предм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офильная 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2" descr="шк. с у.jpg"/>
          <p:cNvPicPr/>
          <p:nvPr/>
        </p:nvPicPr>
        <p:blipFill>
          <a:blip r:embed="rId1"/>
          <a:stretch/>
        </p:blipFill>
        <p:spPr>
          <a:xfrm>
            <a:off x="4859280" y="2205000"/>
            <a:ext cx="3889440" cy="29131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Школа с угл.jpg"/>
          <p:cNvPicPr/>
          <p:nvPr/>
        </p:nvPicPr>
        <p:blipFill>
          <a:blip r:embed="rId2"/>
          <a:stretch/>
        </p:blipFill>
        <p:spPr>
          <a:xfrm>
            <a:off x="468360" y="3789360"/>
            <a:ext cx="4279680" cy="25430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ое общее образование обязате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708360" y="1599840"/>
            <a:ext cx="5184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тели или лица, их заменяющие, обеспечивают получение детьми основного общего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я устанавливает федеральные государственные образовательные стандарты, поддерживает различные формы образования и само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4" descr="школа.jpg"/>
          <p:cNvPicPr/>
          <p:nvPr/>
        </p:nvPicPr>
        <p:blipFill>
          <a:blip r:embed="rId1"/>
          <a:stretch/>
        </p:blipFill>
        <p:spPr>
          <a:xfrm>
            <a:off x="395280" y="2133720"/>
            <a:ext cx="3240000" cy="374328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gradFill rotWithShape="0">
            <a:gsLst>
              <a:gs pos="0">
                <a:srgbClr val="f9fabc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5600a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оссии устанавливаются следующие уровни профессионального  образ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700280"/>
            <a:ext cx="8147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чальное профессионально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нее профессионально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сшее профессионально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левузовское профессионально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Учреждения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начального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офессиональный лиц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технический лиц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среднего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олле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техник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Содержимое 4" descr="профлбразование.jpg"/>
          <p:cNvPicPr/>
          <p:nvPr/>
        </p:nvPicPr>
        <p:blipFill>
          <a:blip r:embed="rId1"/>
          <a:stretch/>
        </p:blipFill>
        <p:spPr>
          <a:xfrm>
            <a:off x="1604880" y="1230480"/>
            <a:ext cx="5934240" cy="39398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2" descr="ПТУ.jpg"/>
          <p:cNvPicPr/>
          <p:nvPr/>
        </p:nvPicPr>
        <p:blipFill>
          <a:blip r:embed="rId1"/>
          <a:stretch/>
        </p:blipFill>
        <p:spPr>
          <a:xfrm>
            <a:off x="1523880" y="9144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высшего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акаде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инстит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универс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федеральный универс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послевузовского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институт повышения квалификации по отрасл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Содержимое 2" descr="Лекция.jpg"/>
          <p:cNvPicPr/>
          <p:nvPr/>
        </p:nvPicPr>
        <p:blipFill>
          <a:blip r:embed="rId1"/>
          <a:stretch/>
        </p:blipFill>
        <p:spPr>
          <a:xfrm>
            <a:off x="539640" y="404640"/>
            <a:ext cx="7993080" cy="59040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Содержимое 2" descr="Об образовании.jpg"/>
          <p:cNvPicPr/>
          <p:nvPr/>
        </p:nvPicPr>
        <p:blipFill>
          <a:blip r:embed="rId1"/>
          <a:stretch/>
        </p:blipFill>
        <p:spPr>
          <a:xfrm>
            <a:off x="1047600" y="874800"/>
            <a:ext cx="7048800" cy="46512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5008"/>
                </a:solidFill>
                <a:latin typeface="Arial"/>
              </a:rPr>
              <a:t>Нормативная основ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 на образование продекларировано в статье 26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сеобщей декларации прав челове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закреплено в статьях 13 и 14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еждународного пакта об экономических, социальных и культурных права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татьях 28 и 29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нвенции о правах ребён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 статье 2 Первого протокола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вропейской Конвенции о защите прав человека и основных свобод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креплено в статье 43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нституции Росс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31-3"/>
          <p:cNvPicPr/>
          <p:nvPr/>
        </p:nvPicPr>
        <p:blipFill>
          <a:blip r:embed="rId1"/>
          <a:stretch/>
        </p:blipFill>
        <p:spPr>
          <a:xfrm>
            <a:off x="395280" y="620640"/>
            <a:ext cx="8280360" cy="58327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Содержимое 2" descr="послевузовское образование.jpg"/>
          <p:cNvPicPr/>
          <p:nvPr/>
        </p:nvPicPr>
        <p:blipFill>
          <a:blip r:embed="rId1"/>
          <a:stretch/>
        </p:blipFill>
        <p:spPr>
          <a:xfrm>
            <a:off x="826920" y="907920"/>
            <a:ext cx="7705800" cy="46087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Содержимое 4" descr="Гранты на обрахование.jpg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угие типы учре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ия дополнительного образовани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ия дополнительного образования взросл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ьные (коррекционные) учреждения для обучающихся, воспитанников с ограниченными возможностями здоровь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рекционная школа по ви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ия для детей-сирот и детей, оставшихся без попечения родителей (законных представителе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а-интерн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ский 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ский дом семейного ти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детская шк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детский корп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о-производственный межшкольный комб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31-2"/>
          <p:cNvPicPr/>
          <p:nvPr/>
        </p:nvPicPr>
        <p:blipFill>
          <a:blip r:embed="rId1"/>
          <a:stretch/>
        </p:blipFill>
        <p:spPr>
          <a:xfrm>
            <a:off x="611280" y="620640"/>
            <a:ext cx="8064360" cy="554508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Прямоугольник 2" descr=""/>
          <p:cNvPicPr/>
          <p:nvPr/>
        </p:nvPicPr>
        <p:blipFill>
          <a:blip r:embed="rId1"/>
          <a:stretch/>
        </p:blipFill>
        <p:spPr>
          <a:xfrm>
            <a:off x="633240" y="2487600"/>
            <a:ext cx="7877520" cy="14018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гласно ст. 43 Конституции РФ, каждый имеет право на образо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411280" y="1557360"/>
            <a:ext cx="67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260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 понятием «каждый» подразумевается любой человек, независимо от пола, расы, национальности, языка, происхождения, места жительства, отношения к религии, убеждений, принадлежности к общественным организациям, возраста, состояния здоровья, социального, имущественного и должностного положения, наличия судим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0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арантируются общедоступность и бесплатность дошкольного, основного общего и среднего профессионального образования в государственных или муниципальных образовательных учреждениях и на предприят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06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вправе на конкурсной основе бесплатно получить высшее образование в государственном или муниципальном образовательном учреждении и на предприятии. Основное общее образование обязательно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06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    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3" descr="Конституция РФ.jpg"/>
          <p:cNvPicPr/>
          <p:nvPr/>
        </p:nvPicPr>
        <p:blipFill>
          <a:blip r:embed="rId1"/>
          <a:stretch/>
        </p:blipFill>
        <p:spPr>
          <a:xfrm>
            <a:off x="324000" y="2060640"/>
            <a:ext cx="1944360" cy="3375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771640" y="836280"/>
            <a:ext cx="590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 образованием подразумевается процесс развития и саморазвития личности, связанный с овладением социально значимым опытом человечества, воплощенным в знаниях, умениях, творческой деятельности и эмоционально-ценностном отношении к миру; необходимое условие сохранения и развития материальной и духовной культур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гласно преамбуле Закона РФ от 10 июля 1992 г. «Об образовании», образование представляет собой целенаправленный процесс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З Об образовании.jpg"/>
          <p:cNvPicPr/>
          <p:nvPr/>
        </p:nvPicPr>
        <p:blipFill>
          <a:blip r:embed="rId1"/>
          <a:stretch/>
        </p:blipFill>
        <p:spPr>
          <a:xfrm>
            <a:off x="179280" y="1125360"/>
            <a:ext cx="2376720" cy="42469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оспита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— создание условий для развития и саморазвития человека, освоения им социального опыта, культуры, ценностей и норм общества. В воспитании взаимодействуют личность, семья, социальные институ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буче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— процесс передачи и усвоения знаний, умений, навыков деятельности, основное средство подготовки человека к жизни и тру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Формы получения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йской Федерации с учётом потребностей и возможностей личности образовательные программы осваиваются в следующих формах: в образовательном учреждении — в форме 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оч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очно-заочной (вечерней), 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заоч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в форме семейного образования (с 1992г.), самообразования, 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экстерн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оследние годы интенсивно развивается 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дистанционное образование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пускается сочетание различных форм получения обра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Содержимое 2" descr="образование.png"/>
          <p:cNvPicPr/>
          <p:nvPr/>
        </p:nvPicPr>
        <p:blipFill>
          <a:blip r:embed="rId1"/>
          <a:stretch/>
        </p:blipFill>
        <p:spPr>
          <a:xfrm>
            <a:off x="0" y="476280"/>
            <a:ext cx="3816360" cy="55641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" descr="Саморазвитие личности.jpg"/>
          <p:cNvPicPr/>
          <p:nvPr/>
        </p:nvPicPr>
        <p:blipFill>
          <a:blip r:embed="rId2"/>
          <a:stretch/>
        </p:blipFill>
        <p:spPr>
          <a:xfrm>
            <a:off x="3924360" y="476280"/>
            <a:ext cx="4680000" cy="5832360"/>
          </a:xfrm>
          <a:prstGeom prst="rect">
            <a:avLst/>
          </a:prstGeom>
          <a:ln w="9360">
            <a:solidFill>
              <a:srgbClr val="19893c"/>
            </a:solidFill>
            <a:miter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Типы образовательных учреждений в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0d5008"/>
                </a:solidFill>
                <a:uFillTx/>
                <a:latin typeface="Arial"/>
              </a:rPr>
              <a:t>Дошкольные учр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ед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я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детский с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2" descr="Детский сад.jpg"/>
          <p:cNvPicPr/>
          <p:nvPr/>
        </p:nvPicPr>
        <p:blipFill>
          <a:blip r:embed="rId1"/>
          <a:stretch/>
        </p:blipFill>
        <p:spPr>
          <a:xfrm>
            <a:off x="3635280" y="2205000"/>
            <a:ext cx="4969080" cy="38880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d5008"/>
                </a:solidFill>
                <a:latin typeface="Arial"/>
              </a:rPr>
              <a:t>Общее образование</a:t>
            </a:r>
            <a:br>
              <a:rPr sz="4000"/>
            </a:br>
            <a:r>
              <a:rPr b="1" i="1" lang="ru-RU" sz="4000" spc="-1" strike="noStrike">
                <a:solidFill>
                  <a:srgbClr val="0d5008"/>
                </a:solidFill>
                <a:latin typeface="Arial"/>
              </a:rPr>
              <a:t> включает в себя три ступени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8576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чальное образование —  с 1 по 4 клас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576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основное  общее образование —  с 5 по 9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576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реднее (полное) общее образование —10 и 11 класс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йчас продолжительность обучения в средней школе составляет 11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ятельность современных общеобразовательных учреждений регулируется Типовым положением об общеобразовательном учреждении, принятом постановлением Правительства России от 19 марта 2001 г., и Типовым положением о вечернем (сменном) общеобразовательном учреждении, положением об общеобразовательном учреждении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6:14:59Z</dcterms:created>
  <dc:creator>www.PHILka.RU</dc:creator>
  <dc:description/>
  <dc:language>en-US</dc:language>
  <cp:lastModifiedBy>LEGION</cp:lastModifiedBy>
  <dcterms:modified xsi:type="dcterms:W3CDTF">2015-01-28T11:40:35Z</dcterms:modified>
  <cp:revision>29</cp:revision>
  <dc:subject/>
  <dc:title>Тема урока: «Право на образование»</dc:title>
</cp:coreProperties>
</file>