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C869-F5E5-49A0-B3D1-32C1644D9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slide" Target="../slides/slide6.xml"/><Relationship Id="rId9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A622-49DA-4F79-A21F-01B144C603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A21D-211C-41A0-A9DC-024532D11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митрий Медведев и Владимир Лук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86C1-1B23-46A6-8A39-1AE32483F6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118B-800C-4B00-8CF8-0651870D6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9ADB-01F9-42AD-AF10-2ED0AA10DE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0E2A-89AC-4424-AEA0-FBF760E2A3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30 декабря 200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да указом Президента Российской Федерации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начен Уполномоченным по правам ребенка при Президенте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F80B-4CBF-4B73-B6F7-6830C2F08B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8740-88FE-445A-8543-C6AA4D3062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8 сентября 1966, Москва) — российский адвока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КГБ СССР (1991 год), школу права Питтсбургского университета (США, 2002 год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2006 год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D624-B451-4A4A-AADC-6013AE6B1C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полномоченный  по правам человека в Сарат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1512-97B0-4740-88DA-BCB2FE928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CAA6-C6BC-413D-B957-2B78B527F3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93C1-74F8-4E95-AA32-92C73A20D9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CFC7-9729-4E34-8DA3-D1C95C5DB0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2009 года  полномочи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е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и продлены на новый сро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91D3-3C72-4D57-B4B7-6BD421B30F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B96D-F7C7-4FB9-85F3-D53315C24F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state/lawyers/sergey_kovalev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llabout.ru/a115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ews.rambler.ru/Russia/head/4858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pnews.ru/news-1-8753.html /?page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4B6A-9AED-4DA6-A304-C49748B806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87FC-CD4F-4829-9C79-906C59F118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2B17-2C6D-4FF9-90B5-F1B7F84145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ергей Адамович Ковал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DBAC-45C5-424E-82EB-5151B8A944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КПРФ), доктор юридических наук, профессор, заслуженный юрист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8851-CFA1-4E06-8B58-4D180B9626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1963 г., аспирантуру этого института в 1967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КП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842B-9663-4A15-9156-DA17FA7563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A1DF-D06B-4C3F-A280-28852D3301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еврале 2004 года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февраля 2004 года Государственная Дума избр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димира  Петровича Лук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у дол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9635-C881-41E5-88F4-A36A974CF4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732-D500-4D25-AB25-98CFB355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41B-196C-4C69-B855-57780781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818-BBD0-42F8-B6CB-FBF96AE4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4B1-FE73-43C1-8F2C-F8391DD4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00A-804D-4F11-A60B-652FDF92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98F-9741-4017-981B-4B810387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7D5-E9A2-4123-AE54-0668089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A3C-50B9-46FB-82F2-40298D0F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978-019E-4EA5-8EDF-18C4CEEA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7C9-2952-42E5-B2C7-1ECDF82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A48-0CD0-4762-8D5C-4E4D15EB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58C-A70C-47A3-A83D-EA014C71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B505-A0CB-40EC-9597-0BEBD3F039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DDF-EAAB-4544-8C3C-31D6C8D56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Medvedev_10_June_2008-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6;&#1083;&#1085;&#1086;&#1084;&#1086;&#1095;&#1077;&#1085;&#1085;&#1099;&#1081;_&#1087;&#1088;&#1080;_&#1055;&#1088;&#1077;&#1079;&#1080;&#1076;&#1077;&#1085;&#1090;&#1077;_&#1056;&#1086;&#1089;&#1089;&#1080;&#1081;&#1089;&#1082;&#1086;&#1081;_&#1060;&#1077;&#1076;&#1077;&#1088;&#1072;&#1094;&#1080;&#1080;_&#1087;&#1086;_&#1087;&#1088;&#1072;&#1074;&#1072;&#1084;_&#1088;&#1077;&#1073;&#1105;&#1085;&#1082;&#1072;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089;&#1077;&#1085;&#1090;&#1103;&#1073;&#1088;&#1103;" TargetMode="External"/><Relationship Id="rId2" Type="http://schemas.openxmlformats.org/officeDocument/2006/relationships/hyperlink" Target="http://ru.wikipedia.org/wiki/1966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76;&#1074;&#1086;&#1082;&#1072;&#1090;" TargetMode="External"/><Relationship Id="rId6" Type="http://schemas.openxmlformats.org/officeDocument/2006/relationships/hyperlink" Target="http://ru.wikipedia.org/wiki/&#1050;&#1043;&#1041;_&#1057;&#1057;&#1057;&#1056;" TargetMode="External"/><Relationship Id="rId7" Type="http://schemas.openxmlformats.org/officeDocument/2006/relationships/hyperlink" Target="http://ru.wikipedia.org/wiki/1991_&#1075;&#1086;&#1076;" TargetMode="External"/><Relationship Id="rId8" Type="http://schemas.openxmlformats.org/officeDocument/2006/relationships/hyperlink" Target="http://ru.wikipedia.org/wiki/&#1057;&#1064;&#1040;" TargetMode="External"/><Relationship Id="rId9" Type="http://schemas.openxmlformats.org/officeDocument/2006/relationships/hyperlink" Target="http://ru.wikipedia.org/wiki/2002_&#1075;&#1086;&#1076;" TargetMode="External"/><Relationship Id="rId10" Type="http://schemas.openxmlformats.org/officeDocument/2006/relationships/hyperlink" Target="http://ru.wikipedia.org/wiki/2006_&#1075;&#1086;&#1076;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ru/imgres?imgurl=http://img.beta.rian.ru/images/16369/03/163690302.jpg&amp;imgrefurl=http://www.rian.ru/culture/20090304/163833749.html&amp;usg=__7wH22lHprfjASVlshfUZRW4AdCQ=&amp;h=203&amp;w=360&amp;sz=35&amp;hl=ru&amp;start=4&amp;itbs=1&amp;tbnid=5Sl9pBrSUPzToM:&amp;tbnh=68&amp;tbnw=121&amp;prev=/images?q=.&#1055;&#1072;&#1074;&#1077;&#1083;+&#1040;&#1089;&#1090;&#1072;&#1093;&#1086;&#1074;+&#1091;&#1087;&#1086;&#1083;&#1085;&#1086;&#1084;&#1086;&#1095;&#1077;&#1085;&#1085;&#1099;&#1081;+&#1087;&#1086;+&#1087;&#1088;&#1072;&#1074;&#1072;&#1084;+&#1088;&#1077;&#1073;&#1077;&#1085;&#1082;&#1072;+&#1074;+&#1056;&#1086;&#1089;&#1089;&#1080;&#1080;+&#1073;&#1080;&#1086;&#1075;&#1088;&#1072;&#1092;&#1080;&#1103;&amp;hl=ru&amp;newwindow=1&amp;sa=G&amp;tbs=isch:1" TargetMode="Externa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eoples.ru/state/lawyers/sergey_kovalev/index.html" TargetMode="External"/><Relationship Id="rId2" Type="http://schemas.openxmlformats.org/officeDocument/2006/relationships/hyperlink" Target="http://www.peoples.ru/state/lawyers/sergey_kovalev/index.html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hyperlink" Target="http://ru.wikipedia.org/wiki" TargetMode="External"/><Relationship Id="rId5" Type="http://schemas.openxmlformats.org/officeDocument/2006/relationships/hyperlink" Target="http://www.allabout.ru/a11530.html" TargetMode="External"/><Relationship Id="rId6" Type="http://schemas.openxmlformats.org/officeDocument/2006/relationships/hyperlink" Target="http://www.allabout.ru/a11530.html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hyperlink" Target="http://images.yandex.ru/yandsearch?text" TargetMode="External"/><Relationship Id="rId9" Type="http://schemas.openxmlformats.org/officeDocument/2006/relationships/hyperlink" Target="http://news.rambler.ru/Russia/head/4858656/?page=2" TargetMode="External"/><Relationship Id="rId10" Type="http://schemas.openxmlformats.org/officeDocument/2006/relationships/hyperlink" Target="http://news.rambler.ru/Russia/head/4858656/?page=2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hyperlink" Target="http://ru.wikipedia.org/wiki/&#1050;&#1055;&#1056;&#1060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3" TargetMode="External"/><Relationship Id="rId2" Type="http://schemas.openxmlformats.org/officeDocument/2006/relationships/hyperlink" Target="http://ru.wikipedia.org/wiki/1967" TargetMode="External"/><Relationship Id="rId3" Type="http://schemas.openxmlformats.org/officeDocument/2006/relationships/hyperlink" Target="http://ru.wikipedia.org/wiki/&#1050;&#1055;&#1056;&#1060;" TargetMode="External"/><Relationship Id="rId4" Type="http://schemas.openxmlformats.org/officeDocument/2006/relationships/hyperlink" Target="http://www.epochtimes.ru/images/stories/04/russia/75_molod_2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13_&#1092;&#1077;&#1074;&#1088;&#1072;&#1083;&#1103;" TargetMode="External"/><Relationship Id="rId3" Type="http://schemas.openxmlformats.org/officeDocument/2006/relationships/hyperlink" Target="http://ru.wikipedia.org/wiki/2004_&#1075;&#1086;&#1076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565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5760" y="2906640"/>
            <a:ext cx="47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500280" y="19288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лномоченный по правам человек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svobod.ru/upload/PRAVO.png"/>
          <p:cNvPicPr/>
          <p:nvPr/>
        </p:nvPicPr>
        <p:blipFill>
          <a:blip r:embed="rId1"/>
          <a:stretch/>
        </p:blipFill>
        <p:spPr>
          <a:xfrm>
            <a:off x="1285920" y="1785960"/>
            <a:ext cx="2071800" cy="28335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178080" cy="399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000680" y="1518120"/>
            <a:ext cx="4786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14240" y="35712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Уполномоченный по правам человек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upload.wikimedia.org/wikipedia/commons/thumb/6/60/Dmitry_Medvedev_10_June_2008-1.jpg/250px-Dmitry_Medvedev_10_June_2008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523872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715000" y="501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митрий Медведев и Владимир Лу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43000" y="3857760"/>
            <a:ext cx="757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3-tub.yandex.net/i?id=214712128&amp;tov=3"/>
          <p:cNvPicPr/>
          <p:nvPr/>
        </p:nvPicPr>
        <p:blipFill>
          <a:blip r:embed="rId3"/>
          <a:stretch/>
        </p:blipFill>
        <p:spPr>
          <a:xfrm>
            <a:off x="6643800" y="178596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1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557208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im8-tub.yandex.net/i?id=33652426&amp;tov=8"/>
          <p:cNvPicPr/>
          <p:nvPr/>
        </p:nvPicPr>
        <p:blipFill>
          <a:blip r:embed="rId1"/>
          <a:stretch/>
        </p:blipFill>
        <p:spPr>
          <a:xfrm>
            <a:off x="500040" y="1071720"/>
            <a:ext cx="189072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2-tub.yandex.net/i?id=182278221&amp;tov=2"/>
          <p:cNvPicPr/>
          <p:nvPr/>
        </p:nvPicPr>
        <p:blipFill>
          <a:blip r:embed="rId2"/>
          <a:stretch/>
        </p:blipFill>
        <p:spPr>
          <a:xfrm>
            <a:off x="1143000" y="4049640"/>
            <a:ext cx="20001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840" y="4857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Алексей Головань: Я занимаюсь трудными историями детей Фото: Курпяева Олеся"/>
          <p:cNvPicPr/>
          <p:nvPr/>
        </p:nvPicPr>
        <p:blipFill>
          <a:blip r:embed="rId1"/>
          <a:stretch/>
        </p:blipFill>
        <p:spPr>
          <a:xfrm>
            <a:off x="4722840" y="1000080"/>
            <a:ext cx="40640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5-tub.yandex.net/i?id=206277427&amp;tov=5"/>
          <p:cNvPicPr/>
          <p:nvPr/>
        </p:nvPicPr>
        <p:blipFill>
          <a:blip r:embed="rId2"/>
          <a:stretch/>
        </p:blipFill>
        <p:spPr>
          <a:xfrm>
            <a:off x="714240" y="1357200"/>
            <a:ext cx="315936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428760"/>
            <a:ext cx="5851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В России опять появился уполномоченный по правам ребенка."/>
          <p:cNvPicPr/>
          <p:nvPr/>
        </p:nvPicPr>
        <p:blipFill>
          <a:blip r:embed="rId1"/>
          <a:stretch/>
        </p:blipFill>
        <p:spPr>
          <a:xfrm>
            <a:off x="214200" y="2142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85880" y="4437720"/>
            <a:ext cx="757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30 декабря 200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 указом Президента Российской Федерации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Уполномоченным по правам ребенка при Президенте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im6-tub.yandex.net/i?id=207687666&amp;tov=6"/>
          <p:cNvPicPr/>
          <p:nvPr/>
        </p:nvPicPr>
        <p:blipFill>
          <a:blip r:embed="rId3"/>
          <a:stretch/>
        </p:blipFill>
        <p:spPr>
          <a:xfrm>
            <a:off x="571680" y="1428840"/>
            <a:ext cx="29620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5760" y="1999800"/>
            <a:ext cx="470844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http://im2-tub.yandex.net/i?id=85126216&amp;tov=2"/>
          <p:cNvPicPr/>
          <p:nvPr/>
        </p:nvPicPr>
        <p:blipFill>
          <a:blip r:embed="rId1"/>
          <a:stretch/>
        </p:blipFill>
        <p:spPr>
          <a:xfrm>
            <a:off x="428760" y="1428840"/>
            <a:ext cx="30366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3120" y="1071360"/>
            <a:ext cx="59277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8 сентябр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ссийс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вока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ГБ ССС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991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школу права Питтсбургского университет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Ш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2002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6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1"/>
          <a:stretch/>
        </p:blipFill>
        <p:spPr>
          <a:xfrm>
            <a:off x="357120" y="1143000"/>
            <a:ext cx="1643040" cy="2755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500120" y="2142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http://t1.gstatic.com/images?q=tbn:5Sl9pBrSUPzToM:http://img.beta.rian.ru/images/16369/03/16369030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43800" y="5572080"/>
            <a:ext cx="193824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 "/>
          <p:cNvPicPr/>
          <p:nvPr/>
        </p:nvPicPr>
        <p:blipFill>
          <a:blip r:embed="rId14"/>
          <a:stretch/>
        </p:blipFill>
        <p:spPr>
          <a:xfrm>
            <a:off x="0" y="4714920"/>
            <a:ext cx="250812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85840" y="785880"/>
            <a:ext cx="8286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полномоченный  по правам человека в Саратов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Picture 10" descr="Панорама моста через Волгу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71440" y="571320"/>
            <a:ext cx="7072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427968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000760" y="2550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216360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im7-tub.yandex.net/i?id=97143819&amp;tov=7"/>
          <p:cNvPicPr/>
          <p:nvPr/>
        </p:nvPicPr>
        <p:blipFill>
          <a:blip r:embed="rId2"/>
          <a:stretch/>
        </p:blipFill>
        <p:spPr>
          <a:xfrm>
            <a:off x="0" y="-82440"/>
            <a:ext cx="207180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m6-tub.yandex.net/i?id=15666994&amp;tov=6"/>
          <p:cNvPicPr/>
          <p:nvPr/>
        </p:nvPicPr>
        <p:blipFill>
          <a:blip r:embed="rId3"/>
          <a:stretch/>
        </p:blipFill>
        <p:spPr>
          <a:xfrm>
            <a:off x="1928880" y="4991040"/>
            <a:ext cx="1643040" cy="1866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80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851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08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71600" y="2356920"/>
            <a:ext cx="442260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860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85840" y="421488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2009 года  полномоч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е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продлены на новый ср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571760" y="398520"/>
            <a:ext cx="521496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57800" y="428760"/>
            <a:ext cx="4357440" cy="5929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0-tub.yandex.net/i?id=129890305&amp;tov=0"/>
          <p:cNvPicPr/>
          <p:nvPr/>
        </p:nvPicPr>
        <p:blipFill>
          <a:blip r:embed="rId1"/>
          <a:stretch/>
        </p:blipFill>
        <p:spPr>
          <a:xfrm>
            <a:off x="1143000" y="35712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im2-tub.yandex.net/i?id=50747351&amp;tov=2"/>
          <p:cNvPicPr/>
          <p:nvPr/>
        </p:nvPicPr>
        <p:blipFill>
          <a:blip r:embed="rId2"/>
          <a:stretch/>
        </p:blipFill>
        <p:spPr>
          <a:xfrm>
            <a:off x="285840" y="2000160"/>
            <a:ext cx="3857400" cy="2900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51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eoples.ru/state/lawyers/sergey_kovalev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3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allabout.ru/a1153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ews.rambler.ru/Russia/head/4858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pnews.ru/news-1-8753.html /?page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742932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94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8516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ЕРГЕЙ АДАМОВИЧ КОВАЛ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64284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http://www.peoples.ru/state/lawyers/sergey_kovalev/kovalev_4_s.jpg"/>
          <p:cNvPicPr/>
          <p:nvPr/>
        </p:nvPicPr>
        <p:blipFill>
          <a:blip r:embed="rId1"/>
          <a:stretch/>
        </p:blipFill>
        <p:spPr>
          <a:xfrm>
            <a:off x="0" y="10717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429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428580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ПР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доктор юридических наук, профессор, заслуженный юрис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video-tub.yandex.ru/i?&amp;tov=0&amp;id=842086"/>
          <p:cNvPicPr/>
          <p:nvPr/>
        </p:nvPicPr>
        <p:blipFill>
          <a:blip r:embed="rId9"/>
          <a:stretch/>
        </p:blipFill>
        <p:spPr>
          <a:xfrm>
            <a:off x="2500200" y="78588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6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аспирантуру этого института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П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артинка 5 из 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14680" y="285840"/>
            <a:ext cx="2666880" cy="21175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7494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4571640"/>
            <a:ext cx="7851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0-tub.yandex.net/i?id=15940135&amp;tov=0"/>
          <p:cNvPicPr/>
          <p:nvPr/>
        </p:nvPicPr>
        <p:blipFill>
          <a:blip r:embed="rId1"/>
          <a:stretch/>
        </p:blipFill>
        <p:spPr>
          <a:xfrm>
            <a:off x="714240" y="1285920"/>
            <a:ext cx="2986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28800" y="40078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3 февра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избрал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ладимира  Петровича Луки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у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42960" y="1071720"/>
            <a:ext cx="2725560" cy="2643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500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1:41:44Z</dcterms:modified>
  <cp:revision>83</cp:revision>
  <dc:subject/>
  <dc:title>Уполномоченный по правам человека в России</dc:title>
</cp:coreProperties>
</file>