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1.wmf" ContentType="image/x-wmf"/>
  <Override PartName="/ppt/media/image3.png" ContentType="image/png"/>
  <Override PartName="/ppt/media/image17.jpeg" ContentType="image/jpeg"/>
  <Override PartName="/ppt/media/image7.jpeg" ContentType="image/jpeg"/>
  <Override PartName="/ppt/media/image12.wmf" ContentType="image/x-wmf"/>
  <Override PartName="/ppt/media/image21.png" ContentType="image/png"/>
  <Override PartName="/ppt/media/image19.jpeg" ContentType="image/jpeg"/>
  <Override PartName="/ppt/media/image4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1.wmf" ContentType="image/x-wmf"/>
  <Override PartName="/ppt/media/image9.jpeg" ContentType="image/jpeg"/>
  <Override PartName="/ppt/media/image2.wmf" ContentType="image/x-wmf"/>
  <Override PartName="/ppt/media/image20.wmf" ContentType="image/x-wmf"/>
  <Override PartName="/ppt/media/image5.jpeg" ContentType="image/jpeg"/>
  <Override PartName="/ppt/media/image18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721EE-2E42-40E3-99DE-8323634940C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оления прав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ие и политические права человека, экономические социальные и культурные права человека, коллективные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6AD0-C77F-4DB6-87B0-69D470B6A3B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гласное и с соблюдением всех требований справедливости рассмотрение дела независимым и беспристрастным суд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запрещение осуждения за деяние,  которое во время  его совершения не составляло преступ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42E7-C2DF-492B-83F4-0BEB288919D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от произвольного вмешательства в  личную  и  семейную жизнь,  произвольного посягательства на неприкосновенность жилища или тайну корреспонден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свободу передвижения и выбора местожительства,  в   том числе право покидать любую страну и возвращаться в  свою  стран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15B93-D8A6-4C1B-B67A-F78725DF31E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убежище в других стран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граждан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вступление в брак и создание семь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5347-F67C-4583-9DCA-9788160D457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владение имуще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мысли, совести и религ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убеждений и на свободное их выраж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25E4-6DFD-4ACB-A0E3-AD204694CC0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мирных собраний и ассоци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участие в управлении своей стран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равный доступ  к  государственной  службе  в  своей  стра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79BC-3F37-4A69-85F9-CEF25EB2282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Экономические, социальные и культурные права челове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оциальное обеспеч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труд и свободный выбор рабо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равную опла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 равный труд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D818-4AE6-48D0-BD11-F616C2A4BD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справедливое и удовлетворительное вознаграждение, обеспечивающее достойное человека существова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создавать профессиональные союз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отдых и досуг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59B28-1303-4A88-8B4D-F90A7057C03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жизненный уровень, необходимый для поддержания здоровья и благосостояния (включая пищу,  одежду, жилище, и медицинский уход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оциальное обеспечение на случай  безработицы,  болезни, инвалидности, вдовства, наступления старости или иного случая утраты средств к существованию по не зависящим  от  человека обстоятельства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защиту материнства и дет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73102-3919-41EF-98FD-16D254409B8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образование, причем родители имеют право приоритета в выборе вида образования для своих д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участие в культурной жизни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защиту моральных и материальных  интересов,  являющихся результатом  научных,  литературных или художественных  трудов авто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1DDC-070A-44FC-AF8B-27A7DB6BACD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ы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олидарные»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развит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ми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здоров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ружающую сре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4DD5-1668-494C-ABA9-292ABD958DC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олодые избиратели определяют будущее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ыбирать себе правительство вправе лишь тот народ, который постоянно находится в курсе происходящего» ( Т. Джефферс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временная молодежь – это инициативность, активность и креативность. Будь собой, активно участвуй в выборах, сам определяй свое будущее, не позволяй другим делать выбор за теб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7A341-104B-4BF5-87FB-F8D65878BA3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меньшин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нар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социальных, профессиональных и других групп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17FF-8243-4FB4-8234-D79EDF424BD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Impact"/>
              </a:rPr>
              <a:t>ВСЕ   ПРАВА   ЧЕЛОВЕКА ДЛЯ   ВСЕХ  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f497d"/>
                </a:solidFill>
                <a:latin typeface="Times New Roman"/>
              </a:rPr>
              <a:t>При подготовке настоящей презентации использованы материалы Казахстанского Международного Бюро по правам человека и соблюдению зако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F8704-12F7-422F-88E1-1458383AAB2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одним из первых исторических документов, кодифицирующих права человека, относятся английские Великая хартия вольностей 1215 года и «Билль о правах» 1689 года. Эти документы гарантировали права, которые могли быть поставлены под угрозу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следующие столетия концепция свобод индивида отделилась от концепции его социального статуса и стала рассматриваться не как привилегия, но как право, присущее всем человеческим существа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го Гроций и Джон Локк разработали всеобъемлющую теорию естественного права. Жан-Жак Руссо выдвинул концепцию, согласно которой монарх получает власть в результате «общественного договора» со своими подданными. Шарль Монтескье предложил концепцию разделения вла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98CE-C243-41A8-9742-1343864B63F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 теории послужили руководством к действию для населения британских колоний в Северной Америке. Американская Декларация независимости, принятая 4 июля 1776 года, основывалась на том, что все люди равны, и содержала ссылки на такие неотъемлемые права, как право на жизнь, свободу и стремление к счастью. В дальнейшем положения Декларации были включены в «Билль о правах», дополнивший в 1791 году Конституцию США 1787 года. 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ейшее развитие теория прав человека получила во французской Декларации прав человека и гражданина 1789 года, в которой впервые появился термин «права человека» (droits de l'homm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867B7-9FE2-4895-A61B-5E94B655E3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же в XVIII-XIX веках получила свое развитие идея о том, что граждане имеют право ожидать от своего государства улучшения условий жизни. В некоторых европейских конституциях XIX века содержались не только положения о классических правах человека, но и статьи, возлагавшие на государство ответственность в сфере занятости, социального обеспечения, общественного здравоохранения и образования. Бернская конвенция 1906 года о запрещении ночного труда женщин стала первым международным договором в области социальных прав. Значительное количество конвенций в области труда разработано Международной организацией труда, созданной в 1919 году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A43E6-B901-41FF-B8D5-64EE789CE7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еступления против человечности, совершенные во время Второй мировой войны, показали несостоятельность традиционной точки зрения о том, что обращение государств со своими гражданами является исключительно их внутренним делом. Подписание Устава ООН 26 июня 1945 года определило место Прав Человека как неотъемлемой части современного международного пр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A9E09-BBBF-483F-AF79-D6ED4A251F3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ажданские и политическ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рава челове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жизнь, свободу и безопасность л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свободу от рабства и подневольного состоя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9E30-2379-4B55-87AB-5346685B3CF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свободу  от пыток и жестокого, бесчеловечного или  унижающего человеческое достоинство обращения и наказ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ризн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убъект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E4EE1-5EA6-4C1B-A788-0444F1F1D6EE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равенство перед закон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эффективное восстановление в правах в случае нарушения прав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 на  свободу  от произвольного ареста,  задержания или изгн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на презумпцию невиновности до тех пор, пока виновность не будет установл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D5028-F8A9-4B2F-AD4D-351651998B0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88B4-F853-4B32-8531-ECA9E0FBD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F451-C70A-4700-821C-62AD512D0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761F-AB94-46FE-B8CC-DD1662B4B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5FC4-622C-449C-BFF7-0D9F4B572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E42E-4367-4E7F-BF57-70C3914D4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13242-7426-4509-B170-06816516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B03F-A2CB-4965-A544-F275AC0B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E2966-BC38-4D6F-BA2D-2FD24DB8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9358-FB06-43B5-9006-80FC8E3D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C0A8-F236-42B7-ABC1-ACB6C376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24543-3EA8-4D28-954D-14D49920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3DE3-4CC9-411D-A947-950E44388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C753E-5419-4D47-8BD4-9BCF4B9B8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8742A-D426-457B-AE41-1143B224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AC46A-EC0F-460E-B45B-0423C574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1335A-519D-4470-AFC9-BA83E504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A4680-AD2B-494E-BC41-A466BB8FB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DACB13-FF58-4F7C-A101-507089D2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10CD7B-DE6B-4796-8CDD-C9DBEE91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56B70E-9BC1-468B-9757-85BCFCFF9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9576B8-FAF8-4698-8F39-9A222FA28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DC1508-CB3C-435D-80EF-45D414049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0B8F-7752-4D1F-97B6-2680D70A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AF79AF-4007-438B-85FE-968EF1E5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430DD6-AA1A-47FF-B061-F5FA90753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7903E4-BC17-45F9-8544-812B33EEA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A0B4186-FDC2-43D7-8986-337CAFDB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D3B0C84-341F-48B9-A187-8D562102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653264-509A-4101-8B46-A2C768327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3E5298-8EFD-4F93-A282-6A2980BA2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0C7A-4342-479C-8C7A-91AC8DCD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F82A-66C9-48E3-BD95-1D3A1B13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249E-13C1-4825-AE67-AAF0239C1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E2A4-B0E1-472D-8888-3E3B9EF0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69F55-C945-47F3-AB3A-606426526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785A-3BF8-43E8-9638-C7B6CA81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EEB8D-D9F8-4AA0-A7E5-074AF892363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8151-79AE-4C26-B0C2-6DA1B1A8C7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99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ftr" idx="7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8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2647-9394-403F-90DB-C6D437F8067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dt" idx="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B9F1-FA8E-433F-A8A8-80A10F8BC471}" type="datetime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640" y="393840"/>
            <a:ext cx="7772400" cy="23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Поколения прав человека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356000" y="2424240"/>
            <a:ext cx="4464000" cy="224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ражданские и политические права человека, экономические социальные и культурные права человека, коллективные прав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5" descr="BS02064_"/>
          <p:cNvPicPr/>
          <p:nvPr/>
        </p:nvPicPr>
        <p:blipFill>
          <a:blip r:embed="rId1"/>
          <a:stretch/>
        </p:blipFill>
        <p:spPr>
          <a:xfrm>
            <a:off x="395280" y="4035600"/>
            <a:ext cx="1866960" cy="20048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8"/>
          <p:cNvSpPr/>
          <p:nvPr/>
        </p:nvSpPr>
        <p:spPr>
          <a:xfrm>
            <a:off x="755640" y="5505480"/>
            <a:ext cx="80773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захстанское Международное Бюро  по Правам Челове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облюдению Законност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012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9" descr="ООН"/>
          <p:cNvPicPr/>
          <p:nvPr/>
        </p:nvPicPr>
        <p:blipFill>
          <a:blip r:embed="rId2"/>
          <a:stretch/>
        </p:blipFill>
        <p:spPr>
          <a:xfrm>
            <a:off x="2556000" y="4035600"/>
            <a:ext cx="1652400" cy="140472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3772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гласное и с соблюдением всех требований справедливости рассмотрение дела независимым и беспристрастным судо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запрещение осуждения за деяние,  которое во время  его совершения не составляло преступл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68360" y="836280"/>
            <a:ext cx="837720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вободу от произвольного вмешательства в  личную  и  семейную жизнь,  произвольного посягательства на неприкосновенность жилища или тайну корреспонден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вободу передвижения и выбора местожительства,  в   том числе право покидать любую страну и возвращаться в  свою  страну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37720" y="1197000"/>
            <a:ext cx="800748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убежище в других стран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гражданство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вступление в брак и создание семь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4" descr="BD05545_"/>
          <p:cNvPicPr/>
          <p:nvPr/>
        </p:nvPicPr>
        <p:blipFill>
          <a:blip r:embed="rId1"/>
          <a:stretch/>
        </p:blipFill>
        <p:spPr>
          <a:xfrm>
            <a:off x="5219640" y="3068640"/>
            <a:ext cx="3311640" cy="325764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323640" y="1700280"/>
            <a:ext cx="8521560" cy="43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о на владение имуществом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о на свободу мысли, совести и религии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аво на свободу убеждений и на свободное их выражение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94920" y="1341000"/>
            <a:ext cx="845028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вободу мирных собраний и ассоциаци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участие в управлении своей страно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вный доступ  к  государственной  службе  в  своей  стран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7" name="Picture 4" descr="BD06982_"/>
          <p:cNvPicPr/>
          <p:nvPr/>
        </p:nvPicPr>
        <p:blipFill>
          <a:blip r:embed="rId1"/>
          <a:stretch/>
        </p:blipFill>
        <p:spPr>
          <a:xfrm>
            <a:off x="4932360" y="4276800"/>
            <a:ext cx="3497400" cy="1973160"/>
          </a:xfrm>
          <a:prstGeom prst="rect">
            <a:avLst/>
          </a:prstGeom>
          <a:ln w="0">
            <a:noFill/>
          </a:ln>
        </p:spPr>
      </p:pic>
      <p:sp>
        <p:nvSpPr>
          <p:cNvPr id="208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95280" y="244080"/>
            <a:ext cx="8447040" cy="203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Экономические, социальные и культурные права челове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94920" y="2708280"/>
            <a:ext cx="8450280" cy="33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оциальное обеспеч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труд и свободный выбор рабо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вную опла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 равный труд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4" descr="PE02002_"/>
          <p:cNvPicPr/>
          <p:nvPr/>
        </p:nvPicPr>
        <p:blipFill>
          <a:blip r:embed="rId1"/>
          <a:stretch/>
        </p:blipFill>
        <p:spPr>
          <a:xfrm>
            <a:off x="6200640" y="3716280"/>
            <a:ext cx="2428920" cy="262260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4920" y="1197000"/>
            <a:ext cx="8450280" cy="36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праведливое и удовлетворительное вознаграждение, обеспечивающее достойное человека существова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создавать профессиональные союз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отдых и досуг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23640" y="765000"/>
            <a:ext cx="852156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 на жизненный уровень, необходимый для поддержания здоровья и благосостояния (включая пищу,  одежду, жилище, и медицинский уход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 на социальное обеспечение на случай  безработицы,  болезни, инвалидности, вдовства, наступления старости или иного случая утраты средств к существованию по не зависящим  от  человека обстоятельства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во на защиту материнства и детств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323640" y="1267920"/>
            <a:ext cx="85215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образование, причем родители имеют право приоритета в выборе вида образования для своих дете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участие в культурной жизни обществ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защиту моральных и материальных  интересов,  являющихся результатом  научных,  литературных или художественных  трудов автор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4" descr="photo"/>
          <p:cNvPicPr/>
          <p:nvPr/>
        </p:nvPicPr>
        <p:blipFill>
          <a:blip r:embed="rId1"/>
          <a:stretch/>
        </p:blipFill>
        <p:spPr>
          <a:xfrm>
            <a:off x="539640" y="260280"/>
            <a:ext cx="2952720" cy="984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hoto2"/>
          <p:cNvPicPr/>
          <p:nvPr/>
        </p:nvPicPr>
        <p:blipFill>
          <a:blip r:embed="rId2"/>
          <a:stretch/>
        </p:blipFill>
        <p:spPr>
          <a:xfrm>
            <a:off x="5796000" y="5553000"/>
            <a:ext cx="2968560" cy="1116000"/>
          </a:xfrm>
          <a:prstGeom prst="rect">
            <a:avLst/>
          </a:prstGeom>
          <a:ln w="0">
            <a:noFill/>
          </a:ln>
        </p:spPr>
      </p:pic>
      <p:sp>
        <p:nvSpPr>
          <p:cNvPr id="220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ллективные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«солидарные» прав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23640" y="2637000"/>
            <a:ext cx="8521560" cy="345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звитие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мир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здорову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кружающую сред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4" descr="BD06662_"/>
          <p:cNvPicPr/>
          <p:nvPr/>
        </p:nvPicPr>
        <p:blipFill>
          <a:blip r:embed="rId1"/>
          <a:stretch/>
        </p:blipFill>
        <p:spPr>
          <a:xfrm>
            <a:off x="5003640" y="2943360"/>
            <a:ext cx="3549960" cy="331920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gradFill rotWithShape="0">
            <a:gsLst>
              <a:gs pos="0">
                <a:srgbClr val="e8ffc3"/>
              </a:gs>
              <a:gs pos="100000">
                <a:srgbClr val="f8ffed"/>
              </a:gs>
            </a:gsLst>
            <a:lin ang="16200000"/>
          </a:gradFill>
          <a:ln w="9360">
            <a:solidFill>
              <a:srgbClr val="c6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Молодые избиратели определяют будущее стран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62" name="Picture 4" descr="golos3"/>
          <p:cNvPicPr/>
          <p:nvPr/>
        </p:nvPicPr>
        <p:blipFill>
          <a:blip r:embed="rId1"/>
          <a:stretch/>
        </p:blipFill>
        <p:spPr>
          <a:xfrm>
            <a:off x="311040" y="2048040"/>
            <a:ext cx="4011840" cy="34686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797720" y="1767600"/>
            <a:ext cx="3739680" cy="4195080"/>
          </a:xfrm>
          <a:prstGeom prst="rect">
            <a:avLst/>
          </a:prstGeom>
          <a:gradFill rotWithShape="0">
            <a:gsLst>
              <a:gs pos="0">
                <a:srgbClr val="e8ffc3"/>
              </a:gs>
              <a:gs pos="100000">
                <a:srgbClr val="f8ffed"/>
              </a:gs>
            </a:gsLst>
            <a:lin ang="16200000"/>
          </a:gradFill>
          <a:ln w="9360">
            <a:solidFill>
              <a:srgbClr val="c6dea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ru-RU" sz="1500" spc="-1" strike="noStrike">
                <a:solidFill>
                  <a:srgbClr val="006600"/>
                </a:solidFill>
                <a:latin typeface="Arial"/>
              </a:rPr>
              <a:t>«</a:t>
            </a:r>
            <a:r>
              <a:rPr b="0" i="1" lang="ru-RU" sz="1500" spc="-1" strike="noStrike">
                <a:solidFill>
                  <a:srgbClr val="006600"/>
                </a:solidFill>
                <a:latin typeface="Arial"/>
              </a:rPr>
              <a:t>Выбирать себе правительство вправе лишь тот народ, который постоянно находится в курсе происходящего» ( Т. Джефферсон)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Современная молодежь – это </a:t>
            </a:r>
            <a:r>
              <a:rPr b="1" lang="ru-RU" sz="2000" spc="-1" strike="noStrike">
                <a:solidFill>
                  <a:srgbClr val="99ff66"/>
                </a:solidFill>
                <a:latin typeface="Arial"/>
              </a:rPr>
              <a:t>инициативность, активность и креативность</a:t>
            </a:r>
            <a:r>
              <a:rPr b="1" lang="ru-RU" sz="2000" spc="-1" strike="noStrike">
                <a:solidFill>
                  <a:srgbClr val="006600"/>
                </a:solidFill>
                <a:latin typeface="Arial"/>
              </a:rPr>
              <a:t>. Будь собой, активно участвуй в выборах, сам определяй свое будущее, не позволяй другим делать выбор за теб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394920" y="1844280"/>
            <a:ext cx="8450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а меньшинст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а народ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а социальных, профессиональных и других груп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ООН"/>
          <p:cNvPicPr/>
          <p:nvPr/>
        </p:nvPicPr>
        <p:blipFill>
          <a:blip r:embed="rId1"/>
          <a:stretch/>
        </p:blipFill>
        <p:spPr>
          <a:xfrm>
            <a:off x="6012000" y="4149720"/>
            <a:ext cx="2563560" cy="2181240"/>
          </a:xfrm>
          <a:prstGeom prst="rect">
            <a:avLst/>
          </a:prstGeom>
          <a:ln w="0">
            <a:noFill/>
          </a:ln>
        </p:spPr>
      </p:pic>
      <p:sp>
        <p:nvSpPr>
          <p:cNvPr id="227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208116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3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7726320" cy="311184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4" descr="BD05090_"/>
          <p:cNvPicPr/>
          <p:nvPr/>
        </p:nvPicPr>
        <p:blipFill>
          <a:blip r:embed="rId2"/>
          <a:stretch/>
        </p:blipFill>
        <p:spPr>
          <a:xfrm rot="3837600">
            <a:off x="414000" y="4811400"/>
            <a:ext cx="1297080" cy="11444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5"/>
          <p:cNvSpPr/>
          <p:nvPr/>
        </p:nvSpPr>
        <p:spPr>
          <a:xfrm>
            <a:off x="1763640" y="4941720"/>
            <a:ext cx="58327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b7"/>
                </a:solidFill>
                <a:latin typeface="Times New Roman"/>
              </a:rPr>
              <a:t>При подготовке настоящей презентации использованы материалы Казахстанского Международного Бюро по правам человека и соблюдению закон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6" descr="ЗНАК БЮРО IN1"/>
          <p:cNvPicPr/>
          <p:nvPr/>
        </p:nvPicPr>
        <p:blipFill>
          <a:blip r:embed="rId3"/>
          <a:stretch/>
        </p:blipFill>
        <p:spPr>
          <a:xfrm>
            <a:off x="7667640" y="4869000"/>
            <a:ext cx="1135080" cy="1143000"/>
          </a:xfrm>
          <a:prstGeom prst="rect">
            <a:avLst/>
          </a:prstGeom>
          <a:ln w="0">
            <a:noFill/>
          </a:ln>
        </p:spPr>
      </p:pic>
      <p:sp>
        <p:nvSpPr>
          <p:cNvPr id="233" name="WordArt 7"/>
          <p:cNvSpPr txBox="1"/>
          <p:nvPr/>
        </p:nvSpPr>
        <p:spPr>
          <a:xfrm rot="20502600">
            <a:off x="1943280" y="3357720"/>
            <a:ext cx="720072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6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4878000"/>
                </a:gradFill>
                <a:latin typeface="Impact"/>
              </a:rPr>
              <a:t>ВСЕ   ПРАВА   ЧЕЛОВЕКА ДЛЯ   ВСЕХ  !!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4878000"/>
              </a:gradFill>
              <a:latin typeface="Impact"/>
              <a:ea typeface="Impact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3772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 одним из первых исторических документов, кодифицирующих права человека, относятся английские Великая хартия вольностей 1215 года и «Билль о правах» 1689 года. Эти документы гарантировали права, которые могли быть поставлены под угрозу 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последующие столетия концепция свобод индивида отделилась от концепции его социального статуса и стала рассматриваться не как привилегия, но как право, присущее всем человеческим существа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Гуго Гроций и Джон Локк разработали всеобъемлющую теорию естественного права. Жан-Жак Руссо выдвинул концепцию, согласно которой монарх получает власть в результате «общественного договора» со своими подданными. Шарль Монтескье предложил концепцию разделения власте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6" name="Picture 4" descr="BS00554_"/>
          <p:cNvPicPr/>
          <p:nvPr/>
        </p:nvPicPr>
        <p:blipFill>
          <a:blip r:embed="rId1"/>
          <a:stretch/>
        </p:blipFill>
        <p:spPr>
          <a:xfrm>
            <a:off x="7020000" y="5589720"/>
            <a:ext cx="1869840" cy="1079280"/>
          </a:xfrm>
          <a:prstGeom prst="rect">
            <a:avLst/>
          </a:prstGeom>
          <a:ln w="0">
            <a:noFill/>
          </a:ln>
        </p:spPr>
      </p:pic>
      <p:sp>
        <p:nvSpPr>
          <p:cNvPr id="16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99640" y="54936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Эти теории послужили руководством к действию для населения британских колоний в Северной Америке. Американская Декларация независимости, принятая 4 июля 1776 года, основывалась на том, что все люди равны, и содержала ссылки на такие неотъемлемые права, как право на жизнь, свободу и стремление к счастью. В дальнейшем положения Декларации были включены в «Билль о правах», дополнивший в 1791 году Конституцию США 1787 года. Д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альнейшее развитие теория прав человека получила во французской Декларации прав человека и гражданина 1789 года, в которой впервые появился термин «права человека» (droits de l'homme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4" descr="BS02064_"/>
          <p:cNvPicPr/>
          <p:nvPr/>
        </p:nvPicPr>
        <p:blipFill>
          <a:blip r:embed="rId1"/>
          <a:stretch/>
        </p:blipFill>
        <p:spPr>
          <a:xfrm>
            <a:off x="7121520" y="4941720"/>
            <a:ext cx="1317600" cy="141300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539640" y="1699920"/>
            <a:ext cx="830592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же в XVIII-XIX веках получила свое развитие идея о том, что граждане имеют право ожидать от своего государства улучшения условий жизни. В некоторых европейских конституциях XIX века содержались не только положения о классических правах человека, но и статьи, возлагавшие на государство ответственность в сфере занятости, социального обеспечения, общественного здравоохранения и образования. Бернская конвенция 1906 года о запрещении ночного труда женщин стала первым международным договором в области социальных прав. Значительное количество конвенций в области труда разработано Международной организацией труда, созданной в 1919 году.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a1" descr="http://www.chrf.ca/francais/programmes_fran/files/images/menu-off_01.jpg"/>
          <p:cNvPicPr/>
          <p:nvPr/>
        </p:nvPicPr>
        <p:blipFill>
          <a:blip r:embed="rId1"/>
          <a:stretch/>
        </p:blipFill>
        <p:spPr>
          <a:xfrm>
            <a:off x="7236000" y="476280"/>
            <a:ext cx="1199880" cy="1104840"/>
          </a:xfrm>
          <a:prstGeom prst="rect">
            <a:avLst/>
          </a:prstGeom>
          <a:ln w="0">
            <a:noFill/>
          </a:ln>
        </p:spPr>
      </p:pic>
      <p:pic>
        <p:nvPicPr>
          <p:cNvPr id="173" name="a2" descr="http://www.chrf.ca/francais/programmes_fran/files/images/menu-off_02.jpg"/>
          <p:cNvPicPr/>
          <p:nvPr/>
        </p:nvPicPr>
        <p:blipFill>
          <a:blip r:embed="rId2"/>
          <a:stretch/>
        </p:blipFill>
        <p:spPr>
          <a:xfrm>
            <a:off x="900000" y="476280"/>
            <a:ext cx="1200240" cy="1104840"/>
          </a:xfrm>
          <a:prstGeom prst="rect">
            <a:avLst/>
          </a:prstGeom>
          <a:ln w="0">
            <a:noFill/>
          </a:ln>
        </p:spPr>
      </p:pic>
      <p:pic>
        <p:nvPicPr>
          <p:cNvPr id="174" name="a3" descr="http://www.chrf.ca/francais/programmes_fran/files/images/menu-off_03.jpg"/>
          <p:cNvPicPr/>
          <p:nvPr/>
        </p:nvPicPr>
        <p:blipFill>
          <a:blip r:embed="rId3"/>
          <a:stretch/>
        </p:blipFill>
        <p:spPr>
          <a:xfrm>
            <a:off x="2484360" y="476280"/>
            <a:ext cx="1200240" cy="1104840"/>
          </a:xfrm>
          <a:prstGeom prst="rect">
            <a:avLst/>
          </a:prstGeom>
          <a:ln w="0">
            <a:noFill/>
          </a:ln>
        </p:spPr>
      </p:pic>
      <p:pic>
        <p:nvPicPr>
          <p:cNvPr id="175" name="a4" descr="http://www.chrf.ca/francais/programmes_fran/files/images/menu-off_04.jpg"/>
          <p:cNvPicPr/>
          <p:nvPr/>
        </p:nvPicPr>
        <p:blipFill>
          <a:blip r:embed="rId4"/>
          <a:stretch/>
        </p:blipFill>
        <p:spPr>
          <a:xfrm>
            <a:off x="4067280" y="476280"/>
            <a:ext cx="1199880" cy="1104840"/>
          </a:xfrm>
          <a:prstGeom prst="rect">
            <a:avLst/>
          </a:prstGeom>
          <a:ln w="0">
            <a:noFill/>
          </a:ln>
        </p:spPr>
      </p:pic>
      <p:pic>
        <p:nvPicPr>
          <p:cNvPr id="176" name="a5" descr="http://www.chrf.ca/francais/programmes_fran/files/images/menu-off_05.jpg"/>
          <p:cNvPicPr/>
          <p:nvPr/>
        </p:nvPicPr>
        <p:blipFill>
          <a:blip r:embed="rId5"/>
          <a:stretch/>
        </p:blipFill>
        <p:spPr>
          <a:xfrm>
            <a:off x="5651640" y="476280"/>
            <a:ext cx="1209600" cy="110484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10"/>
          <p:cNvSpPr/>
          <p:nvPr/>
        </p:nvSpPr>
        <p:spPr>
          <a:xfrm>
            <a:off x="822240" y="2876400"/>
            <a:ext cx="1365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4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18"/>
          <p:cNvSpPr/>
          <p:nvPr/>
        </p:nvSpPr>
        <p:spPr>
          <a:xfrm>
            <a:off x="822240" y="2876400"/>
            <a:ext cx="58579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2467080" y="2876400"/>
          <a:ext cx="5854680" cy="517680"/>
        </p:xfrm>
        <a:graphic>
          <a:graphicData uri="http://schemas.openxmlformats.org/drawingml/2006/table">
            <a:tbl>
              <a:tblPr/>
              <a:tblGrid>
                <a:gridCol w="1365120"/>
                <a:gridCol w="1122480"/>
                <a:gridCol w="1122120"/>
                <a:gridCol w="1122480"/>
                <a:gridCol w="1122480"/>
              </a:tblGrid>
              <a:tr h="517680"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4211640" y="476280"/>
            <a:ext cx="46339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еступления против человечности, совершенные во время Второй мировой войны, показали несостоятельность традиционной точки зрения о том, что обращение государств со своими гражданами является исключительно их внутренним делом. Подписание Устава ООН 26 июня 1945 года определило место Прав Человека как неотъемлемой части современного международного пр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4" descr="444"/>
          <p:cNvPicPr/>
          <p:nvPr/>
        </p:nvPicPr>
        <p:blipFill>
          <a:blip r:embed="rId1"/>
          <a:stretch/>
        </p:blipFill>
        <p:spPr>
          <a:xfrm>
            <a:off x="684360" y="476280"/>
            <a:ext cx="3311280" cy="58784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5" descr="ООН"/>
          <p:cNvPicPr/>
          <p:nvPr/>
        </p:nvPicPr>
        <p:blipFill>
          <a:blip r:embed="rId2"/>
          <a:stretch/>
        </p:blipFill>
        <p:spPr>
          <a:xfrm>
            <a:off x="468360" y="189000"/>
            <a:ext cx="1698480" cy="1444680"/>
          </a:xfrm>
          <a:prstGeom prst="rect">
            <a:avLst/>
          </a:prstGeom>
          <a:ln w="0">
            <a:noFill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Гражданские и политические</a:t>
            </a:r>
            <a:br>
              <a:rPr sz="4000"/>
            </a:br>
            <a:r>
              <a:rPr b="0" lang="ru-RU" sz="4000" spc="-1" strike="noStrike">
                <a:solidFill>
                  <a:srgbClr val="ffffb7"/>
                </a:solidFill>
                <a:latin typeface="Arial Black"/>
              </a:rPr>
              <a:t>права человек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68360" y="1904760"/>
            <a:ext cx="8377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жизнь, свободу и безопасность лич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свободу от рабства и подневольного состоя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4" descr="BS00285_"/>
          <p:cNvPicPr/>
          <p:nvPr/>
        </p:nvPicPr>
        <p:blipFill>
          <a:blip r:embed="rId1"/>
          <a:stretch/>
        </p:blipFill>
        <p:spPr>
          <a:xfrm>
            <a:off x="6012000" y="3730680"/>
            <a:ext cx="2477880" cy="245592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68360" y="1628280"/>
            <a:ext cx="837720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вободу  от пыток и жестокого, бесчеловечного или  унижающего человеческое достоинство обращения и наказ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призн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субъектност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4" descr="BD06990_"/>
          <p:cNvPicPr/>
          <p:nvPr/>
        </p:nvPicPr>
        <p:blipFill>
          <a:blip r:embed="rId1"/>
          <a:stretch/>
        </p:blipFill>
        <p:spPr>
          <a:xfrm>
            <a:off x="5580000" y="3789360"/>
            <a:ext cx="2503440" cy="260820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2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521560" cy="518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равенство перед зако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эффективное восстановление в правах в случае нарушения прав челове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 на  свободу  от произвольного ареста,  задержания или изгна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 на презумпцию невиновности до тех пор, пока виновность не будет установлен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0T09:28:22Z</dcterms:created>
  <dc:creator>Yuriy Gussakov</dc:creator>
  <dc:description/>
  <dc:language>en-US</dc:language>
  <cp:lastModifiedBy>LEGION</cp:lastModifiedBy>
  <dcterms:modified xsi:type="dcterms:W3CDTF">2015-01-28T11:43:22Z</dcterms:modified>
  <cp:revision>16</cp:revision>
  <dc:subject/>
  <dc:title>Поколения прав человека</dc:title>
</cp:coreProperties>
</file>