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jpeg" ContentType="image/jpeg"/>
  <Override PartName="/ppt/media/image12.wmf" ContentType="image/x-wmf"/>
  <Override PartName="/ppt/media/image21.png" ContentType="image/png"/>
  <Override PartName="/ppt/media/image19.jpeg" ContentType="image/jpeg"/>
  <Override PartName="/ppt/media/image4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5E08-2367-42BF-91C3-6708FA4480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ол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1B26-DC95-4E4D-B90B-8C22379BCD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3447-FFEC-41AB-A16B-E04DBEFECC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4D0B-FA55-44EC-BF76-A05B4E62CB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бежище в друг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граждан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ступление в брак и создание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B5A6-B504-4894-BEAA-E63C7FA55E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ладение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убеждений и на свободное их выр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70DC-9CF0-41DE-BD02-5B2EBCC250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ирных собраний и ассоци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управлении своей стра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ый доступ  к  государственной  службе  в  своей 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AC28-E9E4-4C21-94D7-11ED869663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ономические, социальные и культурные 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труд и свободный выбор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ую о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равный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9CA5-BB53-43F6-A689-4B71B9361D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здавать профессиональные сою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тдых и дос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D565-5788-469A-A526-7EE29DEF3B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атеринства и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6779-1604-4EC8-B277-DE7195CF73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культурной жизн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1478-3F5B-4F7F-A2BE-B760F83777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лидарные»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звит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м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доров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702C-A431-4F8B-9DF0-C7AEC0E2A6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дые избиратели определяют будуще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ая молодежь – это инициативность, активность и креативность. Будь собой, активно участвуй в выборах, сам определяй свое будущее, не позволяй другим делать выбор за т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932B-07B7-4A34-8A76-1DE7A817D2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меньшин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на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циальных, профессиональных и друг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2E03-8435-410C-9B45-4AB5134C24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СЕ   ПРАВА   ЧЕЛОВЕКА ДЛЯ   ВСЕХ 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6429-E912-489D-89CA-B809D8ECE2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F4E0-BE4B-47DF-B296-C6CBDBF06C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424A-4245-44A6-86C1-88926B2F99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8877-C292-4FA6-8BB2-DF138D3C43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77A1-AD37-4847-AD87-F5A00A73D2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жданские и политическ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ь, свободу и безопасность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рабства и подневольного со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7B70-5E32-452D-B536-20AD10C484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A7E3-A353-4AEA-BDD2-4B6000169B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енство перед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эффективное восстановление в правах в случае наруш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роизвольного ареста,  задержания или изг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езумпцию невиновности до тех пор, пока виновность не будет установл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0501-D35D-47C9-B9A3-FA913646EE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D17-CB04-4B1F-9A89-E93F72F0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19F-0A32-4C32-9026-B86E4780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579-C52D-429D-978B-B2FC1D85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3EA-CE01-48B9-B61B-A9B6639C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2AC7-9DB5-445F-8B83-43979B86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502D-6CA1-4F8B-A5B2-DDBCB10B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F444-9A72-4BDA-A47C-5288CBB1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E6CA-6BCB-4D55-9FAB-4E15661E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30D9-D866-43DA-84F0-F335E56F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CC6A-F2B2-4F88-A688-229573ED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D6CA-3BBF-4E88-AF2A-9D8FF3DA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D5D-1855-4F85-9B61-3CCB83CD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03B1-147C-49A6-898E-9BD144D3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F840-147A-4DBB-BC7B-068B1DA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E9C6-BC09-4455-94B6-A66E335E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065D-394E-4503-9BB1-4DC4ED9B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86FD-6689-4780-ACD4-5462564A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4FB98-9511-4A27-9F5C-BE6FAA9D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73912-FD78-433B-A8D0-CC0A7FF8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B5EEC-7A3D-4735-98AD-722FD942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AAA95-207A-40BB-A510-07BEBF36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F270D-E882-47DD-B6C7-51FDFE29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A84-3228-43AF-BC92-C67AA8D4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DC928-C0D5-4A8E-812D-4E366463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7A9B8-ED86-4084-9FB0-5BF2C0AF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A9271-BC4B-4D0D-8729-DFD7529B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2F07D-48B3-415D-8A7E-BF0AE601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6C008-0F59-4627-80F6-7E39F957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F3926-BB9B-4928-BD16-80AB066C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75BEF-CAA4-4B8B-BE86-7980EF37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301-1881-44D8-B65B-13CCF171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4AA-161C-4400-A6F7-03F8E384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3FE-9E71-44D9-9769-FD176675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6F7-2E6D-4AE2-BE27-075B8074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4EC-45A1-4DA5-B450-BB95203E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411-6A4F-44F0-A7FA-1A984CF8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B620-67E8-4EF3-BB39-76BAC304D8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C9E6-5E68-450D-BB3B-878FAEB80D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C647-6B7B-43F0-A243-5BA35C7BAC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F6F7-C51C-4F1D-9500-A1BAD89DD4C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393840"/>
            <a:ext cx="777240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коления прав челове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356000" y="2424240"/>
            <a:ext cx="446400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BS02064_"/>
          <p:cNvPicPr/>
          <p:nvPr/>
        </p:nvPicPr>
        <p:blipFill>
          <a:blip r:embed="rId1"/>
          <a:stretch/>
        </p:blipFill>
        <p:spPr>
          <a:xfrm>
            <a:off x="395280" y="4035600"/>
            <a:ext cx="1866960" cy="20048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5640" y="550548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ахстанское Международное Бюро  по Правам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блюдению Зак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9" descr="ООН"/>
          <p:cNvPicPr/>
          <p:nvPr/>
        </p:nvPicPr>
        <p:blipFill>
          <a:blip r:embed="rId2"/>
          <a:stretch/>
        </p:blipFill>
        <p:spPr>
          <a:xfrm>
            <a:off x="2556000" y="4035600"/>
            <a:ext cx="1652400" cy="1404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377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77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8007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бежище в других стран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граждан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вступление в брак и создание семь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BD05545_"/>
          <p:cNvPicPr/>
          <p:nvPr/>
        </p:nvPicPr>
        <p:blipFill>
          <a:blip r:embed="rId1"/>
          <a:stretch/>
        </p:blipFill>
        <p:spPr>
          <a:xfrm>
            <a:off x="5219640" y="3068640"/>
            <a:ext cx="3311640" cy="32576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521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владение имущество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мысли, совести и религ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убеждений и на свободное их выраж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5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мирных собраний и ассоциа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управлении своей стра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ый доступ  к  государственной  службе  в  своей 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D06982_"/>
          <p:cNvPicPr/>
          <p:nvPr/>
        </p:nvPicPr>
        <p:blipFill>
          <a:blip r:embed="rId1"/>
          <a:stretch/>
        </p:blipFill>
        <p:spPr>
          <a:xfrm>
            <a:off x="4932360" y="4276800"/>
            <a:ext cx="3497400" cy="197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кономические, социальные и культурные 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84502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труд и свободный выбор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ую опла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равный тру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PE02002_"/>
          <p:cNvPicPr/>
          <p:nvPr/>
        </p:nvPicPr>
        <p:blipFill>
          <a:blip r:embed="rId1"/>
          <a:stretch/>
        </p:blipFill>
        <p:spPr>
          <a:xfrm>
            <a:off x="6200640" y="3716280"/>
            <a:ext cx="2428920" cy="262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создавать профессиональные союз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тдых и досу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521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защиту материнства и дет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21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культурной жизн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photo"/>
          <p:cNvPicPr/>
          <p:nvPr/>
        </p:nvPicPr>
        <p:blipFill>
          <a:blip r:embed="rId1"/>
          <a:stretch/>
        </p:blipFill>
        <p:spPr>
          <a:xfrm>
            <a:off x="539640" y="260280"/>
            <a:ext cx="2952720" cy="98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hoto2"/>
          <p:cNvPicPr/>
          <p:nvPr/>
        </p:nvPicPr>
        <p:blipFill>
          <a:blip r:embed="rId2"/>
          <a:stretch/>
        </p:blipFill>
        <p:spPr>
          <a:xfrm>
            <a:off x="5796000" y="5553000"/>
            <a:ext cx="2968560" cy="11160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лективные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солидарные» прав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5215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звит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доров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D06662_"/>
          <p:cNvPicPr/>
          <p:nvPr/>
        </p:nvPicPr>
        <p:blipFill>
          <a:blip r:embed="rId1"/>
          <a:stretch/>
        </p:blipFill>
        <p:spPr>
          <a:xfrm>
            <a:off x="5003640" y="2943360"/>
            <a:ext cx="3549960" cy="33192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лодые избиратели определяют будущее стра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2" name="Picture 4" descr="golos3"/>
          <p:cNvPicPr/>
          <p:nvPr/>
        </p:nvPicPr>
        <p:blipFill>
          <a:blip r:embed="rId1"/>
          <a:stretch/>
        </p:blipFill>
        <p:spPr>
          <a:xfrm>
            <a:off x="311040" y="2048040"/>
            <a:ext cx="4011840" cy="346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797720" y="1767600"/>
            <a:ext cx="3739680" cy="419508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6600"/>
                </a:solidFill>
                <a:latin typeface="Arial"/>
              </a:rPr>
              <a:t>«</a:t>
            </a:r>
            <a:r>
              <a:rPr b="0" i="1" lang="ru-RU" sz="1500" spc="-1" strike="noStrike">
                <a:solidFill>
                  <a:srgbClr val="006600"/>
                </a:solidFill>
                <a:latin typeface="Arial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овременная молодежь – это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инициативность, активность и креативность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. Будь собой, активно участвуй в выборах, сам определяй свое будущее, не позволяй другим делать выбор за теб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50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меньшин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нар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социальных, профессиональных и других гру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ООН"/>
          <p:cNvPicPr/>
          <p:nvPr/>
        </p:nvPicPr>
        <p:blipFill>
          <a:blip r:embed="rId1"/>
          <a:stretch/>
        </p:blipFill>
        <p:spPr>
          <a:xfrm>
            <a:off x="6012000" y="4149720"/>
            <a:ext cx="2563560" cy="2181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0811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26320" cy="311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BD05090_"/>
          <p:cNvPicPr/>
          <p:nvPr/>
        </p:nvPicPr>
        <p:blipFill>
          <a:blip r:embed="rId2"/>
          <a:stretch/>
        </p:blipFill>
        <p:spPr>
          <a:xfrm rot="3837600">
            <a:off x="414000" y="4811400"/>
            <a:ext cx="1297080" cy="1144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763640" y="4941720"/>
            <a:ext cx="58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ЗНАК БЮРО IN1"/>
          <p:cNvPicPr/>
          <p:nvPr/>
        </p:nvPicPr>
        <p:blipFill>
          <a:blip r:embed="rId3"/>
          <a:stretch/>
        </p:blipFill>
        <p:spPr>
          <a:xfrm>
            <a:off x="7667640" y="486900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 rot="20502600">
            <a:off x="1943280" y="3357720"/>
            <a:ext cx="720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878000"/>
                </a:gradFill>
                <a:latin typeface="Impact"/>
              </a:rPr>
              <a:t>ВСЕ   ПРАВА   ЧЕЛОВЕКА ДЛЯ   ВСЕХ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878000"/>
              </a:gradFill>
              <a:latin typeface="Impact"/>
              <a:ea typeface="Impact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77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7020000" y="5589720"/>
            <a:ext cx="1869840" cy="1079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BS02064_"/>
          <p:cNvPicPr/>
          <p:nvPr/>
        </p:nvPicPr>
        <p:blipFill>
          <a:blip r:embed="rId1"/>
          <a:stretch/>
        </p:blipFill>
        <p:spPr>
          <a:xfrm>
            <a:off x="7121520" y="4941720"/>
            <a:ext cx="1317600" cy="1413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05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a1" descr="http://www.chrf.ca/francais/programmes_fran/files/images/menu-off_01.jpg"/>
          <p:cNvPicPr/>
          <p:nvPr/>
        </p:nvPicPr>
        <p:blipFill>
          <a:blip r:embed="rId1"/>
          <a:stretch/>
        </p:blipFill>
        <p:spPr>
          <a:xfrm>
            <a:off x="723600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a2" descr="http://www.chrf.ca/francais/programmes_fran/files/images/menu-off_02.jpg"/>
          <p:cNvPicPr/>
          <p:nvPr/>
        </p:nvPicPr>
        <p:blipFill>
          <a:blip r:embed="rId2"/>
          <a:stretch/>
        </p:blipFill>
        <p:spPr>
          <a:xfrm>
            <a:off x="90000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4" name="a3" descr="http://www.chrf.ca/francais/programmes_fran/files/images/menu-off_03.jpg"/>
          <p:cNvPicPr/>
          <p:nvPr/>
        </p:nvPicPr>
        <p:blipFill>
          <a:blip r:embed="rId3"/>
          <a:stretch/>
        </p:blipFill>
        <p:spPr>
          <a:xfrm>
            <a:off x="248436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a4" descr="http://www.chrf.ca/francais/programmes_fran/files/images/menu-off_04.jpg"/>
          <p:cNvPicPr/>
          <p:nvPr/>
        </p:nvPicPr>
        <p:blipFill>
          <a:blip r:embed="rId4"/>
          <a:stretch/>
        </p:blipFill>
        <p:spPr>
          <a:xfrm>
            <a:off x="406728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a5" descr="http://www.chrf.ca/francais/programmes_fran/files/images/menu-off_05.jpg"/>
          <p:cNvPicPr/>
          <p:nvPr/>
        </p:nvPicPr>
        <p:blipFill>
          <a:blip r:embed="rId5"/>
          <a:stretch/>
        </p:blipFill>
        <p:spPr>
          <a:xfrm>
            <a:off x="5651640" y="476280"/>
            <a:ext cx="1209600" cy="1104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822240" y="2876400"/>
            <a:ext cx="1365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467080" y="2876400"/>
          <a:ext cx="5854680" cy="517680"/>
        </p:xfrm>
        <a:graphic>
          <a:graphicData uri="http://schemas.openxmlformats.org/drawingml/2006/table">
            <a:tbl>
              <a:tblPr/>
              <a:tblGrid>
                <a:gridCol w="1365120"/>
                <a:gridCol w="1122480"/>
                <a:gridCol w="1122120"/>
                <a:gridCol w="1122480"/>
                <a:gridCol w="1122480"/>
              </a:tblGrid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211640" y="476280"/>
            <a:ext cx="46339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444"/>
          <p:cNvPicPr/>
          <p:nvPr/>
        </p:nvPicPr>
        <p:blipFill>
          <a:blip r:embed="rId1"/>
          <a:stretch/>
        </p:blipFill>
        <p:spPr>
          <a:xfrm>
            <a:off x="684360" y="476280"/>
            <a:ext cx="3311280" cy="587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ООН"/>
          <p:cNvPicPr/>
          <p:nvPr/>
        </p:nvPicPr>
        <p:blipFill>
          <a:blip r:embed="rId2"/>
          <a:stretch/>
        </p:blipFill>
        <p:spPr>
          <a:xfrm>
            <a:off x="468360" y="189000"/>
            <a:ext cx="1698480" cy="1444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ие и политические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жизнь, свободу и безопасность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рабства и подневольного состоя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BS00285_"/>
          <p:cNvPicPr/>
          <p:nvPr/>
        </p:nvPicPr>
        <p:blipFill>
          <a:blip r:embed="rId1"/>
          <a:stretch/>
        </p:blipFill>
        <p:spPr>
          <a:xfrm>
            <a:off x="6012000" y="3730680"/>
            <a:ext cx="2477880" cy="2455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377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изн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субъект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BD06990_"/>
          <p:cNvPicPr/>
          <p:nvPr/>
        </p:nvPicPr>
        <p:blipFill>
          <a:blip r:embed="rId1"/>
          <a:stretch/>
        </p:blipFill>
        <p:spPr>
          <a:xfrm>
            <a:off x="5580000" y="3789360"/>
            <a:ext cx="2503440" cy="26082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21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енство перед зак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эффективное восстановление в правах в случае нарушения прав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роизвольного ареста,  задержания или изгн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езумпцию невиновности до тех пор, пока виновность не будет установ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9:28:22Z</dcterms:created>
  <dc:creator>Yuriy Gussakov</dc:creator>
  <dc:description/>
  <dc:language>en-US</dc:language>
  <cp:lastModifiedBy>LEGION</cp:lastModifiedBy>
  <dcterms:modified xsi:type="dcterms:W3CDTF">2015-01-28T11:43:22Z</dcterms:modified>
  <cp:revision>16</cp:revision>
  <dc:subject/>
  <dc:title>Поколения прав человека</dc:title>
</cp:coreProperties>
</file>