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442F-E339-4D86-8CD9-5C78C22991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ол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F9AD-C001-42FF-957E-B4D132EB6B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068-FD48-4056-B7A4-8757B31DE8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7A4E-60E0-4FEF-AC0A-1A44EEAB0F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бежище в друг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гражд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ступление в брак и создание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DCB-A198-48DC-82AF-ADDC30C0BF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ладение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убеждений и на свободное их выр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37E1-8818-48B7-B285-7EA68DB45C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ирных собраний и ассоци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управлении своей стра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ый доступ  к  государственной  службе  в  своей 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F43A-E85F-4918-8D19-89A4F809B1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еские, социальные и культурные 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труд и свободный выбор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ую о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равный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C6C2-2BCE-4082-9C18-D36DBAFA06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здавать профессиональные сою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тдых и дос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58ED-0238-49CD-820C-B654E53090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атеринства и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D522-1723-40A6-A4B0-16BC36615C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культурной жизн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001-08F1-41C5-86EB-002094AB71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лидарные»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звит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м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доров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EEDD-01CB-4E37-9E34-700875AF3E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дые избиратели определяют будуще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ая молодежь – это инициативность, активность и креативность. Будь собой, активно участвуй в выборах, сам определяй свое будущее, не позволяй другим делать выбор за т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6E55-E772-4B1A-B1D3-A8750681D0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меньшин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на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циальных, профессиональных и друг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C3B9-E3DE-47F7-8A04-4396B63FFA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СЕ   ПРАВА   ЧЕЛОВЕКА ДЛЯ   ВСЕХ 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C36C-BDDE-4CD7-BA9F-71616315C0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2FAB-A31C-4D84-8C38-76DBC2A274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5B44-4C2F-4FDD-BC34-EF1C4DC3E2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9FA7-BC3A-42AF-A50E-13D7AACAA5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746B-2A74-4E64-90D2-9F16EFA36B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ские и политическ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ь, свободу и безопасность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рабства и подневольного со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F8EE-4120-4D94-8D1A-EECC1D3D7C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C21-A612-426B-99D0-BB6B97EC75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енство перед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эффективное восстановление в правах в случае наруш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роизвольного ареста,  задержания или изг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езумпцию невиновности до тех пор, пока виновность не будет установл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765-517C-4EFB-B020-4B2CEFD837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AC5-853B-4820-BD00-BCB71818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B6E-1B65-4868-BFAE-5F2E1B57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EDC-34C1-4EBB-B3B9-86A82BB7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C4C-CF82-4DBB-ACB4-45524C47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6844-A7BA-48A4-8941-32990B18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6C38-EAB0-40B8-8D3E-AEC298A5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97D9-0C53-4A6A-9F98-C31BB1CD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A4C3-E808-4B9B-A4BA-992135D4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AD43-430B-4D59-B61E-78D3D2C8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A8AB-FCCE-4D83-95B9-BEA8569A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60BC-EC6C-4820-BBDD-1CB4BDA1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35D-DEC9-4A88-8BF9-B12859AE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FD88-D1E3-4895-8FE3-53E73298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7DA7-2354-496D-89E9-D623635B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8374-903F-4BEE-8ADE-5E44C70D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4D04-97FA-481A-96CC-BF45F3FD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D3CB-5B47-4414-8F65-B21C4434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2EF83-D00A-4121-A486-666EA8C9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9A0FB-21EF-43C3-ACD2-D22AF89F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2C2AC-FCD6-4CA1-8EA4-98AFBFF2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F5CA2-06B1-48FE-A877-71EA98E2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4E72D-BBD1-487E-AEF7-5D58E540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185-D3D7-48BC-8B23-A2945F86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E764A-FC33-4783-A5A0-C33416F1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6D57E-415F-48C5-85EE-AF52CEC7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FC4C9-D660-4985-B94B-75C02BD9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AB49D-5EF4-473D-B54E-8C8D4A1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C18E7-24BB-4F10-96D2-2324A048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4C24A-8A9B-4B35-ABA2-302A8F8C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E6FC1-AB6B-4AB8-A7E7-795D1007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86F-F83C-496E-8B5A-805EB6BB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CAB-6222-4CC7-817F-CA887C0E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EEE-AB5A-40EB-80D0-6BFC6FBD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86A-652F-486A-B0E8-08E915B2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A6A-E368-42B6-91DF-72C67E8C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15E-5E1A-4367-934D-AAAFF7DD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E854-ABF5-441A-A9CC-FF5F6B6BB1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81EA-CF0B-46AE-9A45-535B0D23B2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C6A1-1B6F-4064-BCCA-6F9D16F476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D90D-9BF3-416D-AD2B-A5C7D2E11D2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393840"/>
            <a:ext cx="777240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коления прав челове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356000" y="2424240"/>
            <a:ext cx="446400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BS02064_"/>
          <p:cNvPicPr/>
          <p:nvPr/>
        </p:nvPicPr>
        <p:blipFill>
          <a:blip r:embed="rId1"/>
          <a:stretch/>
        </p:blipFill>
        <p:spPr>
          <a:xfrm>
            <a:off x="395280" y="4035600"/>
            <a:ext cx="1866960" cy="2004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5640" y="5505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хстанское Международное Бюро  по Правам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блюдению Зак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ООН"/>
          <p:cNvPicPr/>
          <p:nvPr/>
        </p:nvPicPr>
        <p:blipFill>
          <a:blip r:embed="rId2"/>
          <a:stretch/>
        </p:blipFill>
        <p:spPr>
          <a:xfrm>
            <a:off x="2556000" y="4035600"/>
            <a:ext cx="1652400" cy="1404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377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7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бежище в других стран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граждан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вступление в брак и создание семь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D05545_"/>
          <p:cNvPicPr/>
          <p:nvPr/>
        </p:nvPicPr>
        <p:blipFill>
          <a:blip r:embed="rId1"/>
          <a:stretch/>
        </p:blipFill>
        <p:spPr>
          <a:xfrm>
            <a:off x="5219640" y="3068640"/>
            <a:ext cx="3311640" cy="32576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владение имущество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мысли, совести и религ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убеждений и на свободное их выраж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мирных собраний и ассоциа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управлении своей стра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ый доступ  к  государственной  службе  в  своей 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D06982_"/>
          <p:cNvPicPr/>
          <p:nvPr/>
        </p:nvPicPr>
        <p:blipFill>
          <a:blip r:embed="rId1"/>
          <a:stretch/>
        </p:blipFill>
        <p:spPr>
          <a:xfrm>
            <a:off x="4932360" y="4276800"/>
            <a:ext cx="3497400" cy="197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ономические, социальные и культурные 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84502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труд и свободный выбор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ую опл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авный т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E02002_"/>
          <p:cNvPicPr/>
          <p:nvPr/>
        </p:nvPicPr>
        <p:blipFill>
          <a:blip r:embed="rId1"/>
          <a:stretch/>
        </p:blipFill>
        <p:spPr>
          <a:xfrm>
            <a:off x="6200640" y="3716280"/>
            <a:ext cx="2428920" cy="262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создавать профессиональные сою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тдых и дос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21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защиту материнства и дет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21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культурной жизн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photo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hoto2"/>
          <p:cNvPicPr/>
          <p:nvPr/>
        </p:nvPicPr>
        <p:blipFill>
          <a:blip r:embed="rId2"/>
          <a:stretch/>
        </p:blipFill>
        <p:spPr>
          <a:xfrm>
            <a:off x="5796000" y="5553000"/>
            <a:ext cx="2968560" cy="11160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лективны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олидарные» прав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5215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звит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доров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D06662_"/>
          <p:cNvPicPr/>
          <p:nvPr/>
        </p:nvPicPr>
        <p:blipFill>
          <a:blip r:embed="rId1"/>
          <a:stretch/>
        </p:blipFill>
        <p:spPr>
          <a:xfrm>
            <a:off x="5003640" y="2943360"/>
            <a:ext cx="3549960" cy="33192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лодые избиратели определяют будущее стра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4" descr="golos3"/>
          <p:cNvPicPr/>
          <p:nvPr/>
        </p:nvPicPr>
        <p:blipFill>
          <a:blip r:embed="rId1"/>
          <a:stretch/>
        </p:blipFill>
        <p:spPr>
          <a:xfrm>
            <a:off x="311040" y="2048040"/>
            <a:ext cx="4011840" cy="346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797720" y="1767600"/>
            <a:ext cx="3739680" cy="419508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0" i="1" lang="ru-RU" sz="1500" spc="-1" strike="noStrike">
                <a:solidFill>
                  <a:srgbClr val="006600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овременная молодежь – это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инициативность, активность и креативност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Будь собой, активно участвуй в выборах, сам определяй свое будущее, не позволяй другим делать выбор за теб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5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меньшин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нар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социальных, профессиональных и други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ООН"/>
          <p:cNvPicPr/>
          <p:nvPr/>
        </p:nvPicPr>
        <p:blipFill>
          <a:blip r:embed="rId1"/>
          <a:stretch/>
        </p:blipFill>
        <p:spPr>
          <a:xfrm>
            <a:off x="6012000" y="4149720"/>
            <a:ext cx="2563560" cy="2181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26320" cy="31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BD05090_"/>
          <p:cNvPicPr/>
          <p:nvPr/>
        </p:nvPicPr>
        <p:blipFill>
          <a:blip r:embed="rId2"/>
          <a:stretch/>
        </p:blipFill>
        <p:spPr>
          <a:xfrm rot="3837600">
            <a:off x="414000" y="4811400"/>
            <a:ext cx="1297080" cy="1144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763640" y="4941720"/>
            <a:ext cx="58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ЗНАК БЮРО IN1"/>
          <p:cNvPicPr/>
          <p:nvPr/>
        </p:nvPicPr>
        <p:blipFill>
          <a:blip r:embed="rId3"/>
          <a:stretch/>
        </p:blipFill>
        <p:spPr>
          <a:xfrm>
            <a:off x="7667640" y="486900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 rot="20502600">
            <a:off x="1943280" y="3357720"/>
            <a:ext cx="72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78000"/>
                </a:gradFill>
                <a:latin typeface="Impact"/>
              </a:rPr>
              <a:t>ВСЕ   ПРАВА   ЧЕЛОВЕКА ДЛЯ   ВСЕХ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78000"/>
              </a:gradFill>
              <a:latin typeface="Impact"/>
              <a:ea typeface="Impact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7020000" y="5589720"/>
            <a:ext cx="1869840" cy="1079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BS02064_"/>
          <p:cNvPicPr/>
          <p:nvPr/>
        </p:nvPicPr>
        <p:blipFill>
          <a:blip r:embed="rId1"/>
          <a:stretch/>
        </p:blipFill>
        <p:spPr>
          <a:xfrm>
            <a:off x="7121520" y="4941720"/>
            <a:ext cx="1317600" cy="1413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1" descr="http://www.chrf.ca/francais/programmes_fran/files/images/menu-off_01.jpg"/>
          <p:cNvPicPr/>
          <p:nvPr/>
        </p:nvPicPr>
        <p:blipFill>
          <a:blip r:embed="rId1"/>
          <a:stretch/>
        </p:blipFill>
        <p:spPr>
          <a:xfrm>
            <a:off x="723600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a2" descr="http://www.chrf.ca/francais/programmes_fran/files/images/menu-off_02.jpg"/>
          <p:cNvPicPr/>
          <p:nvPr/>
        </p:nvPicPr>
        <p:blipFill>
          <a:blip r:embed="rId2"/>
          <a:stretch/>
        </p:blipFill>
        <p:spPr>
          <a:xfrm>
            <a:off x="90000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a3" descr="http://www.chrf.ca/francais/programmes_fran/files/images/menu-off_03.jpg"/>
          <p:cNvPicPr/>
          <p:nvPr/>
        </p:nvPicPr>
        <p:blipFill>
          <a:blip r:embed="rId3"/>
          <a:stretch/>
        </p:blipFill>
        <p:spPr>
          <a:xfrm>
            <a:off x="248436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a4" descr="http://www.chrf.ca/francais/programmes_fran/files/images/menu-off_04.jpg"/>
          <p:cNvPicPr/>
          <p:nvPr/>
        </p:nvPicPr>
        <p:blipFill>
          <a:blip r:embed="rId4"/>
          <a:stretch/>
        </p:blipFill>
        <p:spPr>
          <a:xfrm>
            <a:off x="406728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a5" descr="http://www.chrf.ca/francais/programmes_fran/files/images/menu-off_05.jpg"/>
          <p:cNvPicPr/>
          <p:nvPr/>
        </p:nvPicPr>
        <p:blipFill>
          <a:blip r:embed="rId5"/>
          <a:stretch/>
        </p:blipFill>
        <p:spPr>
          <a:xfrm>
            <a:off x="5651640" y="476280"/>
            <a:ext cx="1209600" cy="1104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822240" y="2876400"/>
            <a:ext cx="1365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467080" y="2876400"/>
          <a:ext cx="5854680" cy="517680"/>
        </p:xfrm>
        <a:graphic>
          <a:graphicData uri="http://schemas.openxmlformats.org/drawingml/2006/table">
            <a:tbl>
              <a:tblPr/>
              <a:tblGrid>
                <a:gridCol w="1365120"/>
                <a:gridCol w="1122480"/>
                <a:gridCol w="1122120"/>
                <a:gridCol w="1122480"/>
                <a:gridCol w="112248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11640" y="476280"/>
            <a:ext cx="4633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444"/>
          <p:cNvPicPr/>
          <p:nvPr/>
        </p:nvPicPr>
        <p:blipFill>
          <a:blip r:embed="rId1"/>
          <a:stretch/>
        </p:blipFill>
        <p:spPr>
          <a:xfrm>
            <a:off x="684360" y="476280"/>
            <a:ext cx="3311280" cy="587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ООН"/>
          <p:cNvPicPr/>
          <p:nvPr/>
        </p:nvPicPr>
        <p:blipFill>
          <a:blip r:embed="rId2"/>
          <a:stretch/>
        </p:blipFill>
        <p:spPr>
          <a:xfrm>
            <a:off x="468360" y="189000"/>
            <a:ext cx="1698480" cy="1444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ие и политические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жизнь, свободу и безопасность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рабства и подневольного состоя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S00285_"/>
          <p:cNvPicPr/>
          <p:nvPr/>
        </p:nvPicPr>
        <p:blipFill>
          <a:blip r:embed="rId1"/>
          <a:stretch/>
        </p:blipFill>
        <p:spPr>
          <a:xfrm>
            <a:off x="6012000" y="3730680"/>
            <a:ext cx="2477880" cy="2455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и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субъект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BD06990_"/>
          <p:cNvPicPr/>
          <p:nvPr/>
        </p:nvPicPr>
        <p:blipFill>
          <a:blip r:embed="rId1"/>
          <a:stretch/>
        </p:blipFill>
        <p:spPr>
          <a:xfrm>
            <a:off x="5580000" y="3789360"/>
            <a:ext cx="250344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21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енство перед за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эффективное восстановление в правах в случае нарушения прав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роизвольного ареста,  задержания или изгн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езумпцию невиновности до тех пор, пока виновность не будет установ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9:28:22Z</dcterms:created>
  <dc:creator>Yuriy Gussakov</dc:creator>
  <dc:description/>
  <dc:language>en-US</dc:language>
  <cp:lastModifiedBy>LEGION</cp:lastModifiedBy>
  <dcterms:modified xsi:type="dcterms:W3CDTF">2015-01-28T11:43:22Z</dcterms:modified>
  <cp:revision>16</cp:revision>
  <dc:subject/>
  <dc:title>Поколения прав человека</dc:title>
</cp:coreProperties>
</file>