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22.gif" ContentType="image/gif"/>
  <Override PartName="/ppt/media/image21.gif" ContentType="image/gif"/>
  <Override PartName="/ppt/media/image20.jpeg" ContentType="image/jpeg"/>
  <Override PartName="/ppt/media/image17.wmf" ContentType="image/x-wmf"/>
  <Override PartName="/ppt/media/image14.gif" ContentType="image/gif"/>
  <Override PartName="/ppt/media/image19.jpeg" ContentType="image/jpeg"/>
  <Override PartName="/ppt/media/image1.gif" ContentType="image/gif"/>
  <Override PartName="/ppt/media/image16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1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0FB3-E87F-4E4C-A3E1-9A56EE9BBB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Авторы про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Times New Roman"/>
              </a:rPr>
              <a:t>9  класс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12B2-6C63-4B54-9167-62FC80093E9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Times New Roman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74F5-50B3-432B-A35A-DA632B1F726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1EEA-480A-4848-A7EF-F1A1C1E6736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невысокий материальный доста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многих сем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жилищ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3D14-FA2A-4DF3-9BD1-C34859F674A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вспыльчив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отсутствие сильной в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страсть к азартным иг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жа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нежелание рабо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F129-A6CC-4A4B-B95C-2D3DA415EEF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F109-4208-481A-A505-00F1EBDC7C2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Это человек, котор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B23C-7B93-40D0-86B3-8D95418CA90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E1EF-EC19-4562-8DCF-38C7FDC69B4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66BD-D0DA-48F5-91D3-39AE9D31A20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cc"/>
                </a:solidFill>
                <a:latin typeface="Calibri"/>
              </a:rPr>
              <a:t>Основополагающий вопрос проект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«Какое влияние оказы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циальная среда на совершение подростками противоправных действи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C820-BB53-4D97-BB41-380320723D1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F6B1-3BD8-42E7-A796-0EA785F21D5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а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50EB-9021-4A7E-BFA9-CDA6ACBF269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рхипов В. Д. Подросток и закон. Куйбышев, 198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уянов М.И. «Ребенок из неблагополучной семьи». М. Просвещение, 1998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рпец И. В. Преступность: иллюзии и реальность. М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риминологические исследования в мире. М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минологические и уголовно-правовые идеи борьбы с преступностью. М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удрявцев В. Н. Закон, поступок, ответственность. М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удрявцев В.Н., Эминов В.Е. Криминология. М.1997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Лунеев В.В. Преступность 20 века. М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2846-1DC4-49FC-9AAF-AAEEDB03DAA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ron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efportal.ru/politic/ref45119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projects.databyt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history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politic.refporta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5ballov.com.ru/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democracy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www.km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1D4D-FB03-46E9-BB03-A150FBF9DC5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f81bd"/>
                </a:solidFill>
                <a:latin typeface="Times New Roman"/>
              </a:rPr>
              <a:t>Для чего нам это нуж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1EC1-957F-4D5F-92F4-C37C63C43B0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Times New Roman"/>
              </a:rPr>
              <a:t>Цели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яснить, что толкает подростков на путь преступ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ставить психологический портрет потенциального правонаруш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D8F0-51A6-4F49-B145-4BF91E47BAF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4f81bd"/>
                </a:solidFill>
                <a:uFillTx/>
                <a:latin typeface="Times New Roman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34AE-BB3A-44AC-841D-71A7F3C9565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у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ругала. И ещ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попадался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Алеше ниче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дросток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перед Новым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одом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B9CB-4D7B-4F0B-9148-D1F579CF174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евыдуманные истор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D588-69C6-43B8-ADBA-FB201460C4A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чем у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DA16-C1FD-422E-BC79-4D080470FAF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ямая статисти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месяца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беспризорных подрост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243F-589A-41AA-BEC1-9C7F108CE7E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9FB-0249-45FB-830C-0CF39718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8D4-9454-4021-BC6E-D79C5155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09E-2705-4E48-9671-3FB53228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461-E806-4C2C-9952-A7705EED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BD83-8AA8-4712-B7B5-FC004895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A17A-257F-4FB5-8866-18D941AE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67C0-6C54-4645-B853-B0202236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2297-081C-4C1F-804B-3A174271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F763-4C43-4093-94BF-8E33994B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7C77-68D2-4DFD-82C7-75DB502A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4AD-C046-4F24-9F75-9DD4E148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525-6C26-4500-A9E4-31C26AC1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BCAD-596D-4FC0-8C91-DE9E1D3B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25F1-2588-4F90-A527-CF35D52A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DD06-9ADD-4BB6-AA5F-D4F26975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D74F-4B0B-4678-A219-074B6394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5A56-0EA2-42EB-A3F5-E19624DB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502-5786-426E-B133-32791F9F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B40-5A57-471D-BF95-2DDFE223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5FC-8808-40C0-8FAB-A6F7BEF8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AD9-632E-4830-B0BB-04A11094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C7C-1F29-449C-87E4-4BE7ACE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85D-B4C1-462C-A362-149B6AB9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1A5-BBD5-43F8-9520-157B7B71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5A35-23CA-45E3-955D-7F829904944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B219-FA5B-4C46-91E2-F11754FA0B7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on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4000" y="4941360"/>
            <a:ext cx="8280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ccff"/>
                </a:solidFill>
                <a:uFillTx/>
                <a:latin typeface="Times New Roman"/>
              </a:rPr>
              <a:t>Авторы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imes New Roman"/>
              </a:rPr>
              <a:t>9  клас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187280" y="1197000"/>
            <a:ext cx="6697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"Во всём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виноват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ae3b7"/>
                    </a:gs>
                  </a:gsLst>
                  <a:lin ang="2700000"/>
                </a:gradFill>
                <a:latin typeface="Times New Roman"/>
              </a:rPr>
              <a:t>среда?"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e3b7"/>
                  </a:gs>
                  <a:gs pos="100000">
                    <a:srgbClr val="fae3b7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564000" y="0"/>
            <a:ext cx="532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ccff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Только слабые совершают преступления: сильному и счастливому они не нужны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ccff"/>
                </a:solidFill>
                <a:latin typeface="Times New Roman"/>
              </a:rPr>
              <a:t>Ф. Вольт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97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Большинство подростков свой преступный путь начали в возрасте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9-11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лет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Почему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J0283632"/>
          <p:cNvPicPr/>
          <p:nvPr/>
        </p:nvPicPr>
        <p:blipFill>
          <a:blip r:embed="rId1"/>
          <a:stretch/>
        </p:blipFill>
        <p:spPr>
          <a:xfrm>
            <a:off x="324000" y="4368960"/>
            <a:ext cx="2226960" cy="248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J0285315"/>
          <p:cNvPicPr/>
          <p:nvPr/>
        </p:nvPicPr>
        <p:blipFill>
          <a:blip r:embed="rId2"/>
          <a:stretch/>
        </p:blipFill>
        <p:spPr>
          <a:xfrm>
            <a:off x="6372360" y="4076640"/>
            <a:ext cx="2771640" cy="23716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250" autoRev="1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Для выяснения причин, толкающих подростков на преступления, мы провели социологический опрос среди учащихся нашей школы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J0284133"/>
          <p:cNvPicPr/>
          <p:nvPr/>
        </p:nvPicPr>
        <p:blipFill>
          <a:blip r:embed="rId1"/>
          <a:stretch/>
        </p:blipFill>
        <p:spPr>
          <a:xfrm>
            <a:off x="0" y="4653000"/>
            <a:ext cx="2055960" cy="2205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1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"/>
          <p:cNvSpPr/>
          <p:nvPr/>
        </p:nvSpPr>
        <p:spPr>
          <a:xfrm>
            <a:off x="179280" y="0"/>
            <a:ext cx="8964720" cy="61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ffff"/>
                </a:solidFill>
                <a:uFillTx/>
                <a:latin typeface="Garamond"/>
              </a:rPr>
              <a:t>Социальные причины правонарушений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Garamond"/>
              <a:buChar char="•"/>
              <a:tabLst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безработи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евысокий материальный достаток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многих сем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жилищная проблем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J0178789"/>
          <p:cNvPicPr/>
          <p:nvPr/>
        </p:nvPicPr>
        <p:blipFill>
          <a:blip r:embed="rId1"/>
          <a:stretch/>
        </p:blipFill>
        <p:spPr>
          <a:xfrm>
            <a:off x="250920" y="3573360"/>
            <a:ext cx="2089080" cy="2951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0177752"/>
          <p:cNvPicPr/>
          <p:nvPr/>
        </p:nvPicPr>
        <p:blipFill>
          <a:blip r:embed="rId2"/>
          <a:stretch/>
        </p:blipFill>
        <p:spPr>
          <a:xfrm>
            <a:off x="6516720" y="1700280"/>
            <a:ext cx="2627280" cy="15843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Garamond"/>
              </a:rPr>
              <a:t>Психологические причины правонарушений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спыльчивый харак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тсутствие сильной во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трасть к азартным игр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жад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ежелание работ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J0284139"/>
          <p:cNvPicPr/>
          <p:nvPr/>
        </p:nvPicPr>
        <p:blipFill>
          <a:blip r:embed="rId1"/>
          <a:stretch/>
        </p:blipFill>
        <p:spPr>
          <a:xfrm>
            <a:off x="0" y="3068640"/>
            <a:ext cx="3598920" cy="34146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Потенциальный правонарушитель.</a:t>
            </a:r>
            <a:br>
              <a:rPr sz="8000"/>
            </a:br>
            <a:r>
              <a:rPr b="1" lang="ru-RU" sz="8000" spc="-1" strike="noStrike">
                <a:solidFill>
                  <a:srgbClr val="00ffff"/>
                </a:solidFill>
                <a:latin typeface="Times New Roman"/>
              </a:rPr>
              <a:t>Кто он?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Picture 5" descr="J0236210"/>
          <p:cNvPicPr/>
          <p:nvPr/>
        </p:nvPicPr>
        <p:blipFill>
          <a:blip r:embed="rId1"/>
          <a:stretch/>
        </p:blipFill>
        <p:spPr>
          <a:xfrm>
            <a:off x="2195640" y="4365720"/>
            <a:ext cx="4895640" cy="1701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imes New Roman"/>
              </a:rPr>
              <a:t>Это человек, который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гает моральными нор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небрежительно относится 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учёбе и знан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стремится к примитивному времяпрепровожден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предпочитает материаль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ценности духовны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ffff"/>
                </a:solidFill>
                <a:latin typeface="Times New Roman"/>
              </a:rPr>
              <a:t>не знает и не уважает закон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J0230764"/>
          <p:cNvPicPr/>
          <p:nvPr/>
        </p:nvPicPr>
        <p:blipFill>
          <a:blip r:embed="rId1"/>
          <a:stretch/>
        </p:blipFill>
        <p:spPr>
          <a:xfrm>
            <a:off x="6707160" y="836640"/>
            <a:ext cx="2436840" cy="5805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ff"/>
                </a:solidFill>
                <a:latin typeface="Times New Roman"/>
              </a:rPr>
              <a:t>Незнание закона и чувство безнаказанности являются самыми распространёнными причинами правонарушений среди подрост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J0289875"/>
          <p:cNvPicPr/>
          <p:nvPr/>
        </p:nvPicPr>
        <p:blipFill>
          <a:blip r:embed="rId1"/>
          <a:stretch/>
        </p:blipFill>
        <p:spPr>
          <a:xfrm>
            <a:off x="2843280" y="3429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71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Вывод: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5832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ffff"/>
                </a:solidFill>
                <a:latin typeface="Times New Roman"/>
              </a:rPr>
              <a:t>Из выше приведённых примеров следует, что большинство правонарушителей это дети из неблагополучных семей. А также отсутствие сильной воли, нравственности, уверенность в безнаказанности и незнание законов приводят подростков на скользкий путь преступной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J0178783"/>
          <p:cNvPicPr/>
          <p:nvPr/>
        </p:nvPicPr>
        <p:blipFill>
          <a:blip r:embed="rId1"/>
          <a:stretch/>
        </p:blipFill>
        <p:spPr>
          <a:xfrm>
            <a:off x="5867280" y="1557360"/>
            <a:ext cx="327672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1"/>
          <p:cNvSpPr/>
          <p:nvPr/>
        </p:nvSpPr>
        <p:spPr>
          <a:xfrm>
            <a:off x="250920" y="333360"/>
            <a:ext cx="8893080" cy="5549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Основополагающий вопрос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«Какое влияние оказывае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ffff"/>
                </a:solidFill>
                <a:uFillTx/>
                <a:latin typeface="Times New Roman"/>
              </a:rPr>
              <a:t>социальная среда на совершение подростками противоправных действий?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2" descr="J0303430"/>
          <p:cNvPicPr/>
          <p:nvPr/>
        </p:nvPicPr>
        <p:blipFill>
          <a:blip r:embed="rId1"/>
          <a:stretch/>
        </p:blipFill>
        <p:spPr>
          <a:xfrm>
            <a:off x="228600" y="4076640"/>
            <a:ext cx="1846440" cy="27813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ccff"/>
                </a:solidFill>
                <a:latin typeface="Times New Roman"/>
              </a:rPr>
              <a:t>В наших ли силах остановить рост преступности среди несовершеннолетних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4" descr="J0177838"/>
          <p:cNvPicPr/>
          <p:nvPr/>
        </p:nvPicPr>
        <p:blipFill>
          <a:blip r:embed="rId1"/>
          <a:stretch/>
        </p:blipFill>
        <p:spPr>
          <a:xfrm>
            <a:off x="2627280" y="4419720"/>
            <a:ext cx="3889440" cy="243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00000" y="333360"/>
            <a:ext cx="7632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00"/>
                </a:solidFill>
                <a:uFillTx/>
                <a:latin typeface="Tahoma"/>
              </a:rPr>
              <a:t>Да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Если бы люди с самого детства учились не нарушать моральные нормы, у них было бы больше возможностей прожить жизнь счастливо и интересно. И преступлений было бы несравнимо меньше. Поубавилось бы тюрем и воспитательно-трудовых колоний. Общество и граждане от этого бы только выигра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J0283634"/>
          <p:cNvPicPr/>
          <p:nvPr/>
        </p:nvPicPr>
        <p:blipFill>
          <a:blip r:embed="rId1"/>
          <a:stretch/>
        </p:blipFill>
        <p:spPr>
          <a:xfrm>
            <a:off x="6948360" y="162000"/>
            <a:ext cx="2016360" cy="142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J0283649"/>
          <p:cNvPicPr/>
          <p:nvPr/>
        </p:nvPicPr>
        <p:blipFill>
          <a:blip r:embed="rId2"/>
          <a:stretch/>
        </p:blipFill>
        <p:spPr>
          <a:xfrm>
            <a:off x="0" y="4508640"/>
            <a:ext cx="1763640" cy="2160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92376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Архипов В. Д. Подросток и закон. Куйбышев, 198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Буянов М.И. «Ребенок из неблагополучной семьи». М. Просвещение, 1998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Домова А.И. «Социально-психологические аспекты преступности несовершеннолетних». М. Юридическая литература, 198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Карпец И. В. Преступность: иллюзии и реальность. М, 199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Криминологические исследования в мире. М, 199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Криминологические и уголовно-правовые идеи борьбы с преступностью. М, 199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Кудрявцев В. Н. Закон, поступок, ответственность. М, 19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Кудрявцев В.Н., Эминов В.Е. Криминология. М.1997 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Лунеев В.В. Преступность 20 века. М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Правонарушения несовершеннолетних и их предупреждение. Казань. Издательство Казанского Университета, 199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6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Информационные ресурсы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ron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refportal.ru/politic/ref45119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projects.databyte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history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politic.refportal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5ballov.com.ru/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democracy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http://www.km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914400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ccff"/>
                </a:solidFill>
                <a:latin typeface="Times New Roman"/>
              </a:rPr>
              <a:t>Для чего нам это нужно?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690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«От сумы и от тюрьмы не зарекайся». Это суровое предупреждение пришло к нам из прошлого. Оно напоминает нам о самых неблагоприятных поворотах судьбы.  За решётку никто не стремится. Однако тысячи подростков обоего пола ежегодно  становятся клиентами воспитательно-трудовых колоний, приёмников-распределителей, наркологических диспансеров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 настала ли пора задуматься – в чём причина столь неблагоприятной криминогенной обстановки, которая сложилась в подростковой среде? Что влечёт подростков на скользкий путь преступной жизни? Кто он – потенциальный правонарушитель? Может быть, это наш одноклассник, сосед или знакомый, оказавшийся в сложной жизненной ситуации? В наших ли силах изменить что-то, предостеречь кого-то от ошибки, способной сломать всю жизн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тветы на эти вопросы мы попытаемся найти совместными усилиями в ходе работы над проек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44524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ccff"/>
                </a:solidFill>
                <a:latin typeface="Times New Roman"/>
              </a:rPr>
              <a:t>Цели исследования: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0" y="1341360"/>
            <a:ext cx="608472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ыяснить, что толкает подростков на путь преступной жизн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оставить психологический портрет потенциального правонарушител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7" descr="J0178861"/>
          <p:cNvPicPr/>
          <p:nvPr/>
        </p:nvPicPr>
        <p:blipFill>
          <a:blip r:embed="rId1"/>
          <a:stretch/>
        </p:blipFill>
        <p:spPr>
          <a:xfrm>
            <a:off x="6012000" y="1413000"/>
            <a:ext cx="2881080" cy="4680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66ccff"/>
                </a:solidFill>
                <a:uFillTx/>
                <a:latin typeface="Times New Roman"/>
              </a:rPr>
              <a:t>Гипотеза: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i="1" lang="ru-RU" sz="6000" spc="-1" strike="noStrike">
                <a:solidFill>
                  <a:srgbClr val="00ffff"/>
                </a:solidFill>
                <a:latin typeface="Times New Roman"/>
              </a:rPr>
              <a:t>Неблагополучная социальная среда – идеальная основа для воспитания преступников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J0283647"/>
          <p:cNvPicPr/>
          <p:nvPr/>
        </p:nvPicPr>
        <p:blipFill>
          <a:blip r:embed="rId1"/>
          <a:stretch/>
        </p:blipFill>
        <p:spPr>
          <a:xfrm>
            <a:off x="6499080" y="4057560"/>
            <a:ext cx="2644920" cy="280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J0283031"/>
          <p:cNvPicPr/>
          <p:nvPr/>
        </p:nvPicPr>
        <p:blipFill>
          <a:blip r:embed="rId2"/>
          <a:stretch/>
        </p:blipFill>
        <p:spPr>
          <a:xfrm>
            <a:off x="-396720" y="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7999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14-летний Алеша Ш. попал в ЦВИНП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очередную кражу. Мама страдала от алкогольной зависимости, была лишена родительских прав. Отец ушел от нее к другой женщине. В 200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у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мать умерла. Из дома Алеша сбегал потому, что не хотелось учиться. Мачех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ругала. И ещ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сигареты воровал. В мечтах мальчик представляет себе, как будет жить вдвоем с папой, тихо и мирно. Однако связь Алеши с отцом давно потеряна. Четыре раза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опадался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то, что "бомбил киоски". Первую свою кражу он совершил в 11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Алеше ничего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это не было, ведь уголовная ответственность наступает только с 14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т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одросто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правлен в ЦВИНП на 30 суток - максимальный для этого учреждения ср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ам Алеша рассказывает, что ограбил два ларька и два дома. В ларьках брал еду и сигареты, в домах - деньги. Воровал он не потому, что хотел есть, просто делать было нечего. Первую кражу совершил четыр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зад. Прогуливал школу, зашел в открытый дом. Хозяина не было. Алеша стащил маленький телевизор, вино и сигареты. Спрятал в укромном месте. Возвратился взять что-нибудь еще, хозяин поймал и вызвал милиц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 перед Новым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д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залез в ларек, взял два пакета петард и ракетыпо 600 рублей, о чем вспоминает с особой гордостью. Все взорвал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11280" y="0"/>
            <a:ext cx="81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Невыдуманные истории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90612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леша З., поступил в ЦВИНП ночью по постановлению начальника РОВД Тамбовской области. Отец его умер, живет Алеша с мамой. Не учится с октября 2002 года, состоит на учете в милиции. Поступил за хулиганство: в состоянии алкогольного опьянения побил окна соседк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Это я по пьянке сделал, был бы трезвый - не стал бы. А на учет меня поставили год назад за кражу из магазина. Разбили стекло, сигнализация не сработала. Взяли 2 литра водки, сок. Набил полный карман жвачки, часть по дороге высыпалась, по ней и нашли на утро, - с усмешкой вспоминает Алексе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 2002 году Алеша сломал позвоночник, перешел на домашнее образование. Потом бросил учиться: надоело. Сейчас он работает у стеклореза, помогает ему полдня за 1200 рублей. Когда исполнится 18, рассчитывает пойти на завод учеником. Получать образование он больше не намерен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 Мне диплом не нужен, - говорит он корреспонденту "Житья-Бытья", - главное, чтоб не посадили. Мне здесь не нравится, лучше бы в СИЗО отсидел. Надо было сбежать по дороге. Когда меня выпустят, не знаете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842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Times New Roman"/>
              </a:rPr>
              <a:t>Упрямая статистика…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572436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ний возраст начала употребления наркотиков снизился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л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ровень заболеваемости наркоманией среди молодежи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,5 раза выш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чем у взросл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360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ичество подростков, погибающих от наркотиков, за последние годы увеличилось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2 р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J0178842"/>
          <p:cNvPicPr/>
          <p:nvPr/>
        </p:nvPicPr>
        <p:blipFill>
          <a:blip r:embed="rId1"/>
          <a:stretch/>
        </p:blipFill>
        <p:spPr>
          <a:xfrm>
            <a:off x="5867280" y="907920"/>
            <a:ext cx="3276720" cy="273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J0178064"/>
          <p:cNvPicPr/>
          <p:nvPr/>
        </p:nvPicPr>
        <p:blipFill>
          <a:blip r:embed="rId2"/>
          <a:stretch/>
        </p:blipFill>
        <p:spPr>
          <a:xfrm>
            <a:off x="5940360" y="4005360"/>
            <a:ext cx="3203640" cy="258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Упрямая статистика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00000" y="836280"/>
            <a:ext cx="554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месяц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05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да сотрудниками тамбовской милиции изъято из чердаков, подвалов и теплотрас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67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беспризорных подростков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07 подростков за совершение противоправных деяний помещены в центр временной изоляции несовершеннолетн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4492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начала года на территории региона составлен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168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ротоколов об административных правонарушениях, виновниками которых стали несовершеннолетние подростки. Большая часть привлеченных к ответственности за административные правонарушения подростков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944 челове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) употребляли алкоголь или появлялись в общественных местах в состоянии алкогольного опья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J0202202"/>
          <p:cNvPicPr/>
          <p:nvPr/>
        </p:nvPicPr>
        <p:blipFill>
          <a:blip r:embed="rId1"/>
          <a:stretch/>
        </p:blipFill>
        <p:spPr>
          <a:xfrm>
            <a:off x="250920" y="907920"/>
            <a:ext cx="3240000" cy="561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7:16:17Z</dcterms:created>
  <dc:creator>USER</dc:creator>
  <dc:description/>
  <dc:language>en-US</dc:language>
  <cp:lastModifiedBy>LEGION</cp:lastModifiedBy>
  <dcterms:modified xsi:type="dcterms:W3CDTF">2015-01-28T13:33:17Z</dcterms:modified>
  <cp:revision>20</cp:revision>
  <dc:subject/>
  <dc:title>ПЁТР I – РЕФОРМАТОР ИЛИ АНТИХРИСТ?</dc:title>
</cp:coreProperties>
</file>