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7.jpeg" ContentType="image/jpeg"/>
  <Override PartName="/ppt/media/image5.jpeg" ContentType="image/jpeg"/>
  <Override PartName="/ppt/media/image6.jpeg" ContentType="image/jpeg"/>
  <Override PartName="/ppt/media/image22.gif" ContentType="image/gif"/>
  <Override PartName="/ppt/media/image21.gif" ContentType="image/gif"/>
  <Override PartName="/ppt/media/image20.jpeg" ContentType="image/jpeg"/>
  <Override PartName="/ppt/media/image17.wmf" ContentType="image/x-wmf"/>
  <Override PartName="/ppt/media/image14.gif" ContentType="image/gif"/>
  <Override PartName="/ppt/media/image19.jpeg" ContentType="image/jpeg"/>
  <Override PartName="/ppt/media/image1.gif" ContentType="image/gif"/>
  <Override PartName="/ppt/media/image16.gif" ContentType="image/gif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1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541A-CF71-4F9C-A68E-5AAEF4EE819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81bd"/>
                </a:solidFill>
                <a:uFillTx/>
                <a:latin typeface="Times New Roman"/>
              </a:rPr>
              <a:t>Авторы проект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4f81bd"/>
                </a:solidFill>
                <a:latin typeface="Times New Roman"/>
              </a:rPr>
              <a:t>9  класса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EFA5-B262-48E4-BBA3-EA75051FCBC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Times New Roman"/>
              </a:rPr>
              <a:t>Большинство подростков свой преступный путь начали в возрасте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9-11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4f81bd"/>
                </a:solidFill>
                <a:latin typeface="Times New Roman"/>
              </a:rPr>
              <a:t>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Times New Roman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6E61-D6B1-45C0-B70C-8E8F8B5A99E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Для выяснения причин, толкающих подростков на преступления, мы провели социологический опрос среди учащихся нашей школы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5347-40CB-4D23-9739-3806EFE8DAD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ffff"/>
                </a:solidFill>
                <a:uFillTx/>
                <a:latin typeface="Garamond"/>
              </a:rPr>
              <a:t>Социальные причины правонаруше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•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невысокий материальный достат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многих сем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жилищ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B412-CB0D-44F1-A77C-DBD1EF4BBF9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ffff"/>
                </a:solidFill>
                <a:uFillTx/>
                <a:latin typeface="Garamond"/>
              </a:rPr>
              <a:t>Психологические причины правонарушений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вспыльчив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отсутствие сильной в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страсть к азартным иг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жа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нежелание рабо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2E32-3407-47B3-AC5A-4EA0A898DF1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Times New Roman"/>
              </a:rPr>
              <a:t>Потенциальный правонарушитель.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imes New Roman"/>
              </a:rPr>
              <a:t>Кто о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0C7C-71E4-46E7-AE4C-7901064F8E6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Times New Roman"/>
              </a:rPr>
              <a:t>Это человек, которы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пренебрегает моральными нор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пренебрежительно относится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учёбе и знан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стремится к примитивному времяпрепровожд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предпочитает матери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ценности духов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не знает и не уважает законы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4D8F-3ED9-46FA-9501-3DF77CEE50D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ff"/>
                </a:solidFill>
                <a:latin typeface="Times New Roman"/>
              </a:rPr>
              <a:t>Незнание закона и чувство безнаказанности являются самыми распространёнными причинами правонарушений среди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FC6D-B926-48DA-BCC8-0B4D7DA1314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ffff"/>
                </a:solidFill>
                <a:latin typeface="Times New Roman"/>
              </a:rPr>
              <a:t>Из выше приведённых примеров следует, что большинство правонарушителей это дети из неблагополучных семей. А также отсутствие сильной воли, нравственности, уверенность в безнаказанности и незнание законов приводят подростков на скользкий путь преступ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940A-D712-446D-9E2E-2810CBB545F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cc"/>
                </a:solidFill>
                <a:latin typeface="Calibri"/>
              </a:rPr>
              <a:t>Основополагающий вопрос проект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«Какое влияние оказы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оциальная среда на совершение подростками противоправных действий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694E-A9B9-4C45-871D-16985858D93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Times New Roman"/>
              </a:rPr>
              <a:t>В наших ли силах остановить рост преступности среди несовершеннолетни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10F3-4820-44A9-B69B-2C92893486B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Да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Если бы люди с самого детства учились не нарушать моральные нормы, у них было бы больше возможностей прожить жизнь счастливо и интересно. И преступлений было бы несравнимо меньше. Поубавилось бы тюрем и воспитательно-трудовых колоний. Общество и граждане от этого бы только выигр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0057-80F5-45E0-9D1B-EC6F499A39D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рхипов В. Д. Подросток и закон. Куйбышев, 198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уянов М.И. «Ребенок из неблагополучной семьи». М. Просвещение, 1998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омова А.И. «Социально-психологические аспекты преступности несовершеннолетних». М. Юридическая литература, 198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рпец И. В. Преступность: иллюзии и реальность. М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риминологические исследования в мире. М, 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риминологические и уголовно-правовые идеи борьбы с преступностью. М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Кудрявцев В. Н. Закон, поступок, ответственность. М, 199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удрявцев В.Н., Эминов В.Е. Криминология. М.1997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Лунеев В.В. Преступность 20 века. М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равонарушения несовершеннолетних и их предупреждение. Казань. Издательство Казанского Университета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0C86-5EB5-49B0-982D-A4DCCD886D2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ционные ресур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ron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refportal.ru/politic/ref45119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projects.databyt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history.refporta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politic.refporta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5ballov.com.ru/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democracy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km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577E-B6B0-4C8A-A34E-31C7C8E6637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f81bd"/>
                </a:solidFill>
                <a:latin typeface="Times New Roman"/>
              </a:rPr>
              <a:t>Для чего нам это нужн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От сумы и от тюрьмы не зарекайся». Это суровое предупреждение пришло к нам из прошлого. Оно напоминает нам о самых неблагоприятных поворотах судьбы.  За решётку никто не стремится. Однако тысячи подростков обоего пола ежегодно  становятся клиентами воспитательно-трудовых колоний, приёмников-распределителей, наркологических диспансер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настала ли пора задуматься – в чём причина столь неблагоприятной криминогенной обстановки, которая сложилась в подростковой среде? Что влечёт подростков на скользкий путь преступной жизни? Кто он – потенциальный правонарушитель? Может быть, это наш одноклассник, сосед или знакомый, оказавшийся в сложной жизненной ситуации? В наших ли силах изменить что-то, предостеречь кого-то от ошибки, способной сломать всю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веты на эти вопросы мы попытаемся найти совместными усилиями в ходе работы над прое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0988-C1A5-41D0-9A49-7042AE18E7D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Times New Roman"/>
              </a:rPr>
              <a:t>Цели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яснить, что толкает подростков на путь преступ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ставить психологический портрет потенциального правонаруш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53E4-C438-432A-A39C-FE2DD9A6DFC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4f81bd"/>
                </a:solidFill>
                <a:uFillTx/>
                <a:latin typeface="Times New Roman"/>
              </a:rPr>
              <a:t>Гипо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ffff"/>
                </a:solidFill>
                <a:latin typeface="Times New Roman"/>
              </a:rPr>
              <a:t>Неблагополучная социальная среда – идеальная основа для воспитания преступ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281D-A290-41D6-8DE3-9651187EED7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ыдуманные истор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14-летний Алеша Ш. попал в ЦВИНП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очередную кражу. Мама страдала от алкогольной зависимости, была лишена родительских прав. Отец ушел от нее к другой женщине. В 2001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ду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мать умерла. Из дома Алеша сбегал потому, что не хотелось учиться. Мачех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это ругала. И еще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то, что сигареты воровал. В мечтах мальчик представляет себе, как будет жить вдвоем с папой, тихо и мирно. Однако связь Алеши с отцом давно потеряна. Четыре раз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дросток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попадался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то, что "бомбил киоски". Первую свою кражу он совершил в 11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. Алеше ничего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это не было, ведь уголовная ответственность наступает только с 14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дросток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направлен в ЦВИНП на 30 суток - максимальный для этого учреждения с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 Алеша рассказывает, что ограбил два ларька и два дома. В ларьках брал еду и сигареты, в домах - деньги. Воровал он не потому, что хотел есть, просто делать было нечего. Первую кражу совершил четыре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д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назад. Прогуливал школу, зашел в открытый дом. Хозяина не было. Алеша стащил маленький телевизор, вино и сигареты. Спрятал в укромном месте. Возвратился взять что-нибудь еще, хозяин поймал и вызвал мили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перед Новым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дом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залез в ларек, взял два пакета петард и ракетыпо 600 рублей, о чем вспоминает с особой гордостью. Все взорвал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026E-2682-4DBC-A9F2-F607818F1AB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Невыдуманные истор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леша З., поступил в ЦВИНП ночью по постановлению начальника РОВД Тамбовской области. Отец его умер, живет Алеша с мамой. Не учится с октября 2002 года, состоит на учете в милиции. Поступил за хулиганство: в состоянии алкогольного опьянения побил окна сосе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то я по пьянке сделал, был бы трезвый - не стал бы. А на учет меня поставили год назад за кражу из магазина. Разбили стекло, сигнализация не сработала. Взяли 2 литра водки, сок. Набил полный карман жвачки, часть по дороге высыпалась, по ней и нашли на утро, - с усмешкой вспоминает Алекс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2002 году Алеша сломал позвоночник, перешел на домашнее образование. Потом бросил учиться: надоело. Сейчас он работает у стеклореза, помогает ему полдня за 1200 рублей. Когда исполнится 18, рассчитывает пойти на завод учеником. Получать образование он больше не намер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Мне диплом не нужен, - говорит он корреспонденту "Житья-Бытья", - главное, чтоб не посадили. Мне здесь не нравится, лучше бы в СИЗО отсидел. Надо было сбежать по дороге. Когда меня выпустят, не знает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BE95-0F1D-44FB-8F9F-E44CB2E9D9E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Упрямая статистик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ий возраст начала употребления наркотиков снизился с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ровень заболеваемости наркоманией среди молодежи в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2,5 раза выш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чем у взросл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личество подростков, погибающих от наркотиков, за последние годы увеличилось в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4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4B9F-AC1F-4411-AF6A-B61724695F3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ямая статистик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месяца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2005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да сотрудниками тамбовской милиции изъято из чердаков, подвалов и теплотрасс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46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беспризорных подрост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7 подростков за совершение противоправных деяний помещены в центр временной изоляции несовершеннолет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начала года на территории региона составлено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5168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ротоколов об административных правонарушениях, виновниками которых стали несовершеннолетние подростки. Большая часть привлеченных к ответственности за административные правонарушения подростков (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1944 человек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) употребляли алкоголь или появлялись в общественных местах в состоянии алкогольного опья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E45A-FA0D-498F-BE1A-48F406C9056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A67-6040-43B5-90C1-86D23CBC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F37-CB04-4DD6-A3C5-CD5363A9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4CCF-72B2-40DC-9FC1-6809F892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30D-ECAE-4D4D-B581-C4FF8153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DC17-D90D-44A3-8CB3-ADC45C40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A1A5-07EB-4DD3-904F-A1D67DE9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95BB-5EA5-4CED-AFCA-880EA7ED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9A4B-D44F-408C-BAA6-128BE019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8122-D884-4B18-A272-C702D16E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E58E-8E67-43DF-891B-F7D19F10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4818-3840-47D3-A5EB-A1B058D3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EE45-1597-472F-A5A5-E32ED262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CFC1-74D7-4D57-9221-D98F28E3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E175-1A86-4267-A7C0-09ACC42C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45E9-1DFB-4FEB-B76E-FADB7173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71C0-79F0-484D-BC5F-39B34425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9607-4EA8-404B-A008-EEE50F39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245-2AEF-43BA-BE94-62C5D6C6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E645-E021-44E3-96E6-8CB14BC9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175-2E4C-453D-B2EB-A75CD8D8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4B73-FA76-4FE6-B0CB-C6BEF9AC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A26-49D2-4713-83BF-E805D576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4DD4-E83B-44C3-9FA0-4FF7C885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63E-FB82-4C7C-B455-5A0E2A2A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C2C2-D4AC-4359-9B6F-0FF8331F70B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252D-4821-498C-A1EE-FA9A9D13C75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ronl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4000" y="4941360"/>
            <a:ext cx="828036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ccff"/>
                </a:solidFill>
                <a:uFillTx/>
                <a:latin typeface="Times New Roman"/>
              </a:rPr>
              <a:t>Авторы проект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imes New Roman"/>
              </a:rPr>
              <a:t>9  клас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187280" y="1197000"/>
            <a:ext cx="669780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ae3b7"/>
                    </a:gs>
                  </a:gsLst>
                  <a:lin ang="2700000"/>
                </a:gradFill>
                <a:latin typeface="Times New Roman"/>
              </a:rPr>
              <a:t>"Во всём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ae3b7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ae3b7"/>
                    </a:gs>
                  </a:gsLst>
                  <a:lin ang="2700000"/>
                </a:gradFill>
                <a:latin typeface="Times New Roman"/>
              </a:rPr>
              <a:t>виноват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ae3b7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ae3b7"/>
                    </a:gs>
                  </a:gsLst>
                  <a:lin ang="2700000"/>
                </a:gradFill>
                <a:latin typeface="Times New Roman"/>
              </a:rPr>
              <a:t>среда?"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ae3b7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564000" y="0"/>
            <a:ext cx="532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ccff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66ccff"/>
                </a:solidFill>
                <a:latin typeface="Times New Roman"/>
              </a:rPr>
              <a:t>Только слабые совершают преступления: сильному и счастливому они не нужны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ccff"/>
                </a:solidFill>
                <a:latin typeface="Times New Roman"/>
              </a:rPr>
              <a:t>Ф. Вольте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497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Большинство подростков свой преступный путь начали в возрасте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9-11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лет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Почему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J0283632"/>
          <p:cNvPicPr/>
          <p:nvPr/>
        </p:nvPicPr>
        <p:blipFill>
          <a:blip r:embed="rId1"/>
          <a:stretch/>
        </p:blipFill>
        <p:spPr>
          <a:xfrm>
            <a:off x="324000" y="4368960"/>
            <a:ext cx="2226960" cy="248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J0285315"/>
          <p:cNvPicPr/>
          <p:nvPr/>
        </p:nvPicPr>
        <p:blipFill>
          <a:blip r:embed="rId2"/>
          <a:stretch/>
        </p:blipFill>
        <p:spPr>
          <a:xfrm>
            <a:off x="6372360" y="4076640"/>
            <a:ext cx="2771640" cy="237168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250" autoRev="1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Для выяснения причин, толкающих подростков на преступления, мы провели социологический опрос среди учащихся нашей школы.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J0284133"/>
          <p:cNvPicPr/>
          <p:nvPr/>
        </p:nvPicPr>
        <p:blipFill>
          <a:blip r:embed="rId1"/>
          <a:stretch/>
        </p:blipFill>
        <p:spPr>
          <a:xfrm>
            <a:off x="0" y="4653000"/>
            <a:ext cx="2055960" cy="2205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Object 1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7"/>
          <p:cNvSpPr/>
          <p:nvPr/>
        </p:nvSpPr>
        <p:spPr>
          <a:xfrm>
            <a:off x="179280" y="0"/>
            <a:ext cx="8964720" cy="61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ffff"/>
                </a:solidFill>
                <a:uFillTx/>
                <a:latin typeface="Garamond"/>
              </a:rPr>
              <a:t>Социальные причины правонарушений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Garamond"/>
              <a:buChar char="•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безработиц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невысокий материальный достаток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многих сем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жилищная пробле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9" descr="J0178789"/>
          <p:cNvPicPr/>
          <p:nvPr/>
        </p:nvPicPr>
        <p:blipFill>
          <a:blip r:embed="rId1"/>
          <a:stretch/>
        </p:blipFill>
        <p:spPr>
          <a:xfrm>
            <a:off x="250920" y="3573360"/>
            <a:ext cx="2089080" cy="2951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J0177752"/>
          <p:cNvPicPr/>
          <p:nvPr/>
        </p:nvPicPr>
        <p:blipFill>
          <a:blip r:embed="rId2"/>
          <a:stretch/>
        </p:blipFill>
        <p:spPr>
          <a:xfrm>
            <a:off x="6516720" y="1700280"/>
            <a:ext cx="2627280" cy="15843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97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ffff"/>
                </a:solidFill>
                <a:uFillTx/>
                <a:latin typeface="Garamond"/>
              </a:rPr>
              <a:t>Психологические причины правонарушений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спыльчивый харак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тсутствие сильной во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трасть к азартным игр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жад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ежелание работа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6" descr="J0284139"/>
          <p:cNvPicPr/>
          <p:nvPr/>
        </p:nvPicPr>
        <p:blipFill>
          <a:blip r:embed="rId1"/>
          <a:stretch/>
        </p:blipFill>
        <p:spPr>
          <a:xfrm>
            <a:off x="0" y="3068640"/>
            <a:ext cx="3598920" cy="34146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914400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ffff"/>
                </a:solidFill>
                <a:latin typeface="Times New Roman"/>
              </a:rPr>
              <a:t>Потенциальный правонарушитель.</a:t>
            </a:r>
            <a:br>
              <a:rPr sz="8000"/>
            </a:br>
            <a:r>
              <a:rPr b="1" lang="ru-RU" sz="8000" spc="-1" strike="noStrike">
                <a:solidFill>
                  <a:srgbClr val="00ffff"/>
                </a:solidFill>
                <a:latin typeface="Times New Roman"/>
              </a:rPr>
              <a:t>Кто он?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2" name="Picture 5" descr="J0236210"/>
          <p:cNvPicPr/>
          <p:nvPr/>
        </p:nvPicPr>
        <p:blipFill>
          <a:blip r:embed="rId1"/>
          <a:stretch/>
        </p:blipFill>
        <p:spPr>
          <a:xfrm>
            <a:off x="2195640" y="4365720"/>
            <a:ext cx="4895640" cy="1701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-316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Times New Roman"/>
              </a:rPr>
              <a:t>Это человек, который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пренебрегает моральными нор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пренебрежительно относится 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учёбе и знания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стремится к примитивному времяпрепровождени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предпочитает материаль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ценности духовны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не знает и не уважает закон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J0230764"/>
          <p:cNvPicPr/>
          <p:nvPr/>
        </p:nvPicPr>
        <p:blipFill>
          <a:blip r:embed="rId1"/>
          <a:stretch/>
        </p:blipFill>
        <p:spPr>
          <a:xfrm>
            <a:off x="6707160" y="836640"/>
            <a:ext cx="2436840" cy="58053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4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ff"/>
                </a:solidFill>
                <a:latin typeface="Times New Roman"/>
              </a:rPr>
              <a:t>Незнание закона и чувство безнаказанности являются самыми распространёнными причинами правонарушений среди подростк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J0289875"/>
          <p:cNvPicPr/>
          <p:nvPr/>
        </p:nvPicPr>
        <p:blipFill>
          <a:blip r:embed="rId1"/>
          <a:stretch/>
        </p:blipFill>
        <p:spPr>
          <a:xfrm>
            <a:off x="2843280" y="342900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871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Вывод: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5832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Из выше приведённых примеров следует, что большинство правонарушителей это дети из неблагополучных семей. А также отсутствие сильной воли, нравственности, уверенность в безнаказанности и незнание законов приводят подростков на скользкий путь преступной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J0178783"/>
          <p:cNvPicPr/>
          <p:nvPr/>
        </p:nvPicPr>
        <p:blipFill>
          <a:blip r:embed="rId1"/>
          <a:stretch/>
        </p:blipFill>
        <p:spPr>
          <a:xfrm>
            <a:off x="5867280" y="1557360"/>
            <a:ext cx="3276720" cy="3240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1"/>
          <p:cNvSpPr/>
          <p:nvPr/>
        </p:nvSpPr>
        <p:spPr>
          <a:xfrm>
            <a:off x="250920" y="333360"/>
            <a:ext cx="8893080" cy="5549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Основополагающий вопрос проект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ffff"/>
                </a:solidFill>
                <a:uFillTx/>
                <a:latin typeface="Times New Roman"/>
              </a:rPr>
              <a:t>«Какое влияние оказывае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ffff"/>
                </a:solidFill>
                <a:uFillTx/>
                <a:latin typeface="Times New Roman"/>
              </a:rPr>
              <a:t>социальная среда на совершение подростками противоправных действий?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32" descr="J0303430"/>
          <p:cNvPicPr/>
          <p:nvPr/>
        </p:nvPicPr>
        <p:blipFill>
          <a:blip r:embed="rId1"/>
          <a:stretch/>
        </p:blipFill>
        <p:spPr>
          <a:xfrm>
            <a:off x="228600" y="4076640"/>
            <a:ext cx="1846440" cy="278136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ccff"/>
                </a:solidFill>
                <a:latin typeface="Times New Roman"/>
              </a:rPr>
              <a:t>В наших ли силах остановить рост преступности среди несовершеннолетних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4" descr="J0177838"/>
          <p:cNvPicPr/>
          <p:nvPr/>
        </p:nvPicPr>
        <p:blipFill>
          <a:blip r:embed="rId1"/>
          <a:stretch/>
        </p:blipFill>
        <p:spPr>
          <a:xfrm>
            <a:off x="2627280" y="4419720"/>
            <a:ext cx="3889440" cy="24382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00000" y="333360"/>
            <a:ext cx="7632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0000"/>
                </a:solidFill>
                <a:uFillTx/>
                <a:latin typeface="Tahoma"/>
              </a:rPr>
              <a:t>Да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Если бы люди с самого детства учились не нарушать моральные нормы, у них было бы больше возможностей прожить жизнь счастливо и интересно. И преступлений было бы несравнимо меньше. Поубавилось бы тюрем и воспитательно-трудовых колоний. Общество и граждане от этого бы только выигра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J0283634"/>
          <p:cNvPicPr/>
          <p:nvPr/>
        </p:nvPicPr>
        <p:blipFill>
          <a:blip r:embed="rId1"/>
          <a:stretch/>
        </p:blipFill>
        <p:spPr>
          <a:xfrm>
            <a:off x="6948360" y="162000"/>
            <a:ext cx="2016360" cy="1420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J0283649"/>
          <p:cNvPicPr/>
          <p:nvPr/>
        </p:nvPicPr>
        <p:blipFill>
          <a:blip r:embed="rId2"/>
          <a:stretch/>
        </p:blipFill>
        <p:spPr>
          <a:xfrm>
            <a:off x="0" y="4508640"/>
            <a:ext cx="1763640" cy="21603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777240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923760"/>
            <a:ext cx="864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Архипов В. Д. Подросток и закон. Куйбышев, 198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Буянов М.И. «Ребенок из неблагополучной семьи». М. Просвещение, 1998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Домова А.И. «Социально-психологические аспекты преступности несовершеннолетних». М. Юридическая литература, 198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Карпец И. В. Преступность: иллюзии и реальность. М, 199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Криминологические исследования в мире. М, 199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Криминологические и уголовно-правовые идеи борьбы с преступностью. М, 199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Кудрявцев В. Н. Закон, поступок, ответственность. М, 19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Кудрявцев В.Н., Эминов В.Е. Криминология. М.1997 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 Лунеев В.В. Преступность 20 века. М, 199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. Правонарушения несовершеннолетних и их предупреждение. Казань. Издательство Казанского Университета, 199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6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Информационные ресурсы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ronl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refportal.ru/politic/ref45119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projects.databyte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history.refportal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www.politic.refportal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5ballov.com.ru/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www.democracy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www.km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914400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ccff"/>
                </a:solidFill>
                <a:latin typeface="Times New Roman"/>
              </a:rPr>
              <a:t>Для чего нам это нужно?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85690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«От сумы и от тюрьмы не зарекайся». Это суровое предупреждение пришло к нам из прошлого. Оно напоминает нам о самых неблагоприятных поворотах судьбы.  За решётку никто не стремится. Однако тысячи подростков обоего пола ежегодно  становятся клиентами воспитательно-трудовых колоний, приёмников-распределителей, наркологических диспансеров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е настала ли пора задуматься – в чём причина столь неблагоприятной криминогенной обстановки, которая сложилась в подростковой среде? Что влечёт подростков на скользкий путь преступной жизни? Кто он – потенциальный правонарушитель? Может быть, это наш одноклассник, сосед или знакомый, оказавшийся в сложной жизненной ситуации? В наших ли силах изменить что-то, предостеречь кого-то от ошибки, способной сломать всю жизнь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Ответы на эти вопросы мы попытаемся найти совместными усилиями в ходе работы над проект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44524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Цели исследования: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0" y="1341360"/>
            <a:ext cx="608472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выяснить, что толкает подростков на путь преступной жизн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оставить психологический портрет потенциального правонарушител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7" descr="J0178861"/>
          <p:cNvPicPr/>
          <p:nvPr/>
        </p:nvPicPr>
        <p:blipFill>
          <a:blip r:embed="rId1"/>
          <a:stretch/>
        </p:blipFill>
        <p:spPr>
          <a:xfrm>
            <a:off x="6012000" y="1413000"/>
            <a:ext cx="2881080" cy="4680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66ccff"/>
                </a:solidFill>
                <a:uFillTx/>
                <a:latin typeface="Times New Roman"/>
              </a:rPr>
              <a:t>Гипотеза: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921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i="1" lang="ru-RU" sz="6000" spc="-1" strike="noStrike">
                <a:solidFill>
                  <a:srgbClr val="00ffff"/>
                </a:solidFill>
                <a:latin typeface="Times New Roman"/>
              </a:rPr>
              <a:t>Неблагополучная социальная среда – идеальная основа для воспитания преступников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J0283647"/>
          <p:cNvPicPr/>
          <p:nvPr/>
        </p:nvPicPr>
        <p:blipFill>
          <a:blip r:embed="rId1"/>
          <a:stretch/>
        </p:blipFill>
        <p:spPr>
          <a:xfrm>
            <a:off x="6499080" y="4057560"/>
            <a:ext cx="2644920" cy="2800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J0283031"/>
          <p:cNvPicPr/>
          <p:nvPr/>
        </p:nvPicPr>
        <p:blipFill>
          <a:blip r:embed="rId2"/>
          <a:stretch/>
        </p:blipFill>
        <p:spPr>
          <a:xfrm>
            <a:off x="-396720" y="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-243000"/>
            <a:ext cx="7999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Невыдуманные истории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14-летний Алеша Ш. попал в ЦВИНП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очередную кражу. Мама страдала от алкогольной зависимости, была лишена родительских прав. Отец ушел от нее к другой женщине. В 2001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ду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мать умерла. Из дома Алеша сбегал потому, что не хотелось учиться. Мачеха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это ругала. И еще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то, что сигареты воровал. В мечтах мальчик представляет себе, как будет жить вдвоем с папой, тихо и мирно. Однако связь Алеши с отцом давно потеряна. Четыре раза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одрост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попадался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то, что "бомбил киоски". Первую свою кражу он совершил в 11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лет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 Алеше ничего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это не было, ведь уголовная ответственность наступает только с 14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лет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одрост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направлен в ЦВИНП на 30 суток - максимальный для этого учреждения сро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ам Алеша рассказывает, что ограбил два ларька и два дома. В ларьках брал еду и сигареты, в домах - деньги. Воровал он не потому, что хотел есть, просто делать было нечего. Первую кражу совершил четыре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д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назад. Прогуливал школу, зашел в открытый дом. Хозяина не было. Алеша стащил маленький телевизор, вино и сигареты. Спрятал в укромном месте. Возвратился взять что-нибудь еще, хозяин поймал и вызвал милиц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 перед Новым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дом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залез в ларек, взял два пакета петард и ракетыпо 600 рублей, о чем вспоминает с особой гордостью. Все взорвал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11280" y="0"/>
            <a:ext cx="811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Невыдуманные истории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50920" y="906120"/>
            <a:ext cx="864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Алеша З., поступил в ЦВИНП ночью по постановлению начальника РОВД Тамбовской области. Отец его умер, живет Алеша с мамой. Не учится с октября 2002 года, состоит на учете в милиции. Поступил за хулиганство: в состоянии алкогольного опьянения побил окна соседк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- Это я по пьянке сделал, был бы трезвый - не стал бы. А на учет меня поставили год назад за кражу из магазина. Разбили стекло, сигнализация не сработала. Взяли 2 литра водки, сок. Набил полный карман жвачки, часть по дороге высыпалась, по ней и нашли на утро, - с усмешкой вспоминает Алекс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 2002 году Алеша сломал позвоночник, перешел на домашнее образование. Потом бросил учиться: надоело. Сейчас он работает у стеклореза, помогает ему полдня за 1200 рублей. Когда исполнится 18, рассчитывает пойти на завод учеником. Получать образование он больше не намерен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- Мне диплом не нужен, - говорит он корреспонденту "Житья-Бытья", - главное, чтоб не посадили. Мне здесь не нравится, лучше бы в СИЗО отсидел. Надо было сбежать по дороге. Когда меня выпустят, не знаете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-243000"/>
            <a:ext cx="8424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Times New Roman"/>
              </a:rPr>
              <a:t>Упрямая статистика…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572436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03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редний возраст начала употребления наркотиков снизился 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д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л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3603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ровень заболеваемости наркоманией среди молодежи 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,5 раза выш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чем у взросл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3603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личество подростков, погибающих от наркотиков, за последние годы увеличилось 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2 ра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J0178842"/>
          <p:cNvPicPr/>
          <p:nvPr/>
        </p:nvPicPr>
        <p:blipFill>
          <a:blip r:embed="rId1"/>
          <a:stretch/>
        </p:blipFill>
        <p:spPr>
          <a:xfrm>
            <a:off x="5867280" y="907920"/>
            <a:ext cx="3276720" cy="273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J0178064"/>
          <p:cNvPicPr/>
          <p:nvPr/>
        </p:nvPicPr>
        <p:blipFill>
          <a:blip r:embed="rId2"/>
          <a:stretch/>
        </p:blipFill>
        <p:spPr>
          <a:xfrm>
            <a:off x="5940360" y="4005360"/>
            <a:ext cx="3203640" cy="25826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1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-316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Упрямая статистика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00000" y="836280"/>
            <a:ext cx="5543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4492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месяц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05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да сотрудниками тамбовской милиции изъято из чердаков, подвалов и теплотрас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67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беспризорных подростков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4492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07 подростков за совершение противоправных деяний помещены в центр временной изоляции несовершеннолетн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4492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 начала года на территории региона составлен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168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протоколов об административных правонарушениях, виновниками которых стали несовершеннолетние подростки. Большая часть привлеченных к ответственности за административные правонарушения подростков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944 челове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) употребляли алкоголь или появлялись в общественных местах в состоянии алкогольного опья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J0202202"/>
          <p:cNvPicPr/>
          <p:nvPr/>
        </p:nvPicPr>
        <p:blipFill>
          <a:blip r:embed="rId1"/>
          <a:stretch/>
        </p:blipFill>
        <p:spPr>
          <a:xfrm>
            <a:off x="250920" y="907920"/>
            <a:ext cx="3240000" cy="5616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7:16:17Z</dcterms:created>
  <dc:creator>USER</dc:creator>
  <dc:description/>
  <dc:language>en-US</dc:language>
  <cp:lastModifiedBy>LEGION</cp:lastModifiedBy>
  <dcterms:modified xsi:type="dcterms:W3CDTF">2015-01-28T13:33:17Z</dcterms:modified>
  <cp:revision>20</cp:revision>
  <dc:subject/>
  <dc:title>ПЁТР I – РЕФОРМАТОР ИЛИ АНТИХРИСТ?</dc:title>
</cp:coreProperties>
</file>