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1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5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0.jpeg" ContentType="image/jpeg"/>
  <Override PartName="/ppt/media/image44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8.jpeg" ContentType="image/jpeg"/>
  <Override PartName="/ppt/media/image49.jpeg" ContentType="image/jpe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25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F0FC-84A0-4917-83CF-AFC8B76294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BA9C-4D70-4878-B01A-B0590D8156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ff"/>
                </a:solidFill>
                <a:latin typeface="Monotype Corsiva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од ред. А.Я. Сухарева, В.Е. Крутск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-М., 2002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404D-555F-454C-8602-F4989476D4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FC70-C05C-440B-98AB-8B9280965C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B43A-B7D4-47A6-8E31-7AEFEAACC9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CDF3-3EB4-4BDC-BF53-6471B35E17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2C06-27BE-4F47-B347-2947D36246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D604-553D-4A18-AFC1-6E70C34748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дольф Ок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ндарты, предложенные и исповедуемы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53B5-A6BD-4CBF-807C-4FD25FD3C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 сентября 1796 года - Указ об ограничении свободы книгопечатания и ввоза иностранных книг, об упразднении частных типограф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октября 1796 года - учреждение первого цензурного комит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июня 1804 года – первы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26 год -  созда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преля 1828 года – новый цензурный устав, более компактный и жёст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Александ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16F2-FCE5-4AFE-94BA-BBD264FF81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9D04-E5E6-4396-9B64-792C002366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9709-544A-4B6A-8DB1-3CC5DCDCDD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 свободы слова в системе гражданских и полит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 Гражданские и политические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Категория своб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  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тория возникновения и развития свободы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Свобода слова в зарубеж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Свобода слова 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овременное положение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уемых источников и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29FD-78C7-4B0E-80A1-2BEA1593F4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AF6A-2964-466E-9C81-51F6BD88CF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0E74-EACA-4553-93D6-F47C2B98A4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220C-A3F9-4D87-9AB0-8D7422F7EA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CE3A-D0A8-4F0F-9A57-AA337DCD34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12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3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BD8E-7DE6-4063-A750-11FB7B28E1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ексеев С.С. Философия прав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рдяев Н.А. Философия свободы. М.2005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й юридический словарь / Под ред. А.Я. Сухарева, В.Е. Крутских.-М.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баева Т.В. Словесность в юриспруденции. Казань, 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рков Г.В. История цензуры в России XIX-XX вв. «Аспект-Пресс»,20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ьин И.А. О сущности правосознания. – М., 199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: Учебник для вузов. Под об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дакцией члена-корреспондента РАН В.С. Нерсесянца. М., 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кк Д . Избранные философские произведения. Т.2. М., 19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ое публичное право: Учебник / Под ред. К.А.Бекяшева. М.,199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тескье Ш. О духе законов //Избранные произведения. М., 19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сесянц В.С. Права человека в истории политической и правовой мы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 в истории человечества и в современном мире. М.,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прав человека. Под ред. Лукашевой Е.А. – М.: Норма,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: история, теория, практика. М., 199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человека. Учебник для вузов / Под ред. Е.А. Лукашевой. М.:“Норма-Инфра-М” 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яров А. Информационное общество будущего и современность. М.2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яшев М.М. Курс лекций по истории политических и правовых учений.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фа: Полиграфкомбинат, 199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свободы. Харьков 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бер И.Е. Свобода и права человека в Советском государстве. Саратов, 197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бзеев Б.С. Конституция. Демократия. Права человека. М., 199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0F55-C6AC-4156-911F-BA4A83B53B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F802-75D2-4E14-BEFD-3760C080A9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  рабо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ссмотреть историю права на свободу слова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дач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338C-9079-4AC4-A3B3-74310C6C33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Граждан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</a:rPr>
              <a:t>Политически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обода сл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носится как к гражданским, так и к политическим пра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D807-9E83-459C-B172-3457EC5A5A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A2B1-B405-445B-9560-CFBC1E9C80B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4486-FF28-4620-AD48-EDBD10ED6A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7E13-1C54-4BD4-8701-31568D4E4C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50EC-C6D0-4BD0-8134-3291AFD8CB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6767-E36C-436E-8734-2A4BFEFADD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8D77-3DD6-4996-AAE9-48E6440E8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BED6-79B3-4F05-BED4-0D9D2615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A3D-BD64-4260-BF35-F1B0E6CA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A83-3EA4-4965-B42F-2679A7E2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10C2-62CE-4B6B-AAF2-93CAF86B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44C1-CD9E-462A-A487-C441F688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4B20-2996-4854-A9C9-0EA44E41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D49A-D51C-414E-9F2E-A578B90E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F005-25CB-470E-90D6-E01985D2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71CD-929E-4862-9068-74FCB4E5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4C4-5CF4-458E-B526-35E9F9D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21C-FD99-40CB-B539-628DBB2A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176C-6B19-468B-8CA0-40DBDA577A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" Target="slide13.xml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pn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image" Target="../media/image34.jpeg"/><Relationship Id="rId14" Type="http://schemas.openxmlformats.org/officeDocument/2006/relationships/image" Target="../media/image35.png"/><Relationship Id="rId15" Type="http://schemas.openxmlformats.org/officeDocument/2006/relationships/image" Target="../media/image36.jpeg"/><Relationship Id="rId16" Type="http://schemas.openxmlformats.org/officeDocument/2006/relationships/image" Target="../media/image37.jpeg"/><Relationship Id="rId17" Type="http://schemas.openxmlformats.org/officeDocument/2006/relationships/image" Target="../media/image38.jpeg"/><Relationship Id="rId18" Type="http://schemas.openxmlformats.org/officeDocument/2006/relationships/image" Target="../media/image39.jpeg"/><Relationship Id="rId19" Type="http://schemas.openxmlformats.org/officeDocument/2006/relationships/image" Target="../media/image40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42.jpeg"/><Relationship Id="rId4" Type="http://schemas.openxmlformats.org/officeDocument/2006/relationships/slide" Target="slide15.xml"/><Relationship Id="rId5" Type="http://schemas.openxmlformats.org/officeDocument/2006/relationships/image" Target="../media/image43.jpeg"/><Relationship Id="rId6" Type="http://schemas.openxmlformats.org/officeDocument/2006/relationships/slide" Target="slide2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2.xml"/><Relationship Id="rId11" Type="http://schemas.openxmlformats.org/officeDocument/2006/relationships/image" Target="../media/image5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8.xml"/><Relationship Id="rId5" Type="http://schemas.openxmlformats.org/officeDocument/2006/relationships/slide" Target="slide14.xml"/><Relationship Id="rId6" Type="http://schemas.openxmlformats.org/officeDocument/2006/relationships/slide" Target="slide14.xml"/><Relationship Id="rId7" Type="http://schemas.openxmlformats.org/officeDocument/2006/relationships/slide" Target="slide17.xml"/><Relationship Id="rId8" Type="http://schemas.openxmlformats.org/officeDocument/2006/relationships/slide" Target="slide22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slide" Target="slide2.xm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pn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site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438280" y="1752480"/>
            <a:ext cx="3807000" cy="285300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51" name="Text Box 7"/>
          <p:cNvSpPr/>
          <p:nvPr/>
        </p:nvSpPr>
        <p:spPr>
          <a:xfrm>
            <a:off x="4724280" y="4038480"/>
            <a:ext cx="41911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Работа выпол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еницей 11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Фоминовой Еле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Учитель: Бершадская Е. 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990000"/>
                </a:solidFill>
                <a:latin typeface="Monotype Corsiva"/>
              </a:rPr>
              <a:t>Свобода сл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 из основных личных прав человека и политических прав граждан, составная часть свободы информации. Представляет собой возможность публично (устно, письменно, с использованием средств массовой информации) выражать свое мнение (мысли)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ольшой юридический словарь 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 ред. А.Я. Сухарева, В.Е. Крутс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М., 200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1164011195_svobodu_SMI_stat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562720" y="4038480"/>
            <a:ext cx="2209680" cy="1644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Копия Деньг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istral"/>
              </a:rPr>
              <a:t>Насилие и навязывание принципов на телевидении и в реклам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lavki2"/>
          <p:cNvPicPr/>
          <p:nvPr/>
        </p:nvPicPr>
        <p:blipFill>
          <a:blip r:embed="rId2"/>
          <a:stretch/>
        </p:blipFill>
        <p:spPr>
          <a:xfrm>
            <a:off x="0" y="2057400"/>
            <a:ext cx="2400480" cy="1803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66697138"/>
          <p:cNvPicPr/>
          <p:nvPr/>
        </p:nvPicPr>
        <p:blipFill>
          <a:blip r:embed="rId3"/>
          <a:stretch/>
        </p:blipFill>
        <p:spPr>
          <a:xfrm>
            <a:off x="0" y="5141880"/>
            <a:ext cx="2792520" cy="1716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1144049636_smirnoff"/>
          <p:cNvPicPr/>
          <p:nvPr/>
        </p:nvPicPr>
        <p:blipFill>
          <a:blip r:embed="rId4"/>
          <a:stretch/>
        </p:blipFill>
        <p:spPr>
          <a:xfrm>
            <a:off x="0" y="3276720"/>
            <a:ext cx="2170080" cy="1430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pgroup18"/>
          <p:cNvPicPr/>
          <p:nvPr/>
        </p:nvPicPr>
        <p:blipFill>
          <a:blip r:embed="rId5"/>
          <a:stretch/>
        </p:blipFill>
        <p:spPr>
          <a:xfrm>
            <a:off x="6477120" y="3048120"/>
            <a:ext cx="2222280" cy="1663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34321"/>
          <p:cNvPicPr/>
          <p:nvPr/>
        </p:nvPicPr>
        <p:blipFill>
          <a:blip r:embed="rId6"/>
          <a:stretch/>
        </p:blipFill>
        <p:spPr>
          <a:xfrm>
            <a:off x="6553080" y="48006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9070"/>
          <p:cNvPicPr/>
          <p:nvPr/>
        </p:nvPicPr>
        <p:blipFill>
          <a:blip r:embed="rId7"/>
          <a:stretch/>
        </p:blipFill>
        <p:spPr>
          <a:xfrm>
            <a:off x="5562720" y="4724280"/>
            <a:ext cx="979200" cy="135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A101-20697"/>
          <p:cNvPicPr/>
          <p:nvPr/>
        </p:nvPicPr>
        <p:blipFill>
          <a:blip r:embed="rId8"/>
          <a:stretch/>
        </p:blipFill>
        <p:spPr>
          <a:xfrm>
            <a:off x="4724280" y="3124080"/>
            <a:ext cx="1428840" cy="2095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f6766a497a13e33a52be75cb5f3c7387"/>
          <p:cNvPicPr/>
          <p:nvPr/>
        </p:nvPicPr>
        <p:blipFill>
          <a:blip r:embed="rId9"/>
          <a:stretch/>
        </p:blipFill>
        <p:spPr>
          <a:xfrm>
            <a:off x="7629480" y="1523880"/>
            <a:ext cx="1514520" cy="1922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01"/>
          <p:cNvPicPr/>
          <p:nvPr/>
        </p:nvPicPr>
        <p:blipFill>
          <a:blip r:embed="rId10"/>
          <a:stretch/>
        </p:blipFill>
        <p:spPr>
          <a:xfrm>
            <a:off x="2209680" y="1828800"/>
            <a:ext cx="4572000" cy="3905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toilet1"/>
          <p:cNvPicPr/>
          <p:nvPr/>
        </p:nvPicPr>
        <p:blipFill>
          <a:blip r:embed="rId11"/>
          <a:stretch/>
        </p:blipFill>
        <p:spPr>
          <a:xfrm>
            <a:off x="7686720" y="4648320"/>
            <a:ext cx="1457280" cy="1836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snickers"/>
          <p:cNvPicPr/>
          <p:nvPr/>
        </p:nvPicPr>
        <p:blipFill>
          <a:blip r:embed="rId12"/>
          <a:stretch/>
        </p:blipFill>
        <p:spPr>
          <a:xfrm>
            <a:off x="6324480" y="5827680"/>
            <a:ext cx="1397160" cy="1030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showpix"/>
          <p:cNvPicPr/>
          <p:nvPr/>
        </p:nvPicPr>
        <p:blipFill>
          <a:blip r:embed="rId13"/>
          <a:stretch/>
        </p:blipFill>
        <p:spPr>
          <a:xfrm>
            <a:off x="2743200" y="5807160"/>
            <a:ext cx="2098800" cy="1050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84080"/>
          <p:cNvPicPr/>
          <p:nvPr/>
        </p:nvPicPr>
        <p:blipFill>
          <a:blip r:embed="rId14"/>
          <a:stretch/>
        </p:blipFill>
        <p:spPr>
          <a:xfrm>
            <a:off x="4572000" y="5562720"/>
            <a:ext cx="1428840" cy="1095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8" descr="baran_3"/>
          <p:cNvPicPr/>
          <p:nvPr/>
        </p:nvPicPr>
        <p:blipFill>
          <a:blip r:embed="rId15"/>
          <a:stretch/>
        </p:blipFill>
        <p:spPr>
          <a:xfrm>
            <a:off x="6400800" y="1752480"/>
            <a:ext cx="1352520" cy="1695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9" descr="advertisment_will-1148042600_i_1034_full"/>
          <p:cNvPicPr/>
          <p:nvPr/>
        </p:nvPicPr>
        <p:blipFill>
          <a:blip r:embed="rId16"/>
          <a:stretch/>
        </p:blipFill>
        <p:spPr>
          <a:xfrm>
            <a:off x="0" y="4419720"/>
            <a:ext cx="2212920" cy="110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0" descr="Coke-vs-Pepsi"/>
          <p:cNvPicPr/>
          <p:nvPr/>
        </p:nvPicPr>
        <p:blipFill>
          <a:blip r:embed="rId17"/>
          <a:stretch/>
        </p:blipFill>
        <p:spPr>
          <a:xfrm>
            <a:off x="7701120" y="1523880"/>
            <a:ext cx="1442880" cy="1082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1" descr="27-10-2b"/>
          <p:cNvPicPr/>
          <p:nvPr/>
        </p:nvPicPr>
        <p:blipFill>
          <a:blip r:embed="rId18"/>
          <a:stretch/>
        </p:blipFill>
        <p:spPr>
          <a:xfrm>
            <a:off x="7615080" y="3352680"/>
            <a:ext cx="1528920" cy="2079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bbc720194b33c89c3a757a59fa099244"/>
          <p:cNvPicPr/>
          <p:nvPr/>
        </p:nvPicPr>
        <p:blipFill>
          <a:blip r:embed="rId19"/>
          <a:stretch/>
        </p:blipFill>
        <p:spPr>
          <a:xfrm>
            <a:off x="2057400" y="5410080"/>
            <a:ext cx="129528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brilliantovui_doc-1143534435_i_9651_full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телевещания и де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последние 40 лет в мире было проведено более 1000 исследований, посвященных  влиянию   телевидения  и кинематографа на  детей. Результаты их практически идентичны: агрессия на экране делает детей более агрессивными по отношению к людям, животным и к неодушевленным предметам. Американская Академия Педиатрии\American Academy of Pediatrics опубликовала четыре фундаментальных вывода из этих исследов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и, которые смотрят много передач, содержащих сцены насилия, воспринимают насилие, как легитимный способ разрешения конфли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мотр сцен насилия делает человека более беззащитным к насилию в реальной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ем больше ребенок видит сцен насилия на экране, тем больше шансов, что он станет жертвой насил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бенок отдает предпочтение просмотру телепрограмм, содержащих сцены насилия, существует значительно большая вероятность, что он вырастет агрессивным человеком и даже может совершить преступление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сли  некое   лицо,   обладающее   определенной   информацией,  желает (согласно)  передать  эту информацию  другому лицу, которое, в свою очередь, желает  получения (согласно на получение)   этой  информации, то  в  таком (и только в таком) случае данный информационный обмен должен состояться вне  зависимости от желаний, волеизъявления и интересов третьих лиц, в том числе государ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Свобода слова в зарубежных страна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74600" y="38858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Locke08"/>
          <p:cNvPicPr/>
          <p:nvPr/>
        </p:nvPicPr>
        <p:blipFill>
          <a:blip r:embed="rId2"/>
          <a:stretch/>
        </p:blipFill>
        <p:spPr>
          <a:xfrm>
            <a:off x="228600" y="1523880"/>
            <a:ext cx="1905120" cy="2295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80px-John_Milton_-_Project_Gutenberg_eText_13619"/>
          <p:cNvPicPr/>
          <p:nvPr/>
        </p:nvPicPr>
        <p:blipFill>
          <a:blip r:embed="rId3"/>
          <a:stretch/>
        </p:blipFill>
        <p:spPr>
          <a:xfrm>
            <a:off x="6934320" y="1676520"/>
            <a:ext cx="1647720" cy="2205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6629400" y="3886200"/>
            <a:ext cx="251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Мильтон (John Milt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285876867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90920" y="2895480"/>
            <a:ext cx="3936960" cy="26686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453F480F48C06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Законодательство периода буржуазных революций и становления буржуазных государ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971800"/>
            <a:ext cx="87631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иция о правах 1628 г. и “Билль о правах” 1689 г. (Англия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, Декларация независимости США 1776 г., “Билле о правах” 1791 г. (СШ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Копия barcelonarevnyt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дольф О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ll the News That's Fit to Print"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публикации скандальных или непроверенных новостей ради создания сенс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аз от сомнительных методов добывания информации, от чрезмерно драматизированных иллюстраций и фотографий, от сюжетов, ориентированных на низкие вкусы, от вмешательства в частную жизнь, от низкопробной рекламы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ндарты, предложенные и исповедуемы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, отделяли "качественные" издания от изданий "желтой" прессы, которая в погоне за высокими тиражами не ставила себе никаких моральных ограничений. Результаты редакционной политики Окса привели к тому, что стиль "качественной" журналисти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The New York Times"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был принят влиятельными интеллектуальными и издательскими кругами США, а чтение этой газеты стало признаком респектабельност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783560" y="0"/>
            <a:ext cx="1360440" cy="10191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secret1"/>
          <p:cNvPicPr/>
          <p:nvPr/>
        </p:nvPicPr>
        <p:blipFill>
          <a:blip r:embed="rId2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История цензуры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3" action="ppaction://hlinksldjump"/>
              </a:rPr>
              <a:t>16 сен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каз об ограничении свободы книгопечатания и ввоза иностранных книг, об упразднении частных типограф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4" action="ppaction://hlinksldjump"/>
              </a:rPr>
              <a:t>22 октября 1796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учреждение первого цензурного комит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5" action="ppaction://hlinksldjump"/>
              </a:rPr>
              <a:t> 9 июня 1804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первы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6" action="ppaction://hlinksldjump"/>
              </a:rPr>
              <a:t>1826 год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 созда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тделения высшей полиции, второй цензурный у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7" action="ppaction://hlinksldjump"/>
              </a:rPr>
              <a:t>22 апреля 1828 го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овый цензурный устав, более компактный и жёст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ила о печати, введённые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Times New Roman"/>
                <a:hlinkClick r:id="rId8" action="ppaction://hlinksldjump"/>
              </a:rPr>
              <a:t>Александром </a:t>
            </a:r>
            <a:r>
              <a:rPr b="0" lang="en-US" sz="2400" spc="-1" strike="noStrike" u="sng">
                <a:solidFill>
                  <a:srgbClr val="990000"/>
                </a:solidFill>
                <a:uFillTx/>
                <a:latin typeface="Times New Roman"/>
                <a:hlinkClick r:id="rId9" action="ppaction://hlinksldjump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453F480F48C06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6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Екатерина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 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762-179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екат"/>
          <p:cNvPicPr/>
          <p:nvPr/>
        </p:nvPicPr>
        <p:blipFill>
          <a:blip r:embed="rId2"/>
          <a:stretch/>
        </p:blipFill>
        <p:spPr>
          <a:xfrm>
            <a:off x="2971800" y="1905120"/>
            <a:ext cx="3141720" cy="439884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01-182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imgB"/>
          <p:cNvPicPr/>
          <p:nvPr/>
        </p:nvPicPr>
        <p:blipFill>
          <a:blip r:embed="rId2"/>
          <a:stretch/>
        </p:blipFill>
        <p:spPr>
          <a:xfrm>
            <a:off x="3429000" y="1981080"/>
            <a:ext cx="2565360" cy="369252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9" descr="pressfreedom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одерж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В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 свободы слова в системе гражданских и политических пра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1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Гражданские и политические пра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4" action="ppaction://hlinksldjump"/>
              </a:rPr>
              <a:t>Категория своб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3 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5" action="ppaction://hlinksldjump"/>
              </a:rPr>
              <a:t>Свобода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стория возникновения и развития свободы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6" action="ppaction://hlinksldjump"/>
              </a:rPr>
              <a:t>Свобода слова в зарубежных стран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7" action="ppaction://hlinksldjump"/>
              </a:rPr>
              <a:t>Свобода слова 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0" lang="ru-RU" sz="2400" spc="-1" strike="noStrike" u="sng">
                <a:solidFill>
                  <a:srgbClr val="990000"/>
                </a:solidFill>
                <a:uFillTx/>
                <a:latin typeface="Arial"/>
                <a:hlinkClick r:id="rId8" action="ppaction://hlinksldjump"/>
              </a:rPr>
              <a:t>Современное положение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Николай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25-185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m0006"/>
          <p:cNvPicPr/>
          <p:nvPr/>
        </p:nvPicPr>
        <p:blipFill>
          <a:blip r:embed="rId2"/>
          <a:stretch/>
        </p:blipFill>
        <p:spPr>
          <a:xfrm>
            <a:off x="3124080" y="1981080"/>
            <a:ext cx="2971800" cy="373392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5" descr="Копия smal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ександр 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I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(1855-188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fk2"/>
          <p:cNvPicPr/>
          <p:nvPr/>
        </p:nvPicPr>
        <p:blipFill>
          <a:blip r:embed="rId2"/>
          <a:stretch/>
        </p:blipFill>
        <p:spPr>
          <a:xfrm>
            <a:off x="3429000" y="1905120"/>
            <a:ext cx="2570040" cy="359892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свсл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533160" y="4572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В России свобода слова и убеждений гарантиру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еобщей Декларацией прав человека, статья 19 (10 декабря 1948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вропейской Конвенцией о защите прав человека и основных свобод, статья 10 (4 ноября 1950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ждународным Пактом о гражданских и политических правах, статья 19 (19 декабря 1966 го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акультативным протоколом к международному Пакту о гражданских и политических прав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венцией о международном праве опровер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кларацией о свободе выражения мнений и информ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ституцией Российской Федерации, статья 2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 средствах массовой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м законом "Об информации, информатизации и защите информации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8" descr="453F480F48C06"/>
          <p:cNvPicPr/>
          <p:nvPr/>
        </p:nvPicPr>
        <p:blipFill>
          <a:blip r:embed="rId2"/>
          <a:stretch/>
        </p:blipFill>
        <p:spPr>
          <a:xfrm>
            <a:off x="7862760" y="0"/>
            <a:ext cx="1281240" cy="9604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A117875"/>
          <p:cNvPicPr/>
          <p:nvPr/>
        </p:nvPicPr>
        <p:blipFill>
          <a:blip r:embed="rId2"/>
          <a:stretch/>
        </p:blipFill>
        <p:spPr>
          <a:xfrm>
            <a:off x="1676520" y="1371600"/>
            <a:ext cx="5786280" cy="452592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 СЛО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2059200" y="2833560"/>
            <a:ext cx="502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убить, словом можно сп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ловом можно полки за собой повести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адим Шефнер, «Слов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2971800" y="19810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1143000" y="38098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Э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629400" y="3809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МОР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36576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ЦЕНЗ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400" spc="-1" strike="noStrike">
                <a:solidFill>
                  <a:srgbClr val="000000"/>
                </a:solidFill>
                <a:latin typeface="Mistral"/>
              </a:rPr>
              <a:t>Используемые источники и литератур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Текст Всеобщей декларации прав человека // Действующее международное право. Т. 2. М., 1996. С. 5—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Европейская Конвенция о защите прав человека и основных свобод. СПб.,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Конституция Российской Федерации. М. 199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 Федеральный закон “О средствах массовой информации”  от  27  декабря  1991 года за N 2124–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Федеральный закон “Об информации, информатизации и защите информации ” от 20 февраля 1995 года за N 24–Ф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453F480F48C06"/>
          <p:cNvPicPr/>
          <p:nvPr/>
        </p:nvPicPr>
        <p:blipFill>
          <a:blip r:embed="rId2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19720" y="1294920"/>
            <a:ext cx="3962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 Мирошникова В.А. Комментарии к Конституции Российской Федерации. – М.: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 Конституция Российской Федерации. Научно-практический комментарий. М.,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 Конституция Российской Федерации. Проблемный комментарий. М.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7. Международные акты о правах человека: Сб. документов / Составители и авторы вступительной статьи В.А.Карташкин и Е.А.Лукашева. М.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ексеев С.С. Философия прав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рдяев Н.А. Философия свободы. М.2005 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ой юридический словарь / Под ред. А.Я. Сухарева, В.Е. Крутских.-М.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урлацкий Ф.М. Проблема прав человека в СССР и России. (1970-80-е и начало 90-х годов). – М.: Научная книга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убаева Т.В. Словесность в юриспруденции. Казань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рков Г.В. История цензуры в России XIX-XX вв. «Аспект-Пресс»,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льин И.А. О сущности правосознания. – М., 199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: Учебник для вузов. Под об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дакцией члена-корреспондента РАН В.С. Нерсесянца. М., 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их и правовых учений. Учебник. Под ред. О.Э. Лейста. –М.: Юридическая литература, 199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окк Д . Избранные философские произведения. Т.2. М., 196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ое публичное право: Учебник / Под ред. К.А.Бекяшева. М.,199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нтескье Ш. О духе законов //Избранные произведения. М., 195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рсесянц В.С. Права человека в истории политической и правовой мыс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 в истории человечества и в современном мире. М., 198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теория прав человека. Под ред. Лукашевой Е.А. – М.: Норма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: история, теория, практика. М., 19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ава человека. Учебник для вузов / Под ред. Е.А. Лукашевой. М.:“Норма-Инфра-М” 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8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оляров А. Информационное общество будущего и современность. М.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9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тяшев М.М. Курс лекций по истории политических и правовых учений.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фа: Полиграфкомбинат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илософия свободы. Харьков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1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рбер И.Е. Свобода и права человека в Советском государстве. Саратов, 197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2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бзеев Б.С. Конституция. Демократия. Права человека. М., 199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нтернет-ресурсы: 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овет при Президенте Российской Федерации по содействию развитию институтов гражданского общества и правам человека: http://www.sovetpamfilova.ru/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(1789): http://www.hro.org/docs/ilex/6/6_5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Билль о правах (1789): http://mn-gazeta.ru/vsp/bill_rus.htm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Права человека в России: http://www.hro.org/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Статья о влиянии телевидения на детей и подростков: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www.psywork.ru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  рабо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ассмотреть историю права на свободу слова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дач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ть имеющиеся в литературе данные и представления по вопросу свободы слова, а также ее место в системе гражданских и политических прав;  определить понятие «свободы», «цензуры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историческое развитие свободы слова и цензуры в России и других стран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Копия 52n-14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Mistral"/>
              </a:rPr>
              <a:t>Гражданские и политические прав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6934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Граждан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 те права и свободы, которые принадлежат человеку как члену гражданского общества; основы конституционно-правового статуса гражданина государства, определяющие возможности его участия в политической, социальной и культурной жизни общества. Это право на жизнь, свобода от пыток и любых иных форм насилия, право на свободу и личную неприкосновенность и т.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</a:rPr>
              <a:t>Политические прав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это, как правило, права и свободы граждан только данного государства. Эти права связаны с участием в политической жизни государства, в управлении государственными де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2" action="ppaction://hlinksldjump"/>
              </a:rPr>
              <a:t>Свобода слова</a:t>
            </a:r>
            <a:r>
              <a:rPr b="0" lang="ru-RU" sz="2000" spc="-1" strike="noStrike" u="sng">
                <a:solidFill>
                  <a:srgbClr val="990000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носится как к гражданским, так и к политическим прав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453F480F48C06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Важнейшие докумен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abeas Corpus Act (закон о неприкосновенности личности) 1679г. (Англ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о правах Вирджинии 1776 г.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кларация прав человека и гражданина 1789 г (Фран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илле о правах” 1791 г (СШ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. Принята Генеральной Ассамблеей ООН 10 декабря 194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вропейская Конвенция о защите прав человека. 4 ноября 1950г, Р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logo"/>
          <p:cNvPicPr/>
          <p:nvPr/>
        </p:nvPicPr>
        <p:blipFill>
          <a:blip r:embed="rId2"/>
          <a:stretch/>
        </p:blipFill>
        <p:spPr>
          <a:xfrm>
            <a:off x="3505320" y="5029200"/>
            <a:ext cx="1882800" cy="1593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34360" y="5575320"/>
            <a:ext cx="1709640" cy="12826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Идея «естественных прав»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6248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является высшей социальной ценностью, он от природы обладает неотъемлемыми правами на жизнь, на свободу и др., которые не могут быть никем отня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эпохи Просвещения стала рассматривать отклонение человека от общепринятой нормы не как ущербность, а как проявление его личности, развитие которой идет на пользу не только самому индивиду, но и общест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Locke08"/>
          <p:cNvPicPr/>
          <p:nvPr/>
        </p:nvPicPr>
        <p:blipFill>
          <a:blip r:embed="rId2"/>
          <a:stretch/>
        </p:blipFill>
        <p:spPr>
          <a:xfrm>
            <a:off x="6934320" y="1752480"/>
            <a:ext cx="1904760" cy="22957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6727680" y="4114440"/>
            <a:ext cx="226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жон Лок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(John Locke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1" descr="453F480F48C0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1520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ачп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91240" y="5619600"/>
            <a:ext cx="1652760" cy="1238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Теория общественного догово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189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 продукт сознательного творчества, результат договора, в который вступают люди, находившиеся до этого в «естественном», первобытном состоя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сударство - рациональное объединение людей на основе соглашения между ними, в силу которого они передают часть своей свободы, своей власти государству. . В итоге у правителей и общества возникает комплекс взаимных прав и обязанностей и соответственно — ответственность за невыполнение послед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говорная теория была крупным шагом вперед познания государства, так как порывала с религиозными представлениями о происхождении государственности и политической власти. Эта концепция имеет и глубокое демократическое содержание, обосновывая естественное право народа на свержение власти негодного правителя, вплоть до восст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card-421"/>
          <p:cNvPicPr/>
          <p:nvPr/>
        </p:nvPicPr>
        <p:blipFill>
          <a:blip r:embed="rId4"/>
          <a:stretch/>
        </p:blipFill>
        <p:spPr>
          <a:xfrm>
            <a:off x="6858000" y="1295280"/>
            <a:ext cx="2058840" cy="13320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Копия img00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istral"/>
              </a:rPr>
              <a:t>СВОБ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Ш.Монтескье: «Свобода состоит не в том, чтобы делать то, что хочется, а в том, чтобы иметь возможность делать то, что должно хотеть, и не быть принуждённым делать то, что не хочеш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-Ж.Руссо: «Свобода есть подчинение закону, самим себе данном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Кант: «Свобода есть подчинение закону, который личность сама на себя возложил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453F480F48C0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51840" y="5440320"/>
            <a:ext cx="1892160" cy="14176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Копия x_ec8b8bd0a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8686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пере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ероиспове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выб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вобода сл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1152002636_ontheroad"/>
          <p:cNvPicPr/>
          <p:nvPr/>
        </p:nvPicPr>
        <p:blipFill>
          <a:blip r:embed="rId2"/>
          <a:stretch/>
        </p:blipFill>
        <p:spPr>
          <a:xfrm>
            <a:off x="4419720" y="0"/>
            <a:ext cx="2666880" cy="1752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interfaithBest"/>
          <p:cNvPicPr/>
          <p:nvPr/>
        </p:nvPicPr>
        <p:blipFill>
          <a:blip r:embed="rId3"/>
          <a:stretch/>
        </p:blipFill>
        <p:spPr>
          <a:xfrm>
            <a:off x="6232680" y="1600200"/>
            <a:ext cx="2911320" cy="292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1-duncan_2%5B1%5D"/>
          <p:cNvPicPr/>
          <p:nvPr/>
        </p:nvPicPr>
        <p:blipFill>
          <a:blip r:embed="rId4"/>
          <a:stretch/>
        </p:blipFill>
        <p:spPr>
          <a:xfrm>
            <a:off x="4191120" y="2057400"/>
            <a:ext cx="1774800" cy="201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picture55555555614"/>
          <p:cNvPicPr/>
          <p:nvPr/>
        </p:nvPicPr>
        <p:blipFill>
          <a:blip r:embed="rId5"/>
          <a:stretch/>
        </p:blipFill>
        <p:spPr>
          <a:xfrm>
            <a:off x="3124080" y="4114800"/>
            <a:ext cx="1849680" cy="1392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pasport_2"/>
          <p:cNvPicPr/>
          <p:nvPr/>
        </p:nvPicPr>
        <p:blipFill>
          <a:blip r:embed="rId6"/>
          <a:stretch/>
        </p:blipFill>
        <p:spPr>
          <a:xfrm>
            <a:off x="7238880" y="5335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7"/>
          <p:cNvPicPr/>
          <p:nvPr/>
        </p:nvPicPr>
        <p:blipFill>
          <a:blip r:embed="rId7"/>
          <a:stretch/>
        </p:blipFill>
        <p:spPr>
          <a:xfrm>
            <a:off x="5029200" y="4191120"/>
            <a:ext cx="1306440" cy="1306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6565"/>
          <p:cNvPicPr/>
          <p:nvPr/>
        </p:nvPicPr>
        <p:blipFill>
          <a:blip r:embed="rId8"/>
          <a:stretch/>
        </p:blipFill>
        <p:spPr>
          <a:xfrm>
            <a:off x="7924680" y="5181480"/>
            <a:ext cx="911520" cy="131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765953B_big"/>
          <p:cNvPicPr/>
          <p:nvPr/>
        </p:nvPicPr>
        <p:blipFill>
          <a:blip r:embed="rId9"/>
          <a:stretch/>
        </p:blipFill>
        <p:spPr>
          <a:xfrm>
            <a:off x="7086600" y="472428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freeword2"/>
          <p:cNvPicPr/>
          <p:nvPr/>
        </p:nvPicPr>
        <p:blipFill>
          <a:blip r:embed="rId10"/>
          <a:stretch/>
        </p:blipFill>
        <p:spPr>
          <a:xfrm>
            <a:off x="5105520" y="5638680"/>
            <a:ext cx="1712880" cy="10512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4:44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