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D55F-A473-4238-A574-4DE7D76B686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 обязанности и ответственность несовершеннолетн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5D75-C068-4912-BA47-E2EFED9ED56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териальная 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F675-E25D-4F5E-ACDF-2DC30B41FA3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то такие д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74AB-4AFB-4F9F-945A-CD35A653125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права у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Ребенок имеет пра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ить и воспитываться в сем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нать, кто является его родител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роживание совместно с ними (кроме случаев, когда это противоречит его интересам) и на заботу с их стор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сестороннее развит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уважение человеческого достоин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бщение с родителями, бабушкой, дедушкой, братьями, сестрами и иными родственни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защит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 выражение собственного м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фамилии, имени, отче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средств на существование и на собственные</a:t>
            </a:r>
            <a:r>
              <a:rPr b="0" lang="ru-RU" sz="1200" spc="-1" strike="noStrike">
                <a:solidFill>
                  <a:srgbClr val="000000"/>
                </a:solidFill>
                <a:latin typeface="Calibri"/>
              </a:rPr>
              <a:t> дох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0F0C-C848-43FB-B392-D5866E95E47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ило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1</a:t>
            </a:r>
            <a:r>
              <a:rPr b="0" lang="ru-RU" sz="1200" spc="-1" strike="noStrike">
                <a:solidFill>
                  <a:srgbClr val="000000"/>
                </a:solidFill>
                <a:latin typeface="Calibri"/>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2</a:t>
            </a:r>
            <a:r>
              <a:rPr b="0" lang="ru-RU" sz="1200" spc="-1" strike="noStrike">
                <a:solidFill>
                  <a:srgbClr val="000000"/>
                </a:solidFill>
                <a:latin typeface="Calibri"/>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3</a:t>
            </a:r>
            <a:r>
              <a:rPr b="0" lang="ru-RU" sz="1200" spc="-1" strike="noStrike">
                <a:solidFill>
                  <a:srgbClr val="000000"/>
                </a:solidFill>
                <a:latin typeface="Calibri"/>
              </a:rPr>
              <a:t>. Каждый имеет столько прав, сколько он может и хочет им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4</a:t>
            </a:r>
            <a:r>
              <a:rPr b="0" lang="ru-RU" sz="1200" spc="-1" strike="noStrike">
                <a:solidFill>
                  <a:srgbClr val="000000"/>
                </a:solidFill>
                <a:latin typeface="Calibri"/>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06A4-81E8-44C3-B281-BAB90DF9AC7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язанности несовершеннолетних</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Каждый несовершеннолетний обязан получить основное общее образование. Эта обязанность сохраняет силу до достижения 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5 лет (ст. 19 Закона РФ»Об образова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2E17-2EF1-457E-94A0-8C3C0F24408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при определенных условиях несу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у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у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иную ответств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E5EA-A354-43AD-AFBD-FFEBCC54B52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ая ответств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6355-E861-4BC0-9BDE-D98A3CAB38A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дминистративная ответственность</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наказание за действия, запрещенные Административным кодекс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вершившим в возрасте от 16 до 18 лет такие правонарушения, ка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обретение, хранение и потребление наркотических средств и психотропных веще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естокое обращение с животны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вреждение транспортных средств общего поль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групповые передвижения с помехами для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вреждение телефонов – автом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спитие спиртных напитков и появление в нетрезвом виде в общественных мест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меняются меры, предусмотренные Положением о комиссиях по делам несовершеннолет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лицам, совершившим такие виды административных правонарушений, ка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елкое хулиган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равил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орядка обращения с оруж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авил пограничного режима и д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9925-7251-4625-85E0-CE192249654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е наказ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к подросткам административный арест применяться не может (ст.24 -32 КАП).</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EA81-4791-41F5-9C89-63897172028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3AE0C-6544-4513-BC65-89B89FD44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30924-D8F9-4E0C-A237-7F04BF3DB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A1CDA-4764-4D39-9028-54C999C6E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83C67-7756-4FE2-B332-23DE54322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48BDED-D62F-4E8E-9F8F-47433B2E4D8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911244-7980-454F-A129-C905EFC149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110A3A-98C6-4338-8AF5-A3C99D8C78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23515-38F7-4C41-A110-B76AA87D2D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0FD30-5232-4F54-BA28-3404E7F832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352006-7CAD-4376-989D-5CFDE459D7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C6D8D-603F-4FA0-B919-353D34375A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FA541-8785-4884-9EAC-AE8FE2325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0E5CE-0555-41F9-9E42-4AEBC109FF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31A7B-5300-40D0-B528-91F5305FD0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F3B8A-3942-482A-9DEE-69B432ECC2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8511DE-5427-42B1-A0A2-7EC02FD3D7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0D7D15-B424-4C45-B2B5-128307FF226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DAB1D-7C10-4982-AFC5-572333AC5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33879-98BE-453A-A536-699FD028B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112DD-165E-4C2E-88B2-8AB578FA0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D05FA-C50F-445B-B0D8-26678D4F9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F553A-320F-421F-A78B-82B7467EC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5346E-CA8F-4C9D-9A8C-8891F8A36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8743E-1699-4F56-B1E1-B89A98934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7E49-445B-453D-920D-FA9A685B62E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8DBC-9866-4442-B2FB-B7F94051BB11}"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560"/>
            <a:ext cx="7772400" cy="2800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Права, обязанности и ответственность несовершеннолетних.</a:t>
            </a:r>
            <a:endParaRPr b="0" lang="en-US" sz="4400" spc="-1" strike="noStrike">
              <a:solidFill>
                <a:srgbClr val="ffffff"/>
              </a:solidFill>
              <a:latin typeface="Tahoma"/>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атериальная ответственность несовершеннолетних</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Кто такие дети?</a:t>
            </a:r>
            <a:endParaRPr b="0" lang="en-US" sz="4400" spc="-1" strike="noStrike">
              <a:solidFill>
                <a:srgbClr val="ffffff"/>
              </a:solidFill>
              <a:latin typeface="Tahoma"/>
            </a:endParaRPr>
          </a:p>
        </p:txBody>
      </p:sp>
      <p:sp>
        <p:nvSpPr>
          <p:cNvPr id="93" name=""/>
          <p:cNvSpPr txBox="1"/>
          <p:nvPr/>
        </p:nvSpPr>
        <p:spPr>
          <a:xfrm>
            <a:off x="324000" y="1557000"/>
            <a:ext cx="8424720" cy="428148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20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repl">
                                        <p:cTn id="13"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акие права у ребенка.</a:t>
            </a:r>
            <a:endParaRPr b="0" lang="en-US" sz="4400" spc="-1" strike="noStrike">
              <a:solidFill>
                <a:srgbClr val="ffffff"/>
              </a:solidFill>
              <a:latin typeface="Tahoma"/>
            </a:endParaRPr>
          </a:p>
        </p:txBody>
      </p:sp>
      <p:sp>
        <p:nvSpPr>
          <p:cNvPr id="96"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Ребенок имеет право:</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жить и воспитываться в семье;</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знать, кто является его родителя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роживание совместно с ними (кроме случаев, когда это противоречит его интересам) и на заботу с их стороны;</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сестороннее развити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уважение человеческого достоинства;</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общение с родителями, бабушкой, дедушкой, братьями, сестрами и иными родственника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защиту;</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а выражение собственного мнения;</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фамилии, имени, отчеств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средств на существование и на собственные</a:t>
            </a:r>
            <a:r>
              <a:rPr b="0" lang="ru-RU" sz="1800" spc="-1" strike="noStrike">
                <a:solidFill>
                  <a:srgbClr val="ffffff"/>
                </a:solidFill>
                <a:latin typeface="Tahoma"/>
              </a:rPr>
              <a:t> доходы;</a:t>
            </a:r>
            <a:endParaRPr b="0" lang="en-US" sz="1800" spc="-1" strike="noStrike">
              <a:solidFill>
                <a:srgbClr val="ffffff"/>
              </a:solidFill>
              <a:latin typeface="Tahoma"/>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равило </a:t>
            </a:r>
            <a:endParaRPr b="0" lang="en-US" sz="4000" spc="-1" strike="noStrike">
              <a:solidFill>
                <a:srgbClr val="ffffff"/>
              </a:solidFill>
              <a:latin typeface="Tahoma"/>
            </a:endParaRPr>
          </a:p>
        </p:txBody>
      </p:sp>
      <p:sp>
        <p:nvSpPr>
          <p:cNvPr id="99" name="PlaceHolder 2"/>
          <p:cNvSpPr>
            <a:spLocks noGrp="1"/>
          </p:cNvSpPr>
          <p:nvPr>
            <p:ph/>
          </p:nvPr>
        </p:nvSpPr>
        <p:spPr>
          <a:xfrm>
            <a:off x="457200" y="1125000"/>
            <a:ext cx="8229600" cy="5000760"/>
          </a:xfrm>
          <a:prstGeom prst="rect">
            <a:avLst/>
          </a:prstGeom>
          <a:noFill/>
          <a:ln w="0">
            <a:noFill/>
          </a:ln>
        </p:spPr>
        <p:txBody>
          <a:bodyPr anchor="t">
            <a:normAutofit fontScale="96000"/>
          </a:bodyPr>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1</a:t>
            </a:r>
            <a:r>
              <a:rPr b="0" lang="ru-RU" sz="2000" spc="-1" strike="noStrike">
                <a:solidFill>
                  <a:srgbClr val="ffffff"/>
                </a:solidFill>
                <a:latin typeface="Tahoma"/>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2</a:t>
            </a:r>
            <a:r>
              <a:rPr b="0" lang="ru-RU" sz="2000" spc="-1" strike="noStrike">
                <a:solidFill>
                  <a:srgbClr val="ffffff"/>
                </a:solidFill>
                <a:latin typeface="Tahoma"/>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3</a:t>
            </a:r>
            <a:r>
              <a:rPr b="0" lang="ru-RU" sz="2000" spc="-1" strike="noStrike">
                <a:solidFill>
                  <a:srgbClr val="ffffff"/>
                </a:solidFill>
                <a:latin typeface="Tahoma"/>
              </a:rPr>
              <a:t>. Каждый имеет столько прав, сколько он может и хочет иметь.</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4</a:t>
            </a:r>
            <a:r>
              <a:rPr b="0" lang="ru-RU" sz="2000" spc="-1" strike="noStrike">
                <a:solidFill>
                  <a:srgbClr val="ffffff"/>
                </a:solidFill>
                <a:latin typeface="Tahoma"/>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2000" spc="-1" strike="noStrike">
              <a:solidFill>
                <a:srgbClr val="ffffff"/>
              </a:solidFill>
              <a:latin typeface="Tahoma"/>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0640" y="330120"/>
            <a:ext cx="7927920" cy="103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бязанности несовершеннолетних</a:t>
            </a:r>
            <a:endParaRPr b="0" lang="en-US" sz="4000" spc="-1" strike="noStrike">
              <a:solidFill>
                <a:srgbClr val="ffffff"/>
              </a:solidFill>
              <a:latin typeface="Tahoma"/>
            </a:endParaRPr>
          </a:p>
        </p:txBody>
      </p:sp>
      <p:sp>
        <p:nvSpPr>
          <p:cNvPr id="10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Каждый несовершеннолетний обязан получить основное общее образование. Эта обязанность сохраняет силу до достижения и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15 лет (ст. 19 Закона РФ»Об образован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600" spc="-1" strike="noStrike">
              <a:solidFill>
                <a:srgbClr val="ffffff"/>
              </a:solidFill>
              <a:latin typeface="Tahoma"/>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тветственность несовершеннолетних</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при определенных условиях несут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головную,</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дминистративную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 иную ответственность.</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Уголовная ответственность</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Административная ответственность</a:t>
            </a:r>
            <a:endParaRPr b="0" lang="en-US" sz="4000" spc="-1" strike="noStrike">
              <a:solidFill>
                <a:srgbClr val="ffffff"/>
              </a:solidFill>
              <a:latin typeface="Tahoma"/>
            </a:endParaRPr>
          </a:p>
        </p:txBody>
      </p:sp>
      <p:sp>
        <p:nvSpPr>
          <p:cNvPr id="111"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то наказание за действия, запрещенные Административным кодексо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совершившим в возрасте от 16 до 18 лет такие правонарушения, как</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обретение, хранение и потребление наркотических средств и психотропных вещест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жестокое обращение с животными,</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реждение транспортных средств общего пользова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групповые передвижения с помехами для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вреждение телефонов – автомато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распитие спиртных напитков и появление в нетрезвом виде в общественных места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меняются меры, предусмотренные Положением о комиссиях по делам несовершеннолетни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лицам, совершившим такие виды административных правонарушений, как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мелкое хулиганство,</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равил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орядка обращения с оружие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равил пограничного режима и др.</a:t>
            </a:r>
            <a:endParaRPr b="0" lang="en-US" sz="1600" spc="-1" strike="noStrike">
              <a:solidFill>
                <a:srgbClr val="ffffff"/>
              </a:solidFill>
              <a:latin typeface="Tahoma"/>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дминистративные наказания</a:t>
            </a:r>
            <a:endParaRPr b="0" lang="en-US" sz="4400" spc="-1" strike="noStrike">
              <a:solidFill>
                <a:srgbClr val="ffffff"/>
              </a:solidFill>
              <a:latin typeface="Tahoma"/>
            </a:endParaRPr>
          </a:p>
        </p:txBody>
      </p:sp>
      <p:sp>
        <p:nvSpPr>
          <p:cNvPr id="114"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днако, к подросткам административный арест применяться не может (ст.24 -32 КАП).</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24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5:14Z</dcterms:created>
  <dc:creator>Сергей и Татьяна Булаевы</dc:creator>
  <dc:description/>
  <dc:language>en-US</dc:language>
  <cp:lastModifiedBy>LEGION</cp:lastModifiedBy>
  <dcterms:modified xsi:type="dcterms:W3CDTF">2015-01-28T13:35:13Z</dcterms:modified>
  <cp:revision>6</cp:revision>
  <dc:subject/>
  <dc:title>Права, обязанности и ответственность несовершеннолетних.</dc:title>
</cp:coreProperties>
</file>