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AEB5-F8D1-454E-9240-B51DDC35E2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ёнова Евгения 4д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AFBD-5822-444C-BB38-441433ABB34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- понятие, характеризующее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ой статус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A5ED-3C1D-4DEB-B169-2D1732A5FBF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рушайте прав и всё будет нор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7FD8-91DA-480E-A819-20F06626D20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!!!!!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F0A3-BCAE-43A4-ADC5-63F86689803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эгоистического человека, отделенного от человеческой сущности и общ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216B-6DE3-49D0-8BBB-7CDA669AA0A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D28F-DD0E-4260-825B-C9E48D45A3D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0C29-B6D9-410D-8055-B521962BECB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BF3B-BF2F-4347-802C-DBC58031A4B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ведев рассматривает книжки где написано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3334-58B0-4C5A-8051-3A0207C5079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понятие «права человека» встречается во французской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екларации прав человека и граждан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принятой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789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хотя до этого идея прирождённых прав прошла долгий путь развития, важными вехами на её пути были английская Великая хартия вольностей , английский Билль о правах  и американский Билль о правах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F484-3A68-4E69-875E-82370789AC2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FB0-BB6B-481A-81A2-2B4F5A57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768-A404-43DA-9381-088CFE96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DEB-BD56-48DB-B4DD-4C758926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F51-D847-410C-8722-3EA3D857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973A-4E1B-440E-A6A4-BE4BDECA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B758-17FD-46E9-B6E4-3061F44B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2C00-6559-46C8-9FD0-F94B07F7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D9E1-6F2A-44AD-83F3-09690232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B6A4-6A98-465D-8DAB-75D7ADE7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38E0-0089-47F6-812C-1B307D39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CFB5-46D2-4E2A-B5B7-3F3F805C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AFA-6B81-4AF9-A0F4-8A2D8827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D5D9-1267-48EF-BF91-6B3B932B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9749-10B9-4F2F-B322-257D59B4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5022-0881-41EC-ACC4-692AF7D0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92D2-832A-437E-B27B-BBD6DB2D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6592-C286-469C-8790-008380EE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446-4364-4791-AABB-6D44C613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2E4-C3D4-4A9C-A265-9D583734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90C-21A9-42B2-8E9A-4B429C8F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553-E955-4FE2-A264-70F33D2A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4D1-57BB-4284-937F-53A16367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7AF-2127-4BFB-B06B-7945B25E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35C-7282-47D1-8A7F-A0BF97FD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9137-BBBF-4CE5-B770-1508448286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4C21-A80A-41EC-823A-AE114E38BB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lower/1739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hyperlink" Target="http://ru.wikipedia.org/wiki/&#1042;&#1077;&#1083;&#1080;&#1082;&#1072;&#1103;_&#1093;&#1072;&#1088;&#1090;&#1080;&#1103;_&#1074;&#1086;&#1083;&#1100;&#1085;&#1086;&#1089;&#1090;&#1077;&#1081;" TargetMode="External"/><Relationship Id="rId4" Type="http://schemas.openxmlformats.org/officeDocument/2006/relationships/hyperlink" Target="http://ru.wikipedia.org/wiki/&#1041;&#1080;&#1083;&#1083;&#1100;_&#1086;_&#1087;&#1088;&#1072;&#1074;&#1072;&#1093;_1689" TargetMode="External"/><Relationship Id="rId5" Type="http://schemas.openxmlformats.org/officeDocument/2006/relationships/hyperlink" Target="http://ru.wikipedia.org/wiki/&#1041;&#1080;&#1083;&#1083;&#1100;_&#1086;_&#1087;&#1088;&#1072;&#1074;&#1072;&#1093;_(&#1057;&#1064;&#1040;)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а чело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432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емёнова Евгения 4д класс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8101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А ЧЕЛОВЕКА - понятие, характеризующее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правовой статус человек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557360"/>
            <a:ext cx="633564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Не нарушайте прав и всё будет нормально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пасибо за внимание!!!!!!!!!!!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Права человека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- права эгоистического человека, отделенного от человеческой сущности и общности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4" descr="imgFull"/>
          <p:cNvPicPr/>
          <p:nvPr/>
        </p:nvPicPr>
        <p:blipFill>
          <a:blip r:embed="rId1"/>
          <a:stretch/>
        </p:blipFill>
        <p:spPr>
          <a:xfrm>
            <a:off x="2700360" y="907920"/>
            <a:ext cx="4414680" cy="3311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4" descr="3348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upoln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501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4" descr="Judges-arrive-at-the-star-001"/>
          <p:cNvPicPr/>
          <p:nvPr/>
        </p:nvPicPr>
        <p:blipFill>
          <a:blip r:embed="rId1"/>
          <a:stretch/>
        </p:blipFill>
        <p:spPr>
          <a:xfrm>
            <a:off x="1403280" y="333360"/>
            <a:ext cx="7189920" cy="4313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5516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Медведев рассматривает книжки где написано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Picture 4" descr="41d351f24f71b930b9fd"/>
          <p:cNvPicPr/>
          <p:nvPr/>
        </p:nvPicPr>
        <p:blipFill>
          <a:blip r:embed="rId1"/>
          <a:stretch/>
        </p:blipFill>
        <p:spPr>
          <a:xfrm>
            <a:off x="1619280" y="692280"/>
            <a:ext cx="6191280" cy="4133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590480"/>
            <a:ext cx="85723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Впервые понятие «права человека» встречается во французской «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Декларации прав человека и гражданин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», принятой в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2"/>
              </a:rPr>
              <a:t>1789 году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, хотя до этого идея прирождённых прав прошла долгий путь развития, важными вехами на её пути были английская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3"/>
              </a:rPr>
              <a:t>Великая хартия вольностей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, англий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4"/>
              </a:rPr>
              <a:t>Билль о 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 и американ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5"/>
              </a:rPr>
              <a:t>Билль о 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12:27Z</dcterms:created>
  <dc:creator>Александр</dc:creator>
  <dc:description/>
  <dc:language>en-US</dc:language>
  <cp:lastModifiedBy>LEGION</cp:lastModifiedBy>
  <dcterms:modified xsi:type="dcterms:W3CDTF">2015-01-28T13:35:44Z</dcterms:modified>
  <cp:revision>4</cp:revision>
  <dc:subject/>
  <dc:title>Права человека</dc:title>
</cp:coreProperties>
</file>