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B0B7-7705-4A1F-BFB6-7D40BC02F8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И КЛАССИФИКАЦИЯ ЦЕННЫХ БУМА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ые и долгов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31F8-CB22-4F49-8E1D-A300CDBF56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ая бумаг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6BF7-96AF-4AC6-AA1C-E2B88B450E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КЛАССИФИКАЦИИ ЦЕННЫХ БУМ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знаку возвратности средств инвесто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необходимости регистрации выпуска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форме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19F8-DB47-4A29-BDC9-B3FECCBEB4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признаку возвратности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говые ценные бумаги (облигация, векс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евые ценные бумаги (а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388-C01F-422A-9336-0EFD2AA443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773A-ABD7-4D82-AC38-16A58BE949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ACC8-82A1-4B2E-BEEC-723F9928BF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форме выпу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ая (наличная) форма выпуска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документарная (безналичная) форма выпуска в виде электронной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19DE-7EF3-4D88-9390-7E300DFAFB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НЕОБХОДИМОСТИ РЕГИСТРАЦИИ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миссионные 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эмиссионные ценные бумаги (вексель, коноса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523C-C57A-4AA1-8A93-A3D280D514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061-A7E7-46A0-95A3-465B98D0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85E-554A-4A73-94D4-77138D9F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AC7-1A78-4B18-9F95-CC856ACB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773-4F4C-451F-8303-E9EC947F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19B-F9C4-4E3C-B7C5-E58D29F7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A5B-4771-4E71-8CD5-7FF3A2F4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5A2-EEBE-4834-BB26-2AFA36D2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EBB-C3F7-4832-A9F2-34987B0C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653-2012-4989-99E0-D4B08120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FC0-CCB9-4236-A2A7-7969F4DF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759-0867-4A2E-8BCE-CD7DCA0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D8F-5442-4D3B-B777-55BEDF33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6E7E-F180-4E11-99B8-0BFDB5B07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 КЛАССИФИКАЦИЯ ЦЕННЫХ БУМ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ценн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евые и долговые ценные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2233440"/>
          </a:xfrm>
          <a:prstGeom prst="rect">
            <a:avLst/>
          </a:prstGeom>
          <a:solidFill>
            <a:srgbClr val="cfd0ce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0400" y="8254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НЯТИЕ ЦЕННОЙ БУМАГ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ИФИКАЦИИ ЦЕННЫХ БУ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изнаку возвратности средств инвес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еобходимости регистрации выпуска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орме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ажнейшим эмите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признаку возвратности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вые ценные бумаги (облигация, векс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евые ценные бумаги (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3068640"/>
          <a:ext cx="3600720" cy="22129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99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372360" y="3141720"/>
          <a:ext cx="1512720" cy="6476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72360" y="4365720"/>
          <a:ext cx="1584360" cy="79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г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с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AutoShape 26"/>
          <p:cNvSpPr/>
          <p:nvPr/>
        </p:nvSpPr>
        <p:spPr>
          <a:xfrm>
            <a:off x="4500720" y="3357720"/>
            <a:ext cx="1871640" cy="287280"/>
          </a:xfrm>
          <a:prstGeom prst="leftArrow">
            <a:avLst>
              <a:gd name="adj1" fmla="val 50000"/>
              <a:gd name="adj2" fmla="val 1628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4500720" y="4581360"/>
            <a:ext cx="1871640" cy="287640"/>
          </a:xfrm>
          <a:prstGeom prst="leftArrow">
            <a:avLst>
              <a:gd name="adj1" fmla="val 50000"/>
              <a:gd name="adj2" fmla="val 1626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важнейшим эмит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989000"/>
          <a:ext cx="8064360" cy="4017960"/>
        </p:xfrm>
        <a:graphic>
          <a:graphicData uri="http://schemas.openxmlformats.org/drawingml/2006/table">
            <a:tbl>
              <a:tblPr/>
              <a:tblGrid>
                <a:gridCol w="3257640"/>
                <a:gridCol w="4806720"/>
              </a:tblGrid>
              <a:tr h="63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69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федеральное прав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федер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субъекты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местные органы власти в составе субъекто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оратив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9280" y="1557360"/>
          <a:ext cx="7704000" cy="5006880"/>
        </p:xfrm>
        <a:graphic>
          <a:graphicData uri="http://schemas.openxmlformats.org/drawingml/2006/table">
            <a:tbl>
              <a:tblPr/>
              <a:tblGrid>
                <a:gridCol w="2773080"/>
                <a:gridCol w="4930920"/>
              </a:tblGrid>
              <a:tr h="76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остое вручение ценной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и без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веден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утем внесения изменений в ре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и помощи индосса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форм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арная (наличная) форма выпуска на бумажном носит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документарная (безналичная) форма выпуска в виде электронной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НЕОБХОДИМОСТИ РЕГИСТРАЦИИ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058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иссионные ценные бумаги (акции, облиг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эмиссионные ценные бумаги (вексель, коноса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28:04Z</dcterms:created>
  <dc:creator>User</dc:creator>
  <dc:description/>
  <dc:language>en-US</dc:language>
  <cp:lastModifiedBy>LEGION</cp:lastModifiedBy>
  <dcterms:modified xsi:type="dcterms:W3CDTF">2014-11-10T10:01:22Z</dcterms:modified>
  <cp:revision>6</cp:revision>
  <dc:subject/>
  <dc:title>Тема 2. ВИДЫ И КЛАССИФИКАЦИЯ ЦЕННЫХ БУМАГ</dc:title>
</cp:coreProperties>
</file>