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15FE-8789-433B-985A-F652CC2DA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озащитная экспертиз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СЕМИНАР</a:t>
            </a: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для Общественных Наблюдательных Сов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Бакыт Качик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Бишкек,  201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0898-33B8-4548-998B-59CA8EC17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Общепризнанные принципы международного п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агающие императивные нормы международного права, принимаемые и признаваемые международным сообществом государств в целом, отклонение от которых недопуст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цип всеобщего уважения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цип добросовестного выполнения международных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37BE-6C0D-4720-B138-CC2B63119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Общепризнанная норма международ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поведения, принимаемое и признаваемое международным сообществом государств в целом качестве юридически обязатель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ся в документах ООН и ее специализирован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римеру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 на жиз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Каждый человек имеет право на жизнь, на свободу и личную неприкосновенность» (ст.3 ВДПЧ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0D52-E5FA-4812-B3B8-46A6424BA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Международны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правное и добровольное соглашение Кыргызской Республики с одним или несколькими государствами, международными организациями или с другими субъектами международного права относительно прав и обязанностей в области международных отношений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.1 ст. 2 Закона КР «О международных договорах КР»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0B0D-1251-4189-857D-0F1943C29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</a:rPr>
              <a:t>Правозащитная экспертиза</a:t>
            </a:r>
            <a:r>
              <a:rPr b="0" lang="ru-RU" sz="16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еятельность экспертов по проведению анализа и оценки проектов законов, регламентирующие отношения во всех сферах жизнедеятельности человека, на соответствие стандартам защиты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ее основе лежат ПРАВА И СВОБОДЫ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062A-365C-4331-8F03-17DA21BB7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Цели правозащитной 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ответствия исследуемого проекта закона стандартам защиты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того, как работают принятые стандарты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предупреждение вероятности нарушения прав человека при применении проекта зак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7C9D-B394-459E-AB23-4A0EA3BD3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</a:rPr>
              <a:t>Задачи правозащитной экспертиз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правовых механизмов реализации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ение законодательных пробелов, противоречий, препятствующих установлению и действию единых нормативных стандар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го механизма контроля за соблюдением правозащи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891C-D1A4-4537-875A-F834BD7AA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Этапы правозащитной  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ановление круга прав, затрагиваемых проектом закона из перечня прав и свобод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нализ законодательства в охватываемом экспертизой круге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ценка положений проекта закона с соответствующим стандартом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4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 рекомен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63EC-8C7A-4768-AF50-360A18719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76092"/>
                </a:solidFill>
                <a:latin typeface="Calibri"/>
              </a:rPr>
              <a:t>Этап 1. </a:t>
            </a: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Установление круга прав, затрагиваемых проектом закона, из перечня прав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на основе всего перечня прав и свобод человека, предусмотренных и международными нормами и законами  К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прав и свобод человека, предусмотренных международными нормами, может быть расширен законами КР, но не сокращен (Контрольный перечен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B43B-476C-4CA6-9D7B-B7A628237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Этап 2. Анализ в охватываемом экспертизой  круге пра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C814-AEEC-4A3B-9013-ACEDC7941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Этап 3. Оценка положений проекта на соответствие действующему стандарту зашиты прав челове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7726-3337-43C8-99C7-E09351164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Что такое права и свобо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ринцип, нормы взаимоотношений между людьми и государством, обеспечивающие индивиду возможность действовать по своему усмотрению (обычно это называется «свободами») или получать определенные блага (т.е. – это «права»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существу это нормативно сформулированные условия и способы жизнедеятельности людей, которые объективно необходимы для обеспечения нормального функционирования индивида, общества, государства (юридическое опреде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7A5A-AB1E-43D5-87BB-84DEF3250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Этап 4. Выводы и рекомен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86C3-2E73-4DE7-876F-64EACDCE8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5C7B-1FA8-4C35-BC41-D402F6554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Различие между «правом»и «свободо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ободы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ласть деятельности человека, в которые государство не должно вмешив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черчивается с помощью правовых норм границы, в рамках которых человек действует по своему выбору  и усмотр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должно воздержаться от интервенции в свободы человека и обязано обеспечить защиту границ этих свобод от вмешательства друг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тановленные и гарантируемые государством правомочия и потенции действий человека в конкретн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 предлагается возможности выбора, варианте действия внутри данного права, им можно либо воспользоваться и реализовать его, либо не реализов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обязуется обеспечить и защитить правомерные действия человека в указанной законом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3A7E-322A-4E2C-AEF3-C453F0CCF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ПРАВА И СВОБОДЫ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Ы- принадлежа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ям во всех ситу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- принадлежат людя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 рожд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тому, что они лю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ЧУЖДАЕМЫ- нельзя произвольно лишить эт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ава человека могут быть ограничены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только законом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 только в той мере, в какой это необходимо для обеспечения безопасности общества, защиты нравственности, здоровья, прав  других людей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6F9E-1BA6-454B-A0E2-2415441F6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 морально-правовых норм, призванных защищать человеческ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оин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воб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чности от произвола со стороны властных институтов и их представ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сферу свободы и самоопределения личности, ее автоном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ивают и координируют общественные связи и отношения на основе международно-признанных норм и стандартов в области прав и свобод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рчивают границы деятельности государства, предотвращая неоправданное вторжение государства в сферу личной свободы человека ставя преграды всевластию и произволу государственных структу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 параметры взаимоотношений человека и государства, ответственность последнего за свою деятельность перед личностью и об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ют раскрытие творческого потенциала каждой личности, стабильность, устойчивое развитие общества, его нормальную жизне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35B2-1CE7-4D1C-8049-A310141A6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СТАНДАРТЫ ЗАЩИТЫ ПРАВ ЧЕЛО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нный мировым сообществом нормативный минимум, на который должны ориентироваться государства при признании и обеспечении провозглашаемых пра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-правовые обязательства, реализующие принцип уважения прав человека и развивающие его в конкрет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сформировавшееся на основе решений международных органов по правам челове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цедент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авовые нормы по защите прав человека, содержащиеся в общепризнанных принципах и нормах международного права, международных договорах, действующих в данном государстве, и его законодательстве (Конституции и иных нормативных правовых актах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0BA1-C738-43AA-A252-52CBB2B87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Для чего необходимы стандарты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перечень прав и свобод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 их содержание и допустимые ограни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механизм их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7E03-8BB5-4B97-9C04-3623C8607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Основополагающие принципы обеспечения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принадлежат ему от рождения, они являются неотъемлемыми и неотчуждаем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универсальны, основаны на принципе равенства, в том числе равенства прав мужчин и женщ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гарантированы каждому, кто находится под юрисдикцией Кыргызской Республ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– высшая ценность, а их уважение, соблюдение и защита – обязанность государ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ав и свобод несовместимо с дискриминацией по какому-либо признаку, за исключением позитивной дискрим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4D38-EB85-40F8-A3D5-A4FCF5AF3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юди равны в своем достоинстве и правах и должны поступать в отношении друг друга в духе братства, при этом ограничение прав и свобод одних людей допустимо при должном признании и уважении прав и свобод других людей, необходимых в демократическом обще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ава и свободы должны быть едины на всей территории Кыргызской Республики, их регулирование – предмет ведения органов государственной власти, а обеспечение и защита – предмет совместного ведения органов государственной власти и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, политические, экономические, социальные и культурные права и свободы равноценны по своей значимости, едины (неразделимы) и взаимосвяз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987D-7215-45BE-AB85-CD1AD4F5A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7649-CFAF-476F-A550-7650DD1D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CE3-37C7-4F49-9143-4278AAFC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78D9-8900-40DC-8155-B40842B3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C40-3EDF-49D7-BEAA-73C4816C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B5FC-495B-4064-9190-2E4E9C9F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D55D-1931-4EBE-8352-841485FC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33EA-B430-40EC-AE71-DB3FAF49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90C5-0286-413E-BCA9-F87AD0D9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76B1-DC87-4166-87F8-1DF39523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ADFB-2570-4C20-AD2E-6EF45EE1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A1CD-38CD-4C9C-B0A9-ACAA2C66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182D-A82A-4A9F-8D1F-ABF90097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BAB8-31DE-4898-8821-F67DE208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AB15-A3BA-4C8D-8E06-97AA5B31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DABE-894A-4DC9-A502-5DA2577E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2858-BFFE-4B18-B058-3056F0FC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3CAF-0279-4BA7-973C-5ADB06CE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AF32B-136A-4CB2-950A-79EAA40C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24D8E-28A6-4763-840F-7C9BE0A3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D77CE-56DA-4FF7-AB25-BDCC1357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7E3A1-A565-4B50-A0DF-81BB1DCE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8DA66-FA05-4171-8EA3-7E0B82CF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EE54-B18F-470E-BEC0-DC8F9698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C32EF-D416-4A84-BEED-A21B9EF2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C75E4-3D4A-45EB-9F8F-AD724F36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62894-6C73-4FE6-A22B-973052FD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5FE55-E52A-4C2B-84C1-C9BEFADF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F054D-F611-4D49-8F00-9D5DCCED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ED45F-B589-4157-82A5-6EDD3646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2F40E-83F1-40D4-8B17-27389C4D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6F9B2C-02B8-4AC2-A123-DD9BE445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0A7BEF-3A2D-40A3-AAB6-97410FCC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6120C9-D4A4-4B41-9250-AE54F31D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ED8-A53B-4E02-BE65-E841BD3C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868413-0879-46FD-8C9F-7FBE90D8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E9A07B-44F8-4CC6-B751-194B6EC4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0A8C21-37A1-4790-90AF-2A006BA8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28CBE1-A533-475D-A06B-9AFFFF8B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016E2D-0DFA-4E60-8FE3-D09EEFB7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D00E0-C7DC-40C8-B5A5-AD59D579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076F47-9B98-4DA5-8DDE-BA0DA15D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6896B0-7886-4D33-802D-29E17E1C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0A74C2-EEB7-4B55-9551-D8604900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C56D53-17CC-4937-BA7D-00F53267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D79-9A68-4980-9BF3-347E7971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F7F16-BF59-44A7-9222-B764D98C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675448-AA5C-4BDD-8651-D61A2C2D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3626D1-154E-4B39-80CA-75BAE17B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40845-FA55-4AEC-9559-1054350D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6FC320-197A-48C3-9E88-1B41FA44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6BA76-BF25-4D05-8FF3-FBD5BF62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01D58F-EDC4-4289-A8D7-9F266902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453EC-CD4F-4D42-8E08-FF470D89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1FFBAE-A222-4AED-96A0-840375C4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40FCA-6140-40E1-A2CB-8F68A062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2E3A-2B64-4983-8FB5-D3939EF0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50A207-9579-45B8-8DE0-F84C0192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4AB86-7E2D-4FBB-896A-34AC754E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7A3CF-2EEC-4627-B694-1AFBA3BC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AC633-2E79-43AB-B23B-3B2854D0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A6947-0F52-48B6-AE56-E73BC6B0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C7726-3B13-4309-8A0A-3A80FBDC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2A849-9BB5-4B6D-8D96-D1ED5E2D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3BDC8-988A-4845-A96A-77FF920B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89494-6783-4FA4-85AE-287FB8B7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760C2-BB25-488B-82BC-7A47FC48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BA37-EC85-4A02-A1E3-4402349C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7835D-E7B3-4860-AE87-F757F5D8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27ABD-6931-4233-80AB-251993D0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64410-8DB5-4050-B5BA-A77B924C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F2C3D0-9C9B-4C87-AC7F-BADEBF84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64ADF0-9073-44E8-8490-915E3D43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F0C9C1-BC4C-424E-B600-8468BCF5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9BEDB7-ED50-4ADC-841F-25B3C811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E914A3-4FB8-49A4-A0BC-4074D9D1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CB6C09-4DCB-433B-AD07-5DDEC8FD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11160F-463F-47BD-89B3-F8F85260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A1F6-C625-44AD-990B-44D29F6D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11FE5C-3FE5-4516-9169-23F09BBB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A4FABB-F044-453A-B5EA-5CD5F57C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988D10-9B34-469C-8420-614ED725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92A20C-7181-4448-B51A-FCF24F2E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63D494-9B94-4868-BD1A-3C53AA8C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26B9B-B868-40E8-91F3-F4B818E7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33BB2-4670-40F6-AA2C-3409B373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99CE6-02C8-4CA7-8303-F92E2CE6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C2C62-534E-46EE-99D3-6FD8E6A5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F6ACB-5DF3-478C-A8DC-428FAF93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CA91-8382-40CC-B434-6A97C5E4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695E5-1AEF-45C1-A0F8-9494BD48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F58B4-0363-43A3-9C4C-E8FB510B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DA330-26A1-4EAA-A59F-D4B1FA6D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1DAA1-D78C-4B3F-B352-659416BC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33972-45A1-4BFC-BB94-65D54A41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367C7-FE66-41B7-B253-5E0D7346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74A98-6B03-4C24-9A15-98C9B251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AF37-A9AB-47E7-A0DE-1596DAF2A92F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A83D-FE02-4316-A1BE-B6A91C0BF21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A516-3F67-4824-B341-8299DDFA3108}" type="datetime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78F6-43D1-42CD-8391-AC7D7A45FF0C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2198-FABC-4BA7-A6B9-5E79519A7CC4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5776-E715-4EE9-B416-C36181F45CE2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8903-2503-4948-8592-1210A78BB25F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854D-CF8D-4BC5-8983-4A98FB9007C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8912-DF8C-43D5-8152-8670FA63DD27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59AB-94CF-4F48-AAE9-28E2D9D2CA0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8852-093D-4056-9E10-5AB4D9039468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CCCD-D4B0-4EEF-BD62-DF617508CC6F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ACCF-F138-480C-B0B1-91CA3AA45BDC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928A-A9EB-4D9C-97AB-06E7BA79028E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EC77-E01E-4BED-9376-B2217AD4708F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B65C-3884-4A50-9813-59201934CCB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371600" y="2906640"/>
            <a:ext cx="71229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СЕМИНАР</a:t>
            </a: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для Общественных Наблюдательных Совет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Бакыт Качикее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         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Бишкек,  201</a:t>
            </a:r>
            <a:r>
              <a:rPr b="0" lang="en-US" sz="2600" spc="-1" strike="noStrike">
                <a:solidFill>
                  <a:srgbClr val="775f55"/>
                </a:solidFill>
                <a:latin typeface="Franklin Gothic Medium"/>
              </a:rPr>
              <a:t>1 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1371240" y="1533240"/>
            <a:ext cx="762012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Правозащитная экспертиза</a:t>
            </a:r>
            <a:br>
              <a:rPr sz="4800"/>
            </a:br>
            <a:endParaRPr b="0" lang="en-US" sz="4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Общепризнанные принципы международного права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новополагающие императивные нормы международного права, принимаемые и признаваемые международным сообществом государств в целом, отклонение от которых недопустимо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ринцип всеобщего уважения прав человек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ринцип добросовестного выполнения международных обязательст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Общепризнанная норма международного прав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авило поведения, принимаемое и признаваемое международным сообществом государств в целом качестве юридически обязательного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держаться в документах ООН и ее специализированных учреждени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 примеру,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право на жизнь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«Каждый человек имеет право на жизнь, на свободу и личную неприкосновенность» (ст.3 ВДПЧ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Международный договор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вноправное и добровольное соглашение Кыргызской Республики с одним или несколькими государствами, международными организациями или с другими субъектами международного права относительно прав и обязанностей в области международных отношени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.1 ст. 2 Закона КР «О международных договорах КР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Правозащитная экспертиза</a:t>
            </a: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деятельность экспертов по проведению анализа и оценки проектов законов, регламентирующие отношения во всех сферах жизнедеятельности человека, на соответствие стандартам защиты прав челове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в ее основе лежат ПРАВА И СВОБОДЫ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Цели правозащитной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ценка соответствия исследуемого проекта закона стандартам защиты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верка того, как работают принятые стандарты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ннее предупреждение вероятности нарушения прав человека при применении проекта закон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Задачи правозащитной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работка правовых механизмов реализации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странение законодательных пробелов, противоречий, препятствующих установлению и действию единых нормативных стандартов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здание эффективного механизма контроля за соблюдением правозащитного законодательств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Этапы правозащитной 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1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Установление круга прав, затрагиваемых проектом закона из перечня прав и свобод челове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2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Анализ законодательства в охватываемом экспертизой круге пра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3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Оценка положений проекта закона с соответствующим стандартом защиты прав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4.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воды и рекоменд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bb8"/>
                </a:solidFill>
                <a:latin typeface="Calibri"/>
              </a:rPr>
              <a:t>Этап 1. </a:t>
            </a:r>
            <a:r>
              <a:rPr b="0" lang="ru-RU" sz="2800" spc="-1" strike="noStrike">
                <a:solidFill>
                  <a:srgbClr val="558bb8"/>
                </a:solidFill>
                <a:latin typeface="Calibri"/>
              </a:rPr>
              <a:t>Установление круга прав, затрагиваемых проектом закона, из перечня прав человека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ществляется на основе всего перечня прав и свобод человека, предусмотренных и международными нормами и законами  КР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чень прав и свобод человека, предусмотренных международными нормами, может быть расширен законами КР, но не сокращен (Контрольный перечень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Выноска со стрелкой вниз 3"/>
          <p:cNvSpPr/>
          <p:nvPr/>
        </p:nvSpPr>
        <p:spPr>
          <a:xfrm>
            <a:off x="4140360" y="6400800"/>
            <a:ext cx="647640" cy="45720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20280"/>
            <a:ext cx="815364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bb8"/>
                </a:solidFill>
                <a:latin typeface="Calibri"/>
              </a:rPr>
              <a:t>Этап 2. Анализ в охватываемом экспертизой  круге прав</a:t>
            </a:r>
            <a:br>
              <a:rPr sz="2400"/>
            </a:b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4" name="AutoShape 5"/>
          <p:cNvSpPr/>
          <p:nvPr/>
        </p:nvSpPr>
        <p:spPr>
          <a:xfrm>
            <a:off x="468360" y="1628640"/>
            <a:ext cx="8136000" cy="36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знакомление с концепцией, составляющей основу того или иного 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6"/>
          <p:cNvSpPr/>
          <p:nvPr/>
        </p:nvSpPr>
        <p:spPr>
          <a:xfrm>
            <a:off x="684360" y="2205000"/>
            <a:ext cx="31669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а. Анализ норм, содержащихся в общепризнанных принципах и нормах международного права и вступивших в силу  для КР международных договор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7"/>
          <p:cNvSpPr/>
          <p:nvPr/>
        </p:nvSpPr>
        <p:spPr>
          <a:xfrm>
            <a:off x="4859280" y="2205000"/>
            <a:ext cx="3313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б. Анализ норм, содержащихся в различных актах международного мяг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468360" y="3213000"/>
            <a:ext cx="813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Сравнение Стандарта защиты этой категории права по законодательству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684360" y="3860640"/>
            <a:ext cx="31669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а. Анализ норм Конституции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0"/>
          <p:cNvSpPr/>
          <p:nvPr/>
        </p:nvSpPr>
        <p:spPr>
          <a:xfrm>
            <a:off x="5076720" y="3860640"/>
            <a:ext cx="324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б. Анализ норм иных Н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"/>
          <p:cNvSpPr/>
          <p:nvPr/>
        </p:nvSpPr>
        <p:spPr>
          <a:xfrm>
            <a:off x="539640" y="4508640"/>
            <a:ext cx="813600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равнение Стандарта защиты прав человека по международному праву со стандартами этой защиты по законодательству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2"/>
          <p:cNvSpPr/>
          <p:nvPr/>
        </p:nvSpPr>
        <p:spPr>
          <a:xfrm>
            <a:off x="468360" y="5877000"/>
            <a:ext cx="8136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равнение Стандарта защиты прав человека  по МП со стандартами этой защиты, определенными в законодательстве 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трелка вниз 13"/>
          <p:cNvSpPr/>
          <p:nvPr/>
        </p:nvSpPr>
        <p:spPr>
          <a:xfrm flipH="1">
            <a:off x="2195640" y="206064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Стрелка вниз 14"/>
          <p:cNvSpPr/>
          <p:nvPr/>
        </p:nvSpPr>
        <p:spPr>
          <a:xfrm flipH="1">
            <a:off x="6588000" y="206064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трелка вниз 15"/>
          <p:cNvSpPr/>
          <p:nvPr/>
        </p:nvSpPr>
        <p:spPr>
          <a:xfrm>
            <a:off x="2195640" y="3645000"/>
            <a:ext cx="46080" cy="215640"/>
          </a:xfrm>
          <a:prstGeom prst="downArrow">
            <a:avLst>
              <a:gd name="adj1" fmla="val 50000"/>
              <a:gd name="adj2" fmla="val 4989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трелка вниз 16"/>
          <p:cNvSpPr/>
          <p:nvPr/>
        </p:nvSpPr>
        <p:spPr>
          <a:xfrm>
            <a:off x="6588000" y="364500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Прямая со стрелкой 18"/>
          <p:cNvCxnSpPr/>
          <p:nvPr/>
        </p:nvCxnSpPr>
        <p:spPr>
          <a:xfrm flipH="1">
            <a:off x="4066920" y="1988640"/>
            <a:ext cx="2160" cy="252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427" name="AutoShape 9"/>
          <p:cNvSpPr/>
          <p:nvPr/>
        </p:nvSpPr>
        <p:spPr>
          <a:xfrm>
            <a:off x="684360" y="5229360"/>
            <a:ext cx="331128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1.а. Анализ норм в общепринятых принципах и нормах МП, вступивших в си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9"/>
          <p:cNvSpPr/>
          <p:nvPr/>
        </p:nvSpPr>
        <p:spPr>
          <a:xfrm>
            <a:off x="5148360" y="5229360"/>
            <a:ext cx="316872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б. Анализ норм в различных актах международного мяг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Стрелка вниз 98"/>
          <p:cNvSpPr/>
          <p:nvPr/>
        </p:nvSpPr>
        <p:spPr>
          <a:xfrm>
            <a:off x="4500720" y="3716280"/>
            <a:ext cx="44280" cy="720720"/>
          </a:xfrm>
          <a:prstGeom prst="downArrow">
            <a:avLst>
              <a:gd name="adj1" fmla="val 50000"/>
              <a:gd name="adj2" fmla="val 50186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Стрелка вниз 99"/>
          <p:cNvSpPr/>
          <p:nvPr/>
        </p:nvSpPr>
        <p:spPr>
          <a:xfrm>
            <a:off x="4500720" y="2133720"/>
            <a:ext cx="44280" cy="934920"/>
          </a:xfrm>
          <a:prstGeom prst="downArrow">
            <a:avLst>
              <a:gd name="adj1" fmla="val 50000"/>
              <a:gd name="adj2" fmla="val 5014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Стрелка вниз 100"/>
          <p:cNvSpPr/>
          <p:nvPr/>
        </p:nvSpPr>
        <p:spPr>
          <a:xfrm>
            <a:off x="4500720" y="5084640"/>
            <a:ext cx="71280" cy="720720"/>
          </a:xfrm>
          <a:prstGeom prst="downArrow">
            <a:avLst>
              <a:gd name="adj1" fmla="val 50000"/>
              <a:gd name="adj2" fmla="val 5008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Выноска со стрелкой вниз 101"/>
          <p:cNvSpPr/>
          <p:nvPr/>
        </p:nvSpPr>
        <p:spPr>
          <a:xfrm>
            <a:off x="4140360" y="6400800"/>
            <a:ext cx="647640" cy="45720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31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558bb8"/>
                </a:solidFill>
                <a:latin typeface="Times New Roman"/>
                <a:ea typeface="Times New Roman"/>
              </a:rPr>
              <a:t>Этап 3. Оценка положений проекта на соответствие действующему стандарту зашиты прав человека</a:t>
            </a:r>
            <a:br>
              <a:rPr sz="2400"/>
            </a:b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5" name="AutoShape 2"/>
          <p:cNvSpPr/>
          <p:nvPr/>
        </p:nvSpPr>
        <p:spPr>
          <a:xfrm>
            <a:off x="250920" y="1628640"/>
            <a:ext cx="8497800" cy="765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. Оценка соответствия концепции, основной идеи и цели проекта концепции, основной идее и целям, находящимся в основе соответствующего стандарта защиты прав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"/>
          <p:cNvSpPr/>
          <p:nvPr/>
        </p:nvSpPr>
        <p:spPr>
          <a:xfrm>
            <a:off x="611280" y="2637000"/>
            <a:ext cx="79214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. Оценка соответствия проекта Стандарту КР по защите затрагиваемых проектом прав челове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4"/>
          <p:cNvSpPr/>
          <p:nvPr/>
        </p:nvSpPr>
        <p:spPr>
          <a:xfrm>
            <a:off x="826920" y="3500280"/>
            <a:ext cx="749016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.Оценка соответствия делегированных проектом полномочий и компетенции существующих государственных институ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5"/>
          <p:cNvSpPr/>
          <p:nvPr/>
        </p:nvSpPr>
        <p:spPr>
          <a:xfrm>
            <a:off x="1042920" y="4365720"/>
            <a:ext cx="7058160" cy="65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4.Оценка эффективности процедуры реализации и защиты соответствующего права человека проек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6"/>
          <p:cNvSpPr/>
          <p:nvPr/>
        </p:nvSpPr>
        <p:spPr>
          <a:xfrm>
            <a:off x="1258920" y="5229360"/>
            <a:ext cx="6626160" cy="70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.Оценка допустимости, предусмотренных проектом ограничений прав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трелка вниз 9"/>
          <p:cNvSpPr/>
          <p:nvPr/>
        </p:nvSpPr>
        <p:spPr>
          <a:xfrm>
            <a:off x="4572000" y="242100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трелка вниз 10"/>
          <p:cNvSpPr/>
          <p:nvPr/>
        </p:nvSpPr>
        <p:spPr>
          <a:xfrm>
            <a:off x="4572000" y="3357720"/>
            <a:ext cx="46080" cy="1425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трелка вниз 11"/>
          <p:cNvSpPr/>
          <p:nvPr/>
        </p:nvSpPr>
        <p:spPr>
          <a:xfrm>
            <a:off x="4572000" y="414972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трелка вниз 12"/>
          <p:cNvSpPr/>
          <p:nvPr/>
        </p:nvSpPr>
        <p:spPr>
          <a:xfrm>
            <a:off x="4572000" y="501336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Выноска со стрелкой вниз 14"/>
          <p:cNvSpPr/>
          <p:nvPr/>
        </p:nvSpPr>
        <p:spPr>
          <a:xfrm>
            <a:off x="4356000" y="5950080"/>
            <a:ext cx="576360" cy="503280"/>
          </a:xfrm>
          <a:prstGeom prst="downArrowCallout">
            <a:avLst>
              <a:gd name="adj1" fmla="val 50012"/>
              <a:gd name="adj2" fmla="val 25004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Что такое права и свободы?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это принцип, нормы взаимоотношений между людьми и государством, обеспечивающие индивиду возможность действовать по своему усмотрению (обычно это называется «свободами») или получать определенные блага (т.е. – это «права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о существу это нормативно сформулированные условия и способы жизнедеятельности людей, которые объективно необходимы для обеспечения нормального функционирования индивида, общества, государства (юридическое определ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1"/>
          <p:cNvGrpSpPr/>
          <p:nvPr/>
        </p:nvGrpSpPr>
        <p:grpSpPr>
          <a:xfrm>
            <a:off x="1979280" y="1412640"/>
            <a:ext cx="5683320" cy="1069920"/>
            <a:chOff x="1979280" y="1412640"/>
            <a:chExt cx="5683320" cy="1069920"/>
          </a:xfrm>
        </p:grpSpPr>
        <p:cxnSp>
          <p:nvCxnSpPr>
            <p:cNvPr id="447" name="AutoShape 5"/>
            <p:cNvCxnSpPr/>
            <p:nvPr/>
          </p:nvCxnSpPr>
          <p:spPr>
            <a:xfrm flipH="1">
              <a:off x="1979280" y="1413000"/>
              <a:ext cx="1879920" cy="1040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AutoShape 6"/>
            <p:cNvCxnSpPr/>
            <p:nvPr/>
          </p:nvCxnSpPr>
          <p:spPr>
            <a:xfrm>
              <a:off x="4672080" y="1442520"/>
              <a:ext cx="11520" cy="1040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9" name="AutoShape 7"/>
            <p:cNvCxnSpPr/>
            <p:nvPr/>
          </p:nvCxnSpPr>
          <p:spPr>
            <a:xfrm>
              <a:off x="5897160" y="1412640"/>
              <a:ext cx="176580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Этап 4. Выводы и рекомендации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1" name="Скругленный прямоугольник 11"/>
          <p:cNvSpPr/>
          <p:nvPr/>
        </p:nvSpPr>
        <p:spPr>
          <a:xfrm>
            <a:off x="324000" y="2637000"/>
            <a:ext cx="2592360" cy="388764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3887640"/>
              <a:gd name="textAreaBottom" fmla="*/ 3761280 h 3887640"/>
            </a:gdLst>
            <a:ahLst/>
            <a:rect l="textAreaLeft" t="textAreaTop" r="textAreaRight" b="textAreaBottom"/>
            <a:pathLst>
              <a:path w="21600" h="32391">
                <a:moveTo>
                  <a:pt x="3600" y="0"/>
                </a:moveTo>
                <a:arcTo wR="3600" hR="3600" stAng="16200000" swAng="-5400000"/>
                <a:lnTo>
                  <a:pt x="0" y="28791"/>
                </a:lnTo>
                <a:arcTo wR="3600" hR="3600" stAng="10800000" swAng="-5400000"/>
                <a:lnTo>
                  <a:pt x="18000" y="323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в полной м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Скругленный прямоугольник 12"/>
          <p:cNvSpPr/>
          <p:nvPr/>
        </p:nvSpPr>
        <p:spPr>
          <a:xfrm>
            <a:off x="3132000" y="2565360"/>
            <a:ext cx="2735280" cy="3959280"/>
          </a:xfrm>
          <a:custGeom>
            <a:avLst/>
            <a:gdLst>
              <a:gd name="textAreaLeft" fmla="*/ 133200 w 2735280"/>
              <a:gd name="textAreaRight" fmla="*/ 2602080 w 2735280"/>
              <a:gd name="textAreaTop" fmla="*/ 133200 h 3959280"/>
              <a:gd name="textAreaBottom" fmla="*/ 3826080 h 3959280"/>
            </a:gdLst>
            <a:ahLst/>
            <a:rect l="textAreaLeft" t="textAreaTop" r="textAreaRight" b="textAreaBottom"/>
            <a:pathLst>
              <a:path w="21600" h="31264">
                <a:moveTo>
                  <a:pt x="3600" y="0"/>
                </a:moveTo>
                <a:arcTo wR="3600" hR="3600" stAng="16200000" swAng="-5400000"/>
                <a:lnTo>
                  <a:pt x="0" y="27664"/>
                </a:lnTo>
                <a:arcTo wR="3600" hR="3600" stAng="10800000" swAng="-5400000"/>
                <a:lnTo>
                  <a:pt x="18000" y="31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не в полной мере, требует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Экспертные  рекомендации по усовершенствованию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Скругленный прямоугольник 13"/>
          <p:cNvSpPr/>
          <p:nvPr/>
        </p:nvSpPr>
        <p:spPr>
          <a:xfrm>
            <a:off x="6156360" y="2565360"/>
            <a:ext cx="2736720" cy="388800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8000"/>
              <a:gd name="textAreaBottom" fmla="*/ 3754440 h 3888000"/>
            </a:gdLst>
            <a:ahLst/>
            <a:rect l="textAreaLeft" t="textAreaTop" r="textAreaRight" b="textAreaBottom"/>
            <a:pathLst>
              <a:path w="21600" h="30685">
                <a:moveTo>
                  <a:pt x="3600" y="0"/>
                </a:moveTo>
                <a:arcTo wR="3600" hR="3600" stAng="16200000" swAng="-5400000"/>
                <a:lnTo>
                  <a:pt x="0" y="27085"/>
                </a:lnTo>
                <a:arcTo wR="3600" hR="3600" stAng="10800000" swAng="-5400000"/>
                <a:lnTo>
                  <a:pt x="18000" y="306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не в полной мере, требует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Экспертные  рекомендации по усовершенствованию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bb8"/>
                </a:solidFill>
                <a:latin typeface="Calibri"/>
              </a:rPr>
              <a:t>Различие между «правом»и «свободой»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ободы челове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область деятельности человека, в которые государство не должно вмешива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очерчивается с помощью правовых норм границы, в рамках которых человек действует по своему выбору  и усмотрен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государство должно воздержаться от интервенции в свободы человека и обязано обеспечить защиту границ этих свобод от вмешательства других ли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установленные и гарантируемые государством правомочия и потенции действий человека в конкретной сфе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не предлагается возможности выбора, варианте действия внутри данного права, им можно либо воспользоваться и реализовать его, либо не реализовыв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государство обязуется обеспечить и защитить правомерные действия человека в указанной законом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ПРАВА И СВОБОДЫ ЧЕЛОВЕК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НИВЕРСАЛЬНЫ- принадлежат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всем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людям во всех ситуациях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ЕСТЕСТВЕННЫ- принадлежат людям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т рождения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олько потому, что они люди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ОТЧУЖДАЕМЫ- нельзя произвольно лишить этих пра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а человека могут быть ограничен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олько законо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олько в той мере, в какой это необходимо для обеспечения безопасности общества, защиты нравственности, здоровья, прав  других люд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Права человек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 морально-правовых норм, призванных защищать человеческо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остоинст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вобо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ичности от произвола со стороны властных институтов и их представите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авливают сферу свободы и самоопределения личности, ее автоном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орядочивают и координируют общественные связи и отношения на основе международно-признанных норм и стандартов в области прав и свобод челове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рчивают границы деятельности государства, предотвращая неоправданное вторжение государства в сферу личной свободы человека ставя преграды всевластию и произволу государственных структу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ют параметры взаимоотношений человека и государства, ответственность последнего за свою деятельность перед личностью и обществ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вают раскрытие творческого потенциала каждой личности, стабильность, устойчивое развитие общества, его нормальную жизнедеятельн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bb8"/>
                </a:solidFill>
                <a:latin typeface="Calibri"/>
              </a:rPr>
              <a:t>СТАНДАРТЫ ЗАЩИТЫ ПРАВ ЧЕЛОВЕКА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работанный мировым сообществом нормативный минимум, на который должны ориентироваться государства при признании и обеспечении провозглашаемых пра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ждународно-правовые обязательства, реализующие принцип уважения прав человека и развивающие его в конкрет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орм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 также сформировавшееся на основе решений международных органов по правам человек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ецедентное пра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овые нормы по защите прав человека, содержащиеся в общепризнанных принципах и нормах международного права, международных договорах, действующих в данном государстве, и его законодательстве (Конституции и иных нормативных правовых актах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еждународные стандар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циональные стандар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Для чего необходимы стандарты</a:t>
            </a: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танавливают перечень прав и свобод челове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яют их содержание и допустимые ограничен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танавливают механизм их защ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Основополагающие принципы обеспечения защиты прав человек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принадлежат ему от рождения, они являются неотъемлемыми и неотчуждаемым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универсальны, основаны на принципе равенства, в том числе равенства прав мужчин и женщин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гарантированы каждому, кто находится под юрисдикцией Кыргызской Республик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– высшая ценность, а их уважение, соблюдение и защита – обязанность государств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еспечение прав и свобод несовместимо с дискриминацией по какому-либо признаку, за исключением позитивной дискриминац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люди равны в своем достоинстве и правах и должны поступать в отношении друг друга в духе братства, при этом ограничение прав и свобод одних людей допустимо при должном признании и уважении прав и свобод других людей, необходимых в демократическом обществ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ые права и свободы должны быть едины на всей территории Кыргызской Республики, их регулирование – предмет ведения органов государственной власти, а обеспечение и защита – предмет совместного ведения органов государственной власти и органов местного самоуправл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ажданские, политические, экономические, социальные и культурные права и свободы равноценны по своей значимости, едины (неразделимы) и взаимосвязан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395280" y="333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Основополагающие принципы обеспе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защиты прав человека 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9:32:15Z</dcterms:created>
  <dc:creator>kachikeevs</dc:creator>
  <dc:description/>
  <dc:language>en-US</dc:language>
  <cp:lastModifiedBy>LEGION</cp:lastModifiedBy>
  <dcterms:modified xsi:type="dcterms:W3CDTF">2015-01-28T13:36:27Z</dcterms:modified>
  <cp:revision>49</cp:revision>
  <dc:subject/>
  <dc:title>ПРАВА И СВОБОДЫ ЧЕЛОВЕКА – ОСНОВА ПРОВЕДЕНИЯ ПРАВОЗАЩИТНАЯ ЭКСПЕРТИЗА</dc:title>
</cp:coreProperties>
</file>