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7A71-679C-4731-85D8-188216C08F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6CF8-74B4-4B8E-94BA-054F9E8CE7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E985-B458-4C71-9E22-FEB10C65F7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438B-3EA4-4817-BF21-7B7AB7FCD7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4F88-6E11-40B2-B90B-63EFC4B373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AC9E-C37B-423F-8B1C-845681F28D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94EC-5D0D-4968-A9A3-F5696C7B15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B62A-5FEE-4A87-9C1B-EE3B3BC7D1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FA3-6AEB-4B0F-95F5-837DFC2C3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0BC9-E83B-483B-9CDC-CE4353CAB0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0419-264E-4C33-A413-F64C89DF2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BAD3-E6F4-4073-997B-135CA32CAA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F4B1-71BF-441B-8301-55B27F16FA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9802-8274-473A-A69A-CFCB36559C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97AF-2B00-45D5-A538-A2C8A55E9C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351C-52D1-4331-A39E-F1C9D0AEF0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5254-0349-4166-ABD0-7811C34A74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340-C097-461F-8E14-2A1E7FFD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F36-EA24-46F7-B2E6-D9611647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948-EDD9-42F4-B855-46C6E50E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B28-2AED-40BA-B073-7F316B78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7C79-CF72-4A56-87AE-3AE6DD65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73D0-7C3E-47D8-A4D2-C1D7D1F7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EA84-0BFA-43D9-8755-61E7D259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7FF3-2B39-4AAD-9389-1A7CEC7D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3DD8-5ED6-4B15-9A59-0A96E12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0D64-9708-4927-AD83-70222FF8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4BA1-C10B-4A6D-BEA0-F0022B17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DDF-C941-4930-97A9-9F64AD01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42C2-B66E-4DAF-B736-AB364012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C5B0-6331-436F-82EE-2C64506F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B4F3-0BAC-4472-B63C-6FB7687E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FFB5-3679-4C8D-B1E3-A60124FB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5E42-270E-4752-9E9D-A6EDE1F2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588A-ED4E-4512-BB9C-7709E7EE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9059-D077-422E-898F-F73B0445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D660-5F73-4FDC-AA71-4A7ECF13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A6AD-F517-44A9-AD54-E64C6FF7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E56E-AAC5-4691-8A32-E0FD1797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804-70A3-477C-9D38-6432238F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2F0D-9176-432E-9FF7-0970606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FDFB-89F0-4D15-AF2B-E3157A2E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B302-D545-4A2F-9EB9-B554BE2B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AE82-7220-4D28-857E-7EA82ED2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E0AE-B51D-4007-8B33-32A315BC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1B78-209F-4B72-83A8-7701B3BE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15FD-C55A-4373-9DE9-75D87A04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511F-465D-4FAE-A9F3-979E3941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01C6-08CC-4432-96B0-89EF5137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5556-FAC0-4F09-99B1-C24A5177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059-CA8A-41E6-9CD2-F28FCC8A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6C6E3-22CB-4925-9870-E8EA8A10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955A-EE6A-4F4D-A3A0-9F4D0297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6D65-298C-473D-9373-CC41BE2F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A87C0-E0EF-468C-8434-B5DA28C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952EE-A784-4327-960B-AB4AFCB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36031-CE2A-4BFB-92DC-A3E9D8A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07D5-C969-40D4-8A3A-221986F3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EB7D-011E-404F-9C61-CBA7EB10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4581F-47D5-4ED6-95FA-351DAB76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19B7-2A96-4011-A681-9773423B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8ED-BDBE-42A1-AAE5-DB7D523F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E9169-C6A5-40F6-912A-2596CB33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30E1D-3520-466F-8F50-AA269E3F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4D2F-B4AC-42C5-8508-0ACAA300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1743-209A-4A16-8234-65405B06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D6876-6519-427C-B9A7-85EB0F68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2D756-C43E-418B-B31E-D1C68B3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E201-0B24-4A5E-B901-1FF7A4C7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33B66-18E4-4303-94A2-260DCFDF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8F938-FF1B-4D39-A9B7-EBCC4C56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1CAF-89F8-4F21-9C72-678E855A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DDC-7634-4390-A3F8-86075943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D1DB5-23B6-4D8E-A7BC-0324D8E1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D3C10-DB07-4B58-9770-5A16D85B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43C67-0D1E-4521-B5D4-2CA73A10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841EA-0E15-4DDF-ADD5-445A3C56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89D27-0645-4F8A-93DA-9CF88FD3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FE506-4D94-45BC-BAAA-91772A38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4A9DF-3C86-42C6-B29C-8C12CFA2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F2B8-1561-4548-BD21-59A86E7B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413FC-C606-4242-AB35-BAD182E2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60246-92CA-446F-9517-CB2F6BE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431-B2F4-4A8D-A0F1-1ABD3DD9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1CA81-AE10-40BF-8AAC-8E17A152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D8AC7-04DE-4436-81FC-ED1BB5D0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31E93-8F0E-46CA-AC8C-FF17D80A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9A786-0226-4FAF-85B2-650F1E67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578D2-0760-4AEB-B995-C7CB071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C70F5-039C-4845-A66A-934DBC92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52B72-30B5-407E-B14E-0316D5D0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24977-00ED-4AF3-8151-749AD7B0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C8AB7-197F-4040-81D2-44B81062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A23A9-1469-472B-AAC8-9A619D22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1D9-6EBF-40D2-ADDA-4B80BBC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BBFAF-F5C7-4F7F-923D-2FAA8EA0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AB3CE-E0EF-48E5-B7AD-F5F54E78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EC98E-0E81-4049-BA57-CF712894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E9D5E-F92F-4CE6-9313-CCEF8BE8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15C8-35D3-4E7F-BD1D-15264702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520-C5E5-4843-A8EA-19C74A6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9F9F-D1BB-4705-ACAB-F4FF95A3277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DED9-2937-40C2-A03E-3F9B330E42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DCF6-81A2-43BE-9B6E-A647F76DFF2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C8FD-B4A9-41B6-9445-AA10AD32BB0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6BBE-1C6C-418E-B4C4-C5EEE95F7AA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5970-3FE8-48A1-A57A-5FC57CE5926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D62B-2B36-48AA-B38E-6582B34BE3D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7718-3984-4CAE-BB34-210C2A65C7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2B29-ABB4-448A-A18B-CAB4DE9587C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971C-D9AA-4480-BAB3-43617212CD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0950-8297-4FEC-82A7-775F8F5103C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3BDF-65C5-4217-B3DB-96DCCD8591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C355-7FD3-41A3-900D-8D64013A576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C175-EB1E-46C2-BDB3-2E32A2FCBF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3" descr=""/>
          <p:cNvPicPr/>
          <p:nvPr/>
        </p:nvPicPr>
        <p:blipFill>
          <a:blip r:embed="rId1"/>
          <a:stretch/>
        </p:blipFill>
        <p:spPr>
          <a:xfrm>
            <a:off x="-92160" y="274680"/>
            <a:ext cx="9455400" cy="565632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00080" y="428760"/>
            <a:ext cx="771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 :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. Право на жизнь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.  Право на имя;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. Право на всестороннее развитие и уважение человеческого достоинства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.  Право быть заслушанным в ходе судебного или административного заседания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Право жить и воспитываться в семь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Право на имущественные пра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раво на гражданство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. Право на использование совершенными услугами здравоохран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.  Право на отдых и досуг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.  Право на всестороннее участие в культурной и творческой жизн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.  Право на защиту от экономической эксплуатац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4.  Право на защиту от незаконного употребления наркотических и психотропных веществ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6 лет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.  Право на образова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.  Право на  совершение мелких бытовых сделок;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LEGION</cp:lastModifiedBy>
  <dcterms:modified xsi:type="dcterms:W3CDTF">2015-01-28T13:37:43Z</dcterms:modified>
  <cp:revision>24</cp:revision>
  <dc:subject/>
  <dc:title>Правовой статус несовершеннолетних с рождения до совершеннолетия</dc:title>
</cp:coreProperties>
</file>