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У СОШ №54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Личный права и свободы челове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ила: Утаганова Гузалия Ш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ководитель: Кутепова Т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граничения свободы личности допускаются только на основе закона и в законных формах, под судебным контрол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рантия неприкосновенности жилища (ст. 25) означает, что никто не имеет права без законного основания войти в жилище, а также оставаться в нем против воли проживающих в нем ли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прикосновенность личности (ст. 22)  заключается в том, что никто не вправе насильственно ограничить свободу человека распоряжаться в рамках закона своими действиями, пользоваться свободой передвижения. Никто не может быть подвергнут аресту, заключению под стражу и содержанию под стражей иначе, как на основании судебного реш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а мысли и с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Федеральном 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сове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у передвиже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основе конституционной нормы принят Закон РФ от 25 июня 1993 г. «О праве граждан на свободу передвижения, выбора места пребывания и жительства в пределах Российской Федераци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о определять и указывать свою национальность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щите национальных интересов граждан Российской Федерации в деле развития культуры языка и т. д. способствует Федеральный закон "О национальной культурной автономии" от 17 июня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удебную защиту прав и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ждане и жители России могут и должны требовать защиты своих прав в судебных органах, так как Российское законодательство дает им такую возможность и такое пра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сок литера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Конституция Р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Уголовный кодекс 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Федеральный закон. "О свободе совести и о религиозных объединениях"от 26 сентября 199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Федеральный закон «О языках народов РСФСР» от 25 октября 1991 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Федеральный закон "О национальной культурной автономии" от 17 июня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Федеральный закон «О праве граждан на свободу передвижения, выбора места пребывания и жительства в пределах Российской Федерации» от 25 июня 1993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Федеральный закон "О порядке выезда из Российской Федерации и въезда в Российскую Федерацию" от 15 августа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http://www.adhdporta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. http://www.glossary.r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. http://lawtoday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. http://www.pra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 http://state.r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мет данного исследования- личные права и свободы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 данного исследования- Конституция РФ и законы РФ, касающиеся прав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тоды, используемые в данной работе: изучение и анализ различных источ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ческая значимость исслед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анное исследование может оказать помощь в поиске законов, подтверждающих действие прав и свобод на территории России. Так же данное исследование может использоваться на уроках общество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чными правами называют совокупность естественных и неотчуждаемых основополагающих прав и свобод, принадлежащих человеку от рождения и не зависящих от его принадлежности к конкретному государству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чные пра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на жизн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ую целостность и личную неприкосно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защиту чести и доброго имени;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ное передвижение и свободный выбор места житель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покидать собственную страну и свободно возвращаться в не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удебную защиту и правосуд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а мысли, совести и религ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й закон Российской Федерации – Конституц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ой закон Российской Федерации – Конституция, подтверждает защиту в нашей стране прав и свобод, провозглашенных в международных документах: Декларации прав человека, Европейской конвенции о правах человека. В действующей Конституции личным правам и свободам посвящены статьи 20 – 29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 на жизн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оме основного закона страны на защите личных прав и свобод человека стоят и другие законы, например Уголовный кодекс Р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911-38B9-429C-9873-4401B192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282-12FC-42D1-A53C-E2480442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3D5-7122-4F99-B7BD-B8006050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92E-53D7-4460-8C0E-05BB02D4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A2F-3BB5-4AFC-92A1-FB11DD9D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523-BBAD-4CFC-9341-ACE5FEC1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30D-FCCE-42EF-96EE-1935DBD9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E04-258D-4A25-8AD0-6BA11363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247-F781-44F3-A191-0D41ADAA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BE6-6DC1-4BA6-B41C-57D10E93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9BD-D28E-4DA5-9F6C-6EE87DF0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349-3DF0-4088-89AF-30C4E6C8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E40B18-6A88-4CBF-9181-FE7D51D92C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77480"/>
            <a:ext cx="79912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У СОШ №54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Личный права и свободы челове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40000" y="4233960"/>
            <a:ext cx="50036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Утаганова Гузалия 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: Кутепова Т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83739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граничения свободы личности допускаются только на основе закона и в законных формах, под судебным контрол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рантия неприкосновенности жилища (ст. 25) означает, что никто не имеет права без законного основания войти в жилище, а также оставаться в нем против воли проживающих в нем л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1258995878_147478_image_large"/>
          <p:cNvPicPr/>
          <p:nvPr/>
        </p:nvPicPr>
        <p:blipFill>
          <a:blip r:embed="rId1"/>
          <a:stretch/>
        </p:blipFill>
        <p:spPr>
          <a:xfrm>
            <a:off x="1979640" y="2549520"/>
            <a:ext cx="5113440" cy="40924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прикосновенность личности (ст. 22)  заключается в том, что никто не вправе насильственно ограничить свободу человека распоряжаться в рамках закона своими действиями, пользоваться свободой передвижения. Никто не может быть подвергнут аресту, заключению под стражу и содержанию под стражей иначе, как на основании судебного реш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8229600" cy="60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а мысли 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Федеральном 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обода сове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interfaithBest"/>
          <p:cNvPicPr/>
          <p:nvPr/>
        </p:nvPicPr>
        <p:blipFill>
          <a:blip r:embed="rId1"/>
          <a:stretch/>
        </p:blipFill>
        <p:spPr>
          <a:xfrm>
            <a:off x="1763640" y="1170000"/>
            <a:ext cx="566424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 на свободу передвиж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снове конституционной нормы принят Закон РФ от 25 июня 1993 г. «О праве граждан на свободу передвижения, выбора места пребывания и жительства в пределах Российской Федерац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5overbay"/>
          <p:cNvPicPr/>
          <p:nvPr/>
        </p:nvPicPr>
        <p:blipFill>
          <a:blip r:embed="rId1"/>
          <a:stretch/>
        </p:blipFill>
        <p:spPr>
          <a:xfrm>
            <a:off x="2268360" y="620640"/>
            <a:ext cx="403236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о определять и указывать свою национальност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е национальных интересов граждан Российской Федерации в деле развития культуры языка и т. д. способствует Федеральный закон "О национальной культурной автономии" от 17 июня 199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 на судебную защиту прав и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об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_14ceae64"/>
          <p:cNvPicPr/>
          <p:nvPr/>
        </p:nvPicPr>
        <p:blipFill>
          <a:blip r:embed="rId1"/>
          <a:stretch/>
        </p:blipFill>
        <p:spPr>
          <a:xfrm>
            <a:off x="3276720" y="1557360"/>
            <a:ext cx="2590560" cy="5300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589960" cy="55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аждане и жители России могут и должны требовать защиты своих прав в судебных органах, так как Российское законодательство дает им такую возможность и такое прав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литерату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Конституция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Уголовный кодекс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Федеральный закон. "О свободе совести и о религиозных объединениях"от 26 сентября 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едеральный закон «О языках народов РСФСР» от 25 октября 1991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Федеральный закон "О национальной культурной автономии" от 17 июня 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Федеральный закон «О праве граждан на свободу передвижения, выбора места пребывания и жительства в пределах Российской Федерации» от 25 июня 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Федеральный закон "О порядке выезда из Российской Федерации и въезда в Российскую Федерацию" от 15 августа 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http://www.adhdporta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http://www.glossary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http://lawtoda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 http://www.pr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. http://state.ri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данного исследования- личные права и свободы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 данного исследования- Конституция РФ и законы РФ, касающиеся прав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, используемые в данной работе: изучение и анализ различ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значимост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ое исследование может оказать помощь в поиске законов, подтверждающих действие прав и свобод на территории России. Так же данное исследование может использоваться на уроках обществ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чными правами называют совокупность естественных и неотчуждаемых основополагающих прав и свобод, принадлежащих человеку от рождения и не зависящих от его принадлежности к конкретному государству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358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ы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 жизн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воб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ую целостность и личную неприкосновен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защиту чести и доброго имени;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вободное передвижение и свободный выбор места житель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покидать собственную страну и свободно возвращаться в н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удебную защиту и правосуд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а мысли, совести и рели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ой закон Российской Федерации – Конститу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105440" cy="50846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й закон Российской Федерации – Конституция, подтверждает защиту в нашей стране прав и свобод, провозглашенных в международных документах: Декларации прав человека, Европейской конвенции о правах человека. В действующей Конституции личным правам и свободам посвящены статьи 20 – 29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76000" y="0"/>
            <a:ext cx="72104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аво на жизн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85_04_10_2010_1_p_1"/>
          <p:cNvPicPr/>
          <p:nvPr/>
        </p:nvPicPr>
        <p:blipFill>
          <a:blip r:embed="rId1"/>
          <a:stretch/>
        </p:blipFill>
        <p:spPr>
          <a:xfrm>
            <a:off x="1476360" y="839880"/>
            <a:ext cx="5759640" cy="57592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ме основного закона страны на защите личных прав и свобод человека стоят и другие законы, например Уголовный кодекс РФ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0:27:20Z</dcterms:created>
  <dc:creator>Admin</dc:creator>
  <dc:description/>
  <dc:language>en-US</dc:language>
  <cp:lastModifiedBy>LEGION</cp:lastModifiedBy>
  <dcterms:modified xsi:type="dcterms:W3CDTF">2015-01-28T13:38:33Z</dcterms:modified>
  <cp:revision>19</cp:revision>
  <dc:subject/>
  <dc:title>Личные права человека</dc:title>
</cp:coreProperties>
</file>