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ba75"/>
              </a:solidFill>
              <a:latin typeface="Comic Sans M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cd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6976-4E66-43E5-9D2E-6B8D097BC7B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slide" Target="../slides/slide6.xml"/><Relationship Id="rId10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Тема: Права и свободы человека и гражданина по Конституции Российской Федерац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60B3-37B0-4EF3-A137-278BC9A9DA66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Гарантии прав и свобод личност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 точки зрения общей системы, гарантии прав человека и гражданина, рассматривают как: общие и юридические</a:t>
            </a:r>
            <a:r>
              <a:rPr b="0" i="1" lang="ru-RU" sz="1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D4D1-96AC-47B8-B7FA-9827FD716AD1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Главным принципом любой Конституции является положение о том, что верховная власть не может принять закон без одобрения представителей народа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78AF-AC73-440F-A3CB-3C08F2B01E94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План урока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Monotype Corsiv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1. Конституция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2. Конституционно правовой стат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человека и граждан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3. Гражданство 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4. Система прав и свобод человека и гражда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5. Гарантии прав и  свобод человека и гражда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A37E-45BF-484B-A711-F8006934D0AA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Monotype Corsiva"/>
              </a:rPr>
              <a:t>Конституция РФ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Monotype Corsiva"/>
              </a:rPr>
              <a:t>принята всенародным голосовани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Monotype Corsiva"/>
              </a:rPr>
              <a:t>12декабря 1993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Monotype Corsiva"/>
              </a:rPr>
              <a:t>Мы, многонациональный народ Российской Федерации, соединенные общей судьбой на своей земле, утверждая права и свободы человека, гражданский мир и согласие, сохраняя исторически сложившееся государственное единство, исходя из общепринятых принципов равноправия и самоопределения народов, чтя память предков, передавших нам любовь и уважение к Отечеству, веру в добро и справедливость, возрождая суверенную государственность России и утверждая незыблемость ее демократической основы, стремясь обеспечить благополучие и процветание России, исходя из ответственности за свою Родину перед нынешним и будущим поколениями,  сознавая себя частью мирового сообщества, принимаем </a:t>
            </a:r>
            <a:r>
              <a:rPr b="0" i="1" lang="ru-RU" sz="1200" spc="-1" strike="noStrike">
                <a:solidFill>
                  <a:srgbClr val="c0504d"/>
                </a:solidFill>
                <a:latin typeface="Monotype Corsiva"/>
              </a:rPr>
              <a:t>КОНСТИТУЦИЮ РОССИЙСКОЙ ФЕДЕРАЦИИ.</a:t>
            </a:r>
            <a:r>
              <a:rPr b="0" lang="ru-RU" sz="1200" spc="-1" strike="noStrike">
                <a:solidFill>
                  <a:srgbClr val="c0504d"/>
                </a:solidFill>
                <a:latin typeface="Monotype Corsi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90B0-3880-4B8D-A182-54AC426494B3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бщая характеристика Конституции РФ 1993 год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онституция России состоит из преамбулы и двух разде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сновным является первый раздел, состоящий из 9 гла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1 Основы конституционного стро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2 Права и свободы  человека и граждан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3 Федеративное устро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4 Президент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5 Федеральное собр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6  Правительство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7 Судебная вла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8 Местное само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9 Конституционные поправки и пересмотр Конститу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торой («Заключительные и переходные положения») предусматривает ряд норм, которые носят временный 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80B4-A2DC-4192-8F89-8AE4B2254172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нституция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онституция РФ принимается многонациональным народом РФ, в ней называются цели, реализация которых является основной задачей 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утверждение прав и свобод челове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утверждение гражданского мира и согласия в РФ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сохранение исторически сложившегося государственного един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возрождение суверенной государственности Росс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утверждение незыблемости демократических основ Российского        государ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обеспечение благополучия и процветания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1DF2-6CDA-40B0-BACD-AE64DD7F3B7E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Основы Конституционного стро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Россия провозглашена демократическим федеративным правов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осударством с республиканской формой 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Единственным источником власти в России является 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ногонациональный нар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ысшей ценностью в Российской Федерации являются человек, 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жизнь и здоровье, честь и достоинство, личная неприкосновенность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езопасность, права и своб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осударство проводит гуманную демографическую полит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знается политическое многообразие, многопартий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Экономические отношения строятся на основе социаль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артнерства человека и государства, работника и работодател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требите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беспечение равных и справедливых возможностей для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лич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осударственная власть в России осуществляется на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разделения на законодательную, исполнительную и судебну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рганы которых – самостоятель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B34F-D0C7-46BE-87F9-0EB3D856A489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Конституционно правовой статус человека и гражданин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omic Sans MS"/>
              </a:rPr>
              <a:t>Конституционно правовой статус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это статус лица как гражданина государ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члена общества. Он определяется, преж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сего, Конституцией и не зависит 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различных текущих обстоятель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(перемещений по службе, семей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ложения, должности, выполняе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функций), является единым и одинаков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ля всех, характеризуется относитель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табильностью, обобщен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DDD2-4116-4427-8845-18BE85516B53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Гражданство в РФ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omic Sans MS"/>
              </a:rPr>
              <a:t>Гражданство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– устойчивая правовая связь человека с государством, выражающаяся в совокупности их взаимных прав, обязанностей и ответственности, основанная на признании и уважении достоинства основных прав и свобод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ражданство подтверждается документами: паспортом, удостоверением личности, а до их получения – свидетельством о рождении или иными документом, содержащем указание на гражданство ли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ражданство РФ может быть приобретено по ряду оснований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в результате признания гражд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по рожд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в порядке регист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в результате приема в 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результате восстановления гражд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путем выбора гражданства (оптации) при измен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осударственной принадле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B78E-1E0B-4D15-BDD4-9BAF8A30E647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Система прав и свобод человека и граждан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се права и свободы неотделимы друг от друга и взаимосвязан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этому такое разделение носит условный 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Личные права и свободы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(право на жизнь, свободу;  личн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еприкосновенность, свободное передвижение и выбор ме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жительства, свободу совести, мысли и слова 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Политические права и свободы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(право на свободу искать, получ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 распространять информацию, право на собрания, право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частие в ведении государственных дел, право избирать и бы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збранным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Социальные и экономические права и свободы (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аво на тру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оциальное обеспечение, образовани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Культурные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(свобода литературного, художественног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аучного, технического творчества, преподавания, право на учас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 культурной жизни и пользование достижениями культуры,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оступ к культурным ценностя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49B3-8585-4E55-8B9C-5FC3A94C596A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B26D-9116-4155-B5B5-B5B134431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5A00-7AA1-4414-B6E7-6DFE4C36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67D1-E5FD-4DDD-9E55-5D86627A2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637C-B96F-459B-A715-BD3D2FE4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C895-5476-4DB3-A059-58FD331F8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ED52-07CE-4A3C-BA80-233F12CE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CDAC-5EEF-4226-8B4D-8431DB8D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C4D2-0478-4880-BC57-43F975BC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8322-55C2-4C17-A320-D5768B11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BDF2-2981-4304-82BC-A77F40BA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290B-B6E6-4247-AB50-DA03AFE7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968B-43BC-4378-B72A-3412A9A2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0BBD-C06D-4EA4-BBED-7224809C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69A6-5B63-4E41-B554-7B155223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5E82-1CE9-4AEB-AAD8-B136FC85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CBFC-DECB-43C2-836D-417262962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95DA-B646-489F-99FE-13A23CD33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74B6-8526-4319-BFAD-4C442B31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EE4D-486C-4F94-834C-0A0D193C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DAC9-A3A9-436D-AA76-D60B392F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2871-2881-4A9E-BF0F-F77BF9CC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4353-CE1E-43C2-8419-98F37903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4813-315A-4CFC-9246-63B760F7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6B5C-3A58-4CA7-8D38-97B9EF90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c29e"/>
            </a:gs>
            <a:gs pos="50000">
              <a:srgbClr val="ffffcc"/>
            </a:gs>
            <a:gs pos="100000">
              <a:srgbClr val="f8c2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cd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67d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d1590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ba75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0AF1-0A00-4EE9-96E9-AE059BD6CFB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c29e"/>
            </a:gs>
            <a:gs pos="50000">
              <a:srgbClr val="ffffcc"/>
            </a:gs>
            <a:gs pos="100000">
              <a:srgbClr val="f8c2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cd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67d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d1590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ba75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ba75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ba75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025E-FC78-4429-AF29-18A20D8315B3}" type="slidenum">
              <a:rPr b="0" lang="ru-RU" sz="1200" spc="-1" strike="noStrike">
                <a:solidFill>
                  <a:srgbClr val="ffba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28846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f8c29e">
                <a:alpha val="50000"/>
              </a:srgbClr>
            </a:outerShdw>
          </a:effectLst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ba75"/>
                </a:solidFill>
                <a:latin typeface="Comic Sans MS"/>
              </a:rPr>
              <a:t>Тема: Права и свободы человека и гражданина по Конституции Российской Федерации.</a:t>
            </a:r>
            <a:r>
              <a:rPr b="0" lang="ru-RU" sz="4800" spc="-1" strike="noStrike">
                <a:solidFill>
                  <a:srgbClr val="ffecd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ecd9"/>
                </a:solidFill>
                <a:latin typeface="Comic Sans MS"/>
              </a:rPr>
              <a:t>Гарантии прав и свобод личности</a:t>
            </a:r>
            <a:r>
              <a:rPr b="0" lang="ru-RU" sz="4000" spc="-1" strike="noStrike">
                <a:solidFill>
                  <a:srgbClr val="ffecd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ba75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ffba75"/>
                </a:solidFill>
                <a:latin typeface="Comic Sans MS"/>
              </a:rPr>
              <a:t>С точки зрения общей системы, гарантии прав человека и гражданина, рассматривают как: общие и юридические</a:t>
            </a:r>
            <a:r>
              <a:rPr b="0" i="1" lang="ru-RU" sz="2800" spc="-1" strike="noStrike">
                <a:solidFill>
                  <a:srgbClr val="ffba75"/>
                </a:solidFill>
                <a:latin typeface="Comic Sans MS"/>
              </a:rPr>
              <a:t>.</a:t>
            </a:r>
            <a:r>
              <a:rPr b="0" lang="ru-RU" sz="2800" spc="-1" strike="noStrike">
                <a:solidFill>
                  <a:srgbClr val="ffba75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5870880" y="3676680"/>
            <a:ext cx="261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    </a:t>
            </a:r>
            <a:r>
              <a:rPr b="0" lang="ru-RU" sz="2400" spc="-1" strike="noStrike" u="sng">
                <a:solidFill>
                  <a:srgbClr val="ffba75"/>
                </a:solidFill>
                <a:uFillTx/>
                <a:latin typeface="Comic Sans MS"/>
              </a:rPr>
              <a:t>Юридические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охраны 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реализации 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395280" y="3716280"/>
            <a:ext cx="52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ba75"/>
                </a:solidFill>
                <a:latin typeface="Comic Sans MS"/>
              </a:rPr>
              <a:t>    </a:t>
            </a:r>
            <a:r>
              <a:rPr b="0" lang="ru-RU" sz="2400" spc="-1" strike="noStrike" u="sng">
                <a:solidFill>
                  <a:srgbClr val="ffba75"/>
                </a:solidFill>
                <a:uFillTx/>
                <a:latin typeface="Comic Sans MS"/>
              </a:rPr>
              <a:t>Общие</a:t>
            </a: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экономические (материальные)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социальные 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идеологические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политические 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l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nodeType="clickEffect" fill="hold">
                      <p:stCondLst>
                        <p:cond delay="0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7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9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1120"/>
                            </p:stCondLst>
                            <p:childTnLst>
                              <p:par>
                                <p:cTn id="7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3120"/>
                            </p:stCondLst>
                            <p:childTnLst>
                              <p:par>
                                <p:cTn id="7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4120"/>
                            </p:stCondLst>
                            <p:childTnLst>
                              <p:par>
                                <p:cTn id="80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ecd9"/>
                </a:solidFill>
                <a:latin typeface="Monotype Corsiva"/>
              </a:rPr>
              <a:t>“</a:t>
            </a:r>
            <a:r>
              <a:rPr b="0" lang="ru-RU" sz="4800" spc="-1" strike="noStrike">
                <a:solidFill>
                  <a:srgbClr val="ffecd9"/>
                </a:solidFill>
                <a:latin typeface="Monotype Corsiva"/>
              </a:rPr>
              <a:t>Главным принципом любой Конституции является положение о том, что верховная власть не может принять закон без одобрения представителей народа</a:t>
            </a:r>
            <a:r>
              <a:rPr b="0" lang="en-US" sz="4800" spc="-1" strike="noStrike">
                <a:solidFill>
                  <a:srgbClr val="ffecd9"/>
                </a:solidFill>
                <a:latin typeface="Monotype Corsiva"/>
              </a:rPr>
              <a:t>”</a:t>
            </a:r>
            <a:r>
              <a:rPr b="0" lang="ru-RU" sz="4800" spc="-1" strike="noStrike">
                <a:solidFill>
                  <a:srgbClr val="ffecd9"/>
                </a:solidFill>
                <a:latin typeface="Monotype Corsiva"/>
              </a:rPr>
              <a:t>.</a:t>
            </a:r>
            <a:endParaRPr b="0" lang="en-US" sz="48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6147000" y="5661000"/>
            <a:ext cx="2811240" cy="5814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Monotype Corsiva"/>
              </a:rPr>
              <a:t>А. Керенский</a:t>
            </a:r>
            <a:endParaRPr b="0" lang="en-US" sz="3200" spc="-1" strike="noStrike">
              <a:solidFill>
                <a:srgbClr val="ffba75"/>
              </a:solidFill>
              <a:latin typeface="Comic Sans MS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newsflash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0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ecd9"/>
                </a:solidFill>
                <a:uFillTx/>
                <a:latin typeface="Monotype Corsiva"/>
              </a:rPr>
              <a:t>План урока</a:t>
            </a:r>
            <a:r>
              <a:rPr b="0" lang="en-US" sz="4800" spc="-1" strike="noStrike" u="sng">
                <a:solidFill>
                  <a:srgbClr val="ffecd9"/>
                </a:solidFill>
                <a:uFillTx/>
                <a:latin typeface="Monotype Corsiva"/>
              </a:rPr>
              <a:t>:</a:t>
            </a:r>
            <a:endParaRPr b="0" lang="en-US" sz="48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ba75"/>
                </a:solidFill>
                <a:latin typeface="Monotype Corsiva"/>
              </a:rPr>
              <a:t>1. Конституция РФ.</a:t>
            </a:r>
            <a:endParaRPr b="0" lang="en-US" sz="3600" spc="-1" strike="noStrike">
              <a:solidFill>
                <a:srgbClr val="ffba75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ba75"/>
                </a:solidFill>
                <a:latin typeface="Monotype Corsiva"/>
              </a:rPr>
              <a:t>2. Конституционно правовой статус</a:t>
            </a:r>
            <a:endParaRPr b="0" lang="en-US" sz="3600" spc="-1" strike="noStrike">
              <a:solidFill>
                <a:srgbClr val="ffba75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ba75"/>
                </a:solidFill>
                <a:latin typeface="Monotype Corsiva"/>
              </a:rPr>
              <a:t>человека и гражданина. </a:t>
            </a:r>
            <a:endParaRPr b="0" lang="en-US" sz="3600" spc="-1" strike="noStrike">
              <a:solidFill>
                <a:srgbClr val="ffba75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ba75"/>
                </a:solidFill>
                <a:latin typeface="Monotype Corsiva"/>
              </a:rPr>
              <a:t>3. Гражданство в РФ.</a:t>
            </a:r>
            <a:endParaRPr b="0" lang="en-US" sz="3600" spc="-1" strike="noStrike">
              <a:solidFill>
                <a:srgbClr val="ffba75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ba75"/>
                </a:solidFill>
                <a:latin typeface="Monotype Corsiva"/>
              </a:rPr>
              <a:t>4. Система прав и свобод человека и гражданина.</a:t>
            </a:r>
            <a:endParaRPr b="0" lang="en-US" sz="3600" spc="-1" strike="noStrike">
              <a:solidFill>
                <a:srgbClr val="ffba75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ba75"/>
                </a:solidFill>
                <a:latin typeface="Monotype Corsiva"/>
              </a:rPr>
              <a:t>5. Гарантии прав и  свобод человека и гражданина.</a:t>
            </a:r>
            <a:endParaRPr b="0" lang="en-US" sz="36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ba75"/>
                </a:solidFill>
                <a:latin typeface="Monotype Corsiva"/>
              </a:rPr>
              <a:t>Мы, многонациональный народ Российской Федерации, соединенные общей судьбой на своей земле, утверждая права и свободы человека, гражданский мир и согласие, сохраняя исторически сложившееся государственное единство, исходя из общепринятых принципов равноправия и самоопределения народов, чтя память предков, передавших нам любовь и уважение к Отечеству, веру в добро и справедливость, возрождая суверенную государственность России и утверждая незыблемость ее демократической основы, стремясь обеспечить благополучие и процветание России, исходя из ответственности за свою Родину перед нынешним и будущим поколениями,  сознавая себя частью мирового сообщества, принимаем </a:t>
            </a:r>
            <a:r>
              <a:rPr b="0" i="1" lang="ru-RU" sz="2400" spc="-1" strike="noStrike">
                <a:solidFill>
                  <a:srgbClr val="f67d5c"/>
                </a:solidFill>
                <a:latin typeface="Monotype Corsiva"/>
              </a:rPr>
              <a:t>КОНСТИТУЦИЮ РОССИЙСКОЙ ФЕДЕРАЦИИ.</a:t>
            </a:r>
            <a:r>
              <a:rPr b="0" lang="ru-RU" sz="2400" spc="-1" strike="noStrike">
                <a:solidFill>
                  <a:srgbClr val="f67d5c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ba75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3922560" y="297000"/>
            <a:ext cx="4897440" cy="1557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67d5c"/>
                </a:solidFill>
                <a:latin typeface="Monotype Corsiva"/>
              </a:rPr>
              <a:t>Конституция РФ 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67d5c"/>
                </a:solidFill>
                <a:latin typeface="Monotype Corsiva"/>
              </a:rPr>
              <a:t>принята всенародным голосованием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67d5c"/>
                </a:solidFill>
                <a:latin typeface="Monotype Corsiva"/>
              </a:rPr>
              <a:t>12декабря 1993 года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ecd9"/>
                </a:solidFill>
                <a:latin typeface="Comic Sans MS"/>
              </a:rPr>
              <a:t>Общая характеристика Конституции РФ 1993 года</a:t>
            </a:r>
            <a:r>
              <a:rPr b="0" lang="ru-RU" sz="4000" spc="-1" strike="noStrike">
                <a:solidFill>
                  <a:srgbClr val="ffecd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634760"/>
            <a:ext cx="8496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Конституция России состоит из преамбулы и двух разделов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Основным является первый раздел, состоящий из 9 глав: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1 Основы конституционного строя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2 Права и свободы  человека и гражданина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3 Федеративное устройство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4 Президент РФ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5 Федеральное собрание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6  Правительство РФ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7 Судебная власть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8 Местное самоуправление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9 Конституционные поправки и пересмотр Конституции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второй («Заключительные и переходные положения») предусматривает ряд норм, которые носят временный характер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640"/>
                            </p:stCondLst>
                            <p:childTnLst>
                              <p:par>
                                <p:cTn id="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ecd9"/>
                </a:solidFill>
                <a:latin typeface="Comic Sans MS"/>
              </a:rPr>
              <a:t>Конституция Российской Федерации</a:t>
            </a:r>
            <a:endParaRPr b="0" lang="en-US" sz="40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9036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Конституция РФ принимается многонациональным народом РФ, в ней называются цели, реализация которых является основной задачей государства: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утверждение прав и свобод человека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утверждение гражданского мира и согласия в РФ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сохранение исторически сложившегося государственного единства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возрождение суверенной государственности России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утверждение незыблемости демократических основ Российского        государства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обеспечение благополучия и процветания России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1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3240"/>
                            </p:stCondLst>
                            <p:childTnLst>
                              <p:par>
                                <p:cTn id="18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73440" y="108000"/>
            <a:ext cx="932508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ecd9"/>
                </a:solidFill>
                <a:latin typeface="Comic Sans MS"/>
              </a:rPr>
              <a:t>Основы Конституционного строя</a:t>
            </a: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8000" y="907560"/>
            <a:ext cx="9144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Россия провозглашена демократическим федеративным правовым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осударством с республиканской формой правления.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Единственным источником власти в России является ее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многонациональный народ.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Высшей ценностью в Российской Федерации являются человек, его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жизнь и здоровье, честь и достоинство, личная неприкосновенность и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безопасность, права и свободы.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осударство проводит гуманную демографическую политику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Признается политическое многообразие, многопартийность.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Экономические отношения строятся на основе социального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партнерства человека и государства, работника и работодателя,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потребителя.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Обеспечение равных и справедливых возможностей для развития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личности.</a:t>
            </a:r>
            <a:r>
              <a:rPr b="0" lang="ru-RU" sz="2000" spc="-1" strike="noStrike">
                <a:solidFill>
                  <a:srgbClr val="ffba75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осударственная власть в России осуществляется на основе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разделения на законодательную, исполнительную и судебную,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органы которых – самостоятельны.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l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120"/>
                            </p:stCondLst>
                            <p:childTnLst>
                              <p:par>
                                <p:cTn id="2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4360" y="-11160"/>
            <a:ext cx="8748720" cy="1711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ecd9"/>
                </a:solidFill>
                <a:latin typeface="Comic Sans MS"/>
              </a:rPr>
              <a:t>Конституционно правовой статус человека и гражданина</a:t>
            </a:r>
            <a:r>
              <a:rPr b="0" lang="ru-RU" sz="4000" spc="-1" strike="noStrike">
                <a:solidFill>
                  <a:srgbClr val="ffecd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5724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ba75"/>
                </a:solidFill>
                <a:uFillTx/>
                <a:latin typeface="Comic Sans MS"/>
              </a:rPr>
              <a:t>Конституционно правовой статус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–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это статус лица как гражданина государства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члена общества. Он определяется, прежде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всего, Конституцией и не зависит от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различных текущих обстоятельств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(перемещений по службе, семейного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положения, должности, выполняемых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функций), является единым и одинаковым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Для всех, характеризуется относительной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стабильностью, обобщенностью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</p:txBody>
      </p:sp>
      <p:pic>
        <p:nvPicPr>
          <p:cNvPr id="178" name="Picture 6" descr="j0233018"/>
          <p:cNvPicPr/>
          <p:nvPr/>
        </p:nvPicPr>
        <p:blipFill>
          <a:blip r:embed="rId1"/>
          <a:stretch/>
        </p:blipFill>
        <p:spPr>
          <a:xfrm rot="591000">
            <a:off x="6300360" y="2852280"/>
            <a:ext cx="2148120" cy="218124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r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3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9600" cy="8539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ecd9"/>
                </a:solidFill>
                <a:latin typeface="Comic Sans MS"/>
              </a:rPr>
              <a:t>Гражданство в РФ</a:t>
            </a:r>
            <a:r>
              <a:rPr b="0" lang="ru-RU" sz="4400" spc="-1" strike="noStrike">
                <a:solidFill>
                  <a:srgbClr val="ffecd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ba75"/>
                </a:solidFill>
                <a:uFillTx/>
                <a:latin typeface="Comic Sans MS"/>
              </a:rPr>
              <a:t>Гражданство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– устойчивая правовая связь человека с государством, выражающаяся в совокупности их взаимных прав, обязанностей и ответственности, основанная на признании и уважении достоинства основных прав и свобод человека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ражданство подтверждается документами: паспортом, удостоверением личности, а до их получения – свидетельством о рождении или иными документом, содержащем указание на гражданство лица.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ражданство РФ может быть приобретено по ряду оснований</a:t>
            </a:r>
            <a:r>
              <a:rPr b="0" lang="en-US" sz="2000" spc="-1" strike="noStrike">
                <a:solidFill>
                  <a:srgbClr val="ffba75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в результате признания гражданства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по рождению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</a:t>
            </a:r>
            <a:r>
              <a:rPr b="0" lang="en-US" sz="2000" spc="-1" strike="noStrike">
                <a:solidFill>
                  <a:srgbClr val="ffba75"/>
                </a:solidFill>
                <a:latin typeface="Comic Sans MS"/>
              </a:rPr>
              <a:t>в порядке регистрации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в результате приема в гражданство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ffba75"/>
                </a:solidFill>
                <a:latin typeface="Comic Sans MS"/>
              </a:rPr>
              <a:t> результате восстановления гражданства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путем выбора гражданства (оптации) при изменении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осударственной принадлежности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u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0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45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46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4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8964720" cy="1368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ecd9"/>
                </a:solidFill>
                <a:latin typeface="Comic Sans MS"/>
              </a:rPr>
              <a:t>Система прав и свобод человека и гражданина</a:t>
            </a: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Все права и свободы неотделимы друг от друга и взаимосвязаны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поэтому такое разделение носит условный характер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ba75"/>
                </a:solidFill>
                <a:uFillTx/>
                <a:latin typeface="Comic Sans MS"/>
              </a:rPr>
              <a:t>Личные права и свободы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(право на жизнь, свободу;  личную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неприкосновенность, свободное передвижение и выбор места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жительства, свободу совести, мысли и слова )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ba75"/>
                </a:solidFill>
                <a:uFillTx/>
                <a:latin typeface="Comic Sans MS"/>
              </a:rPr>
              <a:t>Политические права и свободы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(право на свободу искать, получать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и распространять информацию, право на собрания, право на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участие в ведении государственных дел, право избирать и быть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избранными)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ba75"/>
                </a:solidFill>
                <a:uFillTx/>
                <a:latin typeface="Comic Sans MS"/>
              </a:rPr>
              <a:t>Социальные и экономические права и свободы (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право на труд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социальное обеспечение, образование)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ba75"/>
                </a:solidFill>
                <a:uFillTx/>
                <a:latin typeface="Comic Sans MS"/>
              </a:rPr>
              <a:t>Культурные права</a:t>
            </a:r>
            <a:r>
              <a:rPr b="0" lang="ru-RU" sz="2000" spc="-1" strike="noStrike">
                <a:solidFill>
                  <a:srgbClr val="ffba75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(свобода литературного, художественного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научного, технического творчества, преподавания, право на участие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в культурной жизни и пользование достижениями культуры, на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доступ к культурным ценностям)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d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0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520"/>
                            </p:stCondLst>
                            <p:childTnLst>
                              <p:par>
                                <p:cTn id="5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2520"/>
                            </p:stCondLst>
                            <p:childTnLst>
                              <p:par>
                                <p:cTn id="55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4520"/>
                            </p:stCondLst>
                            <p:childTnLst>
                              <p:par>
                                <p:cTn id="5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6520"/>
                            </p:stCondLst>
                            <p:childTnLst>
                              <p:par>
                                <p:cTn id="6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8520"/>
                            </p:stCondLst>
                            <p:childTnLst>
                              <p:par>
                                <p:cTn id="6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09:51:18Z</dcterms:created>
  <dc:creator>Артем</dc:creator>
  <dc:description/>
  <dc:language>en-US</dc:language>
  <cp:lastModifiedBy>LEGION</cp:lastModifiedBy>
  <dcterms:modified xsi:type="dcterms:W3CDTF">2015-01-28T13:39:03Z</dcterms:modified>
  <cp:revision>20</cp:revision>
  <dc:subject/>
  <dc:title>Тема: Права и свободы человека и гражданина по Конституции Российской Федерации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