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cd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AD21-EAE5-4117-8FB2-CE3EA8D2D95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" Target="../slides/slide6.xml"/><Relationship Id="rId10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Тема: Права и свободы человека и гражданина по Конституции Российской Федерац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6044-75E6-4F63-B730-A450ABA69234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Гарантии прав и свобод лич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 точки зрения общей системы, гарантии прав человека и гражданина, рассматривают как: общие и юридические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7208-76AE-4DA3-802B-38BC56D0F75F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Главным принципом любой Конституции является положение о том, что верховная власть не может принять закон без одобрения представителей народа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7F03-92C2-458A-B80D-06B7DCFBBB8B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План урок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Monotype Corsiv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1. Конституция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2. Конституционно правовой стат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человека и граждан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3. Гражданство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4. Система прав и свобод человека и гражда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5. Гарантии прав и  свобод человека и гражда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4C73-B65F-4B90-8B85-76865D4E9389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Monotype Corsiva"/>
              </a:rPr>
              <a:t>Конституция РФ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Monotype Corsiva"/>
              </a:rPr>
              <a:t>принята всенародным голосован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Monotype Corsiva"/>
              </a:rPr>
              <a:t>12декабря 1993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Monotype Corsiva"/>
              </a:rPr>
              <a:t>Мы, многонациональный народ Российской Федерации, соединенные общей судьбой на своей земле, утверждая права и свободы человека, гражданский мир и согласие, сохраняя исторически сложившееся государственное единство, исходя из общепринятых принципов равноправия и самоопределения народов, чтя память предков, передавших нам любовь и уважение к Отечеству, веру в добро и справедливость, возрождая суверенную государственность России и утверждая незыблемость ее демократической основы, стремясь обеспечить благополучие и процветание России, исходя из ответственности за свою Родину перед нынешним и будущим поколениями,  сознавая себя частью мирового сообщества, принимаем </a:t>
            </a:r>
            <a:r>
              <a:rPr b="0" i="1" lang="ru-RU" sz="1200" spc="-1" strike="noStrike">
                <a:solidFill>
                  <a:srgbClr val="c0504d"/>
                </a:solidFill>
                <a:latin typeface="Monotype Corsiva"/>
              </a:rPr>
              <a:t>КОНСТИТУЦИЮ РОССИЙСКОЙ ФЕДЕРАЦИИ.</a:t>
            </a:r>
            <a:r>
              <a:rPr b="0" lang="ru-RU" sz="1200" spc="-1" strike="noStrike">
                <a:solidFill>
                  <a:srgbClr val="c0504d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BAA9-B0CF-43A2-B9F9-7EFB3D1DBF99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щая характеристика Конституции РФ 1993 г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ституция России состоит из преамбулы и двух разде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сновным является первый раздел, состоящий из 9 гла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1 Основы конституционного стр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2 Права и свободы  человека и гражда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3 Федеративное устро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4 Президент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5 Федеральное собр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6  Правительство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7 Судебная в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8 Местное само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9 Конституционные поправки и пересмотр Конститу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торой («Заключительные и переходные положения») предусматривает ряд норм, которые носят времен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66BC-FBB9-4BB8-A8FC-3F11DC9D971D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нституция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ституция РФ принимается многонациональным народом РФ, в ней называются цели, реализация которых является основной задачей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тверждение прав и свобод челов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тверждение гражданского мира и согласия в РФ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сохранение исторически сложившегося государственного един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возрождение суверенной государственности Росс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тверждение незыблемости демократических основ Российского        государ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обеспечение благополучия и процветания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FF6C-2FFA-4824-B81B-6F212B834814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сновы Конституционного стр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оссия провозглашена демократическим федеративным правов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ом с республиканской формой 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динственным источником власти в России является 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ногонациональный нар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ысшей ценностью в Российской Федерации являются человек,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жизнь и здоровье, честь и достоинство, личная неприкосновенность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езопасность, права и своб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о проводит гуманную демографическ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знается политическое многообразие, многопартий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номические отношения строятся на основе социа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артнерства человека и государства, работника и работодател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треб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беспечение равных и справедливых возможностей для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ич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енная власть в России осуществляется на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азделения на законодательную, исполнительную и судеб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рганы которых – самостоятель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BBC2-F7AC-4401-B21C-05536A6926D0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Конституционно правовой статус человека и граждани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Конституционно правовой статус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то статус лица как гражданина государ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лена общества. Он определяется, преж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сего, Конституцией и не зависит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азличных текущих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перемещений по службе, семей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ложения, должности, выполня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функций), является единым и одинаков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ля всех, характеризуется относите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табильностью, обобщ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2DAB-1F07-45DF-8524-1E38F85F8861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Гражданство в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Гражданство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– устойчивая правовая связь человека с государством, выражающаяся в совокупности их взаимных прав, обязанностей и ответственности, основанная на признании и уважении достоинства основных прав и свобод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ражданство подтверждается документами: паспортом, удостоверением личности, а до их получения – свидетельством о рождении или иными документом, содержащем указание на гражданство ли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ражданство РФ может быть приобретено по ряду оснований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в результате признания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о рож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в порядке реги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в результате приема в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результате восстановления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утем выбора гражданства (оптации) при изме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енной принадле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B233-D977-4C6B-846F-D50E41CAF5C4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Система прав и свобод человека и гражда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се права и свободы неотделимы друг от друга и взаимосвяза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этому такое разделение носит услов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Личные права и свобод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право на жизнь, свободу;  ли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еприкосновенность, свободное передвижение и выбор ме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жительства, свободу совести, мысли и слова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Политические права и свобод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право на свободу искать, получ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 распространять информацию, право на собрания, право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астие в ведении государственных дел, право избирать и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збранны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Социальные и экономические права и свободы (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аво на тру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циальное обеспечение, образова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Культурные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свобода литературного, художественн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учного, технического творчества, преподавания, право на учас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культурной жизни и пользование достижениями культуры,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ступ к культурным ценност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B850-1049-43CE-A475-1583C98911BE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B2B-D05E-48F7-9D7D-71EDCBF3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91FA-BC5C-4D9F-93D0-4FD4009F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D47-5810-4907-BAC3-5FA702B6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766-EB5C-43F8-AED8-0A5A637A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5EF3-B4E5-4EAB-B2EF-CDBD2EDC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E86E-563E-492D-B46F-1D4B2C50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E867-A81C-4A68-93AC-DC04807E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EB7C-F527-4A0C-BA5F-01D3D40B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7195-8A21-4C66-B5C5-D70239E8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C860-CC59-415B-BD77-31C3C95A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3D08-5B7B-4774-BE56-E106A94C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3A78-C6AD-4265-A5D0-F4E6507A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B57C-48FF-46EB-85B2-6F0E2724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F1FA-98AF-446E-98E6-E262DA30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0D69-2462-412C-B1C3-A95684BF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ADB9-0D87-4F5D-923A-5180DB87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36B0-7273-44AC-A67E-5268E88A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BD1-A796-4AC6-AE3D-611E145B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D90-C39A-4943-ABAE-2BFDA664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C44E-7A4F-421F-976E-DAC36FBF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ACD-278B-465C-9E67-B36CA9DB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374-0543-4BD1-B427-A57BB75D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E29B-536D-4456-A9CC-2330FF58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3AC-C1F1-4091-8281-8A11C5E4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c29e"/>
            </a:gs>
            <a:gs pos="50000">
              <a:srgbClr val="ffffcc"/>
            </a:gs>
            <a:gs pos="100000">
              <a:srgbClr val="f8c2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c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67d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590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3499-231A-4701-82B3-D3DE13C2699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c29e"/>
            </a:gs>
            <a:gs pos="50000">
              <a:srgbClr val="ffffcc"/>
            </a:gs>
            <a:gs pos="100000">
              <a:srgbClr val="f8c2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c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67d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590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ba7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ba7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8BC7-3ED1-465F-B92D-212C21F72498}" type="slidenum">
              <a:rPr b="0" lang="ru-RU" sz="1200" spc="-1" strike="noStrike">
                <a:solidFill>
                  <a:srgbClr val="ffba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28846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8c29e">
                <a:alpha val="50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ba75"/>
                </a:solidFill>
                <a:latin typeface="Comic Sans MS"/>
              </a:rPr>
              <a:t>Тема: Права и свободы человека и гражданина по Конституции Российской Федерации.</a:t>
            </a:r>
            <a:r>
              <a:rPr b="0" lang="ru-RU" sz="48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Гарантии прав и свобод личности</a:t>
            </a:r>
            <a:r>
              <a:rPr b="0" lang="ru-RU" sz="40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ba75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ba75"/>
                </a:solidFill>
                <a:latin typeface="Comic Sans MS"/>
              </a:rPr>
              <a:t>С точки зрения общей системы, гарантии прав человека и гражданина, рассматривают как: общие и юридические</a:t>
            </a:r>
            <a:r>
              <a:rPr b="0" i="1" lang="ru-RU" sz="2800" spc="-1" strike="noStrike">
                <a:solidFill>
                  <a:srgbClr val="ffba75"/>
                </a:solidFill>
                <a:latin typeface="Comic Sans MS"/>
              </a:rPr>
              <a:t>.</a:t>
            </a:r>
            <a:r>
              <a:rPr b="0" lang="ru-RU" sz="2800" spc="-1" strike="noStrike">
                <a:solidFill>
                  <a:srgbClr val="ffba75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870880" y="3676680"/>
            <a:ext cx="261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   </a:t>
            </a: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Юридические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охраны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реализации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95280" y="371628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a75"/>
                </a:solidFill>
                <a:latin typeface="Comic Sans MS"/>
              </a:rPr>
              <a:t>    </a:t>
            </a: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Общие</a:t>
            </a: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экономические (материальные)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социальные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идеологические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политические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l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0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7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7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8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ecd9"/>
                </a:solidFill>
                <a:latin typeface="Monotype Corsiva"/>
              </a:rPr>
              <a:t>“</a:t>
            </a:r>
            <a:r>
              <a:rPr b="0" lang="ru-RU" sz="4800" spc="-1" strike="noStrike">
                <a:solidFill>
                  <a:srgbClr val="ffecd9"/>
                </a:solidFill>
                <a:latin typeface="Monotype Corsiva"/>
              </a:rPr>
              <a:t>Главным принципом любой Конституции является положение о том, что верховная власть не может принять закон без одобрения представителей народа</a:t>
            </a:r>
            <a:r>
              <a:rPr b="0" lang="en-US" sz="4800" spc="-1" strike="noStrike">
                <a:solidFill>
                  <a:srgbClr val="ffecd9"/>
                </a:solidFill>
                <a:latin typeface="Monotype Corsiva"/>
              </a:rPr>
              <a:t>”</a:t>
            </a:r>
            <a:r>
              <a:rPr b="0" lang="ru-RU" sz="4800" spc="-1" strike="noStrike">
                <a:solidFill>
                  <a:srgbClr val="ffecd9"/>
                </a:solidFill>
                <a:latin typeface="Monotype Corsiva"/>
              </a:rPr>
              <a:t>.</a:t>
            </a:r>
            <a:endParaRPr b="0" lang="en-US" sz="48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147000" y="5661000"/>
            <a:ext cx="2811240" cy="58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Monotype Corsiva"/>
              </a:rPr>
              <a:t>А. Керенский</a:t>
            </a:r>
            <a:endParaRPr b="0" lang="en-US" sz="32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newsflash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0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ecd9"/>
                </a:solidFill>
                <a:uFillTx/>
                <a:latin typeface="Monotype Corsiva"/>
              </a:rPr>
              <a:t>План урока</a:t>
            </a:r>
            <a:r>
              <a:rPr b="0" lang="en-US" sz="4800" spc="-1" strike="noStrike" u="sng">
                <a:solidFill>
                  <a:srgbClr val="ffecd9"/>
                </a:solidFill>
                <a:uFillTx/>
                <a:latin typeface="Monotype Corsiva"/>
              </a:rPr>
              <a:t>:</a:t>
            </a:r>
            <a:endParaRPr b="0" lang="en-US" sz="48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1. Конституция РФ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2. Конституционно правовой статус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человека и гражданина. 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3. Гражданство в РФ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4. Система прав и свобод человека и гражданина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5. Гарантии прав и  свобод человека и гражданина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ba75"/>
                </a:solidFill>
                <a:latin typeface="Monotype Corsiva"/>
              </a:rPr>
              <a:t>Мы, многонациональный народ Российской Федерации, соединенные общей судьбой на своей земле, утверждая права и свободы человека, гражданский мир и согласие, сохраняя исторически сложившееся государственное единство, исходя из общепринятых принципов равноправия и самоопределения народов, чтя память предков, передавших нам любовь и уважение к Отечеству, веру в добро и справедливость, возрождая суверенную государственность России и утверждая незыблемость ее демократической основы, стремясь обеспечить благополучие и процветание России, исходя из ответственности за свою Родину перед нынешним и будущим поколениями,  сознавая себя частью мирового сообщества, принимаем </a:t>
            </a:r>
            <a:r>
              <a:rPr b="0" i="1" lang="ru-RU" sz="2400" spc="-1" strike="noStrike">
                <a:solidFill>
                  <a:srgbClr val="f67d5c"/>
                </a:solidFill>
                <a:latin typeface="Monotype Corsiva"/>
              </a:rPr>
              <a:t>КОНСТИТУЦИЮ РОССИЙСКОЙ ФЕДЕРАЦИИ.</a:t>
            </a: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ba75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922560" y="297000"/>
            <a:ext cx="4897440" cy="1557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Конституция РФ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принята всенародным голосованием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12декабря 1993 года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ecd9"/>
                </a:solidFill>
                <a:latin typeface="Comic Sans MS"/>
              </a:rPr>
              <a:t>Общая характеристика Конституции РФ 1993 года</a:t>
            </a:r>
            <a:r>
              <a:rPr b="0" lang="ru-RU" sz="40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634760"/>
            <a:ext cx="8496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Конституция России состоит из преамбулы и двух разделов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Основным является первый раздел, состоящий из 9 глав: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1 Основы конституционного строя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2 Права и свободы  человека и гражданин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3 Федеративное устройство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4 Президент РФ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5 Федеральное собрани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6  Правительство РФ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7 Судебная власть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8 Местное самоуправлени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9 Конституционные поправки и пересмотр Конституци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торой («Заключительные и переходные положения») предусматривает ряд норм, которые носят временный характер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ecd9"/>
                </a:solidFill>
                <a:latin typeface="Comic Sans MS"/>
              </a:rPr>
              <a:t>Конституция Российской Федерации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9036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Конституция РФ принимается многонациональным народом РФ, в ней называются цели, реализация которых является основной задачей государства: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утверждение прав и свобод человек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утверждение гражданского мира и согласия в РФ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сохранение исторически сложившегося государственного единств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возрождение суверенной государственности России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утверждение незыблемости демократических основ Российского        государств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обеспечение благополучия и процветания России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1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73440" y="108000"/>
            <a:ext cx="932508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Основы Конституционного строя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9144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Россия провозглашена демократическим федеративным правовым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ом с республиканской формой правления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Единственным источником власти в России является е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многонациональный народ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ысшей ценностью в Российской Федерации являются человек, его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жизнь и здоровье, честь и достоинство, личная неприкосновенность 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безопасность, права и свободы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о проводит гуманную демографическую политику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ризнается политическое многообразие, многопартийность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Экономические отношения строятся на основе социального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артнерства человека и государства, работника и работодателя,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отребителя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Обеспечение равных и справедливых возможностей для развития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личности.</a:t>
            </a:r>
            <a:r>
              <a:rPr b="0" lang="ru-RU" sz="2000" spc="-1" strike="noStrike">
                <a:solidFill>
                  <a:srgbClr val="ffba75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енная власть в России осуществляется на основ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разделения на законодательную, исполнительную и судебную,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органы которых – самостоятельны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360" y="-11160"/>
            <a:ext cx="8748720" cy="1711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Конституционно правовой статус человека и гражданина</a:t>
            </a:r>
            <a:r>
              <a:rPr b="0" lang="ru-RU" sz="40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572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Конституционно правовой статус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–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это статус лица как гражданина государств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члена общества. Он определяется, прежд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сего, Конституцией и не зависит от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различных текущих обстоятельств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(перемещений по службе, семейного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оложения, должности, выполняемых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функций), является единым и одинаковым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Для всех, характеризуется относительной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стабильностью, обобщенностью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pic>
        <p:nvPicPr>
          <p:cNvPr id="178" name="Picture 6" descr="j0233018"/>
          <p:cNvPicPr/>
          <p:nvPr/>
        </p:nvPicPr>
        <p:blipFill>
          <a:blip r:embed="rId1"/>
          <a:stretch/>
        </p:blipFill>
        <p:spPr>
          <a:xfrm rot="591000">
            <a:off x="6300360" y="2852280"/>
            <a:ext cx="2148120" cy="218124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r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3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9600" cy="853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Гражданство в РФ</a:t>
            </a:r>
            <a:r>
              <a:rPr b="0" lang="ru-RU" sz="44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Гражданство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– устойчивая правовая связь человека с государством, выражающаяся в совокупности их взаимных прав, обязанностей и ответственности, основанная на признании и уважении достоинства основных прав и свобод человека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ражданство подтверждается документами: паспортом, удостоверением личности, а до их получения – свидетельством о рождении или иными документом, содержащем указание на гражданство лица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ражданство РФ может быть приобретено по ряду оснований</a:t>
            </a:r>
            <a:r>
              <a:rPr b="0" lang="en-US" sz="2000" spc="-1" strike="noStrike">
                <a:solidFill>
                  <a:srgbClr val="ffba75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в результате признания гражданств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по рождению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</a:t>
            </a:r>
            <a:r>
              <a:rPr b="0" lang="en-US" sz="2000" spc="-1" strike="noStrike">
                <a:solidFill>
                  <a:srgbClr val="ffba75"/>
                </a:solidFill>
                <a:latin typeface="Comic Sans MS"/>
              </a:rPr>
              <a:t>в порядке регистраци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в результате приема в гражданство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ba75"/>
                </a:solidFill>
                <a:latin typeface="Comic Sans MS"/>
              </a:rPr>
              <a:t> результате восстановления гражданств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путем выбора гражданства (оптации) при изменени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енной принадлежност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u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8964720" cy="1368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Система прав и свобод человека и гражданина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се права и свободы неотделимы друг от друга и взаимосвязаны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оэтому такое разделение носит условный характер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Личные права и свободы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(право на жизнь, свободу;  личную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неприкосновенность, свободное передвижение и выбор мест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жительства, свободу совести, мысли и слова 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Политические права и свободы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(право на свободу искать, получать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и распространять информацию, право на собрания, право на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участие в ведении государственных дел, право избирать и быть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избранными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Социальные и экономические права и свободы (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раво на труд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социальное обеспечение, образование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Культурные права</a:t>
            </a:r>
            <a:r>
              <a:rPr b="0" lang="ru-RU" sz="2000" spc="-1" strike="noStrike">
                <a:solidFill>
                  <a:srgbClr val="ffba75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(свобода литературного, художественного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научного, технического творчества, преподавания, право на участи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 культурной жизни и пользование достижениями культуры, на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доступ к культурным ценностям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d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5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520"/>
                            </p:stCondLst>
                            <p:childTnLst>
                              <p:par>
                                <p:cTn id="5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5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6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8520"/>
                            </p:stCondLst>
                            <p:childTnLst>
                              <p:par>
                                <p:cTn id="6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09:51:18Z</dcterms:created>
  <dc:creator>Артем</dc:creator>
  <dc:description/>
  <dc:language>en-US</dc:language>
  <cp:lastModifiedBy>LEGION</cp:lastModifiedBy>
  <dcterms:modified xsi:type="dcterms:W3CDTF">2015-01-28T13:39:03Z</dcterms:modified>
  <cp:revision>20</cp:revision>
  <dc:subject/>
  <dc:title>Тема: Права и свободы человека и гражданина по Конституции Российской Федерации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