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gif" ContentType="image/gif"/>
  <Override PartName="/ppt/media/image13.gif" ContentType="image/gif"/>
  <Override PartName="/ppt/media/image8.gif" ContentType="image/gif"/>
  <Override PartName="/ppt/media/image16.gif" ContentType="image/gif"/>
  <Override PartName="/ppt/media/image15.gif" ContentType="image/gif"/>
  <Override PartName="/ppt/media/image14.gif" ContentType="image/gif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5099-B850-4384-BDBA-CA69135375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уализация темы: «Подросток как гражданин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43f42"/>
                </a:solidFill>
                <a:latin typeface="Calibri"/>
              </a:rPr>
              <a:t>Выполните следующие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CA95-AD23-429B-B3D0-58FACCC1B12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жилищ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йти в дом помимо воли тех, кто там проживает нельз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5DF3-7E16-4BAA-8EC8-4DB655ED636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cc99"/>
                </a:solidFill>
                <a:latin typeface="Calibri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B89A3-497E-45BF-9DD6-AE2A12EFEF7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Экономические права:</a:t>
            </a:r>
            <a:br>
              <a:rPr sz="1600"/>
            </a:br>
            <a:r>
              <a:rPr b="0" lang="ru-RU" sz="1400" spc="-1" strike="noStrike">
                <a:solidFill>
                  <a:srgbClr val="fb2bf6"/>
                </a:solidFill>
                <a:latin typeface="Calibri"/>
              </a:rPr>
              <a:t>право на труд и свободный выбор професси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защиту от экономической эксплуат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Минимальный возраст для приема на работу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15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С письменного согласия родителей или опекунов можно устроиться работать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     </a:t>
            </a: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14 л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заставить ребенка заниматься тяжелым трудом, вредным для здоровь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не заставляет гражданина трудиться, это его право, а не обязанност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AC887-D38E-45DB-8E3B-8D04011162F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тдых и дос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 поощряет создание туристических баз, домов отдыха, санатори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21AC3-5C67-41A5-83DD-9D8333BD336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осударство защищает 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детство и материн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о случаю рождения ребенка родителям предоставляется отпус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(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одному из родителей</a:t>
            </a: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лачиваются денежные компенсации в виде пособий единовременных и ежемесячны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3522-5F88-4B14-9884-254700BA452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охрану здоровья и медицинскую помощ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 России действует страховая медици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ечение граждан оплачивают страховые компан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ервая медицинская помощь оказывается бесплат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7AE7A-AF48-4852-801D-DC554E11F0D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оциальное обеспечени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осударство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мог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Инвалидам с дет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Людям получившим увечья, и ставшими поэтому нетрудоспособны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Гражданам преклонного возраста, ставшими нетрудоспособными по возраст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02BA-36C4-4D3D-9465-E70CC3DF3F93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на образ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Это возможность получить знания, навыки необходимые для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овершайте открытия, изобретайте новое, участвуйте в конкурсах и фестиваля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53423-F206-4182-AA4D-6294C79CFEC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«Об образован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b2bf6"/>
                </a:solidFill>
                <a:latin typeface="Calibri"/>
              </a:rPr>
              <a:t>Аттестат дает право получить обучение в училище, колледже, ВУЗ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1E5B9-F4AE-4AE5-9CF5-5279BE3CB671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получение информаци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обращаться за помощью к взрослым (родителям и учителям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идти в библиотеку, чтобы найти ответы на  вопросы, интересующие теб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подключиться к компьютерным сет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9CB-3F5D-4ED5-92FA-BF0B3BD6B2C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ое соответ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Собр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Право на участие в ведении государственных дел и в правосуд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Митинг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Многолюдные мероприятия людей. Выражающих те или иные взгляды, иногда сопровождающиеся перемещением по определенному маршру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Демон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Совместное присутствие группы людей в определенном месте для обсуждения или решения какой – либо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Выб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Форма выражения мнения людей с целью публичного высказывания по конкретному вопрос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2815-7FB6-4073-9A5C-86AB3B69E54B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лохих детей не быв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Никто и никогда не должен быть жестоким по отношению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F5D2-F93A-4293-BD56-6BB67B541639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пределите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были соблюдены права или нет, 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кажите почему вы так думаете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c1e4d"/>
                </a:solidFill>
                <a:latin typeface="Calibri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D5D81-A5D6-4554-96C3-872241D7D14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правильный отв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1.Самым важным и неотъемлемым право каждого человека с рождения является право на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образование;         б) жизнь;                      в) переезд в другую стран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2.Права подростка гарантиру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государством;        б) самим подростком;               в) род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3.К реализации права на личную жизнь относи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выбор места учеб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тайна телефонных разгово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участие в выбор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4.Право на труд входит в групп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культурных прав;      б) политических прав;      в) экономических пр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90099"/>
                </a:solidFill>
                <a:latin typeface="Calibri"/>
              </a:rPr>
              <a:t>5.Правом на социальное обеспечение могут пользовать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а) мужчины трудоспособного возраста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б) пенсион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в) лица без граждан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f497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A1C5B-CD13-434D-97BE-592FAEAD304A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одумайте над вопросом: как вы считаете отличаются ли права ребенка от прав взросло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0099"/>
                </a:solidFill>
                <a:latin typeface="Calibri"/>
              </a:rPr>
              <a:t>Перечислите, какими из прав вы реально пользуетесь в своей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F1CC9-936D-4E3B-B1C5-36C4ADEB8B15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ставьте недостающие слова (понятия) в предло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должен платить ___________________. Эти деньги поступают в казну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целях сохранения культурного наследия граждане обязаны _________________________________________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ин обязан соблюдать ________________________ государ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730E6-2088-4556-A87B-9200703A0E8D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росток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его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к вы считаете, отличаются ли права ребенка и подростка от прав взрослого челове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EF9A5-A6A3-49BE-9ABD-DF0EA57D796E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Право челове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b2bf6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озможность что – либо делать, поступать определенным образом, иметь что-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7316-BCB4-4CC7-A1E1-1BFA6C186EB6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b2bf6"/>
                </a:solidFill>
                <a:latin typeface="Calibri"/>
              </a:rPr>
              <a:t>Право на жизн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Важное и неотъемлемое право для кажд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Жизнь ребенку дают родители, а право на жизнь гарантирует ему государ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AE1C9-34E2-46BC-8380-39358E015937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Право на свободу и</a:t>
            </a:r>
            <a:br>
              <a:rPr sz="1600"/>
            </a:br>
            <a:r>
              <a:rPr b="0" lang="ru-RU" sz="1600" spc="-1" strike="noStrike">
                <a:solidFill>
                  <a:srgbClr val="fb2bf6"/>
                </a:solidFill>
                <a:latin typeface="Calibri"/>
              </a:rPr>
              <a:t> личную неприкосновен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ный человек отвечает за себя сам – и никто друго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вобода состоит в праве делать все то, что не вредит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насильно удерживать другого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может унижать и оскорблять другого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E3EE-2235-43C9-BE76-D0D992F088F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я о правах ребенка</a:t>
            </a:r>
            <a:br>
              <a:rPr sz="1200"/>
            </a:b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(принят Организацией Объединенных Наций – ООН в 1989 г.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Каждый ребенок имеет право знать своих родител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c1e4d"/>
                </a:solidFill>
                <a:latin typeface="Calibri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eeece1"/>
                </a:solidFill>
                <a:latin typeface="Calibri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B777-B0ED-4541-884A-B986C2A73F28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b2bf6"/>
                </a:solidFill>
                <a:latin typeface="Calibri"/>
              </a:rPr>
              <a:t>Право на неприкосновенность личной жиз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Тайный характер частной жиз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cc99"/>
                </a:solidFill>
                <a:latin typeface="Calibri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ез разрешения прокура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325A-21B6-4915-B787-6D674C9A584C}" type="slidenum">
              <a:rPr b="0" lang="uk-UA" sz="1200" spc="-1" strike="noStrike">
                <a:solidFill>
                  <a:srgbClr val="f7f3f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0F101C-24DD-4B9B-8DF5-13FEA6026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5E48BE-3A76-4CB1-B66F-681001CF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03DA5-BED0-44EC-8004-9FF6D07DC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4C257E-AD6F-4EC4-A9A6-8D1D21C32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96A6E-CE9B-4D69-89CB-81913628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520BE-A054-4134-961B-3F1AF12A4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74405-3B81-43C3-BF4F-39E0532A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971CB-9A3D-4F5F-A35F-26B869F6F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36787-84D8-4611-AB99-48C8D8FB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F63F0-2471-4A74-8144-660860989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EAF8C-18EC-4B3D-976B-269BFD671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EC01-7533-45EF-AB7F-00616F266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3CBEC-58A9-443B-9C55-B9D6239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0F00A-6A23-4EAF-A3D6-00C4DD7C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884E-E8E1-41EB-BC41-0F3090938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FA4A-9353-4C91-B48B-9EFC23826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538D-82FA-4679-B7A7-C306189EC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1D573-AA47-4B03-9C47-D53C1CDD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AF371-2712-4C8A-9D12-56941A5B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9022C-D33B-4115-BC9E-667DA970A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67DE3-F63A-4200-A8E2-D8101D7C2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A2150-9119-4077-B635-3B282845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1546DB-23F8-4748-A160-7386DEF7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21026-674B-4132-A887-D25FD89C3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5A934-EF64-412C-84A0-1F25DDD61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33708-A13D-4B21-87F2-6E83DD0D0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7239E-D52D-4A02-AF29-FF4722288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A5A2-A28C-40AC-9804-B0DD5448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F05B3-8ECA-4F77-9589-EC544153A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79BB2-4EB5-4BEC-A359-1FD6CD356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42110-2283-444E-9115-2B623345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E6AA6-76C5-400A-821E-820A1CB29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A8C20-B00E-4C8A-B61E-B59D3EBA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7772D-FC7C-4D25-A01D-137F2B3C8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4E6DF-E698-4508-9245-8193A560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6173-F2C5-4F35-B040-9E3CE797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560DA-AD72-4B67-B0A8-F10A55FC1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B78CE-5F0C-40DE-B947-FF84A66D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15D40-E551-47A2-8F3C-092E7C53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8F98A-70F3-41D3-99F6-5E0CA7787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D48C57-5361-4562-85A6-785DDD4E2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9929BD-39E1-4023-BEC3-D58594495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12B29-6E50-4775-BEEF-4052B27B9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0EB03-2D72-49A7-BB6A-E803E5CBA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6956F-BEF6-4877-9714-16498DA55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BF547-85EC-4767-A126-155CC6B0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CB2CC-6BE5-441E-9022-8924570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04F18-F88C-4C65-833A-049AF7A19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0626-0E70-4F39-8A33-2B238A8930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51" name="AutoShape 3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240" y="5746"/>
                  </a:moveTo>
                  <a:cubicBezTo>
                    <a:pt x="-6654" y="11730"/>
                    <a:pt x="-1536" y="21534"/>
                    <a:pt x="-1536" y="32000"/>
                  </a:cubicBezTo>
                  <a:cubicBezTo>
                    <a:pt x="-1536" y="-23071"/>
                    <a:pt x="-6654" y="-13267"/>
                    <a:pt x="-15240" y="-7283"/>
                  </a:cubicBezTo>
                  <a:cubicBezTo>
                    <a:pt x="-15240" y="-7283"/>
                    <a:pt x="-15240" y="-7283"/>
                    <a:pt x="-15241" y="-7283"/>
                  </a:cubicBezTo>
                  <a:lnTo>
                    <a:pt x="-15240" y="-7282"/>
                  </a:lnTo>
                  <a:lnTo>
                    <a:pt x="-15240" y="5746"/>
                  </a:lnTo>
                  <a:lnTo>
                    <a:pt x="-15241" y="5746"/>
                  </a:lnTo>
                  <a:cubicBezTo>
                    <a:pt x="-15240" y="5746"/>
                    <a:pt x="-15240" y="5746"/>
                    <a:pt x="-15240" y="5746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2" name="AutoShape 4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5459" y="5595"/>
                  </a:moveTo>
                  <a:cubicBezTo>
                    <a:pt x="-6746" y="11560"/>
                    <a:pt x="-1536" y="21440"/>
                    <a:pt x="-1536" y="32000"/>
                  </a:cubicBezTo>
                  <a:cubicBezTo>
                    <a:pt x="-1536" y="-22977"/>
                    <a:pt x="-6746" y="-13097"/>
                    <a:pt x="-15459" y="-7132"/>
                  </a:cubicBezTo>
                  <a:cubicBezTo>
                    <a:pt x="-15459" y="-7132"/>
                    <a:pt x="-15459" y="-7132"/>
                    <a:pt x="-15460" y="-7132"/>
                  </a:cubicBezTo>
                  <a:lnTo>
                    <a:pt x="-15459" y="-7131"/>
                  </a:lnTo>
                  <a:lnTo>
                    <a:pt x="-15459" y="5595"/>
                  </a:lnTo>
                  <a:lnTo>
                    <a:pt x="-15460" y="5595"/>
                  </a:lnTo>
                  <a:cubicBezTo>
                    <a:pt x="-15459" y="5595"/>
                    <a:pt x="-15459" y="5595"/>
                    <a:pt x="-15459" y="5595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5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1F624-1301-4F92-9617-DFEA286DFF4F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a636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6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7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8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a6362"/>
                  </a:gs>
                  <a:gs pos="100000">
                    <a:srgbClr val="7e5a5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99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15150"/>
                  </a:gs>
                  <a:gs pos="100000">
                    <a:srgbClr val="8a636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0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8a636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  <p:sp>
            <p:nvSpPr>
              <p:cNvPr id="101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95756"/>
                  </a:gs>
                  <a:gs pos="100000">
                    <a:srgbClr val="8a636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7f3f3"/>
                  </a:solidFill>
                  <a:latin typeface="Arial"/>
                </a:endParaRPr>
              </a:p>
            </p:txBody>
          </p:sp>
        </p:grpSp>
        <p:sp>
          <p:nvSpPr>
            <p:cNvPr id="102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755453"/>
                </a:gs>
                <a:gs pos="100000">
                  <a:srgbClr val="8a636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03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5e4444"/>
                </a:gs>
                <a:gs pos="100000">
                  <a:srgbClr val="8a636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8c1ba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d8c1ba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c1605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7f3f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f3f3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66EF-4B5D-4809-9E56-97468C80D3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1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7" name="AutoShape 4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21453" y="2368"/>
                  </a:moveTo>
                  <a:cubicBezTo>
                    <a:pt x="-9409" y="7280"/>
                    <a:pt x="-1536" y="18993"/>
                    <a:pt x="-1536" y="32000"/>
                  </a:cubicBezTo>
                  <a:cubicBezTo>
                    <a:pt x="-1536" y="-20530"/>
                    <a:pt x="-9409" y="-8817"/>
                    <a:pt x="-21453" y="-3905"/>
                  </a:cubicBezTo>
                  <a:cubicBezTo>
                    <a:pt x="-21454" y="-3905"/>
                    <a:pt x="-21454" y="-3905"/>
                    <a:pt x="-21454" y="-3905"/>
                  </a:cubicBezTo>
                  <a:lnTo>
                    <a:pt x="-21453" y="-3904"/>
                  </a:lnTo>
                  <a:lnTo>
                    <a:pt x="-21453" y="2368"/>
                  </a:lnTo>
                  <a:lnTo>
                    <a:pt x="-21454" y="2368"/>
                  </a:lnTo>
                  <a:cubicBezTo>
                    <a:pt x="-21454" y="2368"/>
                    <a:pt x="-21454" y="2368"/>
                    <a:pt x="-21453" y="2368"/>
                  </a:cubicBezTo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  <p:sp>
          <p:nvSpPr>
            <p:cNvPr id="148" name="AutoShape 5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-14542" y="6246"/>
                  </a:moveTo>
                  <a:cubicBezTo>
                    <a:pt x="-6364" y="12279"/>
                    <a:pt x="-1536" y="21837"/>
                    <a:pt x="-1536" y="32000"/>
                  </a:cubicBezTo>
                  <a:cubicBezTo>
                    <a:pt x="-1536" y="-23374"/>
                    <a:pt x="-6364" y="-13816"/>
                    <a:pt x="-14542" y="-7783"/>
                  </a:cubicBezTo>
                  <a:cubicBezTo>
                    <a:pt x="-14543" y="-7783"/>
                    <a:pt x="-14543" y="-7783"/>
                    <a:pt x="-14543" y="-7783"/>
                  </a:cubicBezTo>
                  <a:lnTo>
                    <a:pt x="-14542" y="-7782"/>
                  </a:lnTo>
                  <a:lnTo>
                    <a:pt x="-14542" y="6246"/>
                  </a:lnTo>
                  <a:lnTo>
                    <a:pt x="-14543" y="6246"/>
                  </a:lnTo>
                  <a:cubicBezTo>
                    <a:pt x="-14543" y="6246"/>
                    <a:pt x="-14543" y="6246"/>
                    <a:pt x="-14542" y="6246"/>
                  </a:cubicBez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7f3f3"/>
                </a:solidFill>
                <a:latin typeface="Arial"/>
              </a:endParaRPr>
            </a:p>
          </p:txBody>
        </p:sp>
      </p:grp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7f3f3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4D8B-D2E1-4F23-8FF0-E675E680B62B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Актуализация темы: «Подросток как гражданин»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143f42"/>
                </a:solidFill>
                <a:latin typeface="Verdana"/>
              </a:rPr>
              <a:t>Выполните следующие задан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жилища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597708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йти в дом помимо воли тех, кто там проживает нельз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не открывать дверь незнакомцам или даже надоедливым соседям, с которыми не хочешь общатьс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298440" indent="-2984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Но при пожарах, землетрясениях, непредвиденных обстоятельствах или при защите правопорядка допускается отступление от этого правила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8" name="Picture 21" descr="HOUSELIGHTSWEEP-MOTION3-W"/>
          <p:cNvPicPr/>
          <p:nvPr/>
        </p:nvPicPr>
        <p:blipFill>
          <a:blip r:embed="rId1"/>
          <a:stretch/>
        </p:blipFill>
        <p:spPr>
          <a:xfrm>
            <a:off x="6372360" y="1628640"/>
            <a:ext cx="2520720" cy="5040360"/>
          </a:xfrm>
          <a:prstGeom prst="rect">
            <a:avLst/>
          </a:prstGeom>
          <a:ln w="0">
            <a:noFill/>
          </a:ln>
        </p:spPr>
      </p:pic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435880" cy="22906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99"/>
                </a:solidFill>
                <a:latin typeface="Garamond"/>
              </a:rPr>
              <a:t>Гражданин нашей страны сам выбирает место своего жительства, может свободно передвигаться по стране и выезжать за ее пределы</a:t>
            </a:r>
            <a:endParaRPr b="1" lang="en-US" sz="36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1" name="Picture 12" descr="image052"/>
          <p:cNvPicPr/>
          <p:nvPr/>
        </p:nvPicPr>
        <p:blipFill>
          <a:blip r:embed="rId1"/>
          <a:stretch/>
        </p:blipFill>
        <p:spPr>
          <a:xfrm>
            <a:off x="457200" y="3716280"/>
            <a:ext cx="8686800" cy="99216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image051"/>
          <p:cNvPicPr/>
          <p:nvPr/>
        </p:nvPicPr>
        <p:blipFill>
          <a:blip r:embed="rId2"/>
          <a:stretch/>
        </p:blipFill>
        <p:spPr>
          <a:xfrm>
            <a:off x="324000" y="2565360"/>
            <a:ext cx="8362800" cy="6620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5" descr="image053"/>
          <p:cNvPicPr/>
          <p:nvPr/>
        </p:nvPicPr>
        <p:blipFill>
          <a:blip r:embed="rId3"/>
          <a:stretch/>
        </p:blipFill>
        <p:spPr>
          <a:xfrm>
            <a:off x="324000" y="5229360"/>
            <a:ext cx="8569080" cy="88092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b2bf6"/>
                </a:solidFill>
                <a:latin typeface="Garamond"/>
              </a:rPr>
              <a:t>Экономические права:</a:t>
            </a:r>
            <a:br>
              <a:rPr sz="3200"/>
            </a:b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право на труд и свободный выбор профессии</a:t>
            </a:r>
            <a:endParaRPr b="1" lang="en-US" sz="28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36" name="Picture 8" descr="janitor"/>
          <p:cNvPicPr/>
          <p:nvPr/>
        </p:nvPicPr>
        <p:blipFill>
          <a:blip r:embed="rId1"/>
          <a:stretch/>
        </p:blipFill>
        <p:spPr>
          <a:xfrm>
            <a:off x="179280" y="3860640"/>
            <a:ext cx="2384640" cy="299736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050560" y="1412640"/>
            <a:ext cx="6913800" cy="52131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защиту от экономической эксплуатаци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Минимальный возраст для приема на работу</a:t>
            </a:r>
            <a:r>
              <a:rPr b="1" lang="ru-RU" sz="24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400" spc="-1" strike="noStrike">
                <a:solidFill>
                  <a:srgbClr val="fb2bf6"/>
                </a:solidFill>
                <a:latin typeface="Garamond"/>
              </a:rPr>
              <a:t>15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С письменного согласия родителей или опекунов можно устроиться работать в 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     </a:t>
            </a:r>
            <a:r>
              <a:rPr b="1" i="1" lang="ru-RU" sz="2400" spc="-1" strike="noStrike">
                <a:solidFill>
                  <a:srgbClr val="ffcc00"/>
                </a:solidFill>
                <a:latin typeface="Garamond"/>
              </a:rPr>
              <a:t>14 лет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Никто не может заставить ребенка заниматься тяжелым трудом, вредным для здоровь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Государство не заставляет гражданина трудиться, это его право, а не обязанность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Если человек хочет работать, но не может найти работу, то государство защищает его от безработицы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38" name="Picture 14" descr="image127"/>
          <p:cNvPicPr/>
          <p:nvPr/>
        </p:nvPicPr>
        <p:blipFill>
          <a:blip r:embed="rId2"/>
          <a:stretch/>
        </p:blipFill>
        <p:spPr>
          <a:xfrm>
            <a:off x="468360" y="1557360"/>
            <a:ext cx="1582560" cy="2016000"/>
          </a:xfrm>
          <a:prstGeom prst="rect">
            <a:avLst/>
          </a:prstGeom>
          <a:ln w="0">
            <a:noFill/>
          </a:ln>
        </p:spPr>
      </p:pic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79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8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тдых и досуг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627280" y="1341000"/>
            <a:ext cx="6059520" cy="504036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гарантирует каждому гражданину это право путем предоставления отпуска всем работающ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 поощряет создание туристических баз, домов отдыха, санаториев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2" name="Picture 7" descr="a90"/>
          <p:cNvPicPr/>
          <p:nvPr/>
        </p:nvPicPr>
        <p:blipFill>
          <a:blip r:embed="rId1"/>
          <a:stretch/>
        </p:blipFill>
        <p:spPr>
          <a:xfrm>
            <a:off x="179280" y="1413000"/>
            <a:ext cx="2232000" cy="244764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4" descr="image121"/>
          <p:cNvPicPr/>
          <p:nvPr/>
        </p:nvPicPr>
        <p:blipFill>
          <a:blip r:embed="rId2"/>
          <a:stretch/>
        </p:blipFill>
        <p:spPr>
          <a:xfrm>
            <a:off x="179280" y="4292640"/>
            <a:ext cx="2297160" cy="1919160"/>
          </a:xfrm>
          <a:prstGeom prst="rect">
            <a:avLst/>
          </a:prstGeom>
          <a:ln w="0">
            <a:noFill/>
          </a:ln>
        </p:spPr>
      </p:pic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c1ba"/>
                </a:solidFill>
                <a:latin typeface="Garamond"/>
              </a:rPr>
              <a:t>Государство защищает 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детство и материнство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78920" y="1599840"/>
            <a:ext cx="5977080" cy="514188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о случаю рождения ребенка родителям предоставляется отпуск</a:t>
            </a:r>
            <a:r>
              <a:rPr b="1" lang="ru-RU" sz="32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(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одному из родителей</a:t>
            </a: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)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ыплачиваются денежные компенсации в виде пособий единовременных и ежемесячных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47" name="Picture 6" descr="bebe01"/>
          <p:cNvPicPr/>
          <p:nvPr/>
        </p:nvPicPr>
        <p:blipFill>
          <a:blip r:embed="rId1"/>
          <a:stretch/>
        </p:blipFill>
        <p:spPr>
          <a:xfrm>
            <a:off x="5830920" y="2133720"/>
            <a:ext cx="3313080" cy="3240000"/>
          </a:xfrm>
          <a:prstGeom prst="rect">
            <a:avLst/>
          </a:prstGeom>
          <a:ln w="0">
            <a:noFill/>
          </a:ln>
        </p:spPr>
      </p:pic>
      <p:sp>
        <p:nvSpPr>
          <p:cNvPr id="24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67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охрану здоровья и медицинскую помощ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564000" y="1600200"/>
            <a:ext cx="540072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В России действует страховая медицин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ечение граждан оплачивают страховые компани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Первая медицинская помощь оказывается бесплатно.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1" name="Picture 6" descr="8f1"/>
          <p:cNvPicPr/>
          <p:nvPr/>
        </p:nvPicPr>
        <p:blipFill>
          <a:blip r:embed="rId1"/>
          <a:stretch/>
        </p:blipFill>
        <p:spPr>
          <a:xfrm>
            <a:off x="250920" y="3284640"/>
            <a:ext cx="2736720" cy="309564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10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оциальное обеспечение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08000" y="1197000"/>
            <a:ext cx="5184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3000"/>
          </a:bodyPr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осударство </a:t>
            </a:r>
            <a:r>
              <a:rPr b="1" lang="ru-RU" sz="3200" spc="-1" strike="noStrike">
                <a:solidFill>
                  <a:srgbClr val="ffcc00"/>
                </a:solidFill>
                <a:latin typeface="Garamond"/>
              </a:rPr>
              <a:t>помогает: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Инвалидам с детств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Людям получившим увечья, и ставшими поэтому нетрудоспособными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Гражданам преклонного возраста, ставшими нетрудоспособными по возрасту. 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5" name="Picture 6" descr="12"/>
          <p:cNvPicPr/>
          <p:nvPr/>
        </p:nvPicPr>
        <p:blipFill>
          <a:blip r:embed="rId1"/>
          <a:stretch/>
        </p:blipFill>
        <p:spPr>
          <a:xfrm>
            <a:off x="5400720" y="1773360"/>
            <a:ext cx="3743280" cy="396072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30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1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1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1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1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b2bf6"/>
                </a:solidFill>
                <a:latin typeface="Garamond"/>
              </a:rPr>
              <a:t>Право на образование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2124000" y="1197000"/>
            <a:ext cx="6732720" cy="5472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Это возможность получить знания, навыки необходимые для жизни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ез хорошего образования человек не сможет найти интересное, важное дело, добиться успех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У детей должна быть возможность выбора, где и чему учиться, независимо от материального состояния родителей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Библиотеки, театры и музеи должны быть доступны для учеников, развитие творческих способностей детей – одна из целей образования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Совершайте открытия, изобретайте новое, участвуйте в конкурсах и фестивалях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59" name="Picture 5" descr="aluno01"/>
          <p:cNvPicPr/>
          <p:nvPr/>
        </p:nvPicPr>
        <p:blipFill>
          <a:blip r:embed="rId1"/>
          <a:stretch/>
        </p:blipFill>
        <p:spPr>
          <a:xfrm>
            <a:off x="0" y="1773360"/>
            <a:ext cx="2448000" cy="4465440"/>
          </a:xfrm>
          <a:prstGeom prst="rect">
            <a:avLst/>
          </a:prstGeom>
          <a:ln w="0">
            <a:noFill/>
          </a:ln>
        </p:spPr>
      </p:pic>
      <p:sp>
        <p:nvSpPr>
          <p:cNvPr id="26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6" dur="10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1000"/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1000"/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1000"/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1000"/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Закон «Об образовании»</a:t>
            </a:r>
            <a:endParaRPr b="1" lang="en-US" sz="4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Образование можно получать в разных формах: обучаясь в школе (в государственной или частной), дома, в форме экстерната и т.д.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ыпускники по окончанию школы сдают государственные экзамены (проходят аттестацию), по результатам которых выдается документ об образовании, за особые успехи в обучении выпускники могут награждаться золотой и серебряной медалью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b2bf6"/>
                </a:solidFill>
                <a:latin typeface="Garamond"/>
              </a:rPr>
              <a:t>Аттестат дает право получить обучение в училище, колледже, ВУЗе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Возможно на конкурсной основе поступить на бесплатное обучение в ВУЗы, для этого нужно сдать экзамены и набрать необходимое количество баллов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63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3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8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получение информаци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6049800" cy="52560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обращаться за помощью к взрослым (родителям и учителям)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идти в библиотеку, чтобы найти ответы на  вопросы, интересующие тебя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подключиться к компьютерным сетя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Можно выражать свои взгляды и обсуждать важные вопросы через средства массовой информации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66" name="Picture 6" descr="image695"/>
          <p:cNvPicPr/>
          <p:nvPr/>
        </p:nvPicPr>
        <p:blipFill>
          <a:blip r:embed="rId1"/>
          <a:stretch/>
        </p:blipFill>
        <p:spPr>
          <a:xfrm>
            <a:off x="6443640" y="1413000"/>
            <a:ext cx="2521080" cy="511164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nodeType="clickEffect" fill="hold">
                      <p:stCondLst>
                        <p:cond delay="indefinite"/>
                      </p:stCondLst>
                      <p:childTnLst>
                        <p:par>
                          <p:cTn id="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0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Найдите правильное соответствие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1370160" y="1827360"/>
          <a:ext cx="7245360" cy="4090680"/>
        </p:xfrm>
        <a:graphic>
          <a:graphicData uri="http://schemas.openxmlformats.org/drawingml/2006/table">
            <a:tbl>
              <a:tblPr/>
              <a:tblGrid>
                <a:gridCol w="2108160"/>
                <a:gridCol w="5137200"/>
              </a:tblGrid>
              <a:tr h="352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Понят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Определение</a:t>
                      </a:r>
                      <a:endParaRPr b="0" lang="en-US" sz="15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4aaae"/>
                    </a:solidFill>
                  </a:tcPr>
                </a:tc>
              </a:tr>
              <a:tr h="682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1.Собрания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А.Право на участие в ведении государственных дел и в правосуд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4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2.Митинги 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Б.Многолюдные мероприятия людей. Выражающих те или иные взгляды, иногда сопровождающиеся перемещением по определенному маршрут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3.Демонстрации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В.Совместное присутствие группы людей в определенном месте для обсуждения или решения какой – либо проблем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8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4.Выборы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f7f3f3"/>
                          </a:solidFill>
                          <a:latin typeface="Verdana"/>
                        </a:rPr>
                        <a:t>Г.Форма выражения мнения людей с целью публичного высказывания по конкретному вопросу</a:t>
                      </a:r>
                      <a:endParaRPr b="0" lang="en-US" sz="1700" spc="-1" strike="noStrike">
                        <a:solidFill>
                          <a:srgbClr val="f7f3f3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8000" y="274680"/>
            <a:ext cx="9036000" cy="639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лохих детей не бывает.</a:t>
            </a:r>
            <a:br>
              <a:rPr sz="5400"/>
            </a:br>
            <a:br>
              <a:rPr sz="5400"/>
            </a:b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Никто и никогда не должен быть жестоким по отношению к детям.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69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пределите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были соблюдены права или нет, 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скажите почему вы так думаете.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Во время пожара дверь в квартиру выбита, и подросток, находившийся в комнате без сознания, был вынесен на улицу.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16-летний молодой человек не был принят на работу, так как у него не оказалось письменного разрешения от обоих родителей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7c1e4d"/>
                </a:solidFill>
                <a:latin typeface="Verdana"/>
              </a:rPr>
              <a:t>8-летняя девочка, у которой из-за болезни были парализованы ноги. Вынуждена была уйти из школы и не получила среднее образование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69800" y="301680"/>
            <a:ext cx="7313400" cy="75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Найдите правильный ответ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1.Самым важным и неотъемлемым право каждого человека с рождения является право на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образование;         б) жизнь;                      в) переезд в другую страну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2.Права подростка гарантирую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государством;        б) самим подростком;               в) родителями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3.К реализации права на личную жизнь относит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выбор места учебы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тайна телефонных разговоров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участие в выборах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4.Право на труд входит в группу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культурных прав;      б) политических прав;      в) экономических прав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99"/>
                </a:solidFill>
                <a:latin typeface="Verdana"/>
              </a:rPr>
              <a:t>5.Правом на социальное обеспечение могут пользоваться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а) мужчины трудоспособного возраста;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б) пенсионеры;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в) лица без гражданства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Verdan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4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8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7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4" dur="500"/>
                                        <p:tgtEl>
                                          <p:spTgt spid="2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2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Arial"/>
              </a:rPr>
              <a:t>Домашнее задание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одумайте над вопросом: как вы считаете отличаются ли права ребенка от прав взрослого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990099"/>
                </a:solidFill>
                <a:latin typeface="Verdana"/>
              </a:rPr>
              <a:t>Перечислите, какими из прав вы реально пользуетесь в своей жизни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1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cc"/>
                </a:solidFill>
                <a:latin typeface="Arial"/>
              </a:rPr>
              <a:t>Вставьте недостающие слова (понятия) в предложения</a:t>
            </a:r>
            <a:endParaRPr b="0" lang="en-US" sz="27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должен платить ___________________. Эти деньги поступают в казну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По нормам семейного права гражданин обязан заботься о ________________________________________________,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Для обеспечения безопасности государства и его граждан существует обязанность ____________________________  _______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В целях сохранения культурного наследия граждане обязаны _________________________________________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Гражданин обязан соблюдать ________________________ государств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91920"/>
            <a:ext cx="7772400" cy="29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Подросток </a:t>
            </a:r>
            <a:br>
              <a:rPr sz="6000"/>
            </a:br>
            <a:r>
              <a:rPr b="1" lang="ru-RU" sz="6000" spc="-1" strike="noStrike">
                <a:solidFill>
                  <a:srgbClr val="d8c1ba"/>
                </a:solidFill>
                <a:latin typeface="Garamond"/>
              </a:rPr>
              <a:t>и его права</a:t>
            </a:r>
            <a:endParaRPr b="1" lang="en-US" sz="6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к вы считаете, отличаются ли права ребенка и подростка от прав взрослого человека?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514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21844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человека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–</a:t>
            </a: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 </a:t>
            </a:r>
            <a:br>
              <a:rPr sz="5400"/>
            </a:br>
            <a:r>
              <a:rPr b="1" lang="ru-RU" sz="5400" spc="-1" strike="noStrike">
                <a:solidFill>
                  <a:srgbClr val="d8c1ba"/>
                </a:solidFill>
                <a:latin typeface="Garamond"/>
              </a:rPr>
              <a:t>это возможность что – либо делать, поступать определенным образом, иметь что-то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b2bf6"/>
                </a:solidFill>
                <a:latin typeface="Garamond"/>
              </a:rPr>
              <a:t>Право на жизнь</a:t>
            </a:r>
            <a:endParaRPr b="1" lang="en-US" sz="5400" spc="-1" strike="noStrike">
              <a:solidFill>
                <a:srgbClr val="d8c1ba"/>
              </a:solidFill>
              <a:latin typeface="Garamond"/>
            </a:endParaRPr>
          </a:p>
        </p:txBody>
      </p:sp>
      <p:pic>
        <p:nvPicPr>
          <p:cNvPr id="212" name="Picture 6" descr="bebe09"/>
          <p:cNvPicPr/>
          <p:nvPr/>
        </p:nvPicPr>
        <p:blipFill>
          <a:blip r:embed="rId1"/>
          <a:stretch/>
        </p:blipFill>
        <p:spPr>
          <a:xfrm>
            <a:off x="179280" y="2708280"/>
            <a:ext cx="2016360" cy="207792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40000" y="1341000"/>
            <a:ext cx="6624720" cy="532764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Важное и неотъемлемое право для каждого челове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е надо понимать как разрешение или запрет; право – не подарок за хорошее поведение и не привилегия, а такая же необходимость, как воздух, как солнце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Право на жизнь означает, что государство, вся мощь его институтов, учреждений и организаций, направлены на защиту жизни подростка;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-3222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cc99"/>
                </a:solidFill>
                <a:latin typeface="Garamond"/>
              </a:rPr>
              <a:t>Жизнь ребенку дают родители, а право на жизнь гарантирует ему государство.</a:t>
            </a: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10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1000"/>
                                        <p:tgtEl>
                                          <p:spTgt spid="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свободу и</a:t>
            </a:r>
            <a:br>
              <a:rPr sz="4000"/>
            </a:b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 личную неприкосновенность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771280" y="1628640"/>
            <a:ext cx="6193080" cy="499752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ный человек отвечает за себя сам – и никто другой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Свобода состоит в праве делать все то, что не вредит другим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насильно удерживать другого человека;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Garamond"/>
              </a:rPr>
              <a:t>Никто не может унижать и оскорблять другого человека</a:t>
            </a: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052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17" name="Picture 8" descr="batterup"/>
          <p:cNvPicPr/>
          <p:nvPr/>
        </p:nvPicPr>
        <p:blipFill>
          <a:blip r:embed="rId1"/>
          <a:stretch/>
        </p:blipFill>
        <p:spPr>
          <a:xfrm>
            <a:off x="108000" y="1989000"/>
            <a:ext cx="2519280" cy="3961080"/>
          </a:xfrm>
          <a:prstGeom prst="rect">
            <a:avLst/>
          </a:prstGeom>
          <a:ln w="0">
            <a:noFill/>
          </a:ln>
        </p:spPr>
      </p:pic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d8c1ba"/>
                </a:solidFill>
                <a:latin typeface="Garamond"/>
              </a:rPr>
              <a:t>Конвенция о правах ребенка</a:t>
            </a:r>
            <a:br>
              <a:rPr sz="4400"/>
            </a:br>
            <a:r>
              <a:rPr b="1" lang="ru-RU" sz="1800" spc="-1" strike="noStrike">
                <a:solidFill>
                  <a:srgbClr val="d8c1ba"/>
                </a:solidFill>
                <a:latin typeface="Garamond"/>
              </a:rPr>
              <a:t>(принят Организацией Объединенных Наций – ООН в 1989 г.)</a:t>
            </a:r>
            <a:endParaRPr b="1" lang="en-US" sz="18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785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Каждый ребенок имеет право знать своих родителей;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-325800"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c1e4d"/>
                </a:solidFill>
                <a:latin typeface="Garamond"/>
              </a:rPr>
              <a:t>Родители несут ответственность за ребенка и должны обеспечить ему нормальные условия жизни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f3f3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e4444"/>
                </a:solidFill>
                <a:latin typeface="Garamond"/>
              </a:rPr>
              <a:t>Но, к сожалению, полтора миллиона детей в России никогда не знали маминой ласки и папиной заботы.</a:t>
            </a:r>
            <a:endParaRPr b="0" lang="en-US" sz="3600" spc="-1" strike="noStrike">
              <a:solidFill>
                <a:srgbClr val="f7f3f3"/>
              </a:solidFill>
              <a:latin typeface="Garamond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10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10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b2bf6"/>
                </a:solidFill>
                <a:latin typeface="Garamond"/>
              </a:rPr>
              <a:t>Право на неприкосновенность личной жизни</a:t>
            </a:r>
            <a:endParaRPr b="1" lang="en-US" sz="4000" spc="-1" strike="noStrike">
              <a:solidFill>
                <a:srgbClr val="d8c1ba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6553440" cy="5068800"/>
          </a:xfrm>
          <a:prstGeom prst="rect">
            <a:avLst/>
          </a:prstGeom>
          <a:noFill/>
          <a:ln w="38160">
            <a:solidFill>
              <a:srgbClr val="fb2bf6"/>
            </a:solidFill>
            <a:miter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Сфера жизни человека, в которую государство не имеет право вмешиваться и которая не подлежит контролю с его стороны, и она охраняется законом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Тайный характер частной жизни;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-308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cc99"/>
                </a:solidFill>
                <a:latin typeface="Garamond"/>
              </a:rPr>
              <a:t>Никто не имеет права читать чужие письма, подслушивать телефонные разговоры, собирать сведения о личной жизни человека</a:t>
            </a:r>
            <a:r>
              <a:rPr b="1" lang="ru-RU" sz="2800" spc="-1" strike="noStrike">
                <a:solidFill>
                  <a:srgbClr val="f7f3f3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ffcc00"/>
                </a:solidFill>
                <a:latin typeface="Garamond"/>
              </a:rPr>
              <a:t>без разрешения прокуратуры.</a:t>
            </a: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7f3f3"/>
              </a:solidFill>
              <a:latin typeface="Garamond"/>
            </a:endParaRPr>
          </a:p>
        </p:txBody>
      </p:sp>
      <p:pic>
        <p:nvPicPr>
          <p:cNvPr id="224" name="Picture 5" descr="7f1"/>
          <p:cNvPicPr/>
          <p:nvPr/>
        </p:nvPicPr>
        <p:blipFill>
          <a:blip r:embed="rId1"/>
          <a:stretch/>
        </p:blipFill>
        <p:spPr>
          <a:xfrm>
            <a:off x="6588000" y="2565360"/>
            <a:ext cx="2376720" cy="244800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124080" y="62485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f3f3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7f3f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90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7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1-28T13:39:48Z</dcterms:modified>
  <cp:revision>7</cp:revision>
  <dc:subject/>
  <dc:title>Актуализация темы: «Подросток как гражданин»</dc:title>
</cp:coreProperties>
</file>