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E752-A208-4C14-B3BB-1306492764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темы: «Подросток как граждан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f42"/>
                </a:solidFill>
                <a:latin typeface="Calibri"/>
              </a:rPr>
              <a:t>Выполните следующи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5D3-0710-49F7-B263-6CCCFBCD6C1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ж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йти в дом помимо воли тех, кто там проживает нельз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74BE-F467-447F-ABD7-49451DFA104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Calibri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0E29-8324-4473-B9B6-7285DC8CBA0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Экономические права:</a:t>
            </a:r>
            <a:br>
              <a:rPr sz="1600"/>
            </a:br>
            <a:r>
              <a:rPr b="0" lang="ru-RU" sz="1400" spc="-1" strike="noStrike">
                <a:solidFill>
                  <a:srgbClr val="fb2bf6"/>
                </a:solidFill>
                <a:latin typeface="Calibri"/>
              </a:rPr>
              <a:t>право на труд и свободный выбор профе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защиту от экономической эксплуа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Минимальный возраст для приема на работ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15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 письменного согласия родителей или опекунов можно устроиться работат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14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заставить ребенка заниматься тяжелым трудом, вредным для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не заставляет гражданина трудиться, это его право, а не обяз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1D83-E981-417C-9299-23FBF48D9C4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 поощряет создание туристических баз, домов отдыха, санато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F696-1EA9-4FE1-BD70-0588139C050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о защищает 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детство и матер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о случаю рождения ребенка родителям предоставляется отпу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дному из родителей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лачиваются денежные компенсации в виде пособий единовременных и ежемеся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C62E-AA81-4FDD-925F-E525E9C18CE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охрану здоровья и медицинскую помощ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 России действует страховая медиц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ечение граждан оплачивают страховые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ервая медицинская помощь оказывается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0E99-97FD-4C9E-B062-42B3936B0A1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оциаль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мог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Инвалидам с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юдям получившим увечья, и ставшими поэтому нетрудоспособ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ражданам преклонного возраста, ставшими нетрудоспособными по возрас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D871-D298-438E-91E0-BFDB8900D82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Это возможность получить знания, навыки необходимые для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овершайте открытия, изобретайте новое, участвуйте в конкурсах и фестива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B821-9D3F-4449-BCF2-46475BB954D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Аттестат дает право получить обучение в училище, колледже, ВУ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5027-501A-476D-99FA-08F0705AC5A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обращаться за помощью к взрослым (родителям и учителя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идти в библиотеку, чтобы найти ответы на  вопросы, интересующие т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подключиться к компьютерным се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0A31-74C7-4E0E-A4F2-63161DA6B92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ое соотве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Право на участие в ведении государственных дел и в правосу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Митин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Многолюдные мероприятия людей. Выражающих те или иные взгляды, иногда сопровождающиеся перемещением по определенному маршр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Демон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овместное присутствие группы людей в определенном месте для обсуждения или решения какой – либо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Вы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Форма выражения мнения людей с целью публичного высказывания по конкретному вопро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C01F-347D-4C88-9E09-44D9E83E7F7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лохих детей не быв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Никто и никогда не должен быть жестоким по отношению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5064-89E0-419B-8A95-97D37BB005E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пределите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ыли соблюдены права или нет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кажите почему вы так думае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D13F-B7F3-4A95-A0B5-81F40EA64EEC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ый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1.Самым важным и неотъемлемым право каждого человека с рождения является право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образование;         б) жизнь;                      в) переезд в другую стра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2.Права подростка гарант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государством;        б) самим подростком;               в)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3.К реализации права на личную жизнь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выбор места уче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тайна телефонных раз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участие в выб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4.Право на труд входит в груп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культурных прав;      б) политических прав;      в) эконом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5.Правом на социальное обеспечение могут пользовать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мужчины трудоспособного возраст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пенсион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лица без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CBFA-3CC6-4C9E-AE39-23317233C33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одумайте над вопросом: как вы считаете отличаются ли права ребенка от прав взросл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еречислите, какими из прав вы реально пользуетесь в сво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F69A-1350-4CB5-B196-90FA4B959B1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недостающие слова (понятия) в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должен платить ___________________. Эти деньги поступают в казну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сохранения культурного наследия граждане обязаны 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обязан соблюдать ________________________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C755-439E-4895-A582-74B0F6EE115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сто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к вы считаете, отличаются ли права ребенка и подростка от прав взросл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9A8D-00F5-4264-A74A-E3D3182A130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озможность что – либо делать, поступать определенным образом, иметь что-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B00C-7581-49B8-AEB4-F9C3AF67964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2bf6"/>
                </a:solidFill>
                <a:latin typeface="Calibri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ажное и неотъемлемое право для кажд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Жизнь ребенку дают родители, а право на жизнь гарантирует ему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54CA-FE94-4423-AEA3-CCDBAFB2B847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вободу и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 личную неприкосновен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ный человек отвечает за себя сам – и никто друг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а состоит в праве делать все то, что не вредит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насильно удерживать друг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унижать и оскорблять друг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2BD2-112C-4DE3-8CEE-91500D918F97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инят Организацией Объединенных Наций – ООН в 1989 г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ждый ребенок имеет право знать своих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E3A0-C93D-470D-ADB3-2A98A43011F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лич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Тайный характер част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ез разрешения проку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2F14-F7F0-4DAB-91C0-9E0C372FF32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6CDA-2FD5-4278-9835-BF1EAD35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DCC0-6A82-4CD5-BC91-28E365EF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553F-8937-406C-9BE6-4A603EB1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EBD0-7090-4B71-BC53-BF8B906B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D8F7-866E-4F60-A254-6AA72FA6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B8AA-743E-41C8-A4B9-ACA9C1AF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9CF8-495D-4014-8792-74D95D2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B901-861E-4580-AD1B-3800FC89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0DC6-90DF-4137-8BCF-A7849B18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117B-4B81-440D-A796-6C225CD4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9D60-A8FF-4BEE-9A80-0B411CD9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E994-B727-480C-9AB1-14D3EA1D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0672-4E0B-4C21-843A-5A2E2B1A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32EC-5CDC-47F7-8505-C2B010EE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2A38-D625-48B1-9A44-AF444AB6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A1F5-C8F9-4145-B981-1A6EE9A5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0FAE-947C-4CF5-AD10-1D22A93B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0D4C-DD10-45CD-A141-8F8DB6D2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83DA-E44F-4D4A-BB8B-6D4CD72C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5A30-AC0A-4A43-84EE-845A7783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AE6E-E592-483B-B669-8F579749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E5BB-0B02-462A-92D8-C6AE7CF0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09F1-4696-4B33-A4B0-B92B2388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2E2B-54E0-434E-BF21-6E7BB23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4BB9-57A3-43AB-9D12-5EFB120A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D4A1D-B91C-41BB-81C6-9727E602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101D-7BC8-4A32-8FFB-AF23A081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7714-6AEC-4846-8B7F-97342D30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49C1-3C82-42D9-AEE1-4771A512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46AA-96F5-4010-85CE-6B21A21A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8DDA1-04E4-4E75-826B-5C35D968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3B64F-C5BA-469F-8AEF-C05101E8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58CC-A581-4D4E-A0BA-1274CAB5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1FA5-B1BF-4C69-8D64-894BEC98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1D14-5BE7-4E0D-9153-FFA0859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D26B-4A1F-4ED6-95DB-0A219EA7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0A5A8-C48D-4A4A-969A-1D8A41B4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540AD-C305-4057-9788-7B9FE33C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62C3-921A-41B8-A534-6C9A5F14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BEE8-542B-4979-B61C-709DD571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4823-8E1D-42FF-879A-9D5D6F72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8BA9-F1D7-46E5-86B5-3D485CB8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5CE8-7BE9-487B-BA1B-4293E1CD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D511-23FA-4FFA-860F-617C45CC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6B2C-3B56-4930-9C7C-EE0A0EE9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ED4A-CA42-4879-8BFB-2013182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14F4-1221-4312-A061-EA8E0232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0C0A-0251-4607-9A4D-40423B21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3428-83E7-4A6D-B361-3429D3A7FA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FF79-2A4A-4A50-96B1-28155AFC80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10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7E53-BFC0-418A-8423-C3A9B8E1ED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44A3-7805-485C-A23D-B959F6B14A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уализация темы: «Подросток как гражданин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43f42"/>
                </a:solidFill>
                <a:latin typeface="Verdana"/>
              </a:rPr>
              <a:t>Выполните следующие зад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жилища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7708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йти в дом помимо воли тех, кто там проживает нельз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8" name="Picture 21" descr="HOUSELIGHTSWEEP-MOTION3-W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Garamond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1" name="Picture 12" descr="image052"/>
          <p:cNvPicPr/>
          <p:nvPr/>
        </p:nvPicPr>
        <p:blipFill>
          <a:blip r:embed="rId1"/>
          <a:stretch/>
        </p:blipFill>
        <p:spPr>
          <a:xfrm>
            <a:off x="457200" y="3716280"/>
            <a:ext cx="8686800" cy="99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image051"/>
          <p:cNvPicPr/>
          <p:nvPr/>
        </p:nvPicPr>
        <p:blipFill>
          <a:blip r:embed="rId2"/>
          <a:stretch/>
        </p:blipFill>
        <p:spPr>
          <a:xfrm>
            <a:off x="324000" y="2565360"/>
            <a:ext cx="836280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image053"/>
          <p:cNvPicPr/>
          <p:nvPr/>
        </p:nvPicPr>
        <p:blipFill>
          <a:blip r:embed="rId3"/>
          <a:stretch/>
        </p:blipFill>
        <p:spPr>
          <a:xfrm>
            <a:off x="324000" y="5229360"/>
            <a:ext cx="8569080" cy="880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2bf6"/>
                </a:solidFill>
                <a:latin typeface="Garamond"/>
              </a:rPr>
              <a:t>Экономические права:</a:t>
            </a:r>
            <a:br>
              <a:rPr sz="3200"/>
            </a:b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право на труд и свободный выбор профессии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6" name="Picture 8" descr="janitor"/>
          <p:cNvPicPr/>
          <p:nvPr/>
        </p:nvPicPr>
        <p:blipFill>
          <a:blip r:embed="rId1"/>
          <a:stretch/>
        </p:blipFill>
        <p:spPr>
          <a:xfrm>
            <a:off x="179280" y="3860640"/>
            <a:ext cx="2384640" cy="2997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913800" cy="52131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защиту от экономической эксплуатаци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Минимальный возраст для приема на работу</a:t>
            </a:r>
            <a:r>
              <a:rPr b="1" lang="ru-RU" sz="24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15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С письменного согласия родителей или опекунов можно устроиться работать в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14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Никто не может заставить ребенка заниматься тяжелым трудом, вредным для здоровь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Государство не заставляет гражданина трудиться, это его право, а не обязанность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38" name="Picture 14" descr="image127"/>
          <p:cNvPicPr/>
          <p:nvPr/>
        </p:nvPicPr>
        <p:blipFill>
          <a:blip r:embed="rId2"/>
          <a:stretch/>
        </p:blipFill>
        <p:spPr>
          <a:xfrm>
            <a:off x="468360" y="1557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тдых и досуг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27280" y="1341000"/>
            <a:ext cx="6059520" cy="50403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 поощряет создание туристических баз, домов отдыха, санаториев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2" name="Picture 7" descr="a90"/>
          <p:cNvPicPr/>
          <p:nvPr/>
        </p:nvPicPr>
        <p:blipFill>
          <a:blip r:embed="rId1"/>
          <a:stretch/>
        </p:blipFill>
        <p:spPr>
          <a:xfrm>
            <a:off x="179280" y="1413000"/>
            <a:ext cx="2232000" cy="24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image121"/>
          <p:cNvPicPr/>
          <p:nvPr/>
        </p:nvPicPr>
        <p:blipFill>
          <a:blip r:embed="rId2"/>
          <a:stretch/>
        </p:blipFill>
        <p:spPr>
          <a:xfrm>
            <a:off x="179280" y="4292640"/>
            <a:ext cx="2297160" cy="19191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c1ba"/>
                </a:solidFill>
                <a:latin typeface="Garamond"/>
              </a:rPr>
              <a:t>Государство защищает 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детство и материнство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977080" cy="51418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о случаю рождения ребенка родителям предоставляется отпуск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(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одному из родителей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)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ыплачиваются денежные компенсации в виде пособий единовременных и ежемесячны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7" name="Picture 6" descr="bebe01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охрану здоровья и медицинскую помощ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0072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 России действует страховая медицин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ечение граждан оплачивают страховые компани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ервая медицинская помощь оказывается бесплатно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1" name="Picture 6" descr="8f1"/>
          <p:cNvPicPr/>
          <p:nvPr/>
        </p:nvPicPr>
        <p:blipFill>
          <a:blip r:embed="rId1"/>
          <a:stretch/>
        </p:blipFill>
        <p:spPr>
          <a:xfrm>
            <a:off x="250920" y="328464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оциальное обеспечение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184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могает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Инвалидам с детств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юдям получившим увечья, и ставшими поэтому нетрудоспособным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ражданам преклонного возраста, ставшими нетрудоспособными по возраст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5" name="Picture 6" descr="12"/>
          <p:cNvPicPr/>
          <p:nvPr/>
        </p:nvPicPr>
        <p:blipFill>
          <a:blip r:embed="rId1"/>
          <a:stretch/>
        </p:blipFill>
        <p:spPr>
          <a:xfrm>
            <a:off x="5400720" y="1773360"/>
            <a:ext cx="374328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бразование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24000" y="1197000"/>
            <a:ext cx="6732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Это возможность получить знания, навыки необходимые для жизн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Совершайте открытия, изобретайте новое, участвуйте в конкурсах и фестивалях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9" name="Picture 5" descr="aluno01"/>
          <p:cNvPicPr/>
          <p:nvPr/>
        </p:nvPicPr>
        <p:blipFill>
          <a:blip r:embed="rId1"/>
          <a:stretch/>
        </p:blipFill>
        <p:spPr>
          <a:xfrm>
            <a:off x="0" y="1773360"/>
            <a:ext cx="244800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Закон «Об образовании»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Аттестат дает право получить обучение в училище, колледже, ВУЗе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получение информаци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5256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обращаться за помощью к взрослым (родителям и учителям)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идти в библиотеку, чтобы найти ответы на  вопросы, интересующие теб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подключиться к компьютерным сетя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66" name="Picture 6" descr="image695"/>
          <p:cNvPicPr/>
          <p:nvPr/>
        </p:nvPicPr>
        <p:blipFill>
          <a:blip r:embed="rId1"/>
          <a:stretch/>
        </p:blipFill>
        <p:spPr>
          <a:xfrm>
            <a:off x="6443640" y="1413000"/>
            <a:ext cx="2521080" cy="51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Найдите правильное соответствие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827360"/>
          <a:ext cx="7245360" cy="4090680"/>
        </p:xfrm>
        <a:graphic>
          <a:graphicData uri="http://schemas.openxmlformats.org/drawingml/2006/table">
            <a:tbl>
              <a:tblPr/>
              <a:tblGrid>
                <a:gridCol w="2108160"/>
                <a:gridCol w="5137200"/>
              </a:tblGrid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Понят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aaae"/>
                    </a:solidFill>
                  </a:tcPr>
                </a:tc>
              </a:tr>
              <a:tr h="6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1.Собрания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А.Право на участие в ведении государственных дел и в правосуд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2.Митинги 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Б.Многолюдные мероприятия людей. Выражающих те или иные взгляды, иногда сопровождающиеся перемещением по определенному маршрут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3.Демонстрац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В.Совместное присутствие группы людей в определенном месте для обсуждения или решения какой – либо проблем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4.Выбор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Г.Форма выражения мнения людей с целью публичного высказывания по конкретному вопрос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лохих детей не бывает.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Никто и никогда не должен быть жестоким по отношению к детям.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ределите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ли соблюдены права или нет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кажите почему вы так думаете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йдите правильный отв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1.Самым важным и неотъемлемым право каждого человека с рождения является право на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образование;         б) жизнь;                      в) переезд в другую стр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2.Права подростка гарантирую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государством;        б) самим подростком;               в)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3.К реализации права на личную жизнь относи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выбор места учеб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тайна телефонных разговор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участие в выбор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4.Право на труд входит в груп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культурных прав;      б) политических прав;      в) экономических пра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5.Правом на социальное обеспечение могут пользова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мужчины трудоспособного возраста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пенсионеры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лица без граждан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одумайте над вопросом: как вы считаете отличаются ли права ребенка от прав взросл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еречислите, какими из прав вы реально пользуетесь в своей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Вставьте недостающие слова (понятия) в предлож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должен платить ___________________. Эти деньги поступают в казну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целях сохранения культурного наследия граждане обязаны 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обязан соблюдать ________________________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Подросток </a:t>
            </a:r>
            <a:br>
              <a:rPr sz="6000"/>
            </a:b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и его права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к вы считаете, отличаются ли права ребенка и подростка от прав взрослого человека?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человека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–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это возможность что – либо делать, поступать определенным образом, иметь что-то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на жизнь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12" name="Picture 6" descr="bebe09"/>
          <p:cNvPicPr/>
          <p:nvPr/>
        </p:nvPicPr>
        <p:blipFill>
          <a:blip r:embed="rId1"/>
          <a:stretch/>
        </p:blipFill>
        <p:spPr>
          <a:xfrm>
            <a:off x="179280" y="2708280"/>
            <a:ext cx="2016360" cy="207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624720" cy="532764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Важное и неотъемлемое право для каждого челове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Жизнь ребенку дают родители, а право на жизнь гарантирует ему государство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вободу и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 личную неприкосновенност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619308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ный человек отвечает за себя сам – и никто другой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а состоит в праве делать все то, что не вредит друг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насильно удерживать другого человек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унижать и оскорблять другого человека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17" name="Picture 8" descr="batterup"/>
          <p:cNvPicPr/>
          <p:nvPr/>
        </p:nvPicPr>
        <p:blipFill>
          <a:blip r:embed="rId1"/>
          <a:stretch/>
        </p:blipFill>
        <p:spPr>
          <a:xfrm>
            <a:off x="108000" y="1989000"/>
            <a:ext cx="2519280" cy="39610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Конвенция о правах ребенка</a:t>
            </a:r>
            <a:br>
              <a:rPr sz="4400"/>
            </a:br>
            <a:r>
              <a:rPr b="1" lang="ru-RU" sz="1800" spc="-1" strike="noStrike">
                <a:solidFill>
                  <a:srgbClr val="d8c1ba"/>
                </a:solidFill>
                <a:latin typeface="Garamond"/>
              </a:rPr>
              <a:t>(принят Организацией Объединенных Наций – ООН в 1989 г.)</a:t>
            </a:r>
            <a:endParaRPr b="1" lang="en-US" sz="1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ждый ребенок имеет право знать своих родителей;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4444"/>
                </a:solidFill>
                <a:latin typeface="Garamond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личной жизн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55344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Тайный характер частной жизни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без разрешения прокуратуры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4" name="Picture 5" descr="7f1"/>
          <p:cNvPicPr/>
          <p:nvPr/>
        </p:nvPicPr>
        <p:blipFill>
          <a:blip r:embed="rId1"/>
          <a:stretch/>
        </p:blipFill>
        <p:spPr>
          <a:xfrm>
            <a:off x="6588000" y="256536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9:48Z</dcterms:modified>
  <cp:revision>7</cp:revision>
  <dc:subject/>
  <dc:title>Актуализация темы: «Подросток как гражданин»</dc:title>
</cp:coreProperties>
</file>