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2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967F-7FFB-41F9-ACD6-A5A34EA0925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отивоя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9-А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а Ан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EEF1-2D65-482D-B37E-D3DF65BD2B6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шей стране создана мощная токсикологическая служба. В результате бурного развития химической промышленности, обилия препаратов битовой химии, лекарственных и сильнодействующих средств, распространения наркомании, наличия в продаже недоброкачественных алкогольных напитков и некоторых продуктов питания количество отравлений среди россиян, к сожалению, из года в год увеличив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тот, кто вовремя обратится к врачу-токсикологу, может быть уверен: благодаря широкому ассортименту антидотов ему будет оказана эффективная помощь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B11D-2180-4DBC-ABB2-D000F2EA60E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 ДРЕВНИХ МЕДИЦИНСКИХ ТРАКТАТАХ СОДЕРЖАТСЯ СВЕДЕНИЯ НЕ ТОЛЬКО О ЛЕКАРСТВАХ, НО И О ЯДОВИТЫХ СРЕДСТВАХ, КОТОРЫЕ НЕРЕДКО ИСПОЛЬЗОВАЛИСЬ В ПРЕСТУПНЫХ ЦЕЛЯХ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 ( токсин) – вещество, приводящее в определенных дозах или концентрациях к расстройству или нарушению тех или иных процессов жизнедеятельности организма, к возникновению отравления ( интоксикации ) или каких-либо заболеваний, паталогических состоя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9844-B598-4546-B296-42C48FCDAE8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вол «череп и кости» по традиции используют, чтобы пометить ядовит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7D05-E0C1-4A7F-B5D2-65FC78B168A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я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41F7-79E8-4449-AF0B-80638CB7596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в древнеегипетской фармакопее перечислены многие растительные лекарства-яды: белена, стрихнин, опий, конопля, а также полынь, ромашка, морской лу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яд была известна и синильная кислота, которую отгоняли из косточек плодов, например перс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68CB-FF38-4552-9DC4-5967B323704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личие ядов по действи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матические яд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eamotoxi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-яды, затрагивающие кро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йротоксичные яд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eurotoxi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ы, поражающие нервную систему и моз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отоксичные яд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yotoxi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ы, повреждающие мыш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мотоксин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aemorrhaginstoxin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, повреждающие кровеносные сосуды и вызывающие кровот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молитические токсин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aemolysinstoxins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, повреждающие красные кровяные тельца (эритроцит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ротоксин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ephrotoxin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, повреждающие по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диотоксин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ardiotoxin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, повреждающие сердце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ротоксин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ecrotoxin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, неспецифически разрушающие ткани .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377E-B2EF-40A4-8B36-2C7048FA708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противоя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е врачи были убеждены, что если природа создала яд, то имеется и противоядие, нужно только суметь его найти, а это дело нелегк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, например, древнегреческий поэт и врач Никандр из Колофона делит все яды на две группы действующие медленно и быстро. В качестве противоядия он рекомендует нагретое молоко, теплую воду, мальву или настой львиного семени, чтобы вызвать рвоту и избежать всасывания я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561A-2C21-410B-A579-7E8AB93DE7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вдий Гален в своем сочинении «Антидоты» разделил ядовитые вещества на охлаждающие, согревающие и вызывающие гниение. Его тезис гласит: «Чтобы лечить болезни, необходимо использовать противоположное противоположны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E623-3A44-47DF-88CD-C54D964BDCB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шли столетия, но мало что изменилось в принципах лечения отравлений. Основные средства это ротные и слабительные. Повторные приёмы рвотных средств чередуются с приёмом молока и жирных супов, ибо предполагается, что жиры нейтрализуют действие яда и не дают ему всос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чале 19 столетия появились противоядия, не потерявшие своего значения и поныне. Самые простые антидоты соединяются с ядами, давая нерастворимую форму, что уменьшает всасывание яда в кровь из желудочнокишечного тракта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7168-7E81-4180-B411-3261BF6F914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E2148-AC30-492B-857F-7B2B5ED6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2BFBA-07E6-4A51-952F-C1DF32F5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CBB72-B98B-4ED9-AF9A-6CBC489E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A2199-574C-4FEF-AA2F-473E1F09C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4150-4427-45E1-B6B3-1871316D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4791-56C0-4A93-B696-3E27506E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76C1-9701-4CBF-A99C-52607BB6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3B44-C56A-42A6-89D4-4A55FD6D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BD41-06E1-4375-96BF-97EEE131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D34B-5F1D-42F5-9C7E-32E93B1F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4FA5-8285-41E5-B204-B72F64B3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342FF-27A8-40D9-93F5-F163F0AF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E111-FF10-406D-AC26-272A6380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0344-29D1-4FF7-AEEB-C9AF4937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DB09-15DD-4666-A743-54E0A49E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13D0-3AED-4971-BC0B-6E33B0C4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F662-DE7F-499E-88F7-CE7B5527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8CD0A-EE25-4C9A-952B-7D4D15A6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CB4BB-0BB5-4A65-86E5-31EA19D6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4A740-CCA7-4BA0-A370-D23B19A8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E43AD-DD33-48B2-85C3-D1ED85D5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50F61-3DA4-4F66-8EF6-643CBD83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2658E-37EE-4132-B2EA-6657F968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9B646-9008-4EE9-A9F2-426BCAA1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50C8-DF01-4737-9B63-C771F71A1E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FF9E-0F65-4FA4-8AD0-A0DED77DFE8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fdef6"/>
                </a:solidFill>
                <a:latin typeface="Arial"/>
              </a:rPr>
              <a:t>ЯДЫ </a:t>
            </a:r>
            <a:br>
              <a:rPr sz="5400"/>
            </a:br>
            <a:r>
              <a:rPr b="0" lang="ru-RU" sz="5400" spc="-1" strike="noStrike">
                <a:solidFill>
                  <a:srgbClr val="dfdef6"/>
                </a:solidFill>
                <a:latin typeface="Arial"/>
              </a:rPr>
              <a:t>и противоядия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355640" y="4293720"/>
            <a:ext cx="33750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ница 9-А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йда Ан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11" descr="j0186002"/>
          <p:cNvPicPr/>
          <p:nvPr/>
        </p:nvPicPr>
        <p:blipFill>
          <a:blip r:embed="rId1"/>
          <a:stretch/>
        </p:blipFill>
        <p:spPr>
          <a:xfrm>
            <a:off x="755640" y="692280"/>
            <a:ext cx="1776600" cy="18255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2" descr="babylon"/>
          <p:cNvPicPr/>
          <p:nvPr/>
        </p:nvPicPr>
        <p:blipFill>
          <a:blip r:embed="rId2">
            <a:lum bright="6000"/>
          </a:blip>
          <a:srcRect l="0" t="0" r="0" b="20058"/>
          <a:stretch/>
        </p:blipFill>
        <p:spPr>
          <a:xfrm>
            <a:off x="611280" y="4149720"/>
            <a:ext cx="2759040" cy="2087640"/>
          </a:xfrm>
          <a:prstGeom prst="rect">
            <a:avLst/>
          </a:prstGeom>
          <a:ln w="0">
            <a:noFill/>
          </a:ln>
        </p:spPr>
      </p:pic>
      <p:sp>
        <p:nvSpPr>
          <p:cNvPr id="5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548316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нашей стране создана мощная токсикологическая служба. В результате бурного развития химической промышленности, обилия препаратов битовой химии, лекарственных и сильнодействующих средств, распространения наркомании, наличия в продаже недоброкачественных алкогольных напитков и некоторых продуктов питания количество отравлений среди россиян, к сожалению, из года в год увеличиваетс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тот, кто вовремя обратится к врачу-токсикологу, может быть уверен: благодаря широкому ассортименту антидотов ему будет оказана эффективная помощь.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Picture 4" descr="j0240719"/>
          <p:cNvPicPr/>
          <p:nvPr/>
        </p:nvPicPr>
        <p:blipFill>
          <a:blip r:embed="rId3"/>
          <a:stretch/>
        </p:blipFill>
        <p:spPr>
          <a:xfrm>
            <a:off x="6084720" y="1773360"/>
            <a:ext cx="2590920" cy="3816360"/>
          </a:xfrm>
          <a:prstGeom prst="rect">
            <a:avLst/>
          </a:prstGeom>
          <a:ln w="0">
            <a:noFill/>
          </a:ln>
        </p:spPr>
      </p:pic>
      <p:sp>
        <p:nvSpPr>
          <p:cNvPr id="55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Arial"/>
              </a:rPr>
              <a:t>В ДРЕВНИХ МЕДИЦИНСКИХ ТРАКТАТАХ СОДЕРЖАТСЯ СВЕДЕНИЯ НЕ ТОЛЬКО О ЛЕКАРСТВАХ, НО И О ЯДОВИТЫХ СРЕДСТВАХ, КОТОРЫЕ НЕРЕДКО ИСПОЛЬЗОВАЛИСЬ В ПРЕСТУПНЫХ ЦЕЛЯХ.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619272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д ( токсин) – вещество, приводящее в определенных дозах или концентрациях к расстройству или нарушению тех или иных процессов жизнедеятельности организма, к возникновению отравления ( интоксикации ) или каких-либо заболеваний, паталогических состоя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5" descr="bgrd_main"/>
          <p:cNvPicPr/>
          <p:nvPr/>
        </p:nvPicPr>
        <p:blipFill>
          <a:blip r:embed="rId2"/>
          <a:stretch/>
        </p:blipFill>
        <p:spPr>
          <a:xfrm>
            <a:off x="6659640" y="1989000"/>
            <a:ext cx="2241360" cy="3313080"/>
          </a:xfrm>
          <a:prstGeom prst="rect">
            <a:avLst/>
          </a:prstGeom>
          <a:ln w="0">
            <a:noFill/>
          </a:ln>
        </p:spPr>
      </p:pic>
      <p:sp>
        <p:nvSpPr>
          <p:cNvPr id="52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def6"/>
                </a:solidFill>
                <a:latin typeface="Arial"/>
              </a:rPr>
              <a:t>Символ «череп и кости» по традиции используют, чтобы пометить ядовитые вещества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1" name="Picture 4" descr="Черепушка"/>
          <p:cNvPicPr/>
          <p:nvPr/>
        </p:nvPicPr>
        <p:blipFill>
          <a:blip r:embed="rId1"/>
          <a:stretch/>
        </p:blipFill>
        <p:spPr>
          <a:xfrm>
            <a:off x="1187280" y="1700280"/>
            <a:ext cx="6769440" cy="4608360"/>
          </a:xfrm>
          <a:prstGeom prst="rect">
            <a:avLst/>
          </a:prstGeom>
          <a:ln w="0">
            <a:noFill/>
          </a:ln>
        </p:spPr>
      </p:pic>
      <p:sp>
        <p:nvSpPr>
          <p:cNvPr id="53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иды ядов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468360" y="1700280"/>
          <a:ext cx="8147160" cy="4572000"/>
        </p:xfrm>
        <a:graphic>
          <a:graphicData uri="http://schemas.openxmlformats.org/drawingml/2006/table">
            <a:tbl>
              <a:tblPr/>
              <a:tblGrid>
                <a:gridCol w="2716200"/>
                <a:gridCol w="2927160"/>
                <a:gridCol w="250380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ТОЧНИ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МЕРТЕЛЬНАЯ ДОЗА(мкг/кг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ксин ботулиз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ктер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алитокс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ралловые риф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йпокс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йпа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трахотокс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жа лягушек древолаз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иц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оды клещеви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тьютокс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корпио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отокс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ллюски кону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д меду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рнеротые меду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челиный я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доносные пчел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5" name="Picture 68" descr="Code Age Commanders art_3"/>
          <p:cNvPicPr/>
          <p:nvPr/>
        </p:nvPicPr>
        <p:blipFill>
          <a:blip r:embed="rId1"/>
          <a:stretch/>
        </p:blipFill>
        <p:spPr>
          <a:xfrm>
            <a:off x="395280" y="115920"/>
            <a:ext cx="2376360" cy="134136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69" descr="Code Age Commanders poster_2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6588000" y="189000"/>
            <a:ext cx="1727280" cy="1224000"/>
          </a:xfrm>
          <a:prstGeom prst="rect">
            <a:avLst/>
          </a:prstGeom>
          <a:ln w="0">
            <a:noFill/>
          </a:ln>
        </p:spPr>
      </p:pic>
      <p:sp>
        <p:nvSpPr>
          <p:cNvPr id="53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же в древнеегипетской фармакопее перечислены многие растительные лекарства-яды: белена, стрихнин, опий, конопля, а также полынь, ромашка, морской лук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яд была известна и синильная кислота, которую отгоняли из косточек плодов, например перс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4" descr="yd_p01"/>
          <p:cNvPicPr/>
          <p:nvPr/>
        </p:nvPicPr>
        <p:blipFill>
          <a:blip r:embed="rId4"/>
          <a:stretch/>
        </p:blipFill>
        <p:spPr>
          <a:xfrm>
            <a:off x="6948360" y="4149720"/>
            <a:ext cx="1714680" cy="1809720"/>
          </a:xfrm>
          <a:prstGeom prst="rect">
            <a:avLst/>
          </a:prstGeom>
          <a:ln w="0">
            <a:noFill/>
          </a:ln>
        </p:spPr>
      </p:pic>
      <p:sp>
        <p:nvSpPr>
          <p:cNvPr id="54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Различие ядов по действию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79200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матические яд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eamotoxi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-яды, затрагивающие кров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йротоксичные яд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eurotoxi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ды, поражающие нервную систему и моз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отоксичные яд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yotoxi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ды, повреждающие мышц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мотоксин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aemorrhaginstoxin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ксины, повреждающие кровеносные сосуды и вызывающие кровотеч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молитические токсин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aemolysinstoxins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ксины, повреждающие красные кровяные тельца (эритроциты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фротоксин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ephrotoxin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ксины, повреждающие поч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рдиотоксин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ardiotoxin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ксины, повреждающие сердце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кротоксин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ecrotoxin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ксины, неспецифически разрушающие ткани .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4" descr="i-5[1]"/>
          <p:cNvPicPr/>
          <p:nvPr/>
        </p:nvPicPr>
        <p:blipFill>
          <a:blip r:embed="rId9">
            <a:lum bright="-6000"/>
          </a:blip>
          <a:stretch/>
        </p:blipFill>
        <p:spPr>
          <a:xfrm>
            <a:off x="7415280" y="4508640"/>
            <a:ext cx="1728720" cy="2349360"/>
          </a:xfrm>
          <a:prstGeom prst="rect">
            <a:avLst/>
          </a:prstGeom>
          <a:ln w="0">
            <a:noFill/>
          </a:ln>
        </p:spPr>
      </p:pic>
      <p:sp>
        <p:nvSpPr>
          <p:cNvPr id="54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Поиск противоядия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ревние врачи были убеждены, что если природа создала яд, то имеется и противоядие, нужно только суметь его найти, а это дело нелегк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к, например, древнегреческий поэт и врач Никандр из Колофона делит все яды на две группы действующие медленно и быстро. В качестве противоядия он рекомендует нагретое молоко, теплую воду, мальву или настой львиного семени, чтобы вызвать рвоту и избежать всасывания яд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6275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авдий Гален в своем сочинении «Антидоты» разделил ядовитые вещества на охлаждающие, согревающие и вызывающие гниение. Его тезис гласит: «Чтобы лечить болезни, необходимо использовать противоположное противоположным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Picture 16" descr="Half Life 2 wall_09"/>
          <p:cNvPicPr/>
          <p:nvPr/>
        </p:nvPicPr>
        <p:blipFill>
          <a:blip r:embed="rId2"/>
          <a:stretch/>
        </p:blipFill>
        <p:spPr>
          <a:xfrm>
            <a:off x="6443640" y="1628640"/>
            <a:ext cx="2314440" cy="3824280"/>
          </a:xfrm>
          <a:prstGeom prst="rect">
            <a:avLst/>
          </a:prstGeom>
          <a:ln w="0">
            <a:noFill/>
          </a:ln>
        </p:spPr>
      </p:pic>
      <p:sp>
        <p:nvSpPr>
          <p:cNvPr id="55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шли столетия, но мало что изменилось в принципах лечения отравлений. Основные средства это ротные и слабительные. Повторные приёмы рвотных средств чередуются с приёмом молока и жирных супов, ибо предполагается, что жиры нейтрализуют действие яда и не дают ему всоса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ачале 19 столетия появились противоядия, не потерявшие своего значения и поныне. Самые простые антидоты соединяются с ядами, давая нерастворимую форму, что уменьшает всасывание яда в кровь из желудочнокишечного тракта.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10:57:16Z</dcterms:created>
  <dc:creator>Аня</dc:creator>
  <dc:description/>
  <dc:language>en-US</dc:language>
  <cp:lastModifiedBy>LEGION</cp:lastModifiedBy>
  <dcterms:modified xsi:type="dcterms:W3CDTF">2015-02-13T11:02:46Z</dcterms:modified>
  <cp:revision>8</cp:revision>
  <dc:subject/>
  <dc:title>ЯДЫ  и противоядия</dc:title>
</cp:coreProperties>
</file>