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640D-BAB9-4122-BAB8-145756585E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76FC-B67F-4FEF-A720-81E978D94B9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, стресс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столько прочно вошел в нашу жизнь, что, употребляя его, мы перестали задумываться, что же это такое на самом деле. В переводе с английского stress - давление, нажим, напряжение. Можно найти такие определения стресса: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ва вида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Положительный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ресс ведет к длительному пребыванию в состоянии приподнятого настроения, что, весьма благотворно влияет на организм: повышается иммунитет, отступают болезни, человек чувствует прилив радости, отлично выглядит и замечательно себя чувствуе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Отрицательный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ресс надолго выбивает из колеи и заметно подрывает здоровь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558C-C0C4-43FA-B829-EBBE0CA0E3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симпт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ассеянн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вышенная возбудим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стоянная усталость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теря чувства юмор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езкое увеличение количества  выкуриваемых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гарет, с одновременно появившим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трастием к алкоголю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опажа сна и аппетит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худшение памят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ногда возможны, так называемы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сихосоматические» боли в области головы,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ины, желуд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3F60-86E0-403A-A91F-9DBE3CFE34B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Вы обнаружили у себя пять и более из перечисленных признаков, значит, надо срочно вытаскивать себя за уши из этого болот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вердо усвойте, что вы у себя одна, а неприятностей вокруг пруд-пруди, на всех здоровья не напасешься. И, главное, жизнь такая штука, которую можно спокойно воспринимать только обладая большим чувством юмор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0459-0B2D-42BC-B14F-EE8DC2311F6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дикатор стр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ачала прочитайте, а потом смотрите на картинку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фото изображены два дельфина, выпрыгивающих из во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было установлено на примере подопытной группы, несмотря на тот факт, что дельфины абсолютно идентичны, человек, находящийся в стрессовом состоянии, находит отличия в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еловек находит много отличий, значит, он испытывает сильнейший стрес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мотрите на картинку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сли Вы нашли в дельфинах более двух отличий, то Вам срочно надо в отпус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9149-FDFF-4B35-9B43-58428F1B74E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С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655E-F3B1-4E48-AA2E-7F07256B93F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Умеете ли вы справляться со стрессом?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0-3 очк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Вы умеете владеть собой и, вероятно, вполне счастл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4-7 очк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Ваша способность справляться со стрессом где-то на среднем уровне. Вам полезно взять на вооружение некоторые приемы, помогающие справляться со стресс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8 и более очк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ам пока трудно бороться с жизненными невзгодами. Если вы хотите сохранить свои душевные и физические силы, вам необходимо научиться использовать более эффективные методы борьбы со стрессо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A94B-7168-4E2F-91DF-06E82466756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Рецепты для поднятия жизненного тонус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Медитация и аутотренинг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Четкое распределение времени на работу и отдых 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Горячий шоколад, пушистый плед, удобное кресло и старая любимая книжка (лучше детская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Хорошее вино, шоколад, орехи и страстный любовник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0D8E-ACFA-46DF-9F4E-0873E1E67D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Хотя бы кратковременный отпуск в теплых краях в приятной компании или в одиночестве, на Ваш вку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Сон, столько сколько хочется и еще немножк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Спорт до изнемож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Баня. Настоящая русская баня, с парилкой, вениками и прыжками в сугро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 Общение с природой: лес, поле, огород и симпатичными животными: кошками, собаками, лошадь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. Люди, которым Вы нужны, которые Вас любят, ценят, поддержат, поймут и развеселят в любой ситу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CF84-190D-493C-B45D-E1D49076F5A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Умей спокойно относиться к тому, чего не в силах изменить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н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A6EB-D2E3-4BD8-8DDF-C9E18DB7F71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ТАКОЕ СТРЕС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состояние напряжения, возникающее у человека под влиянием сильных воздействий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неспецифическая защитная реакция организма в ответ на неблагоприятные изме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791B-DEBA-40FE-83FF-9C4779763FA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й 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 на работ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моциональный 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ческ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й стре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ерационный стресс (реакция организма на хирургическую операцию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травматический стресс, возникающий вследствие перенесенной травмы и.т.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2767-0F2B-4470-A07F-767D7428E72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может быть стрессоро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Физические стрессоры: жар, холод, шум, огонь, уличное движение, насилие, болезни, плохие условия работы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Социальные стрессоры: общественные, экономические и политические; семейные; связанные с работой, карьерой; межличностные стрессо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Семейные стрессоры: распределение обязанностей, ревность, различие в системах ценностей, болезни (смерть в семье и т.д.)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7672-DEDB-4771-93DE-0EA697130AA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ff"/>
                </a:solidFill>
                <a:latin typeface="Comic Sans MS"/>
              </a:rPr>
              <a:t>Фазы развития стрес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4FA3-1205-4176-B5C3-83D9966893E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ва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стадия тревоги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дце в такие моменты начинает биться чаще, пищеварение временно сдерживается. В этом состоянии человек не может находиться долго, так как уста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4184-6AA8-479B-BB95-6D8496223F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тора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тадия сопротивлени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наступает по мере развития и продолжения стрессовой ситуации. В этой стадии человек, адаптируясь к обстоятельствам, функционирует в оптимальном режиме. Эта стадия может продолжаться сравнительно дол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9AA9-37EB-487F-8E52-6322914906E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0D12-D6F6-4D7A-9683-CFE8722541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тья (стадия истощен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упает, если стресс слишком силен или продолжителен. Ее признаки начинают проявляться в эмоциональной (тревога, апатия, раздражительность, психическая усталость), поведенческой (уклонение от ответственности и взаимоотношений, экстремальное поведение, пренебрежение к себе) и соматической (ухудшение здоровья, истощение, чрезмерное употребление лекарств) сферах. Потеря возможности сопротивления приводит к заболеванию, возникновению психологической травмы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дствия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оценкам некоторых западных экспертов, до 70% заболеваний связаны с эмоциональным стрессом. В Европе ежегодно умирают более миллиона человек вследствие стрессогенных нарушений функций сердечно-сосудис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D13B-CE1F-42F2-A987-4C03A147177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889-4B49-4ED5-BADC-703F4E56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F4A-C5D4-4CAA-A6AB-E5DFC2DE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289-A4AA-40FE-8301-9427C916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7E4-2F38-42F2-9697-C1F2E5F9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6E2C-E8FD-406A-A378-4960A140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D6AC-BB8B-4846-B68D-E2694342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88A1-168F-4C44-BDD4-B87050C6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80C2-7859-42C4-AFC8-C2AADB45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E3F5-0BC8-4336-A0AE-4E7F081B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52F7-AC15-44DB-B043-9D051510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5548-BDF8-464A-8E9E-F6EF8FC6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910C-59D8-4010-8618-1F66324D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059A-0F88-4DD1-B38E-2C8CA78F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B6D1-1279-42E4-A2D3-309D8DB2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9DF7-11C2-48D7-92ED-91DBD2BA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503E-3A65-494D-B241-11CFADD2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E732-B43B-416D-829D-D829061C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4644D-C598-418D-920C-867336AF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5BD0F-F70A-4A42-8F09-451B34F5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8C1B4E-B556-49C5-AED1-09F8C3BF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6AEC4-5908-4209-80F4-08CC2310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42243-8986-4F4D-BB93-D36C3F1C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301C-F1BE-416F-B43D-BD003D1E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7B08B-9266-4B60-A66B-03AE6764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96FFD-0E54-4E8A-9EFC-814A22C1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A925B-41A8-4D4B-9014-FD08CB04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FBB5A-B9E0-49C6-9941-EFA8DBBD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6EA6C-D159-4852-8BA3-AD770426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81F44-D589-40BF-8B1C-9C50AC42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4EA56-4CCA-4EA2-BF86-1AF9BFC9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C0FE14-06A9-4DD0-9644-2EF1CE1F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46C6E5-A602-41A9-95D9-DC913CA1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CDBB02-B016-47C8-BAC7-59539725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6A48-8D80-4790-89AF-B2F38FDE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44E036-0E85-49ED-9E7B-B850C0E1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D656AF-8972-492B-9454-18325024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161C57-5947-46C4-BE9B-D5DFC924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1B7AA7-0AFB-49D6-9509-6E06F7F7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BA1193-FF7B-4158-A554-C8BB431E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5F3221-28F5-4759-BA70-53E2DCB0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B8E429-2322-4F0E-94C2-F7AA76F1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D3D301-47C4-42AC-AD1B-E9ABF637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F87C0A-01D5-44C5-8489-9766EC23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CB46-3971-40ED-9F46-B38F6042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281-7236-413E-B98B-C6A1E9B7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C467-D84B-4750-A017-75C923BD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5A5-F1EE-4EFB-B4AC-319A898C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F4BE-74F3-4F20-A3D9-38ACE9E3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5C55-C997-4E4F-84C9-5345603772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3C8F-EE5B-44C0-8897-62ED0E3247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E87C-6618-4C7E-810A-FDEAD13C94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9A99-C80F-4053-ABC5-8CA3482369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91880"/>
            <a:ext cx="816264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3e3ff"/>
                </a:solidFill>
                <a:latin typeface="Arial"/>
              </a:rPr>
              <a:t>Стресс, стресс!</a:t>
            </a:r>
            <a:br>
              <a:rPr sz="6600"/>
            </a:b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3" name="Picture 6" descr="360"/>
          <p:cNvPicPr/>
          <p:nvPr/>
        </p:nvPicPr>
        <p:blipFill>
          <a:blip r:embed="rId1"/>
          <a:stretch/>
        </p:blipFill>
        <p:spPr>
          <a:xfrm>
            <a:off x="3075120" y="1922400"/>
            <a:ext cx="5186160" cy="3654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>
            <a:off x="468360" y="2417400"/>
            <a:ext cx="266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переводе с английского stress - давление, нажим, напряжение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Два вида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Положительный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тресс ведет к длительному пребыванию в состоянии приподнятого настроения, что, весьма благотворно влияет на организм: повышается иммунитет, отступают болезни, человек чувствует прилив радости, отлично выглядит и замечательно себя чувствуе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Отрицательный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тресс надолго выбивает из колеи и заметно подрывает здоровье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Основные симптом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ассеяннос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вышенная возбудимос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стоянная усталость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теря чувства юмора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езкое увеличение количества  выкуриваемых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гарет, с одновременно появившим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трастием к алкоголю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опажа сна и аппетита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ухудшение памяти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иногда возможны, так называе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психосоматические» боли в области головы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ины, желудк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11" descr="1174238951_wetcat_03"/>
          <p:cNvPicPr/>
          <p:nvPr/>
        </p:nvPicPr>
        <p:blipFill>
          <a:blip r:embed="rId1"/>
          <a:stretch/>
        </p:blipFill>
        <p:spPr>
          <a:xfrm>
            <a:off x="5292720" y="1628640"/>
            <a:ext cx="3557520" cy="38880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4"/>
          <p:cNvSpPr/>
          <p:nvPr/>
        </p:nvSpPr>
        <p:spPr>
          <a:xfrm>
            <a:off x="684360" y="836640"/>
            <a:ext cx="4319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Если Вы обнаружили у себя пять и более из перечисленных признаков, значит, надо срочно вытаскивать себя за уши из этого болота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ердо усвойте, что вы у себя одна, а неприятностей вокруг пруд-пруди, на всех здоровья не напасешься. И, главное, жизнь такая штука, которую можно спокойно воспринимать только обладая большим чувством юмор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320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Индикатор стресс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ачала прочитайте, а потом смотрите на картинк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фото изображены два дельфина, выпрыгивающих из воды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было установлено на примере подопытной группы, несмотря на тот факт, что дельфины абсолютно идентичны, человек, находящийся в стрессовом состоянии, находит отличия в ни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человек находит много отличий, значит, он испытывает сильнейший стресс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мотрите на картинку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Вы нашли в дельфинах более двух отличий, то Вам срочно надо в отпус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2533680" y="523800"/>
            <a:ext cx="4208400" cy="600084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80640" y="333000"/>
            <a:ext cx="8163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ТЕСТ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332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57200" y="1268280"/>
          <a:ext cx="8229600" cy="5477040"/>
        </p:xfrm>
        <a:graphic>
          <a:graphicData uri="http://schemas.openxmlformats.org/drawingml/2006/table">
            <a:tbl>
              <a:tblPr/>
              <a:tblGrid>
                <a:gridCol w="5407200"/>
                <a:gridCol w="931680"/>
                <a:gridCol w="932040"/>
                <a:gridCol w="95868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утвер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част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ед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нико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чувствую себя счастливы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сам могу сделать себя счастливы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Меня охватывает чувство безнадежности.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4. Я способен расслабиться в стрессовой ситуации, не прибегая для этого к успокоительным таблетка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5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Если бы я испытывал очень сильный стресс, я бы обязательно обратился за помощью к специалист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6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склонен к гру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7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Мне хотелось бы стать кем-нибудь други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. Мне хотелось бы оказаться где-нибудь в другом мест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  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легко расстраиваюс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</a:tbl>
          </a:graphicData>
        </a:graphic>
      </p:graphicFrame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0640" y="259920"/>
            <a:ext cx="8163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«Умеете ли вы справляться со стрессом?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0-3 оч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Вы умеете владеть собой и, вероятно, вполне счастл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4-7 очков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Ваша способность справляться со стрессом где-то на среднем уровне. Вам полезно взять на вооружение некоторые приемы, помогающие справляться со стрес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8 и более оч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Вам пока трудно бороться с жизненными невзгодами. Если вы хотите сохранить свои душевные и физические силы, вам необходимо научиться использовать более эффективные методы борьбы со стресс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Рецепты для поднятия жизненного тонуса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Медитация и аутотренинг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Четкое распределение времени на работу и отдых 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Горячий шоколад, пушистый плед, удобное кресло и старая любимая книжка (лучше детская)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Хорошее вино, шоколад, орехи и страстный любовник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508720" y="1600200"/>
            <a:ext cx="3178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5508720" y="2060640"/>
            <a:ext cx="3308400" cy="403236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-360" y="475920"/>
            <a:ext cx="8675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Хотя бы кратковременный отпуск в теплых краях в приятной компании или в одиночестве, на Ваш вкус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Сон, столько сколько хочется и еще немножко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Спорт до изнеможени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 Баня. Настоящая русская баня, с парилкой, вениками и прыжками в сугроб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 Общение с природой: лес, поле, огород и симпатичными животными: кошками, собаками, лошадьм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. Люди, которым Вы нужны, которые Вас любят, ценят, поддержат, поймут и развеселят в любой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4000" y="691920"/>
            <a:ext cx="765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"Умей спокойно относиться к тому, чего не в силах изменить"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ене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73612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ЧТО ТАКОЕ СТРЕСС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с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это состояние напряжения, возникающее у человека под влиянием сильных воздействий;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ес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это неспецифическая защитная реакция организма в ответ на неблагоприятные изменения окружающей сре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Виды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ессиональный стре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есс на работ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моциональный стре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логический стр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ерационный стресс (реакция организма на хирургическую операцию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ттравматический стресс, возникающий вследствие перенесенной травмы и.т.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Что может быть стрессором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Физические стрессоры: жар, холод, шум, огонь, уличное движение, насилие, болезни, плохие условия работы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Социальные стрессоры: общественные, экономические и политические; семейные; связанные с работой, карьерой; межличностные стрессо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Семейные стрессоры: распределение обязанностей, ревность, различие в системах ценностей, болезни (смерть в семье и т.д.)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2"/>
          <p:cNvSpPr txBox="1"/>
          <p:nvPr/>
        </p:nvSpPr>
        <p:spPr>
          <a:xfrm>
            <a:off x="1523880" y="91440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Фазы развития стресса.</a:t>
            </a:r>
            <a:endParaRPr b="0" lang="en-US" sz="2000" spc="1" strike="noStrike">
              <a:ln w="9360">
                <a:solidFill>
                  <a:srgbClr val="333399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  <p:pic>
        <p:nvPicPr>
          <p:cNvPr id="226" name="Picture 3" descr="j0282740"/>
          <p:cNvPicPr/>
          <p:nvPr/>
        </p:nvPicPr>
        <p:blipFill>
          <a:blip r:embed="rId1"/>
          <a:stretch/>
        </p:blipFill>
        <p:spPr>
          <a:xfrm>
            <a:off x="4932360" y="206064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grafick_stressa"/>
          <p:cNvPicPr/>
          <p:nvPr/>
        </p:nvPicPr>
        <p:blipFill>
          <a:blip r:embed="rId2"/>
          <a:stretch/>
        </p:blipFill>
        <p:spPr>
          <a:xfrm>
            <a:off x="611280" y="2421000"/>
            <a:ext cx="4735440" cy="3249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8" descr="j0282752"/>
          <p:cNvPicPr/>
          <p:nvPr/>
        </p:nvPicPr>
        <p:blipFill>
          <a:blip r:embed="rId1"/>
          <a:stretch/>
        </p:blipFill>
        <p:spPr>
          <a:xfrm>
            <a:off x="4648320" y="1712880"/>
            <a:ext cx="4038480" cy="42688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ервая 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(стадия тревоги)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дце в такие моменты начинает биться чаще, пищеварение временно сдерживается. В этом состоянии человек не может находиться долго, так как уст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Вторая 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(стадия сопротивления)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05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а наступает по мере развития и продолжения стрессовой ситуации. В этой стадии человек, адаптируясь к обстоятельствам, функционирует в оптимальном режиме. Эта стадия может продолжаться сравнительно дол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j0282737"/>
          <p:cNvPicPr/>
          <p:nvPr/>
        </p:nvPicPr>
        <p:blipFill>
          <a:blip r:embed="rId1"/>
          <a:stretch/>
        </p:blipFill>
        <p:spPr>
          <a:xfrm>
            <a:off x="4651200" y="1714680"/>
            <a:ext cx="4035600" cy="4265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Третья (стадия истощения)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5977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тупает, если стресс слишком силен или продолжителен. Ее признаки начинают проявляться в эмоциональной (тревога, апатия, раздражительность, психическая усталость), поведенческой (уклонение от ответственности и взаимоотношений, экстремальное поведение, пренебрежение к себе) и соматической (ухудшение здоровья, истощение, чрезмерное употребление лекарств) сферах. Потеря возможности сопротивления приводит к заболеванию, возникновению психологической травм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428616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6" descr="j0282742"/>
          <p:cNvPicPr/>
          <p:nvPr/>
        </p:nvPicPr>
        <p:blipFill>
          <a:blip r:embed="rId1"/>
          <a:stretch/>
        </p:blipFill>
        <p:spPr>
          <a:xfrm>
            <a:off x="6400800" y="1828800"/>
            <a:ext cx="1538280" cy="419112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Последствия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оценкам некоторых западных экспертов, до 70% заболеваний связаны с эмоциональным стрессом. В Европе ежегодно умирают более миллиона человек вследствие стрессогенных нарушений функций сердечно-сосудист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i-tmb-0x" descr="i?id=9177747&amp;tov=5"/>
          <p:cNvPicPr/>
          <p:nvPr/>
        </p:nvPicPr>
        <p:blipFill>
          <a:blip r:embed="rId1"/>
          <a:stretch/>
        </p:blipFill>
        <p:spPr>
          <a:xfrm>
            <a:off x="4716360" y="1916280"/>
            <a:ext cx="3888000" cy="31096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8:59:49Z</dcterms:created>
  <dc:creator>Esoyan L.Z.</dc:creator>
  <dc:description/>
  <dc:language>en-US</dc:language>
  <cp:lastModifiedBy>LEGION</cp:lastModifiedBy>
  <dcterms:modified xsi:type="dcterms:W3CDTF">2015-02-13T11:04:26Z</dcterms:modified>
  <cp:revision>20</cp:revision>
  <dc:subject/>
  <dc:title>Презентация PowerPoint</dc:title>
</cp:coreProperties>
</file>