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media/image8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CA55-8566-4705-83CD-FF7BBDD37E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694F-5477-4D82-A57B-BE76BEEB465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, стресс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столько прочно вошел в нашу жизнь, что, употребляя его, мы перестали задумываться, что же это такое на самом деле. В переводе с английского stress - давление, нажим, напряжение. Можно найти такие определения стресса: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ва вида ст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Положительный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ресс ведет к длительному пребыванию в состоянии приподнятого настроения, что, весьма благотворно влияет на организм: повышается иммунитет, отступают болезни, человек чувствует прилив радости, отлично выглядит и замечательно себя чувствует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Отрицательный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ресс надолго выбивает из колеи и заметно подрывает здоровье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4E7B-ACB9-4928-8AE6-FAF383807A3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ые симпт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ассеянност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вышенная возбудимост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стоянная усталость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теря чувства юмор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езкое увеличение количества  выкуриваемых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гарет, с одновременно появившим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страстием к алкоголю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опажа сна и аппетит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ухудшение памят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ногда возможны, так называемы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сихосоматические» боли в области головы,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ины, желудк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37E4-83CA-481E-BA20-F5679D216D6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Вы обнаружили у себя пять и более из перечисленных признаков, значит, надо срочно вытаскивать себя за уши из этого болот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вердо усвойте, что вы у себя одна, а неприятностей вокруг пруд-пруди, на всех здоровья не напасешься. И, главное, жизнь такая штука, которую можно спокойно воспринимать только обладая большим чувством юмор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BF51-BBEB-4F2B-B4BF-F9C3E5B1E41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дикатор стре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ачала прочитайте, а потом смотрите на картинку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фото изображены два дельфина, выпрыгивающих из во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было установлено на примере подопытной группы, несмотря на тот факт, что дельфины абсолютно идентичны, человек, находящийся в стрессовом состоянии, находит отличия в ни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человек находит много отличий, значит, он испытывает сильнейший стресс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мотрите на картинку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сли Вы нашли в дельфинах более двух отличий, то Вам срочно надо в отпус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5240-9640-4464-B370-6848D5DBD10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С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DB2E-E96D-4424-B7C1-8FEAEA30BF3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Умеете ли вы справляться со стрессом?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0-3 очк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Вы умеете владеть собой и, вероятно, вполне счастл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4-7 очк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Ваша способность справляться со стрессом где-то на среднем уровне. Вам полезно взять на вооружение некоторые приемы, помогающие справляться со стресс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8 и более очко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ам пока трудно бороться с жизненными невзгодами. Если вы хотите сохранить свои душевные и физические силы, вам необходимо научиться использовать более эффективные методы борьбы со стрессом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3618-D0EF-4E43-AD80-56EABBDB0A3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Рецепты для поднятия жизненного тонус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Медитация и аутотренинг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Четкое распределение времени на работу и отдых 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Горячий шоколад, пушистый плед, удобное кресло и старая любимая книжка (лучше детская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Хорошее вино, шоколад, орехи и страстный любовник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15EF-5A84-494D-8D0A-6BEB0140C0F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Хотя бы кратковременный отпуск в теплых краях в приятной компании или в одиночестве, на Ваш вку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Сон, столько сколько хочется и еще немножк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Спорт до изнемож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Баня. Настоящая русская баня, с парилкой, вениками и прыжками в сугроб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. Общение с природой: лес, поле, огород и симпатичными животными: кошками, собаками, лошадьм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. Люди, которым Вы нужны, которые Вас любят, ценят, поддержат, поймут и развеселят в любой ситу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06F2-F1A2-4EDC-8C2D-E0EF3864E32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Умей спокойно относиться к тому, чего не в силах изменить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н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93EE-8717-4BFD-B180-8F859A8F69F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ТАКОЕ СТРЕС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это состояние напряжения, возникающее у человека под влиянием сильных воздействий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это неспецифическая защитная реакция организма в ответ на неблагоприятные изме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39D1-4614-4D1C-96A0-311ECE335F8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ы ст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й 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 на работ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моциональный 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зическ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й стре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перационный стресс (реакция организма на хирургическую операцию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ттравматический стресс, возникающий вследствие перенесенной травмы и.т.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C646-7CD4-4B23-AA09-54542E6F091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может быть стрессоро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Физические стрессоры: жар, холод, шум, огонь, уличное движение, насилие, болезни, плохие условия работы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Социальные стрессоры: общественные, экономические и политические; семейные; связанные с работой, карьерой; межличностные стрессо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Семейные стрессоры: распределение обязанностей, ревность, различие в системах ценностей, болезни (смерть в семье и т.д.)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0CC1-E095-4EF1-8957-57DAE99FA2C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ff"/>
                </a:solidFill>
                <a:latin typeface="Comic Sans MS"/>
              </a:rPr>
              <a:t>Фазы развития стрес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57FF-6CAB-4257-ADF0-662A16C7168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ва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стадия тревоги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дце в такие моменты начинает биться чаще, пищеварение временно сдерживается. В этом состоянии человек не может находиться долго, так как уста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3A2D-6D2C-43C3-AEA6-E9D46D082FD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тора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тадия сопротивления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наступает по мере развития и продолжения стрессовой ситуации. В этой стадии человек, адаптируясь к обстоятельствам, функционирует в оптимальном режиме. Эта стадия может продолжаться сравнительно дол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B02C-1138-4D03-BB48-E64B6992C7D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B476-87E8-4251-94B2-98BA704F140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тья (стадия истощени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упает, если стресс слишком силен или продолжителен. Ее признаки начинают проявляться в эмоциональной (тревога, апатия, раздражительность, психическая усталость), поведенческой (уклонение от ответственности и взаимоотношений, экстремальное поведение, пренебрежение к себе) и соматической (ухудшение здоровья, истощение, чрезмерное употребление лекарств) сферах. Потеря возможности сопротивления приводит к заболеванию, возникновению психологической травмы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ледствия ст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оценкам некоторых западных экспертов, до 70% заболеваний связаны с эмоциональным стрессом. В Европе ежегодно умирают более миллиона человек вследствие стрессогенных нарушений функций сердечно-сосудист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B233-C38C-4FBE-A705-5561DF8F69C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8279-1BF6-4374-9DC5-F012B75C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555F-B82E-4E39-B83C-4B4BA773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C505-0F25-463D-B67E-AF2430E5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2E80-5E22-4DF8-9947-699E3CD5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0B6E-5E4D-4437-8838-4814A4DF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4341-EC94-4F0F-A670-21653687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2549-8FDC-4581-BE38-2C69952E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2F69-A806-4DAA-B929-AE468BA1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B6CB-743F-4A87-B8D3-3522AE72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6B72-706F-42DF-BD4C-E4083208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E3C4-87BD-4D4D-8DBB-09E03F59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6635-E2AE-4B1E-A85F-A8B0FBB1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A9EB-EE47-431F-987A-2877FC7A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E42E-6D14-42BA-A1A0-A22069B2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8FA2-7BCC-465A-9F61-2ED24C04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DE5C-9B9A-47A0-8789-17D01F4E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F708-9440-4218-B8BC-E3BD0FA4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1F0B3C-09F6-4CBD-8AA6-EC0D6BE5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1A40F-625A-4103-8780-588E080F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82D0D5-5FD8-448E-90AA-B3488A09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C1C835-199A-4F2C-A6E1-864BA1B1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F36DB-50A4-448E-8822-B5642144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965B-C21C-491F-9D87-D5865481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789215-7C45-49A1-AC0D-637960CF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604C5-A3C3-4B84-8C6E-C14424A7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083EA9-5845-47C4-B565-4935233C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EA989-6EEB-42E3-90CA-04E08301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135CF3-6A53-4450-84C6-3B88E6A0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049A1-7223-4E43-945D-87BB4E2B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1E3AA4-F41C-40E0-856E-8DA4E632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028C2B-DDBE-421B-81E5-73D08BB61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FBF042-B737-4B21-9CDC-86573BCE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C767C3-C0AC-482E-BF7B-8354BCD3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12D6-0A31-42A0-AF35-F5A36962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6EF5BE-9958-40E1-BA5E-97E41D02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84E5F4-4F5D-4BDA-856C-DF1CDDC4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D67338-B9FA-4128-AA2A-05A27F70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B36325-4C52-441A-8DA6-74D932D3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203354-09FE-45BE-9F91-44E850B3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AD8248-B0EA-4A78-B209-7AA25FE6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BDB50A-4ABA-4E85-B47C-D4009E9E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72BDB4-97DE-4752-B75D-CB47CF7D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5E14FE-CF2D-442B-9762-35D5D8B7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835-6ECD-4AC2-9FC4-C12D6E7F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480B-D09D-47B2-85FC-EC84926D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8E96-86E3-40F3-8A43-55F4CAEA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8BDB-37F2-4FEC-B548-8B091812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0F0F-EF2B-4795-9543-D5BC4150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3EB4-0680-499B-A0FF-376252D019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CEF3-56FD-4652-BA51-C2C7CA047B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11EA-1571-43CA-AF44-438CC9611B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50FF-8170-4D22-B5A8-D19E7F4CBBC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191880"/>
            <a:ext cx="8162640" cy="21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3e3ff"/>
                </a:solidFill>
                <a:latin typeface="Arial"/>
              </a:rPr>
              <a:t>Стресс, стресс!</a:t>
            </a:r>
            <a:br>
              <a:rPr sz="6600"/>
            </a:b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3" name="Picture 6" descr="360"/>
          <p:cNvPicPr/>
          <p:nvPr/>
        </p:nvPicPr>
        <p:blipFill>
          <a:blip r:embed="rId1"/>
          <a:stretch/>
        </p:blipFill>
        <p:spPr>
          <a:xfrm>
            <a:off x="3075120" y="1922400"/>
            <a:ext cx="5186160" cy="36543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7"/>
          <p:cNvSpPr/>
          <p:nvPr/>
        </p:nvSpPr>
        <p:spPr>
          <a:xfrm>
            <a:off x="468360" y="2417400"/>
            <a:ext cx="266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переводе с английского stress - давление, нажим, напряжение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Два вида стрес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Положительный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тресс ведет к длительному пребыванию в состоянии приподнятого настроения, что, весьма благотворно влияет на организм: повышается иммунитет, отступают болезни, человек чувствует прилив радости, отлично выглядит и замечательно себя чувствует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Отрицательный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тресс надолго выбивает из колеи и заметно подрывает здоровье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Основные симптом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рассеянность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вышенная возбудимость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стоянная усталость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теря чувства юмора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резкое увеличение количества  выкуриваемых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гарет, с одновременно появившим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трастием к алкоголю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ропажа сна и аппетита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ухудшение памяти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иногда возможны, так называем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психосоматические» боли в области головы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ины, желудк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11" descr="1174238951_wetcat_03"/>
          <p:cNvPicPr/>
          <p:nvPr/>
        </p:nvPicPr>
        <p:blipFill>
          <a:blip r:embed="rId1"/>
          <a:stretch/>
        </p:blipFill>
        <p:spPr>
          <a:xfrm>
            <a:off x="5292720" y="1628640"/>
            <a:ext cx="3557520" cy="38880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4"/>
          <p:cNvSpPr/>
          <p:nvPr/>
        </p:nvSpPr>
        <p:spPr>
          <a:xfrm>
            <a:off x="684360" y="836640"/>
            <a:ext cx="4319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Если Вы обнаружили у себя пять и более из перечисленных признаков, значит, надо срочно вытаскивать себя за уши из этого болота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ердо усвойте, что вы у себя одна, а неприятностей вокруг пруд-пруди, на всех здоровья не напасешься. И, главное, жизнь такая штука, которую можно спокойно воспринимать только обладая большим чувством юмор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6320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Индикатор стресс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0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ачала прочитайте, а потом смотрите на картинк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фото изображены два дельфина, выпрыгивающих из воды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было установлено на примере подопытной группы, несмотря на тот факт, что дельфины абсолютно идентичны, человек, находящийся в стрессовом состоянии, находит отличия в них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человек находит много отличий, значит, он испытывает сильнейший стресс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мотрите на картинку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Вы нашли в дельфинах более двух отличий, то Вам срочно надо в отпус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2533680" y="523800"/>
            <a:ext cx="4208400" cy="600084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80640" y="333000"/>
            <a:ext cx="8163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ТЕСТ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332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57200" y="1268280"/>
          <a:ext cx="8229600" cy="5477040"/>
        </p:xfrm>
        <a:graphic>
          <a:graphicData uri="http://schemas.openxmlformats.org/drawingml/2006/table">
            <a:tbl>
              <a:tblPr/>
              <a:tblGrid>
                <a:gridCol w="5407200"/>
                <a:gridCol w="931680"/>
                <a:gridCol w="932040"/>
                <a:gridCol w="95868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утвер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част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редк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никог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385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чувствую себя счастливы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сам могу сделать себя счастливы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3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Меня охватывает чувство безнадежности.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4. Я способен расслабиться в стрессовой ситуации, не прибегая для этого к успокоительным таблетка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5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Если бы я испытывал очень сильный стресс, я бы обязательно обратился за помощью к специалисту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6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склонен к гру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7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Мне хотелось бы стать кем-нибудь други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. Мне хотелось бы оказаться где-нибудь в другом мест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    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легко расстраиваюсь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</a:tbl>
          </a:graphicData>
        </a:graphic>
      </p:graphicFrame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80640" y="259920"/>
            <a:ext cx="8163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«Умеете ли вы справляться со стрессом?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0-3 очк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Вы умеете владеть собой и, вероятно, вполне счастли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4-7 очков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Ваша способность справляться со стрессом где-то на среднем уровне. Вам полезно взять на вооружение некоторые приемы, помогающие справляться со стресс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8 и более очк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Вам пока трудно бороться с жизненными невзгодами. Если вы хотите сохранить свои душевные и физические силы, вам необходимо научиться использовать более эффективные методы борьбы со стресс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Рецепты для поднятия жизненного тонуса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Медитация и аутотренинг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Четкое распределение времени на работу и отдых 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Горячий шоколад, пушистый плед, удобное кресло и старая любимая книжка (лучше детская)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Хорошее вино, шоколад, орехи и страстный любовник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508720" y="1600200"/>
            <a:ext cx="3178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5508720" y="2060640"/>
            <a:ext cx="3308400" cy="403236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-360" y="475920"/>
            <a:ext cx="8675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Хотя бы кратковременный отпуск в теплых краях в приятной компании или в одиночестве, на Ваш вкус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Сон, столько сколько хочется и еще немножко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 Спорт до изнеможени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. Баня. Настоящая русская баня, с парилкой, вениками и прыжками в сугроб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. Общение с природой: лес, поле, огород и симпатичными животными: кошками, собаками, лошадьми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. Люди, которым Вы нужны, которые Вас любят, ценят, поддержат, поймут и развеселят в любой ситу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4000" y="691920"/>
            <a:ext cx="7654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"Умей спокойно относиться к тому, чего не в силах изменить"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ене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73612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ЧТО ТАКОЕ СТРЕСС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ес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это состояние напряжения, возникающее у человека под влиянием сильных воздействий;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рес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это неспецифическая защитная реакция организма в ответ на неблагоприятные изменения окружающей сре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Виды стрес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ессиональный стрес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есс на работ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моциональный стрес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сихологический стре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ерационный стресс (реакция организма на хирургическую операцию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ттравматический стресс, возникающий вследствие перенесенной травмы и.т.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Что может быть стрессором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Физические стрессоры: жар, холод, шум, огонь, уличное движение, насилие, болезни, плохие условия работы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Социальные стрессоры: общественные, экономические и политические; семейные; связанные с работой, карьерой; межличностные стрессо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Семейные стрессоры: распределение обязанностей, ревность, различие в системах ценностей, болезни (смерть в семье и т.д.)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2"/>
          <p:cNvSpPr txBox="1"/>
          <p:nvPr/>
        </p:nvSpPr>
        <p:spPr>
          <a:xfrm>
            <a:off x="1523880" y="914400"/>
            <a:ext cx="6248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ffff"/>
                </a:solidFill>
                <a:latin typeface="Comic Sans MS"/>
              </a:rPr>
              <a:t>Фазы развития стресса.</a:t>
            </a:r>
            <a:endParaRPr b="0" lang="en-US" sz="2000" spc="1" strike="noStrike">
              <a:ln w="9360">
                <a:solidFill>
                  <a:srgbClr val="333399"/>
                </a:solidFill>
                <a:miter/>
              </a:ln>
              <a:solidFill>
                <a:srgbClr val="00ffff"/>
              </a:solidFill>
              <a:latin typeface="Comic Sans MS"/>
              <a:ea typeface="Comic Sans MS"/>
            </a:endParaRPr>
          </a:p>
        </p:txBody>
      </p:sp>
      <p:pic>
        <p:nvPicPr>
          <p:cNvPr id="226" name="Picture 3" descr="j0282740"/>
          <p:cNvPicPr/>
          <p:nvPr/>
        </p:nvPicPr>
        <p:blipFill>
          <a:blip r:embed="rId1"/>
          <a:stretch/>
        </p:blipFill>
        <p:spPr>
          <a:xfrm>
            <a:off x="4932360" y="206064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grafick_stressa"/>
          <p:cNvPicPr/>
          <p:nvPr/>
        </p:nvPicPr>
        <p:blipFill>
          <a:blip r:embed="rId2"/>
          <a:stretch/>
        </p:blipFill>
        <p:spPr>
          <a:xfrm>
            <a:off x="611280" y="2421000"/>
            <a:ext cx="4735440" cy="324972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8" descr="j0282752"/>
          <p:cNvPicPr/>
          <p:nvPr/>
        </p:nvPicPr>
        <p:blipFill>
          <a:blip r:embed="rId1"/>
          <a:stretch/>
        </p:blipFill>
        <p:spPr>
          <a:xfrm>
            <a:off x="4648320" y="1712880"/>
            <a:ext cx="4038480" cy="42688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Первая </a:t>
            </a:r>
            <a:br>
              <a:rPr sz="4000"/>
            </a:b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(стадия тревоги)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дце в такие моменты начинает биться чаще, пищеварение временно сдерживается. В этом состоянии человек не может находиться долго, так как уста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Вторая </a:t>
            </a:r>
            <a:br>
              <a:rPr sz="4000"/>
            </a:b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(стадия сопротивления)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05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а наступает по мере развития и продолжения стрессовой ситуации. В этой стадии человек, адаптируясь к обстоятельствам, функционирует в оптимальном режиме. Эта стадия может продолжаться сравнительно дол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j0282737"/>
          <p:cNvPicPr/>
          <p:nvPr/>
        </p:nvPicPr>
        <p:blipFill>
          <a:blip r:embed="rId1"/>
          <a:stretch/>
        </p:blipFill>
        <p:spPr>
          <a:xfrm>
            <a:off x="4651200" y="1714680"/>
            <a:ext cx="4035600" cy="4265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Третья (стадия истощения)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5977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тупает, если стресс слишком силен или продолжителен. Ее признаки начинают проявляться в эмоциональной (тревога, апатия, раздражительность, психическая усталость), поведенческой (уклонение от ответственности и взаимоотношений, экстремальное поведение, пренебрежение к себе) и соматической (ухудшение здоровья, истощение, чрезмерное употребление лекарств) сферах. Потеря возможности сопротивления приводит к заболеванию, возникновению психологической травмы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428616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6" descr="j0282742"/>
          <p:cNvPicPr/>
          <p:nvPr/>
        </p:nvPicPr>
        <p:blipFill>
          <a:blip r:embed="rId1"/>
          <a:stretch/>
        </p:blipFill>
        <p:spPr>
          <a:xfrm>
            <a:off x="6400800" y="1828800"/>
            <a:ext cx="1538280" cy="419112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Последствия стрес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оценкам некоторых западных экспертов, до 70% заболеваний связаны с эмоциональным стрессом. В Европе ежегодно умирают более миллиона человек вследствие стрессогенных нарушений функций сердечно-сосудист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i-tmb-0x" descr="i?id=9177747&amp;tov=5"/>
          <p:cNvPicPr/>
          <p:nvPr/>
        </p:nvPicPr>
        <p:blipFill>
          <a:blip r:embed="rId1"/>
          <a:stretch/>
        </p:blipFill>
        <p:spPr>
          <a:xfrm>
            <a:off x="4716360" y="1916280"/>
            <a:ext cx="3888000" cy="310968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08:59:49Z</dcterms:created>
  <dc:creator>Esoyan L.Z.</dc:creator>
  <dc:description/>
  <dc:language>en-US</dc:language>
  <cp:lastModifiedBy>LEGION</cp:lastModifiedBy>
  <dcterms:modified xsi:type="dcterms:W3CDTF">2015-02-13T11:04:26Z</dcterms:modified>
  <cp:revision>20</cp:revision>
  <dc:subject/>
  <dc:title>Презентация PowerPoint</dc:title>
</cp:coreProperties>
</file>