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5.gif" ContentType="image/gif"/>
  <Override PartName="/ppt/media/image6.gif" ContentType="image/gif"/>
  <Override PartName="/ppt/media/image7.gif" ContentType="image/gif"/>
  <Override PartName="/ppt/media/image8.jpeg" ContentType="image/jpe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1CE2-55EC-47C7-B76D-9EC284E74C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F92D-3BE7-4054-B3A1-3EE737053CE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есс, стресс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мин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столько прочно вошел в нашу жизнь, что, употребляя его, мы перестали задумываться, что же это такое на самом деле. В переводе с английского stress - давление, нажим, напряжение. Можно найти такие определения стресса: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ва вида стр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Положительный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тресс ведет к длительному пребыванию в состоянии приподнятого настроения, что, весьма благотворно влияет на организм: повышается иммунитет, отступают болезни, человек чувствует прилив радости, отлично выглядит и замечательно себя чувствует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Отрицательный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тресс надолго выбивает из колеи и заметно подрывает здоровье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E1A8-3DF9-44FB-A200-124AF755B76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ные симпт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рассеянность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овышенная возбудимость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остоянная усталость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отеря чувства юмор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резкое увеличение количества  выкуриваемых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гарет, с одновременно появившим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страстием к алкоголю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опажа сна и аппетит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ухудшение памят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иногда возможны, так называемы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сихосоматические» боли в области головы,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ины, желудк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EF69-00DD-4E1B-8B36-199CAFAF3F1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Вы обнаружили у себя пять и более из перечисленных признаков, значит, надо срочно вытаскивать себя за уши из этого болота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вердо усвойте, что вы у себя одна, а неприятностей вокруг пруд-пруди, на всех здоровья не напасешься. И, главное, жизнь такая штука, которую можно спокойно воспринимать только обладая большим чувством юмор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72D2-8745-4129-B3C5-55937032699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дикатор стре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ачала прочитайте, а потом смотрите на картинку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фото изображены два дельфина, выпрыгивающих из во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было установлено на примере подопытной группы, несмотря на тот факт, что дельфины абсолютно идентичны, человек, находящийся в стрессовом состоянии, находит отличия в ни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человек находит много отличий, значит, он испытывает сильнейший стресс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мотрите на картинку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Если Вы нашли в дельфинах более двух отличий, то Вам срочно надо в отпус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2AE4-07BB-49F8-9F7D-2CC675CBB64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С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3C2D-5C84-4D70-8107-D0CFD01F2A6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Умеете ли вы справляться со стрессом?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0-3 очка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Вы умеете владеть собой и, вероятно, вполне счастл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4-7 очко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Ваша способность справляться со стрессом где-то на среднем уровне. Вам полезно взять на вооружение некоторые приемы, помогающие справляться со стресс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8 и более очко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ам пока трудно бороться с жизненными невзгодами. Если вы хотите сохранить свои душевные и физические силы, вам необходимо научиться использовать более эффективные методы борьбы со стрессом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CC14-27A1-4E61-B102-94AE5D2D3F9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Рецепты для поднятия жизненного тонус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Медитация и аутотренинг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Четкое распределение времени на работу и отдых 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Горячий шоколад, пушистый плед, удобное кресло и старая любимая книжка (лучше детская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Хорошее вино, шоколад, орехи и страстный любовник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98CD-14AC-4700-88CE-66BECCC8A24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Хотя бы кратковременный отпуск в теплых краях в приятной компании или в одиночестве, на Ваш вкус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Сон, столько сколько хочется и еще немножк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Спорт до изнемож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 Баня. Настоящая русская баня, с парилкой, вениками и прыжками в сугроб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. Общение с природой: лес, поле, огород и симпатичными животными: кошками, собаками, лошадьм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. Люди, которым Вы нужны, которые Вас любят, ценят, поддержат, поймут и развеселят в любой ситу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FA65-C962-4B54-B7A8-DAF24767B1B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Умей спокойно относиться к тому, чего не в силах изменить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н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D540-F019-48EF-9F5A-FD39E55A253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ТО ТАКОЕ СТРЕСС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это состояние напряжения, возникающее у человека под влиянием сильных воздействий;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это неспецифическая защитная реакция организма в ответ на неблагоприятные изменения окружающей сред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6F97-C302-4BDE-B90D-51EE1F693EA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ды стр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ый 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есс на работ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моциональный 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изическ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ий стре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перационный стресс (реакция организма на хирургическую операцию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ттравматический стресс, возникающий вследствие перенесенной травмы и.т.д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6AC1-E087-4BAF-A7F8-F99064F3555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может быть стрессоро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Физические стрессоры: жар, холод, шум, огонь, уличное движение, насилие, болезни, плохие условия работы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Социальные стрессоры: общественные, экономические и политические; семейные; связанные с работой, карьерой; межличностные стрессо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Семейные стрессоры: распределение обязанностей, ревность, различие в системах ценностей, болезни (смерть в семье и т.д.)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9F4E-CDF5-4CA2-A562-907CB3A8554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ff"/>
                </a:solidFill>
                <a:latin typeface="Comic Sans MS"/>
              </a:rPr>
              <a:t>Фазы развития стрес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B2F9-7049-45B8-BDDB-3121F162EE2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рва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стадия тревоги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дце в такие моменты начинает биться чаще, пищеварение временно сдерживается. В этом состоянии человек не может находиться долго, так как уста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803C-1FFB-433D-BA97-9D2B8795BE3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тора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стадия сопротивления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а наступает по мере развития и продолжения стрессовой ситуации. В этой стадии человек, адаптируясь к обстоятельствам, функционирует в оптимальном режиме. Эта стадия может продолжаться сравнительно дол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A129-0944-4CA8-8B38-4DFB0EF5FE1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CD7A-AA3A-4EBB-943E-B0F794B5B1C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етья (стадия истощени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упает, если стресс слишком силен или продолжителен. Ее признаки начинают проявляться в эмоциональной (тревога, апатия, раздражительность, психическая усталость), поведенческой (уклонение от ответственности и взаимоотношений, экстремальное поведение, пренебрежение к себе) и соматической (ухудшение здоровья, истощение, чрезмерное употребление лекарств) сферах. Потеря возможности сопротивления приводит к заболеванию, возникновению психологической травмы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ледствия стр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оценкам некоторых западных экспертов, до 70% заболеваний связаны с эмоциональным стрессом. В Европе ежегодно умирают более миллиона человек вследствие стрессогенных нарушений функций сердечно-сосудист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E815-3945-4FD2-BF12-5574FF8C199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04BC-CB96-45A8-AA89-D387BEAF6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038A-2998-4D14-B5F9-30718EED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D43D-24DC-4C9F-B641-75993BD2B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B4B0-8DF2-4B14-97FA-B6FC8A4ED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9C72-063D-414D-A9E2-E43E6C7A0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196D-8499-49DF-B3CF-4027A60E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B98A-67EE-4B52-8235-95E7F13F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9590-C86F-492E-9141-0A332128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F4ED-0FA9-45A5-9848-81174592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0B12-750C-428E-A471-22DCC1BA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0D89-0544-4E11-8E1D-2E45ABAA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68B4-60E1-40C8-9987-C812C47D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07BD-FA52-4BC0-A052-13007A2C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3701-47E6-42A9-954B-DDC21477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688F-B1AB-479F-9CE1-EEFC754C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70AF-02C2-4C2B-9168-AF7793F4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4553-AD0F-4A9E-93D4-1E37185A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58B29E-5D9D-424C-907E-120DB5DF5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42EADA-0550-4F03-9CAA-BB7F0A5D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4D579B-5BFA-4795-B365-1BBD72FE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7CE2E0-D405-4313-99DC-5E9B0399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F9AC2F-7C12-4E39-8132-8D90499E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3C3F-0D38-4D0C-9287-3B711B8C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9947B3-4ED4-45BF-9508-CBEE9316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B6514D-61E0-4E41-82BC-830858D9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D93638-D85C-463F-B996-3A2DEC4C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9236A0-7255-4542-990A-69654F18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9FAF21-7717-4890-8ED7-8F46898C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D32956-F467-4789-8FBD-92C60ABB2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D67730-7D46-44FB-9D94-63E94938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30C510-CCB2-4FD5-8346-A7AC4CD73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5C66FD-EB99-4A28-B731-D850C32A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EF5C4E-EFD1-4280-AE74-6948C941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45BE-A5ED-4050-8C18-DFD4C2E2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D7CC27-A154-47FC-8C1C-4BDB33B6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68B317-F376-4A3D-98DD-63DF9C5C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1F74CA-A362-4948-917D-8FBB6966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93F676-CB97-45F6-A8FF-466E128D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367743-9278-4F47-B338-2C13F1CE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A497B5-78B6-4EC5-8A62-A60A8B7F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EE783E-7484-4DD1-9E74-B9635792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75F760-58D4-4F5B-BD1A-8146009C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F950E0-AF43-4C98-AD32-8E259595F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4950-2728-4447-8C05-D85FF1C0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6584-DCA6-4F31-AF69-C8BA2FEB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4352-861C-4200-8CF5-D2163EF8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25AE-7245-4330-AE88-C552E04E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6B81-FFC7-4917-A8F7-9EBBA639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A3F0-76EE-4C08-B4DF-81985BAC7B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4167-B25E-40B2-9832-F267528D6B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DDCA-6F32-4E4F-AE0D-30AC77FA53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3859-2849-42A9-9D39-867546B64E0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191880"/>
            <a:ext cx="8162640" cy="21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3e3ff"/>
                </a:solidFill>
                <a:latin typeface="Arial"/>
              </a:rPr>
              <a:t>Стресс, стресс!</a:t>
            </a:r>
            <a:br>
              <a:rPr sz="6600"/>
            </a:b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3" name="Picture 6" descr="360"/>
          <p:cNvPicPr/>
          <p:nvPr/>
        </p:nvPicPr>
        <p:blipFill>
          <a:blip r:embed="rId1"/>
          <a:stretch/>
        </p:blipFill>
        <p:spPr>
          <a:xfrm>
            <a:off x="3075120" y="1922400"/>
            <a:ext cx="5186160" cy="36543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7"/>
          <p:cNvSpPr/>
          <p:nvPr/>
        </p:nvSpPr>
        <p:spPr>
          <a:xfrm>
            <a:off x="468360" y="2417400"/>
            <a:ext cx="266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переводе с английского stress - давление, нажим, напряжение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Два вида стресс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Положительный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тресс ведет к длительному пребыванию в состоянии приподнятого настроения, что, весьма благотворно влияет на организм: повышается иммунитет, отступают болезни, человек чувствует прилив радости, отлично выглядит и замечательно себя чувствует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Отрицательный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тресс надолго выбивает из колеи и заметно подрывает здоровье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Основные симптом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рассеянность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овышенная возбудимость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остоянная усталость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отеря чувства юмора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резкое увеличение количества  выкуриваемых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гарет, с одновременно появившим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страстием к алкоголю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ропажа сна и аппетита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ухудшение памяти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иногда возможны, так называем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психосоматические» боли в области головы,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ины, желудк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2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11" descr="1174238951_wetcat_03"/>
          <p:cNvPicPr/>
          <p:nvPr/>
        </p:nvPicPr>
        <p:blipFill>
          <a:blip r:embed="rId1"/>
          <a:stretch/>
        </p:blipFill>
        <p:spPr>
          <a:xfrm>
            <a:off x="5292720" y="1628640"/>
            <a:ext cx="3557520" cy="38880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4"/>
          <p:cNvSpPr/>
          <p:nvPr/>
        </p:nvSpPr>
        <p:spPr>
          <a:xfrm>
            <a:off x="684360" y="836640"/>
            <a:ext cx="4319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Если Вы обнаружили у себя пять и более из перечисленных признаков, значит, надо срочно вытаскивать себя за уши из этого болота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вердо усвойте, что вы у себя одна, а неприятностей вокруг пруд-пруди, на всех здоровья не напасешься. И, главное, жизнь такая штука, которую можно спокойно воспринимать только обладая большим чувством юмор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6320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Индикатор стресс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0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ачала прочитайте, а потом смотрите на картинк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фото изображены два дельфина, выпрыгивающих из воды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было установлено на примере подопытной группы, несмотря на тот факт, что дельфины абсолютно идентичны, человек, находящийся в стрессовом состоянии, находит отличия в них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человек находит много отличий, значит, он испытывает сильнейший стресс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мотрите на картинку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Вы нашли в дельфинах более двух отличий, то Вам срочно надо в отпус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2533680" y="523800"/>
            <a:ext cx="4208400" cy="6000840"/>
          </a:xfrm>
          <a:prstGeom prst="rect">
            <a:avLst/>
          </a:prstGeom>
          <a:ln w="0">
            <a:noFill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80640" y="333000"/>
            <a:ext cx="8163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ТЕСТ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332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57200" y="1268280"/>
          <a:ext cx="8229600" cy="5477040"/>
        </p:xfrm>
        <a:graphic>
          <a:graphicData uri="http://schemas.openxmlformats.org/drawingml/2006/table">
            <a:tbl>
              <a:tblPr/>
              <a:tblGrid>
                <a:gridCol w="5407200"/>
                <a:gridCol w="931680"/>
                <a:gridCol w="932040"/>
                <a:gridCol w="95868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утвер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част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редк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никог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385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Я чувствую себя счастливы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Я сам могу сделать себя счастливы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3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Меня охватывает чувство безнадежности.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4. Я способен расслабиться в стрессовой ситуации, не прибегая для этого к успокоительным таблетка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5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Если бы я испытывал очень сильный стресс, я бы обязательно обратился за помощью к специалисту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6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Я склонен к грус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7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Мне хотелось бы стать кем-нибудь други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. Мне хотелось бы оказаться где-нибудь в другом мест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    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Я легко расстраиваюсь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</a:tbl>
          </a:graphicData>
        </a:graphic>
      </p:graphicFrame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80640" y="259920"/>
            <a:ext cx="8163000" cy="21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«Умеете ли вы справляться со стрессом?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0-3 очк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Вы умеете владеть собой и, вероятно, вполне счастли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4-7 очков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Ваша способность справляться со стрессом где-то на среднем уровне. Вам полезно взять на вооружение некоторые приемы, помогающие справляться со стресс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8 и более очк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Вам пока трудно бороться с жизненными невзгодами. Если вы хотите сохранить свои душевные и физические силы, вам необходимо научиться использовать более эффективные методы борьбы со стресс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Рецепты для поднятия жизненного тонуса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Медитация и аутотренинг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Четкое распределение времени на работу и отдых 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Горячий шоколад, пушистый плед, удобное кресло и старая любимая книжка (лучше детская)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Хорошее вино, шоколад, орехи и страстный любовник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508720" y="1600200"/>
            <a:ext cx="3178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5508720" y="2060640"/>
            <a:ext cx="3308400" cy="403236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-360" y="475920"/>
            <a:ext cx="86756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Хотя бы кратковременный отпуск в теплых краях в приятной компании или в одиночестве, на Ваш вкус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Сон, столько сколько хочется и еще немножко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. Спорт до изнеможения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. Баня. Настоящая русская баня, с парилкой, вениками и прыжками в сугроб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. Общение с природой: лес, поле, огород и симпатичными животными: кошками, собаками, лошадьми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0. Люди, которым Вы нужны, которые Вас любят, ценят, поддержат, поймут и развеселят в любой ситу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684000" y="691920"/>
            <a:ext cx="76546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"Умей спокойно относиться к тому, чего не в силах изменить"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ене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73612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ЧТО ТАКОЕ СТРЕСС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ес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это состояние напряжения, возникающее у человека под влиянием сильных воздействий;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рес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это неспецифическая защитная реакция организма в ответ на неблагоприятные изменения окружающей сред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Виды стресс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ессиональный стрес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есс на работ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моциональный стрес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зическ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сихологический стре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ерационный стресс (реакция организма на хирургическую операцию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сттравматический стресс, возникающий вследствие перенесенной травмы и.т.д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Что может быть стрессором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Физические стрессоры: жар, холод, шум, огонь, уличное движение, насилие, болезни, плохие условия работы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Социальные стрессоры: общественные, экономические и политические; семейные; связанные с работой, карьерой; межличностные стрессо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Семейные стрессоры: распределение обязанностей, ревность, различие в системах ценностей, болезни (смерть в семье и т.д.)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2"/>
          <p:cNvSpPr txBox="1"/>
          <p:nvPr/>
        </p:nvSpPr>
        <p:spPr>
          <a:xfrm>
            <a:off x="1523880" y="914400"/>
            <a:ext cx="6248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ffff"/>
                </a:solidFill>
                <a:latin typeface="Comic Sans MS"/>
              </a:rPr>
              <a:t>Фазы развития стресса.</a:t>
            </a:r>
            <a:endParaRPr b="0" lang="en-US" sz="2000" spc="1" strike="noStrike">
              <a:ln w="9360">
                <a:solidFill>
                  <a:srgbClr val="333399"/>
                </a:solidFill>
                <a:miter/>
              </a:ln>
              <a:solidFill>
                <a:srgbClr val="00ffff"/>
              </a:solidFill>
              <a:latin typeface="Comic Sans MS"/>
              <a:ea typeface="Comic Sans MS"/>
            </a:endParaRPr>
          </a:p>
        </p:txBody>
      </p:sp>
      <p:pic>
        <p:nvPicPr>
          <p:cNvPr id="226" name="Picture 3" descr="j0282740"/>
          <p:cNvPicPr/>
          <p:nvPr/>
        </p:nvPicPr>
        <p:blipFill>
          <a:blip r:embed="rId1"/>
          <a:stretch/>
        </p:blipFill>
        <p:spPr>
          <a:xfrm>
            <a:off x="4932360" y="206064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grafick_stressa"/>
          <p:cNvPicPr/>
          <p:nvPr/>
        </p:nvPicPr>
        <p:blipFill>
          <a:blip r:embed="rId2"/>
          <a:stretch/>
        </p:blipFill>
        <p:spPr>
          <a:xfrm>
            <a:off x="611280" y="2421000"/>
            <a:ext cx="4735440" cy="324972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8" descr="j0282752"/>
          <p:cNvPicPr/>
          <p:nvPr/>
        </p:nvPicPr>
        <p:blipFill>
          <a:blip r:embed="rId1"/>
          <a:stretch/>
        </p:blipFill>
        <p:spPr>
          <a:xfrm>
            <a:off x="4648320" y="1712880"/>
            <a:ext cx="4038480" cy="426888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Первая </a:t>
            </a:r>
            <a:br>
              <a:rPr sz="4000"/>
            </a:b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(стадия тревоги)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дце в такие моменты начинает биться чаще, пищеварение временно сдерживается. В этом состоянии человек не может находиться долго, так как уста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Вторая </a:t>
            </a:r>
            <a:br>
              <a:rPr sz="4000"/>
            </a:b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(стадия сопротивления)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05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а наступает по мере развития и продолжения стрессовой ситуации. В этой стадии человек, адаптируясь к обстоятельствам, функционирует в оптимальном режиме. Эта стадия может продолжаться сравнительно дол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j0282737"/>
          <p:cNvPicPr/>
          <p:nvPr/>
        </p:nvPicPr>
        <p:blipFill>
          <a:blip r:embed="rId1"/>
          <a:stretch/>
        </p:blipFill>
        <p:spPr>
          <a:xfrm>
            <a:off x="4651200" y="1714680"/>
            <a:ext cx="4035600" cy="42652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Третья (стадия истощения)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5977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ступает, если стресс слишком силен или продолжителен. Ее признаки начинают проявляться в эмоциональной (тревога, апатия, раздражительность, психическая усталость), поведенческой (уклонение от ответственности и взаимоотношений, экстремальное поведение, пренебрежение к себе) и соматической (ухудшение здоровья, истощение, чрезмерное употребление лекарств) сферах. Потеря возможности сопротивления приводит к заболеванию, возникновению психологической травмы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428616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6" descr="j0282742"/>
          <p:cNvPicPr/>
          <p:nvPr/>
        </p:nvPicPr>
        <p:blipFill>
          <a:blip r:embed="rId1"/>
          <a:stretch/>
        </p:blipFill>
        <p:spPr>
          <a:xfrm>
            <a:off x="6400800" y="1828800"/>
            <a:ext cx="1538280" cy="419112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Последствия стресс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оценкам некоторых западных экспертов, до 70% заболеваний связаны с эмоциональным стрессом. В Европе ежегодно умирают более миллиона человек вследствие стрессогенных нарушений функций сердечно-сосудист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i-tmb-0x" descr="i?id=9177747&amp;tov=5"/>
          <p:cNvPicPr/>
          <p:nvPr/>
        </p:nvPicPr>
        <p:blipFill>
          <a:blip r:embed="rId1"/>
          <a:stretch/>
        </p:blipFill>
        <p:spPr>
          <a:xfrm>
            <a:off x="4716360" y="1916280"/>
            <a:ext cx="3888000" cy="310968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08:59:49Z</dcterms:created>
  <dc:creator>Esoyan L.Z.</dc:creator>
  <dc:description/>
  <dc:language>en-US</dc:language>
  <cp:lastModifiedBy>LEGION</cp:lastModifiedBy>
  <dcterms:modified xsi:type="dcterms:W3CDTF">2015-02-13T11:04:26Z</dcterms:modified>
  <cp:revision>20</cp:revision>
  <dc:subject/>
  <dc:title>Презентация PowerPoint</dc:title>
</cp:coreProperties>
</file>