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A748-AE02-44A4-82E7-64699486C7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Структура заболеваемост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053F-2BDC-4262-B10C-0EEDF33854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котор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нервной систем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C9EF-994F-4BCB-AC75-CE0E24553D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 вида заболеваемости (По  Ю. В. Лисицыну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FAE1-3608-4599-B877-D61DCEC1EB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50D1-EED6-48D6-A299-2DA6A392C4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е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C127-429C-4BA7-B8E6-0E7A966309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щение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C8EA-3170-4727-BF67-6B4BA99509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причинам смертност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требование: правильно указать причину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льдшерская справка не может быть использов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A9D0-DA3F-41E3-B61E-49BAF14D13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аллам;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субъективного сравнения со здоровьем других лиц данного возраста и пола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6D63-0E6E-4DD8-904E-514E96C1C5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питализированная заболеваемость. Учетная форма – карта выбывшего из стациона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A4EC-4096-442E-B8EA-BCB1B6B6F6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о используют 4 группы показа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уровень первичной заболеваемости за год на 100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ровень первичной общей заболеваемости на 1000 ч-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труктура заболевае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ратность заболеваний – число заболеваний на 1 ч-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993C-BA74-426A-BF0C-C16FD82DAE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болеваемость по обращаем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41EB-1E72-42FD-86A8-B047583684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о заболеваемости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BE5-44A0-46FD-AEB9-28AA3689814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791E-40F4-4FC3-A975-3695E8820A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BFA3-610A-437C-817E-D9A6914A07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D0C6-9D61-4067-8FE5-0F0430FFB8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7E67-EEB7-45B2-B31E-5221F5220F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ом за последние 5 лет возрастает смертность практически от всех пр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8B7C-D60D-4470-A125-6384FF1D87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EA44-5EE9-453D-A7BB-9BEBCD2DDF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454F-DA66-4653-A055-BC30D21664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ичин смертности взрослого населения как показатель общественного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D730-5D7B-47CB-8E80-0BB0160907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впервые классифицировали болезн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МКБ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МКБ была впервые сформулирована? Как она называлас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м году была утверждена МКБ – 1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МКБ вступила в действ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3 основных вида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виды заболеваемости по обращ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2 метода существуют в изучении общей заболеваем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5 болезней и поражений являются основными причинами смертей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D186-F699-463E-B42F-179E6C6670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ий Кита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– 10 вступила в силу с 01.01.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BC6B-497A-4C33-BD4D-8509252961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1D00-691C-4263-82D7-C8A163555B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АБОЛЕВАЕМОСТЬ – ВЕДУЩИЙ ПОКАЗАТЕЛЬ ОБЩЕСТВЕННОГО ЗДОРОВ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7C67-8115-4762-8C9D-BEB6881311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7B26-59C6-4C6F-A14B-37C2FAC0B7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45B2-C21F-41F4-9131-EB2B95D8F8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6009-B2E4-45C6-8C30-01E3ED79F4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болез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C5C3-74DB-4E9F-BB19-9980F22220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болезней, травм и причин смерти (МКБ-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класс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 – Нов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– Болезни эндокринной системы, расстройства питания и нарушение об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класс – Болезни крови и кроветвор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класс – Психические расстро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 – Болезни нервной системы  и органов чув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 – Болезни органов кровообра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 – Болезни органов дых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 – Болезни органов пищева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 – Болезни мочеполо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класс - Осложнения беременности, родов и послерод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класс – Болезни кожи и подкожной клетча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 класс – Врожденные аномалии, порок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класс  – Симптомы, признаки и неточно обозначенные состоя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 класс – Несчастные случаи, отравления и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7D7-4139-4E93-B6F3-13D03512E3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501-F45F-4AC0-BC22-DF3C48B0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875-F901-44FC-BE1F-8519725F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AC4DF-EF88-4560-A2E2-DE15A6EE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BFFFF-431A-4F8B-B403-AEBE554D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0D05B-D424-4FBC-98E1-0F75B85E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896D0-4569-4535-9538-64804446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5186B-2455-45D5-A913-9BDF6625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B4F0B-2F47-4ADD-8A94-8DF5774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F26A1-4D53-4CF8-9053-49C62D4E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DE01F-6687-480D-B332-F90F8E87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E5DE8-6699-4788-A05D-8937306C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E7F-27E2-4D21-A567-3CBCA989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64C-20A6-4633-B545-2A73C53B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C12F-1371-4D61-8AAD-0CC5FEC9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57D9-B34E-4FF5-A438-E33B4009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2438-01AA-43AE-BCBF-2BC23850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41D3-9151-4348-94F7-38CFF430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1E89-2715-4B0E-8D4C-E2E3636D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0B1C-8E0D-4916-9BA6-376F741A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71CE-49BC-4C4E-A81C-B737FC72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ABA-2F99-4320-B5A0-6C1D4916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F206-7708-441F-B43D-83729F60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C6DB-7DBA-4619-A68E-886E561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58AE-41BA-4E37-9875-8597D2A5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BD71-91A1-4810-8501-8D4BF4B6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C44E-F26A-42FE-9B4A-4790D6C2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D154D-8880-4FCC-B8D2-EDBA4F37D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99F66-F67D-4066-AE47-3A28F0FE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0CC6-079E-487F-A438-814D4DA5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9A0E-82C3-446C-B7ED-983063CB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D8714-F6CB-49CB-B314-26FB26EA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957-BC3D-42F4-9DF2-0FE2CA66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5C4BA-4479-48E6-B30F-653F4929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1F7F-DB5C-4F3C-9A10-0BDB244C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CAE29-34EA-443D-BF8E-AEF9783D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EDF4-DC1D-415D-849B-5B58711D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491A5-FB17-4851-95AC-9A7E00B9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73598-5548-4BAB-84A8-911E8B22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DAE5-26FD-4615-9879-D6DB2091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38463-05D6-405D-AD3E-D790563D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BDFA9-45B4-4B9D-8207-553E0408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3AB1-689B-4414-9F4D-780018CF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DB9-CACF-498B-98C3-68A6224C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867C6-3544-4B49-AF39-47B719FA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C4E0C-56F2-4B8F-8589-668A013A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43C94-F103-485A-A9EF-033C11D1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52622-7D98-4D5A-A345-B47F29D2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E1CD3-83B4-4BC6-BB9A-FD3E6961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358F6-4C12-4818-A02C-3F037CE0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CB26E-59E0-4C7D-AEC5-5F964F6C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E5457-F022-4956-9589-E826E159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0C98-C142-40E7-A99B-F2D9F82E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C2C3B-8D8C-42C0-96BB-1747F397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739B-40A2-4FDE-9204-F26E910C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CBD64-E1D0-4CBB-9598-FEB13E34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026F8-444F-4514-A8BD-FE32F265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202CD-8D16-4C13-8F28-961BC1BC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F2FE-4925-49E4-8AB7-E891F693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33A48-7115-41BB-ADB0-54C34950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CC76A-CEDB-41A5-93F5-B073E5EE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89B66-3A75-4B35-9412-49E78373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AA3D0-2362-4830-8CB0-430E1301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74F9F-BF7C-4568-820F-DE959E57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095AA-691A-4140-926A-98F5E783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4594-93B4-41AE-AC10-AFC903D8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F8D38-E585-4ABC-896B-AFCEAB1B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4F1B9-B0B2-4A82-A6F0-67CACF21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C5443-E1A4-4DA1-817C-08B56446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60014-1E8E-4400-8D7B-8FDB8574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9B57C-93CC-4AAC-9E3D-F9D3460D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12BDC-9B3C-4B11-B50E-5DE7FC9C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67743-E761-4C64-980B-FE9791CA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BA477-6064-4587-95C7-3E76AAD7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0640C-A8E3-4CD8-89FD-5F47036A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FFC9D-3C18-4972-8B55-612A53FB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D05-82C5-4D2F-A638-5A834E82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8A5F8-CA10-4ADD-90C9-2E17584A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AC3EA-C3D7-493D-83B5-D84A5BC0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B40E8-F8AE-4D1D-BA19-9F1D1444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94277-E633-4D29-B053-1ACAAE9E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AB682-440A-4629-8EB5-7EA41680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CE650-DA78-4A2F-87E6-AF96C008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C125B-8599-4F0E-A8DD-331B4FB4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3497B-4106-46F8-8F68-F2B692BF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A3447-F3DA-43BC-B62D-EA260DFD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14770-C4A3-4EC9-BA6B-B63B9A3B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B32-D9FD-418E-9290-81BEFD6F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143BB-C046-4F86-893B-D02C7EBE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D6A1-85A0-48E1-BA79-97C2B0D7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80E6D-3AD5-49E8-A92F-B0621772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4F0B8-13CA-4856-8D7D-714FD6E4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6B4B6-937D-40CA-980E-A3D1FC27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7D63B-4962-44AB-8A9B-C757CF07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B6BFF-42CF-4E31-B4DB-60191EE1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BE1C9-F95A-4ECF-9A11-5DFA71BF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E8256-A922-44AA-B5AD-C0B49C43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A75BC-D20E-49C9-AD05-0FACE7D7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23D-0566-4EF4-A9DC-31A7C1A3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D4B21-3986-4226-92BE-BB1E9D4E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1AFF4-F6C9-47D4-98C5-6F11F815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53CF7-DC31-4852-AB3A-98D9852E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52731-B2DF-427D-931D-DBDA526E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F7FE2-8B12-433F-9AA4-DF362440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9FFC8-7460-43E0-BA48-59F10A53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4BF33-5EC1-463B-BB7E-22892F5E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CE6D6E-B839-4AED-9CFA-C7606440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0ECE1-2219-4427-8FDA-0922653D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19F60-EE9F-414C-91B5-4DAE09B0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72F9-0168-43B2-B64A-CC663139997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75FA-AB86-4758-B626-B67BCBAF2F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3115-6F12-42EE-9F5E-876E4685756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52B4-38EC-488E-A211-066BB09A7E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0D4A-58E7-4B2F-9D3F-CDB6C3A44A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AB0-D036-4ED7-B4A5-F5A0BE3D94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423F-BF74-4D70-B562-36EE6D5DAA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99ED-3082-422D-878A-FB66E55FCB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EE3D-200F-4B2D-A3CB-6591F0914C2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Структура заболеваемости населе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-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Некоторые</a:t>
            </a:r>
            <a:r>
              <a:rPr b="0" i="1" lang="ru-RU" sz="1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Новообразов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рови, кроветворных органов и отдельные нарушения, вовлекшие иммунный механизм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эндокринной системы, расстройства питания и нарушение обмена веществ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Психические расстройства и расстройства повед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нервной системы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глаза и его придаточного аппарат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уха и сосцевидного отростка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системы кровообращ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органов дыха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- Болезни органов пищевар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жи и подкожной клетчатк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костно – мышечной системы и соединительной ткан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олезни мочеполовой системы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Беременность, роды и послеродово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 –  Отдельные состояния, возникающие в перинатальный период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рожденные аномалии (пороки развития), деформации и хромосомные нарушения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VII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Симптомы, признаки и отклонения от нормы, выявленные при клинических и лабораторных исследованиях, не классифицированные в других рубриках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I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Травмы, отравления и некоторые другие последствия воздействия внешних причин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внешние причины заболеваемости и смертности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3b30"/>
                </a:solidFill>
                <a:latin typeface="Franklin Gothic Book"/>
              </a:rPr>
              <a:t>XXI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класс – Факторы, влияющие на состояние здоровья населения и обращения в учреждения здравоохранения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 – это совокупность новых, нигде  ранее не учтенных и в первые в данном году выявленных среди населения заболеваний. По терминологии Минздрава – это общая впервые выявленная заболеваем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вичная общая заболеваемость – это первичная заболеваемость плюс заболевания, выявленные в прошлом году, по поводу которых обратились в данном год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Распространенность – общая заболеваемость или болезненность – это совокупность все имеющихся среди населения заболеваний, впервые выявленных как в данном году, так и в предыдущие годы. По существу , это накопленная заболеваемость, т.е все случаи зарегистрированных заболеваний за ряд лет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х всего 4, из них 2 основных, 2 дополнительных. Основные: обращаемость, медицинские осмотры. Дополнительные: по причинам смерти, по данным комплексных социально – гигиенических и клинико – социальных исследовани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Посещение –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то каждый визит больного к врачу или врача к больному. Визит больного к врачу регистрируется с помощью талона на прием к врачу, визит врача к больному регистрируется в журнале вызовов врача на дом. На каждого жителя в год в городе сейчас приходится около 9 посещений. Посещаемость – это показатель объема медицинской помощ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Обращение –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о первое посещение врача по повду данного заболевания, регистрируется с помощью статистического талона уточненного диагноза, в котором ставится знак «+», если диагноз заболевания установлен впервые, и не ставится никакого знака, если по поводу данного заболевания пациент уже обращался ране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По причинам смертности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кументы: врачебное свидетельство о смерти; врачебное свидетельство о перинатальной и младенческой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лавное требование: правильно указать причину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ельдшерская справка не может быть использован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Анкетировани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баллам;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утем субъективного сравнения со здоровьем других лиц данного возраста и пола.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AutoShape 2" descr=""/>
          <p:cNvPicPr/>
          <p:nvPr/>
        </p:nvPicPr>
        <p:blipFill>
          <a:blip r:embed="rId1"/>
          <a:stretch/>
        </p:blipFill>
        <p:spPr>
          <a:xfrm>
            <a:off x="171360" y="457200"/>
            <a:ext cx="8820360" cy="8841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бщая – все случаи первичных посещений в амбулаторно – поликлинические учреждения. Учетная форма – статистический талон уточненных диагнозов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острая инфекционная заболеваемость. Учетная форма – экстренное извещение об инфекционном заболевании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важнейшими неэпидемическими заболеваниями. Учетная форма – специальное извещение, которое заполняется в случае установления диагноза туберкулеза, онкологического и венерического заболевания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оспитализированная заболеваемость. Учетная форма – карта выбывшего из стационара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заболеваемость с временной утратой трудоспособности. Учетная форма – больничный лис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 изучении заболеваемости по обращаемости показатели рассчитываются обычно на 1000 человек, иногда на 10000 и на 100000 человек. Заболеваемость  с временной утратой трудоспособности принято рассчитывать на 100 работающих в год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иболее часто используют 4 группы показателей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уровень первичной заболеваемости за год на 100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уровень первичной общей заболеваемости на 1000 ч-к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структура заболеваемости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Кратность заболеваний – число заболеваний на 1 ч-к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AutoShape 2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данным различных авторов, общая первичная заболеваемость по обращаемости в разные годы колеблется в пределах от 1000 до 1400 случаев на 1000 городского населения, причем для жителей сельской местности этот показатель несколько ниже и составляет 800-1000 случаев. Исследование середины 60 – х годов заболеваемости по обращаемости население пяти городов , расположенных в различных экономико – географических районах ( Ступино, Челябинск, Дзержинск, Копейск, Рубежное),определило заболеваемость 1275 у мужчин, 1315 – у женщин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AutoShap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болеваемость – ведущий показатель общественного здоровья.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лассификация болезней.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Источники информации о заболеваемости.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труктура заболеваемости взрослого населения как показатель общественного здоровья.                                                                          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Литература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убликованные данные показывают, что смертность мужчин не только в целом , но и во всех возрастных группах выше по сравнению с женщинами. Так, если смертность мужчин в 1997г составила 15,0, то у женщин 12,7. Отмечается и большая интенсивность роста показателя среди мужчин в сравнении с женщинами. Только за последние 3 года показатель общей смертности у мужчин увеличился в 1,5 раза, а женщин – в 1,25 раза. Наибольший разрыв в показателях смертности мужчин и женщин выявляется в возрасте от 20 – 34 лет, когда смертность мужчин превышает тот же показатель у женщин в 4,0 – 4,5 раза. В дальнейшем с увеличением возраста различие в показателях сокращаетс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зучение структуры причин смерти дает наиболее полное представление о состоянии здоровья населения, отражает эффективность мероприятий, проводимых органами и учреждениями здравоохранения и государства в целом по оздоровлению населения. В течении ХХ века в экономически развитых странах произошли значительные изменения структуры смертности населения. Так , если в начале века инфекционные заболевания были одной из ведущих причин смерти, то в последнее время их доля составляет не более 2 %. В то же время в структуре причин смерти ведущее место в настоящее время принадлежит болезням системы кровообращения, несчастным случаям, новообразованиям, т.е. хроническим неэпидемическим заболеваниям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реди причин смертности населения России  болезни системы кровообращения не только превалирует , но и имеет тенденцию к росту. Так если в 1990 г на эту причину приходилось 617,4 случая, то в 1999 г их число увеличилось до 815,7 случая на 100000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 последние 20 лет отмечен рост смертности от несчастных случаев, отравлений и травм почти в 2 раза в сравнении с 1980 г. Эти причины заняли 3-е место в структуре смертности населени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целом за последние 5 лет возрастает смертность практически от всех причин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ущественное значение для претворен6ия в жизнь медико – социальных профилактических мероприятий, направленных на снижение смертности, имеет сравнительный анализ причин смертности мужчин и женщин , особенно в трудоспособном возраст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мужчин в несколько раз выше по сравнению с женщинами как в целом, так и по основным причинам: болезни органов дыхания – в 6 раз; несчастные случаи, отравления и травмы – более чем в 5 раз; болезни системы кровообращения – в 4.5 раза; болезни органов пищеварения – почти в 3.5 раз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AutoShape 2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20360" cy="16700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ртность в целом в нашей стране значительно выше, чем  в других странах; В 2-5 раза выше от ишемической болезни сердца, в 1.5-2 раза от злокачественных опухолей и особенно от несчастных случаев, инфекционных заболев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Где впервые классифицировали болезн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то такое МКБ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МКБ была впервые сформулирована? Как она называлась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В каком году была утверждена МКБ – 10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огда МКБ вступила в действи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Назовите 3 основных вида заболев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овы источники информации о заболеваемости? Какие из них основные, а какие дополнительные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еречислите виды заболеваемости по обращаемости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2 метода существуют в изучении общей заболеваемости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Какие 5 болезней и поражений являются основными причинами смертей в Росси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AutoShape 2" descr=""/>
          <p:cNvPicPr/>
          <p:nvPr/>
        </p:nvPicPr>
        <p:blipFill>
          <a:blip r:embed="rId1"/>
          <a:stretch/>
        </p:blipFill>
        <p:spPr>
          <a:xfrm>
            <a:off x="225360" y="457200"/>
            <a:ext cx="8766360" cy="10000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Древний Китай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 международная классификация болезней - это система группировки болезней и патологических состояний, отражающая современный этап развития медицинской наук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                                                   французский статистик) или Международный перечень причин смертнос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-10 утверждена 43-й сессией ВОЗ в 1989г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МКБ – 10 вступила в силу с 01.01.93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Первичная заболеваемость; Первичная общая заболеваемость;  Распространенность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сего источников 4, из них 2 основных, 2 дополнительных. Основные: обращаемость, медицинские осмотры ( посещение). Дополнительные: по причинам смерти, анкетирование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Виды заболеваемости по обращаемости: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общая; острая инфекционная заболеваемость; заболеваемость важнейшими неэпидемическими заболеваниями; госпитализированная заболеваемость; заболеваемость с временной утратой трудоспособности.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уществует два метода  в изучении общей заболеваемости: сплошной и выборочный (более экономичный)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e3b30"/>
                </a:solidFill>
                <a:latin typeface="Franklin Gothic Book"/>
              </a:rPr>
              <a:t>Среди всех причин смерти в России лидируют 5 заболеваний и поражений: сердечно – сосудистые заболевания (55%), злокачественные опухоли (16%), несчастные случаи (травмы, отравления и др.)(15%), болезни органов дыхания (6%), болезни органов пищеварения(3%). Они составляют более 90% всех случаев смерти.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533520" indent="-5335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AutoShape 7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казатели заболеваемости отражают реальную картину жизни населения и позволяют разрабатывать меры по охране и улучшению здоровья населения в общественном масштаб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AutoShape 2" descr=""/>
          <p:cNvPicPr/>
          <p:nvPr/>
        </p:nvPicPr>
        <p:blipFill>
          <a:blip r:embed="rId1"/>
          <a:stretch/>
        </p:blipFill>
        <p:spPr>
          <a:xfrm>
            <a:off x="208080" y="420840"/>
            <a:ext cx="8783640" cy="1017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Характер, структура болезней, наши знания о них (этиология, патогенез) отражают классификации заболеваний, травм, которые периодически пересматриваютс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еждународная статистическая классификация болезней (МКБ) – это система группировки болезней и патологических состояний, отражающая современный этап развития медицинской науки. Это – система рубрик, в которые конкретные нозологические единицы включены с принятыми критериям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КБ была впервые сформулирована в 1893 г как Классификация Бертильона (известный французский статистик) или Международный перечень причин смерт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 примеру МКБ созданы частные классификации (для отраслей и отдельных групп заболеваний). Таким образом, создана концепция «семьи» классификаций, в центре которой находится традиционная МКБ с присущими ей формами и структурами. Сама МКБ удовлетворяет потребности  в диагностической информации для общих целей, а дополнительные классификации можно использовать в сочетании с ней с учетом разных подходов к информации, особенно в плане терапевтических или хирургических процедур инвалидност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семирная Организация Здравоохранения производит пересмотр Международной   классификации болезней ( МКБ ) каждые 10 лет, чтобы привести ее в соответствии с уровнем знаний. В 1985 году состоялся 10 пересмотр, внесены изменения. Однако на практике еще не редко используют  МКБ 9-го пересмотра. В МКБ 9-го пересмотра 17 классов и 999 рубрик- названий болезней. Это два больших тома : в одном – сама классификация, в другом – название болезней по алфавит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AutoShape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МКБ построена по 4 принципам. Первый принцип – принцип этиологии. По нему был построен 1 класс – «Инфекционные и паразитарные заболевания» и 17 класс – «Несчастные случаи, отравления, травмы». Второй принцип  - принцип патогенеза. По нему построен 2 класс – «Новообразования». Третий принцип – принцип локализации. По нему построено большинство классов: болезни органов дыхания, пищеварения, мочевой системы и др. Четвертый принцип – принцип общности особых состояний. Это 11 класс- « Осложнение беременности, родов и плодового периода»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AutoShape 2" descr=""/>
          <p:cNvPicPr/>
          <p:nvPr/>
        </p:nvPicPr>
        <p:blipFill>
          <a:blip r:embed="rId1"/>
          <a:stretch/>
        </p:blipFill>
        <p:spPr>
          <a:xfrm>
            <a:off x="171360" y="328680"/>
            <a:ext cx="8820360" cy="12319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 класс 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- </a:t>
            </a: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Инфекционные и паразитарные болез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2 класс – Новообразов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3 класс – Болезни эндокринной системы, расстройства питания и нарушение обмен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4 класс – Болезни крови и кроветворных органо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5 класс – Психические расстройств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6 класс – Болезни нервной системы  и органов чувств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7 класс – Болезни органов кровообращ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8 класс – Болезни органов дыха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9 класс – Болезни органов пищеваре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0 класс – Болезни мочеполовой систе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1 класс - Осложнения беременности, родов и послеродового периода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2 класс – Болезни кожи и подкожной клетчатк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3 класс – Болезни костно – мышечной системы и соединительной ткани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4 класс – Врожденные аномалии, пороки развит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5 класс – Некоторые причины перинатальной заболеваемости и смертности, отдельные состояния, возникающие в перинатальном периоде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6 класс  – Симптомы, признаки и неточно обозначенные состояния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e3b30"/>
                </a:solidFill>
                <a:latin typeface="Franklin Gothic Book"/>
              </a:rPr>
              <a:t>17 класс – Несчастные случаи, отравления и травмы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2:24:56Z</dcterms:created>
  <dc:creator>User</dc:creator>
  <dc:description/>
  <dc:language>en-US</dc:language>
  <cp:lastModifiedBy>RomaK</cp:lastModifiedBy>
  <dcterms:modified xsi:type="dcterms:W3CDTF">2014-10-31T12:56:57Z</dcterms:modified>
  <cp:revision>10</cp:revision>
  <dc:subject/>
  <dc:title>ЗАБОЛЕВАЕМОСТЬ – ВЕДУЩИЙ ПОКАЗАТЕЛЬ ОБЩЕСТВЕННОГО ЗДОРОВЬЯ</dc:title>
</cp:coreProperties>
</file>