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D218-0FD3-47F9-BFDB-1E21A6252AB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болезней. Структура заболеваемости насе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34F8-12EC-41F9-99F8-685FDC9F79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ассификация болезней, травм и причин смерти (МКБ-1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екоторы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екционные и паразитарные боле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Ново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крови, кроветворных органов и отдельные нарушения, вовлекшие иммунный меха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эндокринной системы, расстройства питания и нарушение обмена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Психические расстройства и расстройства по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нервной системы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глаза и его придаточного аппар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уха и сосцевидного отрос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системы кровообра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органов дых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- Болезни органов пищева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кожи и подкожной клетча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костно – мышечной системы и соединительной тка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мочеполов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 –  Отдельные состояния, возникающие в перинатальный пери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Врожденные аномалии (пороки развития), деформации и хромосомные нару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Симптомы, признаки и отклонения от нормы, выявленные при клинических и лабораторных исследованиях, не классифицированные в других рубри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Травмы, отравления и некоторые другие последствия воздействия внешних прич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внешние причины заболеваемости и смер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X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Факторы, влияющие на состояние здоровья населения и обращения в учреждения здравоохра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9B68-0331-403C-8746-2DFDB52DD7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 вида заболеваемости (По  Ю. В. Лисицыну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ая заболеваемость – это совокупность новых, нигде  ранее не учтенных и в первые в данном году выявленных среди населения заболеваний. По терминологии Минздрава – это общая впервые выявленная заболевае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ая общая заболеваемость – это первичная заболеваемость плюс заболевания, выявленные в прошлом году, по поводу которых обратились в данном 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ность – общая заболеваемость или болезненность – это совокупность все имеющихся среди населения заболеваний, впервые выявленных как в данном году, так и в предыдущие годы. По существу , это накопленная заболеваемость, т.е все случаи зарегистрированных заболеваний за ряд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ACB6-46E2-4072-AF6A-619AA0280D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формации о заболевае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всего 4, из них 2 основных, 2 дополнительных. Основные: обращаемость, медицинские осмотры. Дополнительные: по причинам смерти, по данным комплексных социально – гигиенических и клинико – социальных исследо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8F38-4F0A-4340-A4A3-4C71650C36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сточники информации о заболеваемости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ещение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аждый визит больного к врачу или врача к больному. Визит больного к врачу регистрируется с помощью талона на прием к врачу, визит врача к больному регистрируется в журнале вызовов врача на дом. На каждого жителя в год в городе сейчас приходится около 9 посещений. Посещаемость – это показатель объема медицинской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C11A-FDCC-44D2-A40D-81C38028E6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формации о заболев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щение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ервое посещение врача по повду данного заболевания, регистрируется с помощью статистического талона уточненного диагноза, в котором ставится знак «+», если диагноз заболевания установлен впервые, и не ставится никакого знака, если по поводу данного заболевания пациент уже обращался ране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E405-648F-4745-A96A-FF7E86BBF0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формации о заболев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причинам смертности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ы: врачебное свидетельство о смерти; врачебное свидетельство о перинатальной и младенческой смер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ое требование: правильно указать причину смер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льдшерская справка не может быть использова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3740-BC21-4F93-950A-F6443C4882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формации о заболев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кет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баллам;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ем субъективного сравнения со здоровьем других лиц данного возраста и пола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4242-90FA-4808-AEB5-BF2DA0A70D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иды заболеваемости по обращаемост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– все случаи первичных посещений в амбулаторно – поликлинические учреждения. Учетная форма – статистический талон уточненных диагноз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ая инфекционная заболеваемость. Учетная форма – экстренное извещение об инфекционном заболева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емость важнейшими неэпидемическими заболеваниями. Учетная форма – специальное извещение, которое заполняется в случае установления диагноза туберкулеза, онкологического и венерического заболе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питализированная заболеваемость. Учетная форма – карта выбывшего из стациона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емость с временной утратой трудоспособности. Учетная форма – больничный ли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96E5-D534-41FC-BCD8-027EF87F67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болеваемость по обращаем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зучении заболеваемости по обращаемости показатели рассчитываются обычно на 1000 человек, иногда на 10000 и на 100000 человек. Заболеваемость  с временной утратой трудоспособности принято рассчитывать на 100 работающих в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часто используют 4 группы показател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уровень первичной заболеваемости за год на 100 ч-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уровень первичной общей заболеваемости на 1000 ч-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структура заболевае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ратность заболеваний – число заболеваний на 1 ч-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EF97-84B5-4B21-B0E5-B538CDFF99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болеваемость по обращаем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данным различных авторов, общая первичная заболеваемость по обращаемости в разные годы колеблется в пределах от 1000 до 1400 случаев на 1000 городского населения, причем для жителей сельской местности этот показатель несколько ниже и составляет 800-1000 случаев. Исследование середины 60 – х годов заболеваемости по обращаемости население пяти городов , расположенных в различных экономико – географических районах ( Ступино, Челябинск, Дзержинск, Копейск, Рубежное),определило заболеваемость 1275 у мужчин, 1315 – у женщ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503F-BB2D-4874-8BCC-793B4941F8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емость – ведущий показатель общественного здоровья.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болезней.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формации о заболеваемости.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заболеваемости взрослого населения как показатель общественного здоровья.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3021-026C-473C-8FEC-94839CF263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убликованные данные показывают, что смертность мужчин не только в целом , но и во всех возрастных группах выше по сравнению с женщинами. Так, если смертность мужчин в 1997г составила 15,0, то у женщин 12,7. Отмечается и большая интенсивность роста показателя среди мужчин в сравнении с женщинами. Только за последние 3 года показатель общей смертности у мужчин увеличился в 1,5 раза, а женщин – в 1,25 раза. Наибольший разрыв в показателях смертности мужчин и женщин выявляется в возрасте от 20 – 34 лет, когда смертность мужчин превышает тот же показатель у женщин в 4,0 – 4,5 раза. В дальнейшем с увеличением возраста различие в показателях сокращ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9FD5-AEC4-4B4C-855B-785DC11352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структуры причин смерти дает наиболее полное представление о состоянии здоровья населения, отражает эффективность мероприятий, проводимых органами и учреждениями здравоохранения и государства в целом по оздоровлению населения. В течении ХХ века в экономически развитых странах произошли значительные изменения структуры смертности населения. Так , если в начале века инфекционные заболевания были одной из ведущих причин смерти, то в последнее время их доля составляет не более 2 %. В то же время в структуре причин смерти ведущее место в настоящее время принадлежит болезням системы кровообращения, несчастным случаям, новообразованиям, т.е. хроническим неэпидемическим заболевания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9CAE-F480-4D4D-8E46-3C5DBF291E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всех причин смерти в России лидируют 5 заболеваний и поражений: сердечно – сосудистые заболевания (55%), злокачественные опухоли (16%), несчастные случаи (травмы, отравления и др.)(15%), болезни органов дыхания (6%), болезни органов пищеварения(3%). Они составляют более 90% всех случаев смер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7D27-C315-41F1-BA41-756A54706A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причин смертности населения России  болезни системы кровообращения не только превалирует , но и имеет тенденцию к росту. Так если в 1990 г на эту причину приходилось 617,4 случая, то в 1999 г их число увеличилось до 815,7 случая на 100000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E3BD-5516-4222-B845-A391F29CC5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последние 20 лет отмечен рост смертности от несчастных случаев, отравлений и травм почти в 2 раза в сравнении с 1980 г. Эти причины заняли 3-е место в структуре смертност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лом за последние 5 лет возрастает смертность практически от всех прич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1DA6-D9C0-47C4-BD33-3A2344DD77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енное значение для претворен6ия в жизнь медико – социальных профилактических мероприятий, направленных на снижение смертности, имеет сравнительный анализ причин смертности мужчин и женщин , особенно в трудоспособном возра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3633-76B3-41DA-865D-671A87A368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ность мужчин в несколько раз выше по сравнению с женщинами как в целом, так и по основным причинам: болезни органов дыхания – в 6 раз; несчастные случаи, отравления и травмы – более чем в 5 раз; болезни системы кровообращения – в 4.5 раза; болезни органов пищеварения – почти в 3.5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29F0-2C25-4B0A-9E81-A27512185E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ность в целом в нашей стране значительно выше, чем  в других странах; В 2-5 раза выше от ишемической болезни сердца, в 1.5-2 раза от злокачественных опухолей и особенно от несчастных случаев, инфекционных заболе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5311-ED6E-40D7-8941-44E6A5F2B7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впервые классифицировали болезн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МКБ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м году МКБ была впервые сформулирована? Как она называлас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м году была утверждена МКБ – 10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МКБ вступила в действ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3 основных вида заболев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источники информации о заболеваемости? Какие из них основные, а какие дополнительны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ите виды заболеваемости по обращ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2 метода существуют в изучении общей заболеваем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5 болезней и поражений являются основными причинами смертей в Росс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04C0-D4F2-4357-87FF-328681C1C4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ий Кита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 –  международная классификация болезней - это система группировки болезней и патологических состояний, отражающая современный этап развития медицинской на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 была впервые сформулирована в 1893 г как Классификация Бертильона (известный                                                    французский статистик) или Международный перечень причин смерт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-10 утверждена 43-й сессией ВОЗ в 1989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 – 10 вступила в силу с 01.01.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ая заболеваемость; Первичная общая заболеваемость;  Распространен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го источников 4, из них 2 основных, 2 дополнительных. Основные: обращаемость, медицинские осмотры ( посещение). Дополнительные: по причинам смерти, анкет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заболеваемости по обращаем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; острая инфекционная заболеваемость; заболеваемость важнейшими неэпидемическими заболеваниями; госпитализированная заболеваемость; заболеваемость с временной утратой трудоспособ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два метода  в изучении общей заболеваемости: сплошной и выборочный (более экономичны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всех причин смерти в России лидируют 5 заболеваний и поражений: сердечно – сосудистые заболевания (55%), злокачественные опухоли (16%), несчастные случаи (травмы, отравления и др.)(15%), болезни органов дыхания (6%), болезни органов пищеварения(3%). Они составляют более 90% всех случаев смер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2B35-32DD-431D-8E8D-07CFC81528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ЗАБОЛЕВАЕМОСТЬ – ВЕДУЩИЙ ПОКАЗАТЕЛЬ ОБЩЕСТВЕННОГО ЗДОРОВЬ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и заболеваемости отражают реальную картину жизни населения и позволяют разрабатывать меры по охране и улучшению здоровья населения в общественном масшта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A50D-4BCF-4A75-9DDD-306F1F032D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ЗАБОЛЕВАЕМОСТЬ – ВЕДУЩИЙ ПОКАЗАТЕЛЬ ОБЩЕСТВЕННОГО ЗДОРОВЬ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, структура болезней, наши знания о них (этиология, патогенез) отражают классификации заболеваний, травм, которые периодически пересматриваю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F5E6-FBAD-4D3F-87F0-843E92D452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болез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статистическая классификация болезней (МКБ) – это система группировки болезней и патологических состояний, отражающая современный этап развития медицинской науки. Это – система рубрик, в которые конкретные нозологические единицы включены с принятыми критер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8950-3B09-4AED-92B8-56B29BCF8B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 была впервые сформулирована в 1893 г как Классификация Бертильона (известный французский статистик) или Международный перечень причин смерт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римеру МКБ созданы частные классификации (для отраслей и отдельных групп заболеваний). Таким образом, создана концепция «семьи» классификаций, в центре которой находится традиционная МКБ с присущими ей формами и структурами. Сама МКБ удовлетворяет потребности  в диагностической информации для общих целей, а дополнительные классификации можно использовать в сочетании с ней с учетом разных подходов к информации, особенно в плане терапевтических или хирургических процедур инвалид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C088-B842-45D8-90D3-8E722278FB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болез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мирная Организация Здравоохранения производит пересмотр Международной   классификации болезней ( МКБ ) каждые 10 лет, чтобы привести ее в соответствии с уровнем знаний. В 1985 году состоялся 10 пересмотр, внесены изменения. Однако на практике еще не редко используют  МКБ 9-го пересмотра. В МКБ 9-го пересмотра 17 классов и 999 рубрик- названий болезней. Это два больших тома : в одном – сама классификация, в другом – название болезней по алфавит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43C0-CDFB-4D44-8C61-E85E3A7887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болез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 построена по 4 принципам. Первый принцип – принцип этиологии. По нему был построен 1 класс – «Инфекционные и паразитарные заболевания» и 17 класс – «Несчастные случаи, отравления, травмы». Второй принцип  - принцип патогенеза. По нему построен 2 класс – «Новообразования». Третий принцип – принцип локализации. По нему построено большинство классов: болезни органов дыхания, пищеварения, мочевой системы и др. Четвертый принцип – принцип общности особых состояний. Это 11 класс- « Осложнение беременности, родов и плодового период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D8B0-C88A-4407-9F76-C6E6FB7D4D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ассификация болезней, травм и причин смерти (МКБ-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класс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екционные и паразитарные боле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класс – Ново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класс – Болезни эндокринной системы, расстройства питания и нарушение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класс – Болезни крови и кроветворных орг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класс – Психические расстро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класс – Болезни нервной системы  и органов чув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класс – Болезни органов кровообра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класс – Болезни органов дых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класс – Болезни органов пищева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класс – Болезни мочеполов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 класс - Осложнения беременности, родов и послеродового пери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 класс – Болезни кожи и подкожной клетча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 класс – Болезни костно – мышечной системы и соединительной тка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 класс – Врожденные аномалии, порок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 класс – Некоторые причины перинатальной заболеваемости и смертности, отдельные состояния, возникающие в перинатальном пери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 класс  – Симптомы, признаки и неточно обозначенные состоя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 класс – Несчастные случаи, отравления и трав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5E31-A29A-499A-8CAC-FB84A5EAF5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54BC-8AB8-4E38-AABA-1C8AF2B9D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D27A-8AF5-4700-8317-0027422B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95741-0478-40E0-8D7C-AB4234E8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141C39-24B9-4A47-AB68-AE305F4A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30146F-D416-4745-BCD1-A6C6A462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46F887-8276-4A62-A39F-DA351B4F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B1B51-A83A-4D28-95A2-43D8C3DF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0814A9-FA7F-47C6-A00A-E1310875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CADDEF-E4FA-4B79-AB95-F40E599B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80F75-B787-4F5D-B5D5-8F0F93EDE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B81B9E-A744-4896-8FBE-D2D11DA79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B473-8974-4710-8E21-0206BADA2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433F-0CCB-436B-A15F-0300B5244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18AF-80EA-49F3-8CCF-A0458C18D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9A91-6904-43F0-B804-0175CB21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8414-9243-4349-AD7B-0591BAF8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93B1-DF52-469D-B881-4D80971D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6089-E505-40AC-884E-EF8ABBD9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687F-BFAA-43DA-9E01-855FE997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30CB-2FAE-4B02-9A7F-9107266D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DB1D-7919-4ABA-8F79-D7EBDE96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FE55-2407-4E93-BA85-D4064683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277A-96EA-4AAF-A12A-FEE8B369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7258-F2C3-468A-A665-0B305F39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1CFA-F8C2-40CD-A3E4-09F5D5B96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C537-2F8B-4DDD-B7BB-971B83D44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2767B-A2B4-489C-BFB1-06EE7BFF6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EBD4C-AE8C-4E2D-A000-A4F994F4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1470A-433A-49B7-B50B-1F65C773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B3963-346E-430E-B004-174B78B4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6C4AB-713D-49F6-8D2D-6C9AC34F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1DBF-1C5F-42C2-BAAF-5137B75F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A00E4-F55E-4823-AD01-F49BEB0B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14CA8-98BF-4E35-A728-57ABD598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2600C-D97A-4A69-898D-8B668197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0D34C-D78C-4A97-96C0-F0D7545E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E65E2-287C-4F91-BAAE-DB41D650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96830-18D7-488A-B56E-F8B4FE921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5959D-CBC6-414B-B5F2-82F6355C3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1CD82-48C7-4A27-A079-55FB975F3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4678B-75B7-445E-953F-2D3DBD75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C1C21-8F77-4EC2-8ACB-B2E695BC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4B1E-C274-4BCD-811B-BF0F37E4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FC1EA-A9B3-432F-99AC-47337551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1183B-B2D8-44B6-B861-AE26B541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4ED4D-4262-4321-9662-7DE36667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56338-29CA-4AA9-B7A0-D4D9FC29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576D4-CDD7-487D-8FB4-2BF33B44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6905F-E1B8-4770-8738-E07EA7CF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40C30-93C6-4CE7-9B2C-8656C9A3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6AAF9-8E11-470B-958F-2DA5F8C52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09FFE-BE79-465D-8D42-AA8FFCE64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89F4C-F43D-4960-8EEB-06EBC5D92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907D-4C9E-4E16-9782-ED536237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A04C9-AB24-4D55-BF63-088F7AB8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64193-19BA-4A5F-A186-AE075F60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FA39E-B372-4218-8A5A-91B717DF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A5B12-8EAE-4749-A727-0CE881A9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F359F-ACEC-4884-B46F-7AF02908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1BCA6-D94C-423B-91E9-EECDDC94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E8AA0-5185-434D-84D0-BB2B4169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AEEBC-BBD2-4C6A-B464-C94BB475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B69D5-F81B-4F84-A6D2-16FA5CD8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D2111-69BD-4F44-9196-57D9A1699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BDC3-83C5-40AA-BF8D-9033507B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F27B5-78FC-4845-88D3-7C32E9134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9240B-A470-41DE-98EF-C09B0E942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EAB61-15A1-4803-B2F2-3ED60302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177A9-0B4D-4364-A369-2732E99C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17A6C-3DD8-4A20-A8E9-5ED5F67B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D7EE0-64D6-4C14-90C2-4EBB90D1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6F1B5-6163-4FC1-B4AD-5E900884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22ECC-E69C-4454-9F3A-75216051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7F335-2A8B-4874-89BB-2EE9BAE7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3B3D0-8586-4C0F-888C-0E807EC1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DF38-2F11-48E5-AFF3-2D2D5499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DFCA0-5E3A-4C2A-B6E9-DB0AED98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AA6DF-4CC0-40AD-A64B-B9735BAAF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5BDE9-5FDD-4C0B-96D0-AF4998E9F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CC0F2-A698-4B9F-B7FB-46BC1DA1B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B4752-9B7B-479B-BE94-5D611833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0B477-6BA0-4F66-86E0-5DB0147D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B17DD-381D-44FF-9DD2-847DC498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322E1-C304-42E0-A45C-14353346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22880-5758-4B7C-8AE4-0A4612E2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D5208-4041-4CDE-9C6A-CBB59EFA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FD54-E74A-46E4-BE2F-21127040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E269D-1EB5-41E1-91B4-0A45B196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D5DEF-F7AD-4267-996A-3FD5422A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F9246-85B7-475F-9D00-9BDD2F21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E99A6-6B47-4E6C-AE93-2548C2B21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EF3A9-FEE0-4E11-9BCF-A6C8A5F57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88DD7-9D75-4831-BED3-51686B1CF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AC5DC-B625-436E-9B55-C0064543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8D8D2-12DD-42CD-B75B-669D6D6F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1A931-C0C0-4501-A920-009995C9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30938-C91A-451F-B59B-1CDA63FE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CD1C-A14D-43AF-8CA3-9B62AD4C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C2146-1189-436C-B1B9-6FB415A8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C2FE5-9894-4650-88F4-1D4F91B4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74718-3BAE-4F30-B0B9-E569A37C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49591-5E3B-4169-980C-3A3B12DE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F486C-5965-44FF-9301-C381375B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12D70-2394-419B-BC68-131E89A41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2800D-799F-4E91-AF4C-13C27070F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7C3E57-808F-44A0-94EB-69772077F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AD339D-4915-4D91-8F00-606D8E88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6D0C79-22C4-4937-A60A-B2D71743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 сполучна ліні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 сполучна ліні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3A11-0D7C-4104-A023-C7D01F81FE5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 сполучна ліні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 сполучна ліні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 сполучна ліні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 сполучна ліні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 сполучна ліні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 сполучна ліні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FCD0-6D68-4233-A39F-7C6C2359C07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 сполучна ліні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 сполучна ліні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 сполучна ліні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 сполучна ліні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 сполучна ліні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 сполучна ліні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8A8C-48B8-480B-B88D-D9F8B57D5C6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 сполучна ліні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 сполучна ліні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E3B5-EBC1-426E-8908-AF9137FF9B5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 сполучна ліні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 сполучна ліні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2CFF-D4A4-443F-95FA-7177534D825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CC49-564D-404C-B60F-662CA975A36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 сполучна ліні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 сполучна ліні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A965-7396-4D36-81AA-82DDD645525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1B60-A7BD-4CF9-BD33-37BC309138B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72DA-8F22-4DA2-900C-53FA6D25E9A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AutoShap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лассификация болезней. Структура заболеваемости населения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AutoShape 2" descr=""/>
          <p:cNvPicPr/>
          <p:nvPr/>
        </p:nvPicPr>
        <p:blipFill>
          <a:blip r:embed="rId1"/>
          <a:stretch/>
        </p:blipFill>
        <p:spPr>
          <a:xfrm>
            <a:off x="171360" y="328680"/>
            <a:ext cx="8820360" cy="12319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</a:t>
            </a:r>
            <a:r>
              <a:rPr b="0" i="1" lang="ru-RU" sz="1200" spc="-1" strike="noStrike">
                <a:solidFill>
                  <a:srgbClr val="4e3b30"/>
                </a:solidFill>
                <a:latin typeface="Franklin Gothic Book"/>
              </a:rPr>
              <a:t>-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Некоторые</a:t>
            </a:r>
            <a:r>
              <a:rPr b="0" i="1" lang="ru-RU" sz="1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инфекционные и паразитарные болезни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Новообразования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I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крови, кроветворных органов и отдельные нарушения, вовлекшие иммунный механизм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IV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эндокринной системы, расстройства питания и нарушение обмена веществ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V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Психические расстройства и расстройства поведения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V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нервной системы 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V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глаза и его придаточного аппарата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VI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уха и сосцевидного отростка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IX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системы кровообращения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органов дыхания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- Болезни органов пищеварения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кожи и подкожной клетчатки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I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костно – мышечной системы и соединительной ткани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IV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мочеполовой системы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V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еременность, роды и послеродовой период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V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 –  Отдельные состояния, возникающие в перинатальный период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V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Врожденные аномалии (пороки развития), деформации и хромосомные нарушения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VI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Симптомы, признаки и отклонения от нормы, выявленные при клинических и лабораторных исследованиях, не классифицированные в других рубриках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IX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Травмы, отравления и некоторые другие последствия воздействия внешних причин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X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внешние причины заболеваемости и смертности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X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Факторы, влияющие на состояние здоровья населения и обращения в учреждения здравоохранения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ервичная заболеваемость – это совокупность новых, нигде  ранее не учтенных и в первые в данном году выявленных среди населения заболеваний. По терминологии Минздрава – это общая впервые выявленная заболеваемость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ервичная общая заболеваемость – это первичная заболеваемость плюс заболевания, выявленные в прошлом году, по поводу которых обратились в данном году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Распространенность – общая заболеваемость или болезненность – это совокупность все имеющихся среди населения заболеваний, впервые выявленных как в данном году, так и в предыдущие годы. По существу , это накопленная заболеваемость, т.е все случаи зарегистрированных заболеваний за ряд лет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х всего 4, из них 2 основных, 2 дополнительных. Основные: обращаемость, медицинские осмотры. Дополнительные: по причинам смерти, по данным комплексных социально – гигиенических и клинико – социальных исследований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Посещение –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это каждый визит больного к врачу или врача к больному. Визит больного к врачу регистрируется с помощью талона на прием к врачу, визит врача к больному регистрируется в журнале вызовов врача на дом. На каждого жителя в год в городе сейчас приходится около 9 посещений. Посещаемость – это показатель объема медицинской помощи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Обращение –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это первое посещение врача по повду данного заболевания, регистрируется с помощью статистического талона уточненного диагноза, в котором ставится знак «+», если диагноз заболевания установлен впервые, и не ставится никакого знака, если по поводу данного заболевания пациент уже обращался ранее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По причинам смертности.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Документы: врачебное свидетельство о смерти; врачебное свидетельство о перинатальной и младенческой смерт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лавное требование: правильно указать причину смерт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Фельдшерская справка не может быть использована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Анкетировани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 баллам;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утем субъективного сравнения со здоровьем других лиц данного возраста и пола.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3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общая – все случаи первичных посещений в амбулаторно – поликлинические учреждения. Учетная форма – статистический талон уточненных диагнозов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острая инфекционная заболеваемость. Учетная форма – экстренное извещение об инфекционном заболевании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заболеваемость важнейшими неэпидемическими заболеваниями. Учетная форма – специальное извещение, которое заполняется в случае установления диагноза туберкулеза, онкологического и венерического заболевания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госпитализированная заболеваемость. Учетная форма – карта выбывшего из стационара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заболеваемость с временной утратой трудоспособности. Учетная форма – больничный лист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AutoShape 2" descr=""/>
          <p:cNvPicPr/>
          <p:nvPr/>
        </p:nvPicPr>
        <p:blipFill>
          <a:blip r:embed="rId1"/>
          <a:stretch/>
        </p:blipFill>
        <p:spPr>
          <a:xfrm>
            <a:off x="146160" y="457200"/>
            <a:ext cx="8845560" cy="92700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ри изучении заболеваемости по обращаемости показатели рассчитываются обычно на 1000 человек, иногда на 10000 и на 100000 человек. Заболеваемость  с временной утратой трудоспособности принято рассчитывать на 100 работающих в год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Наиболее часто используют 4 группы показателей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1.уровень первичной заболеваемости за год на 100 ч-к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2.уровень первичной общей заболеваемости на 1000 ч-к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3.структура заболеваемости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4. Кратность заболеваний – число заболеваний на 1 ч-к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AutoShape 2" descr=""/>
          <p:cNvPicPr/>
          <p:nvPr/>
        </p:nvPicPr>
        <p:blipFill>
          <a:blip r:embed="rId1"/>
          <a:stretch/>
        </p:blipFill>
        <p:spPr>
          <a:xfrm>
            <a:off x="146160" y="457200"/>
            <a:ext cx="8845560" cy="92700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о данным различных авторов, общая первичная заболеваемость по обращаемости в разные годы колеблется в пределах от 1000 до 1400 случаев на 1000 городского населения, причем для жителей сельской местности этот показатель несколько ниже и составляет 800-1000 случаев. Исследование середины 60 – х годов заболеваемости по обращаемости население пяти городов , расположенных в различных экономико – географических районах ( Ступино, Челябинск, Дзержинск, Копейск, Рубежное),определило заболеваемость 1275 у мужчин, 1315 – у женщин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AutoShap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Заболеваемость – ведущий показатель общественного здоровья.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Классификация болезней.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Источники информации о заболеваемости.                                     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труктура заболеваемости взрослого населения как показатель общественного здоровья.                                                                 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Литература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публикованные данные показывают, что смертность мужчин не только в целом , но и во всех возрастных группах выше по сравнению с женщинами. Так, если смертность мужчин в 1997г составила 15,0, то у женщин 12,7. Отмечается и большая интенсивность роста показателя среди мужчин в сравнении с женщинами. Только за последние 3 года показатель общей смертности у мужчин увеличился в 1,5 раза, а женщин – в 1,25 раза. Наибольший разрыв в показателях смертности мужчин и женщин выявляется в возрасте от 20 – 34 лет, когда смертность мужчин превышает тот же показатель у женщин в 4,0 – 4,5 раза. В дальнейшем с увеличением возраста различие в показателях сокращаетс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5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Изучение структуры причин смерти дает наиболее полное представление о состоянии здоровья населения, отражает эффективность мероприятий, проводимых органами и учреждениями здравоохранения и государства в целом по оздоровлению населения. В течении ХХ века в экономически развитых странах произошли значительные изменения структуры смертности населения. Так , если в начале века инфекционные заболевания были одной из ведущих причин смерти, то в последнее время их доля составляет не более 2 %. В то же время в структуре причин смерти ведущее место в настоящее время принадлежит болезням системы кровообращения, несчастным случаям, новообразованиям, т.е. хроническим неэпидемическим заболеваниям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8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реди всех причин смерти в России лидируют 5 заболеваний и поражений: сердечно – сосудистые заболевания (55%), злокачественные опухоли (16%), несчастные случаи (травмы, отравления и др.)(15%), болезни органов дыхания (6%), болезни органов пищеварения(3%). Они составляют более 90% всех случаев смерт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реди причин смертности населения России  болезни системы кровообращения не только превалирует , но и имеет тенденцию к росту. Так если в 1990 г на эту причину приходилось 617,4 случая, то в 1999 г их число увеличилось до 815,7 случая на 100000 населен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4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За последние 20 лет отмечен рост смертности от несчастных случаев, отравлений и травм почти в 2 раза в сравнении с 1980 г. Эти причины заняли 3-е место в структуре смертности населен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 целом за последние 5 лет возрастает смертность практически от всех причин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7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ущественное значение для претворен6ия в жизнь медико – социальных профилактических мероприятий, направленных на снижение смертности, имеет сравнительный анализ причин смертности мужчин и женщин , особенно в трудоспособном возраст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мертность мужчин в несколько раз выше по сравнению с женщинами как в целом, так и по основным причинам: болезни органов дыхания – в 6 раз; несчастные случаи, отравления и травмы – более чем в 5 раз; болезни системы кровообращения – в 4.5 раза; болезни органов пищеварения – почти в 3.5 раз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мертность в целом в нашей стране значительно выше, чем  в других странах; В 2-5 раза выше от ишемической болезни сердца, в 1.5-2 раза от злокачественных опухолей и особенно от несчастных случаев, инфекционных заболеваний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AutoShap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Где впервые классифицировали болезни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Что такое МКБ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 каком году МКБ была впервые сформулирована? Как она называлась?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 каком году была утверждена МКБ – 10?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Когда МКБ вступила в действие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Назовите 3 основных вида заболеваемости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Каковы источники информации о заболеваемости? Какие из них основные, а какие дополнительные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еречислите виды заболеваемости по обращаемости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Какие 2 метода существуют в изучении общей заболеваемости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Какие 5 болезней и поражений являются основными причинами смертей в России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AutoShape 2" descr=""/>
          <p:cNvPicPr/>
          <p:nvPr/>
        </p:nvPicPr>
        <p:blipFill>
          <a:blip r:embed="rId1"/>
          <a:stretch/>
        </p:blipFill>
        <p:spPr>
          <a:xfrm>
            <a:off x="225360" y="457200"/>
            <a:ext cx="8766360" cy="100008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Древний Китай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МКБ –  международная классификация болезней - это система группировки болезней и патологических состояний, отражающая современный этап развития медицинской науки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МКБ была впервые сформулирована в 1893 г как Классификация Бертильона (известный                                                    французский статистик) или Международный перечень причин смертности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МКБ-10 утверждена 43-й сессией ВОЗ в 1989г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МКБ – 10 вступила в силу с 01.01.93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Первичная заболеваемость; Первичная общая заболеваемость;  Распространенность.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Всего источников 4, из них 2 основных, 2 дополнительных. Основные: обращаемость, медицинские осмотры ( посещение). Дополнительные: по причинам смерти, анкетирование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            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Виды заболеваемости по обращаемости: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       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общая; острая инфекционная заболеваемость; заболеваемость важнейшими неэпидемическими заболеваниями; госпитализированная заболеваемость; заболеваемость с временной утратой трудоспособности.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Существует два метода  в изучении общей заболеваемости: сплошной и выборочный (более экономичный)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Среди всех причин смерти в России лидируют 5 заболеваний и поражений: сердечно – сосудистые заболевания (55%), злокачественные опухоли (16%), несчастные случаи (травмы, отравления и др.)(15%), болезни органов дыхания (6%), болезни органов пищеварения(3%). Они составляют более 90% всех случаев смерти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AutoShape 7" descr=""/>
          <p:cNvPicPr/>
          <p:nvPr/>
        </p:nvPicPr>
        <p:blipFill>
          <a:blip r:embed="rId1"/>
          <a:stretch/>
        </p:blipFill>
        <p:spPr>
          <a:xfrm>
            <a:off x="208080" y="420840"/>
            <a:ext cx="8783640" cy="10173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казатели заболеваемости отражают реальную картину жизни населения и позволяют разрабатывать меры по охране и улучшению здоровья населения в общественном масштаб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AutoShape 2" descr=""/>
          <p:cNvPicPr/>
          <p:nvPr/>
        </p:nvPicPr>
        <p:blipFill>
          <a:blip r:embed="rId1"/>
          <a:stretch/>
        </p:blipFill>
        <p:spPr>
          <a:xfrm>
            <a:off x="208080" y="420840"/>
            <a:ext cx="8783640" cy="10173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Характер, структура болезней, наши знания о них (этиология, патогенез) отражают классификации заболеваний, травм, которые периодически пересматриваются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AutoShap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Международная статистическая классификация болезней (МКБ) – это система группировки болезней и патологических состояний, отражающая современный этап развития медицинской науки. Это – система рубрик, в которые конкретные нозологические единицы включены с принятыми критериям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AutoShap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МКБ была впервые сформулирована в 1893 г как Классификация Бертильона (известный французский статистик) или Международный перечень причин смертност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о примеру МКБ созданы частные классификации (для отраслей и отдельных групп заболеваний). Таким образом, создана концепция «семьи» классификаций, в центре которой находится традиционная МКБ с присущими ей формами и структурами. Сама МКБ удовлетворяет потребности  в диагностической информации для общих целей, а дополнительные классификации можно использовать в сочетании с ней с учетом разных подходов к информации, особенно в плане терапевтических или хирургических процедур инвалидност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AutoShap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семирная Организация Здравоохранения производит пересмотр Международной   классификации болезней ( МКБ ) каждые 10 лет, чтобы привести ее в соответствии с уровнем знаний. В 1985 году состоялся 10 пересмотр, внесены изменения. Однако на практике еще не редко используют  МКБ 9-го пересмотра. В МКБ 9-го пересмотра 17 классов и 999 рубрик- названий болезней. Это два больших тома : в одном – сама классификация, в другом – название болезней по алфавиту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AutoShap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МКБ построена по 4 принципам. Первый принцип – принцип этиологии. По нему был построен 1 класс – «Инфекционные и паразитарные заболевания» и 17 класс – «Несчастные случаи, отравления, травмы». Второй принцип  - принцип патогенеза. По нему построен 2 класс – «Новообразования». Третий принцип – принцип локализации. По нему построено большинство классов: болезни органов дыхания, пищеварения, мочевой системы и др. Четвертый принцип – принцип общности особых состояний. Это 11 класс- « Осложнение беременности, родов и плодового периода»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AutoShape 2" descr=""/>
          <p:cNvPicPr/>
          <p:nvPr/>
        </p:nvPicPr>
        <p:blipFill>
          <a:blip r:embed="rId1"/>
          <a:stretch/>
        </p:blipFill>
        <p:spPr>
          <a:xfrm>
            <a:off x="171360" y="328680"/>
            <a:ext cx="8820360" cy="12319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 класс </a:t>
            </a:r>
            <a:r>
              <a:rPr b="0" i="1" lang="ru-RU" sz="1400" spc="-1" strike="noStrike">
                <a:solidFill>
                  <a:srgbClr val="4e3b30"/>
                </a:solidFill>
                <a:latin typeface="Franklin Gothic Book"/>
              </a:rPr>
              <a:t>- </a:t>
            </a: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Инфекционные и паразитарные болезни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2 класс – Новообразования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3 класс – Болезни эндокринной системы, расстройства питания и нарушение обмена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4 класс – Болезни крови и кроветворных органов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5 класс – Психические расстройства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6 класс – Болезни нервной системы  и органов чувств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7 класс – Болезни органов кровообращения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8 класс – Болезни органов дыхания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9 класс – Болезни органов пищеварения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0 класс – Болезни мочеполовой системы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1 класс - Осложнения беременности, родов и послеродового периода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2 класс – Болезни кожи и подкожной клетчатки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3 класс – Болезни костно – мышечной системы и соединительной ткани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4 класс – Врожденные аномалии, пороки развития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5 класс – Некоторые причины перинатальной заболеваемости и смертности, отдельные состояния, возникающие в перинатальном периоде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6 класс  – Симптомы, признаки и неточно обозначенные состояния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7 класс – Несчастные случаи, отравления и травмы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12:24:56Z</dcterms:created>
  <dc:creator>User</dc:creator>
  <dc:description/>
  <dc:language>en-US</dc:language>
  <cp:lastModifiedBy>RomaK</cp:lastModifiedBy>
  <dcterms:modified xsi:type="dcterms:W3CDTF">2014-10-31T12:56:57Z</dcterms:modified>
  <cp:revision>10</cp:revision>
  <dc:subject/>
  <dc:title>ЗАБОЛЕВАЕМОСТЬ – ВЕДУЩИЙ ПОКАЗАТЕЛЬ ОБЩЕСТВЕННОГО ЗДОРОВЬЯ</dc:title>
</cp:coreProperties>
</file>