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76AF-574F-498E-A6A7-73E34915CBA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br>
              <a:rPr sz="1200"/>
            </a:b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 Тема:</a:t>
            </a:r>
            <a:br>
              <a:rPr sz="1200"/>
            </a:b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«Цирроз печени»</a:t>
            </a:r>
            <a:br>
              <a:rPr sz="2400"/>
            </a:br>
            <a:br>
              <a:rPr sz="2400"/>
            </a:br>
            <a:br>
              <a:rPr sz="1100"/>
            </a:br>
            <a:br>
              <a:rPr sz="11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0827-A389-491D-844E-6D0C97BC3A4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a5ee6"/>
                </a:solidFill>
                <a:latin typeface="Calibri"/>
              </a:rPr>
              <a:t>Кли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висит от этиологии, от степени нарушения функции печени и выраженности синдромов портальной гипертензии и печёночной недостато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алобы: на боли в правом подреберье и подложечной области, усиливающиеся после еды(жирной, острой) и физических нагруз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шнота, периодическая рвота, чувство сухости и горечи во рту, общая слабость, утомляемость, раздражительность, кожный зуд, похудание. У женщин – нарушение менструального цикла. У мужчин – нарушение пот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09B4-FB1B-4463-B86A-5934E4C1A74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ивно: исхудание, вплоть до истощения, атрофия мускулатуры , кожа желтушно-бледная, сух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жет быть расширение вен передней брюшной стенки, увеличение живота, выпячивание пупка, отёки нижних конечностей. Сердцебиение, глухость сердечных тонов, аритмия, одышка, повышение артериальн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фоне цирроза печени развивается хронический гастрит, язвенная болезнь, сахарный диабет, нарушается функция половых желез, надпочечников и развивается токсическая энцефалопатия. Она проявляется нарушением сна, головными болями, снижением памяти, дрожанием пальцев рук, апат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чень при пальпации плотная, увеличена в размерах, с острым краем. На поздних стадиях цирроза может быть уменьшена в раз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CFD5-F7AC-4009-B686-422E024BEA6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Часто при циррозе развиваются ослож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овотечения из расширенных вен пищевода, или геморроидальных уз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печеночной недостаточности с исходом в печеночную к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торичная бактериальная инфекция (тяжелая пневмония, сепсис, перитони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ход цирроза печени в р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2B22-C932-46C9-9E4A-00AE01F8ECB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a5ee6"/>
                </a:solidFill>
                <a:latin typeface="Calibri"/>
              </a:rPr>
              <a:t>Диагностика цирроза печен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АК – анемия, тромбоцитопения, лейкопения, увеличение СО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АМ – протеинурия, микрогематурия,  билирубин в моч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унологический анали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AD42-06D1-4A2C-B2F3-C8B7C8D2E59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Маркёры вирусной инфе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 Биохимическое исследование крови – гипербилирубинемия, диспротеинемия, за счет увеличения количества глобулинов. Повышение уровня осадочных проб – сулемовая, тимоловая. Повышение уровня трансаминаз – Ал-Ат, Ас-Ат, и щелочной фосфата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894F-83BA-40E3-9F29-A054458AE95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Calibri"/>
              </a:rPr>
              <a:t>Инструментальные исслед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ЗИ печени и желчного пузыря(выявляется неравномерность ткани печени, увеличение размер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ая томография органов брюшной пол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строско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оноско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38C8-9F18-4DA0-B11F-F15746D2F4D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нкционная биопсия печени с последующим гистологическим исследованием, может проводиться во время лапароскопии или чрезкожно.  Позволяет судить об активности процесса и является важным дифференциальным критерием для отличия хронического гепатита от цирроза печ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F52D-8AF9-43A3-8461-53277AE9AA4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Леч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6cb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Лечебный режим. Исключается работа с физическими и психоэмоциональными нагрузками. Показан кратковременный отдых в течении дня. Исключаются гепатотоксические препараты, физиолечение и бальниолечение. В период обострения – постельный реж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C877-CF62-4022-81F9-36D8D5F89B2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2. Лечебное питание – диета № 5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Исключаются: жирные сорта мяса и рыбы, жареные блюда, копчености,  солёные и острые закуски, бобовые, щавель, шпинат, свежие фрукты, крепкий кофе, алкоголь, газированные напи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5210-CCD4-41D2-A466-723238EE97D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3. Противовирусное  лечение: проводиться при гепатите в фазу размножения вируса и предупреждает развитие цирроза и рака печени. Интерфероны в течении 6 месяцев (Интерферон А, Велферон, Рофер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933D-1E46-4B43-8BD2-CBC81E22F6D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Цирроз печен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это хронический прогрессирующий процесс в печени, характеризующийся  значительным снижением количества функционирующих гепатоцитов, нарастанием фиброза, перестройкой нормальной структуры печени и развитием печёночной недостаточности и портальной гипертенз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973C-AE31-4AB8-BE2A-BA5FBF44B5A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4. Патогенетическое лечение: кортикостероиды, цитост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5. Иммуномоделирующая терапия оказывает стимулирующее и нормализующее действие  на иммунную систему: Тималин,                 Д-пенициллин, Тимоген, Т-актив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B086-7C23-49AE-8BAB-C2C491CAFE7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6. Метаболическая и коферментная терапия направлена на улучшение процессов обмена в печеночных клетках. Поливитаминные комплексы: Декамевит, Ундевит, Дуовит, витамин Е, Рибоксин, Эссенциа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1507-CE64-4DD6-A097-03AE86A4CFB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7. Дезинтоксикационная терапия: Гемодез внутривенно-капельно, 5% глюкоза. Энтеросорбенты – Лактофильтрум, Фильтрум, Энтеросг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CC0F-9780-4840-AA0C-2117B66FE8A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8. Гепатопротекторы: Корсил, Легалон, Катерг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9.  Лечение кровотечений из расширенных 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E70B-4502-4E26-AB96-66C5FDB267E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10. Лечение отёчно-асцитического синдрома при циррозе, вначале – Верошпирон, Альдиктон, а затем в сочетании их с Урегитом, Гипотиазидом, Фуросеми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34CA-8857-4234-946F-7F1CF7B30B9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Первичная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филактика вирусного гепатита, эффективное лечение острого вирусного гепатита, рациональное питание, контроль за приёмом лекарственных препаратов, борьба с алкоголизмом, наркоман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753E-CB9E-48E3-8D4C-19CA9C7EBF7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Вторичная: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обострений заболевания. Ограничение физических нагрузок, правильное трудоустройство. Лечебное питание, лечение сопутствующих заболеваний Ж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F531-F34B-4343-964A-FAEBF702367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ость 060101 «Лечебное дел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а «Терапия» 4 курс 7 семес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5571-765B-4B1E-81AB-C2CA7D5776F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При циррозе всегда нарушается дольковая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715F-ED46-44A9-9B26-7F248BEA997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a5ee6"/>
                </a:solidFill>
                <a:latin typeface="Calibri"/>
              </a:rPr>
              <a:t>Этиолог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ичины развития соответствуют причинам хронического гепатит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Также цирроз печени может сформироваться на фоне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рукции желчных путей, и внутри- и внепечёночных.(врождённые пороки развития    желчевыводящих пу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оне длительного венозного застоя в печени при хронической сердечной недостаточности(кардиальный цирроз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08F0-4858-4C53-9DE7-24FC3E0F3BB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a5ee6"/>
                </a:solidFill>
                <a:latin typeface="Calibri"/>
              </a:rPr>
              <a:t>Патогенез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м фактором является гибель печёночных клеток. На месте погибших клеток образуются рубцы и нарушается ток крови в доль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дукты распада клеток стимулируют воспалительную реакцию. В результате нарушаются все функции печени и кровоснабжения печёночных клеток, так как плотная соединительная ткань механически сдавливает сосуды печени, в результате начинает развиваться синдром портальной гипертенз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7EEE-3D0B-4507-811B-9FE19946401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ачале затрудняется венозный кровоток в самой печени, затем происходит венозный застой и варикозное расширение вен пищевода, кишечника, прямой кишки и передней брюшной стенки. Впоследствии начинает развиваться асцит и как осложнение – кровотечение из варикозно расширенных 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FFA4-9A30-48B8-ACE4-B92945BECD5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3399"/>
                </a:solidFill>
                <a:uFillTx/>
                <a:latin typeface="Calibri"/>
              </a:rPr>
              <a:t>Классификация цирроз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эти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виру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лкого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утоимму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кс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гене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карди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холест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431C-157B-474E-9FD5-165D4E2C4AF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дии портальной гипертенз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тадия 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начальной де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выраженной де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3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дии печёночной недостато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компенсиров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убкомпенсиров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декомпенсированная(вплоть до развития печёночной ком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7B57-DB8E-4C89-934C-F02E9F253BD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4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ктивная ф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реми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5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чение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медленно прогрессирую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быстро прогрессирую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таби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3FB5-5117-4098-9464-C57BBDFA731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3C6E-2216-45BE-B8FC-B173654F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E36F-11D5-4034-BA84-8C7699E5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5F17-235B-4A20-8943-2C4E778D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16C-3EED-47DE-8E76-FC58ECF4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DA22-4CF5-4D07-B482-8AE65DE7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38B2-080A-42BB-8A7C-CF356D89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5FF-0D1B-4740-B973-EBEAAC15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A2B9-238B-4F2F-B67B-124EE889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285-268B-4BDE-BC84-43C0DD57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D98F-2C73-4425-9C06-1B9971E7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6F72-B008-430C-AFB4-25DDF7EA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5DFF-19AC-4609-97BE-621B5E9B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019F-4582-40EE-B4AD-D9AD9695B02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3C9A-C34D-4E78-8467-66FE4C1A0E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5582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Тема:</a:t>
            </a:r>
            <a:br>
              <a:rPr sz="4000"/>
            </a:br>
            <a:r>
              <a:rPr b="1" i="1" lang="ru-RU" sz="6600" spc="-1" strike="noStrike">
                <a:solidFill>
                  <a:srgbClr val="7030a0"/>
                </a:solidFill>
                <a:latin typeface="Calibri"/>
              </a:rPr>
              <a:t>«Цирроз печени»</a:t>
            </a:r>
            <a:br>
              <a:rPr sz="5400"/>
            </a:br>
            <a:br>
              <a:rPr sz="5400"/>
            </a:br>
            <a:br>
              <a:rPr sz="2800"/>
            </a:br>
            <a:br>
              <a:rPr sz="40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H:\Documents and Settings\Admin\Рабочий стол\Новая папка\4aaf356adeb6[1].jpg"/>
          <p:cNvPicPr/>
          <p:nvPr/>
        </p:nvPicPr>
        <p:blipFill>
          <a:blip r:embed="rId1"/>
          <a:stretch/>
        </p:blipFill>
        <p:spPr>
          <a:xfrm>
            <a:off x="2643120" y="2714760"/>
            <a:ext cx="4024440" cy="35719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a5ee6"/>
                </a:solidFill>
                <a:latin typeface="Calibri"/>
              </a:rPr>
              <a:t>Клин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висит от этиологии, от степени нарушения функции печени и выраженности синдромов портальной гипертензии и печёночной недостаточ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лобы: на боли в правом подреберье и подложечной области, усиливающиеся после еды(жирной, острой) и физических нагруз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шнота, периодическая рвота, чувство сухости и горечи во рту, общая слабость, утомляемость, раздражительность, кожный зуд, похудание. У женщин – нарушение менструального цикла. У мужчин – нарушение потен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714240" y="285840"/>
            <a:ext cx="7929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ъективно: исхудание, вплоть до истощения, атрофия мускулатуры , кожа желтушно-бледная, суха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ожет быть расширение вен передней брюшной стенки, увеличение живота, выпячивание пупка, отёки нижних конечностей. Сердцебиение, глухость сердечных тонов, аритмия, одышка, повышение артериального давл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 фоне цирроза печени развивается хронический гастрит, язвенная болезнь, сахарный диабет, нарушается функция половых желез, надпочечников и развивается токсическая энцефалопатия. Она проявляется нарушением сна, головными болями, снижением памяти, дрожанием пальцев рук, апати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ечень при пальпации плотная, увеличена в размерах, с острым краем. На поздних стадиях цирроза может быть уменьшена в размера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42560"/>
            <a:ext cx="56865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Часто при циррозе развиваются ослож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овотечения из расширенных вен пищевода, или геморроидальных уз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тие печеночной недостаточности с исходом в печеночную к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торичная бактериальная инфекция (тяжелая пневмония, сепсис, перитони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еход цирроза печени в р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:\Documents and Settings\Admin\Рабочий стол\Новая папка\i[11].jpg"/>
          <p:cNvPicPr/>
          <p:nvPr/>
        </p:nvPicPr>
        <p:blipFill>
          <a:blip r:embed="rId1"/>
          <a:stretch/>
        </p:blipFill>
        <p:spPr>
          <a:xfrm>
            <a:off x="6286680" y="2214720"/>
            <a:ext cx="2857320" cy="3143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a5ee6"/>
                </a:solidFill>
                <a:latin typeface="Calibri"/>
              </a:rPr>
              <a:t>Диагностика цирроза печен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499760"/>
            <a:ext cx="6543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АК – анемия, тромбоцитопения, лейкопения, увеличение СОЭ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АМ – протеинурия, микрогематурия,  билирубин в моч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ммунологический анали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:\Documents and Settings\Admin\Рабочий стол\Новая папка\3YFZKCA02QLDTCALXCO7RCAO07E6YCAH1AJF0CAPFQ6IYCA0MD2FSCAMT2GO4CAYHAB10CAEM8XEHCACQS9ATCAYWC5CRCAZN9L0BCA12JIU0CAPBC1MOCAXTC0D8CANM4666CAM12J1LCAZ24MJ5CAARC7FN.jpg"/>
          <p:cNvPicPr/>
          <p:nvPr/>
        </p:nvPicPr>
        <p:blipFill>
          <a:blip r:embed="rId1"/>
          <a:stretch/>
        </p:blipFill>
        <p:spPr>
          <a:xfrm>
            <a:off x="6715080" y="3929040"/>
            <a:ext cx="2071800" cy="247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H:\Documents and Settings\Admin\Рабочий стол\Новая папка\CHRSUCA859NR4CA7MAGTQCA4XCZH0CAE0AS4MCAEG5G7ZCA3TSXFJCAN3U7OZCA37WOOPCAWTH0PMCA2GLPOZCA36LS3LCASVEB76CAI09S12CASE3ZDOCA53BHMLCA67HE32CACKPZF2CAO8PTHFCAS95PTF.jpg"/>
          <p:cNvPicPr/>
          <p:nvPr/>
        </p:nvPicPr>
        <p:blipFill>
          <a:blip r:embed="rId2"/>
          <a:stretch/>
        </p:blipFill>
        <p:spPr>
          <a:xfrm>
            <a:off x="6858000" y="1285920"/>
            <a:ext cx="2085840" cy="15717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6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 Маркёры вирусной инфекц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.  Биохимическое исследование крови – гипербилирубинемия, диспротеинемия, за счет увеличения количества глобулинов. Повышение уровня осадочных проб – сулемовая, тимоловая. Повышение уровня трансаминаз – Ал-Ат, Ас-Ат, и щелочной фосфатаз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Calibri"/>
              </a:rPr>
              <a:t>Инструментальные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13920"/>
            <a:ext cx="5757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ЗИ печени и желчного пузыря(выявляется неравномерность ткани печени, увеличение размер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ьютерная томография органов брюшной пол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строско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лоноско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:\Documents and Settings\Admin\Рабочий стол\Новая папка\p97[1].jpg"/>
          <p:cNvPicPr/>
          <p:nvPr/>
        </p:nvPicPr>
        <p:blipFill>
          <a:blip r:embed="rId1"/>
          <a:stretch/>
        </p:blipFill>
        <p:spPr>
          <a:xfrm>
            <a:off x="6429240" y="1000080"/>
            <a:ext cx="2357640" cy="2071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ункционная биопсия печени с последующим гистологическим исследованием, может проводиться во время лапароскопии или чрезкожно.  Позволяет судить об активности процесса и является важным дифференциальным критерием для отличия хронического гепатита от цирроза печ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H:\Documents and Settings\Admin\Рабочий стол\Новая папка\WHUVGCANTV7S7CAOJANVPCA8WRMVMCAB3TTQHCALN563HCAUDA1R8CAPPBPI4CAGAZSN1CAGDD0I1CAS2FMYDCAE34JK5CABYV9S0CALGRY3TCAL7NFL2CAKHKIYTCAONTVMPCAJBCNHUCAVR9I85CAG3UGF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455920" cy="25005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356760"/>
            <a:ext cx="8043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ff"/>
                </a:solidFill>
                <a:latin typeface="Calibri"/>
              </a:rPr>
              <a:t>Лечени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166cb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6cba"/>
                </a:solidFill>
                <a:latin typeface="Calibri"/>
              </a:rPr>
              <a:t>Лечебный режим. Исключается работа с физическими и психоэмоциональными нагрузками. Показан кратковременный отдых в течении дня. Исключаются гепатотоксические препараты, физиолечение и бальниолечение. В период обострения – постельный режи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2. Лечебное питание – диета № 5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Исключаются: жирные сорта мяса и рыбы, жареные блюда, копчености,  солёные и острые закуски, бобовые, щавель, шпинат, свежие фрукты, крепкий кофе, алкоголь, газированные напит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57132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3. Противовирусное  лечение: проводиться при гепатите в фазу размножения вируса и предупреждает развитие цирроза и рака печени. Интерфероны в течении 6 месяцев (Интерферон А, Велферон, Роферон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21420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Calibri"/>
              </a:rPr>
              <a:t>Цирроз печени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это хронический прогрессирующий процесс в печени, характеризующийся  значительным снижением количества функционирующих гепатоцитов, нарастанием фиброза, перестройкой нормальной структуры печени и развитием печёночной недостаточности и портальной гипертенз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42876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4. Патогенетическое лечение: кортикостероиды, цитостати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5. Иммуномоделирующая терапия оказывает стимулирующее и нормализующее действие  на иммунную систему: Тималин,                 Д-пенициллин, Тимоген, Т-активи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166c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6. Метаболическая и коферментная терапия направлена на улучшение процессов обмена в печеночных клетках. Поливитаминные комплексы: Декамевит, Ундевит, Дуовит, витамин Е, Рибоксин, Эссенциал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9288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6cba"/>
                </a:solidFill>
                <a:latin typeface="Calibri"/>
              </a:rPr>
              <a:t>7. Дезинтоксикационная терапия: Гемодез внутривенно-капельно, 5% глюкоза. Энтеросорбенты – Лактофильтрум, Фильтрум, Энтеросг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428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6cba"/>
                </a:solidFill>
                <a:latin typeface="Calibri"/>
              </a:rPr>
              <a:t>8. Гепатопротекторы: Корсил, Легалон, Катерг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6cba"/>
                </a:solidFill>
                <a:latin typeface="Calibri"/>
              </a:rPr>
              <a:t>9.  Лечение кровотечений из расширенных в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6cba"/>
                </a:solidFill>
                <a:latin typeface="Calibri"/>
              </a:rPr>
              <a:t>10. Лечение отёчно-асцитического синдрома при циррозе, вначале – Верошпирон, Альдиктон, а затем в сочетании их с Урегитом, Гипотиазидом, Фуросемид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филакт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357200"/>
            <a:ext cx="82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Первичная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филактика вирусного гепатита, эффективное лечение острого вирусного гепатита, рациональное питание, контроль за приёмом лекарственных препаратов, борьба с алкоголизмом, наркомани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:\Documents and Settings\Admin\Рабочий стол\Новая папка\i[2].jpg"/>
          <p:cNvPicPr/>
          <p:nvPr/>
        </p:nvPicPr>
        <p:blipFill>
          <a:blip r:embed="rId1"/>
          <a:stretch/>
        </p:blipFill>
        <p:spPr>
          <a:xfrm>
            <a:off x="6786720" y="3814920"/>
            <a:ext cx="2143080" cy="30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H:\Documents and Settings\Admin\Рабочий стол\YLZSKCAGWDMHFCAN4DN4WCARUK6A7CA1QNARJCASNDQTACAM46ZR3CAGMNCHLCA90XFFACA1Z0AHOCAWCV01FCACOPAZFCAB6PV6CCAFUR588CAF8QK4ICA0J6D0ICAE2BY75CA4T46JHCA3PS653CAPB70J5.jpg"/>
          <p:cNvPicPr/>
          <p:nvPr/>
        </p:nvPicPr>
        <p:blipFill>
          <a:blip r:embed="rId2"/>
          <a:stretch/>
        </p:blipFill>
        <p:spPr>
          <a:xfrm>
            <a:off x="1143000" y="4518000"/>
            <a:ext cx="3571920" cy="2340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7858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Calibri"/>
              </a:rPr>
              <a:t>Вторичная: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филактика обострений заболевания. Ограничение физических нагрузок, правильное трудоустройство. Лечебное питание, лечение сопутствующих заболеваний ЖК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071720"/>
            <a:ext cx="822960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ециальность 060101 «Лечебное дел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циплина «Терапия» 4 курс 7 семес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H:\Documents and Settings\Admin\Рабочий стол\Новая папка\4aaf356adeb6[1].jpg"/>
          <p:cNvPicPr/>
          <p:nvPr/>
        </p:nvPicPr>
        <p:blipFill>
          <a:blip r:embed="rId1"/>
          <a:stretch/>
        </p:blipFill>
        <p:spPr>
          <a:xfrm>
            <a:off x="1857240" y="1785960"/>
            <a:ext cx="5024520" cy="47372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571680" y="428760"/>
            <a:ext cx="771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Calibri"/>
              </a:rPr>
              <a:t>При циррозе всегда нарушается дольковая структу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5ee6"/>
                </a:solidFill>
                <a:latin typeface="Calibri"/>
              </a:rPr>
              <a:t>Этиолог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760" y="1000080"/>
            <a:ext cx="6286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чины развития соответствуют причинам хронического гепати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Также цирроз печени может сформироваться на фоне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струкции желчных путей, и внутри- и внепечёночных.(врождённые пороки развития    желчевыводящих путе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фоне длительного венозного застоя в печени при хронической сердечной недостаточности(кардиальный цирроз печен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:\Documents and Settings\Admin\Рабочий стол\Новая папка\5M061CAJRNS5PCAO051ESCAC8DIVNCA57SSE9CAIEJG46CALK8EUSCATJHW0ICABAI9RWCAUDCG6NCA9A7SXGCA2EARDMCAHO6RLCCAKSX2SVCAEMZ98VCAZRS6AKCAT4D7ELCA5C5YGWCARRFSISCAVO2VAS.jpg"/>
          <p:cNvPicPr/>
          <p:nvPr/>
        </p:nvPicPr>
        <p:blipFill>
          <a:blip r:embed="rId1"/>
          <a:stretch/>
        </p:blipFill>
        <p:spPr>
          <a:xfrm>
            <a:off x="6492960" y="2143080"/>
            <a:ext cx="25653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5ee6"/>
                </a:solidFill>
                <a:latin typeface="Calibri"/>
              </a:rPr>
              <a:t>Патогене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7858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сновным фактором является гибель печёночных клеток. На месте погибших клеток образуются рубцы и нарушается ток крови в доль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дукты распада клеток стимулируют воспалительную реакцию. В результате нарушаются все функции печени и кровоснабжения печёночных клеток, так как плотная соединительная ткань механически сдавливает сосуды печени, в результате начинает развиваться синдром портальной гипертенз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начале затрудняется венозный кровоток в самой печени, затем происходит венозный застой и варикозное расширение вен пищевода, кишечника, прямой кишки и передней брюшной стенки. Впоследствии начинает развиваться асцит и как осложнение – кровотечение из варикозно расширенных в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3399"/>
                </a:solidFill>
                <a:uFillTx/>
                <a:latin typeface="Calibri"/>
              </a:rPr>
              <a:t>Классификация циррозов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00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этиолог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вирус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лкого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утоимму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токс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гене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кардиа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холеста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дии портальной гипертенз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тадия 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начальной де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выраженной де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дии печёночной недостаточ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компенсиров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убкомпенсиров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декомпенсированная(вплоть до развития печёночной комы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тивность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ктивная ф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реми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чение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медленно прогрессирую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быстро прогрессирую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таби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0:35:32Z</dcterms:created>
  <dc:creator>Admin</dc:creator>
  <dc:description/>
  <dc:language>en-US</dc:language>
  <cp:lastModifiedBy>LEGION</cp:lastModifiedBy>
  <dcterms:modified xsi:type="dcterms:W3CDTF">2015-02-13T11:06:12Z</dcterms:modified>
  <cp:revision>52</cp:revision>
  <dc:subject/>
  <dc:title>Презентация на тему: «Хронический гепатит и цирроз печени» </dc:title>
</cp:coreProperties>
</file>