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1C0D-45D1-4584-926C-9BDD78C0A2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Аллерг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A217-8D18-4FB8-A52E-A137DF7ED7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Крапивниц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Это появление на коже волдырей разного размера, похожих на высыпания после ожога крапивой, сопровождающихся кожным зудом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30F8-C7B5-45A7-A2CF-6CEBEB2AF6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Пищевая аллерги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У людей с пищевой аллергией возникает ухудшение самочувствия после употребления определенных продуктов питания, которые у других не вызывают отрицательных реакций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2130-B2C7-4359-BAF8-CA86C210A0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Book Antiqua"/>
              </a:rPr>
              <a:t>Признаки</a:t>
            </a: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 алл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5115-4451-4435-A574-C925415879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Методы лечения алл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EE90-B452-4EB0-9AB0-88CC40369F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Благодарю за</a:t>
            </a:r>
            <a:r>
              <a:rPr b="1" i="1" lang="ru-RU" sz="1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A768-688F-4B1F-9072-26C7BB1C37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Аллерг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- раздел медицины, изучающий аллергические заболевания, механизмы их возникновения и развития, методы их профилактики и лечения.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F9DD-1833-4131-A914-028D50BF98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Что такое аллергия?</a:t>
            </a:r>
            <a:br>
              <a:rPr sz="1200"/>
            </a:br>
            <a:r>
              <a:rPr b="1" i="1" lang="ru-RU" sz="1800" spc="-1" strike="noStrike">
                <a:solidFill>
                  <a:srgbClr val="000000"/>
                </a:solidFill>
                <a:latin typeface="Book Antiqua"/>
              </a:rPr>
              <a:t>Аллергия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это необычная повышенная чувствительность к различным веществам, которые у большинства людей не вызывают болезненных реак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6A72-6628-4679-B200-DB5F793509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Book Antiqua"/>
              </a:rPr>
              <a:t>Аллерг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780B-0E97-42E2-818C-38C927AE33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B8F3-0463-4254-B664-86D1595447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Book Antiqua"/>
              </a:rPr>
              <a:t>Виды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Book Antiqua"/>
              </a:rPr>
              <a:t>аллерг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ллергический рини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Для аллергического ринита характерны водянистые выделения из носа, затруднение носового дыхания, чихание, зуд в области носа, снижение обоня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691D-908D-4703-9A79-995805AFB6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Аллергический конъюнктиви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К основным проявлениям аллергического конъюнктивита относятся зуд в области глаз, ощущение «песка» в глазах, слезотечение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светобоязнь, жжение глаз, покраснение и отек ве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50F7-5599-4FE7-8F19-F8FC2B3BAF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Поллиноз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Название «поллиноз» происходит от латинского слова pollen – пыльца, так как болезнь вызывает пыльца растений. Когда-то поллиноз называли сенной лихорадкой, считая, что причиной развития заболевания является сен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A88A-8DA4-417B-B2E3-FF124A5508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AFFE-3758-4616-AFD5-ECC1029D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69E3-FE9A-44D4-907B-7120FA98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64A5-B374-430F-AA06-B57E90B9E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EFAA-AC22-4C13-8320-A4A5F0D58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6816-F616-441B-B090-A9E3E815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0CC9-13C7-4395-AD6A-BB9732E2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F149-6ED2-4D8B-8FE6-35B867D7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BFCD-0D53-4D62-A84D-EFBF3F4A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2870-C382-44DC-8C8B-8CBFF1C3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0557-A979-4C41-8779-D321F635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4A68-3C1C-4820-B5AE-5332B437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441B-1B64-4C6F-B707-2F0E71FB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9767-DEE7-4950-9AD0-1066CDCB5A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 Antiqua"/>
              </a:rPr>
              <a:t>Аллергологи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484360" y="4221000"/>
            <a:ext cx="655344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Материал подгото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Ученица МОУ «СОШ»198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Протасова Анаста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Учитель Яппарова Татьяна Владимир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07-Adie--Shelter.mp3" descr=""/>
          <p:cNvPicPr/>
          <p:nvPr/>
        </p:nvPicPr>
        <p:blipFill>
          <a:blip r:embed="rId2"/>
          <a:stretch/>
        </p:blipFill>
        <p:spPr>
          <a:xfrm>
            <a:off x="250920" y="494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7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Крапивниц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Это появление на коже волдырей разного размера, похожих на высыпания после ожога крапивой, сопровождающихся кожным зудом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SpidInfo-212-Krapivnica"/>
          <p:cNvPicPr/>
          <p:nvPr/>
        </p:nvPicPr>
        <p:blipFill>
          <a:blip r:embed="rId2"/>
          <a:stretch/>
        </p:blipFill>
        <p:spPr>
          <a:xfrm>
            <a:off x="2268360" y="2781360"/>
            <a:ext cx="4321440" cy="36925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0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Пищевая аллергия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У людей с пищевой аллергией возникает ухудшение самочувствия после употребления определенных продуктов питания, которые у других не вызывают отрицательных реакций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33_2"/>
          <p:cNvPicPr/>
          <p:nvPr/>
        </p:nvPicPr>
        <p:blipFill>
          <a:blip r:embed="rId2"/>
          <a:stretch/>
        </p:blipFill>
        <p:spPr>
          <a:xfrm>
            <a:off x="2700360" y="306864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0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Book Antiqua"/>
              </a:rPr>
              <a:t>Признаки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 аллерг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4-3"/>
          <p:cNvPicPr/>
          <p:nvPr/>
        </p:nvPicPr>
        <p:blipFill>
          <a:blip r:embed="rId2"/>
          <a:stretch/>
        </p:blipFill>
        <p:spPr>
          <a:xfrm>
            <a:off x="1835280" y="1844640"/>
            <a:ext cx="5256000" cy="39276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Методы лечения аллерг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Organization Chart 66"/>
          <p:cNvGrpSpPr/>
          <p:nvPr/>
        </p:nvGrpSpPr>
        <p:grpSpPr>
          <a:xfrm>
            <a:off x="1187280" y="1268280"/>
            <a:ext cx="5760720" cy="3128400"/>
            <a:chOff x="1187280" y="1268280"/>
            <a:chExt cx="5760720" cy="3128400"/>
          </a:xfrm>
        </p:grpSpPr>
        <p:cxnSp>
          <p:nvCxnSpPr>
            <p:cNvPr id="108" name="_s1028"/>
            <p:cNvCxnSpPr>
              <a:stCxn id="109" idx="4"/>
              <a:endCxn id="110" idx="3"/>
            </p:cNvCxnSpPr>
            <p:nvPr/>
          </p:nvCxnSpPr>
          <p:spPr>
            <a:xfrm flipV="1">
              <a:off x="2540880" y="3223080"/>
              <a:ext cx="284040" cy="8233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11" name="_s1029"/>
            <p:cNvCxnSpPr>
              <a:stCxn id="112" idx="0"/>
              <a:endCxn id="113" idx="3"/>
            </p:cNvCxnSpPr>
            <p:nvPr/>
          </p:nvCxnSpPr>
          <p:spPr>
            <a:xfrm flipV="1" rot="16200000">
              <a:off x="5191200" y="1363320"/>
              <a:ext cx="391680" cy="1764360"/>
            </a:xfrm>
            <a:prstGeom prst="bentConnector3">
              <a:avLst>
                <a:gd name="adj1" fmla="val 29254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14" name="_s1030"/>
            <p:cNvCxnSpPr>
              <a:stCxn id="115" idx="0"/>
              <a:endCxn id="113" idx="3"/>
            </p:cNvCxnSpPr>
            <p:nvPr/>
          </p:nvCxnSpPr>
          <p:spPr>
            <a:xfrm flipV="1" rot="16200000">
              <a:off x="4350960" y="2203560"/>
              <a:ext cx="391680" cy="83520"/>
            </a:xfrm>
            <a:prstGeom prst="bentConnector3">
              <a:avLst>
                <a:gd name="adj1" fmla="val 29254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16" name="_s1031"/>
            <p:cNvCxnSpPr>
              <a:stCxn id="110" idx="0"/>
              <a:endCxn id="113" idx="3"/>
            </p:cNvCxnSpPr>
            <p:nvPr/>
          </p:nvCxnSpPr>
          <p:spPr>
            <a:xfrm flipH="1" flipV="1" rot="5400000">
              <a:off x="3510720" y="1446480"/>
              <a:ext cx="391680" cy="1598040"/>
            </a:xfrm>
            <a:prstGeom prst="bentConnector3">
              <a:avLst>
                <a:gd name="adj1" fmla="val 29254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13" name="_s1032"/>
            <p:cNvSpPr/>
            <p:nvPr/>
          </p:nvSpPr>
          <p:spPr>
            <a:xfrm>
              <a:off x="3826800" y="1268280"/>
              <a:ext cx="144036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Лечен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3"/>
            <p:cNvSpPr/>
            <p:nvPr/>
          </p:nvSpPr>
          <p:spPr>
            <a:xfrm>
              <a:off x="2145960" y="2441520"/>
              <a:ext cx="144036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Нетрадиционна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медицин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34"/>
            <p:cNvSpPr/>
            <p:nvPr/>
          </p:nvSpPr>
          <p:spPr>
            <a:xfrm>
              <a:off x="3826800" y="2441520"/>
              <a:ext cx="144036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Лекарственны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препараты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5"/>
            <p:cNvSpPr/>
            <p:nvPr/>
          </p:nvSpPr>
          <p:spPr>
            <a:xfrm>
              <a:off x="5507640" y="2441520"/>
              <a:ext cx="144036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Предотвращени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контакта с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аллергенам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6"/>
            <p:cNvSpPr/>
            <p:nvPr/>
          </p:nvSpPr>
          <p:spPr>
            <a:xfrm>
              <a:off x="1187280" y="3614760"/>
              <a:ext cx="143892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Иглоукалыва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82" descr="acupuncture-to-body1"/>
          <p:cNvPicPr/>
          <p:nvPr/>
        </p:nvPicPr>
        <p:blipFill>
          <a:blip r:embed="rId2"/>
          <a:stretch/>
        </p:blipFill>
        <p:spPr>
          <a:xfrm>
            <a:off x="395280" y="4545000"/>
            <a:ext cx="2521080" cy="1681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3" descr="014"/>
          <p:cNvPicPr/>
          <p:nvPr/>
        </p:nvPicPr>
        <p:blipFill>
          <a:blip r:embed="rId3"/>
          <a:stretch/>
        </p:blipFill>
        <p:spPr>
          <a:xfrm>
            <a:off x="3348000" y="3429000"/>
            <a:ext cx="2158920" cy="1440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4" descr="enc_entry_4767"/>
          <p:cNvPicPr/>
          <p:nvPr/>
        </p:nvPicPr>
        <p:blipFill>
          <a:blip r:embed="rId4"/>
          <a:stretch/>
        </p:blipFill>
        <p:spPr>
          <a:xfrm>
            <a:off x="5724360" y="4524480"/>
            <a:ext cx="3060720" cy="172224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alreakcia"/>
          <p:cNvPicPr/>
          <p:nvPr/>
        </p:nvPicPr>
        <p:blipFill>
          <a:blip r:embed="rId1"/>
          <a:stretch/>
        </p:blipFill>
        <p:spPr>
          <a:xfrm>
            <a:off x="611280" y="85680"/>
            <a:ext cx="7921440" cy="67723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0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755640" y="260280"/>
            <a:ext cx="838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08000" y="0"/>
            <a:ext cx="914400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Book Antiqua"/>
              </a:rPr>
              <a:t>Берегите Ваше здоровь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8000" y="5229360"/>
            <a:ext cx="8139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Благодарю за</a:t>
            </a:r>
            <a:r>
              <a:rPr b="1" i="1" lang="ru-RU" sz="4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вним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0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5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6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3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            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Аллерголог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>
            <a:hlinkClick r:id="rId2" action="ppaction://hlinksldjump"/>
          </p:cNvPr>
          <p:cNvSpPr/>
          <p:nvPr/>
        </p:nvSpPr>
        <p:spPr>
          <a:xfrm>
            <a:off x="1476360" y="2852640"/>
            <a:ext cx="2303640" cy="50508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8462" h="21600">
                <a:moveTo>
                  <a:pt x="0" y="0"/>
                </a:moveTo>
                <a:lnTo>
                  <a:pt x="98462" y="0"/>
                </a:lnTo>
                <a:lnTo>
                  <a:pt x="98462" y="21600"/>
                </a:lnTo>
                <a:lnTo>
                  <a:pt x="0" y="21600"/>
                </a:lnTo>
                <a:close/>
              </a:path>
              <a:path fill="lightenLess" w="98462" h="21600">
                <a:moveTo>
                  <a:pt x="0" y="0"/>
                </a:moveTo>
                <a:lnTo>
                  <a:pt x="98462" y="0"/>
                </a:lnTo>
                <a:lnTo>
                  <a:pt x="97062" y="1400"/>
                </a:lnTo>
                <a:lnTo>
                  <a:pt x="1400" y="1400"/>
                </a:lnTo>
                <a:close/>
              </a:path>
              <a:path fill="darken" w="98462" h="21600">
                <a:moveTo>
                  <a:pt x="98462" y="0"/>
                </a:moveTo>
                <a:lnTo>
                  <a:pt x="98462" y="21600"/>
                </a:lnTo>
                <a:lnTo>
                  <a:pt x="97062" y="20200"/>
                </a:lnTo>
                <a:lnTo>
                  <a:pt x="97062" y="1400"/>
                </a:lnTo>
                <a:close/>
              </a:path>
              <a:path fill="darkenLess" w="98462" h="21600">
                <a:moveTo>
                  <a:pt x="98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062" y="20200"/>
                </a:lnTo>
                <a:close/>
              </a:path>
              <a:path fill="lighten" w="98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лер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>
            <a:hlinkClick r:id="rId3" action="ppaction://hlinksldjump"/>
          </p:cNvPr>
          <p:cNvSpPr/>
          <p:nvPr/>
        </p:nvSpPr>
        <p:spPr>
          <a:xfrm>
            <a:off x="1476360" y="3500280"/>
            <a:ext cx="2303640" cy="50508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8462" h="21600">
                <a:moveTo>
                  <a:pt x="0" y="0"/>
                </a:moveTo>
                <a:lnTo>
                  <a:pt x="98462" y="0"/>
                </a:lnTo>
                <a:lnTo>
                  <a:pt x="98462" y="21600"/>
                </a:lnTo>
                <a:lnTo>
                  <a:pt x="0" y="21600"/>
                </a:lnTo>
                <a:close/>
              </a:path>
              <a:path fill="lightenLess" w="98462" h="21600">
                <a:moveTo>
                  <a:pt x="0" y="0"/>
                </a:moveTo>
                <a:lnTo>
                  <a:pt x="98462" y="0"/>
                </a:lnTo>
                <a:lnTo>
                  <a:pt x="97062" y="1400"/>
                </a:lnTo>
                <a:lnTo>
                  <a:pt x="1400" y="1400"/>
                </a:lnTo>
                <a:close/>
              </a:path>
              <a:path fill="darken" w="98462" h="21600">
                <a:moveTo>
                  <a:pt x="98462" y="0"/>
                </a:moveTo>
                <a:lnTo>
                  <a:pt x="98462" y="21600"/>
                </a:lnTo>
                <a:lnTo>
                  <a:pt x="97062" y="20200"/>
                </a:lnTo>
                <a:lnTo>
                  <a:pt x="97062" y="1400"/>
                </a:lnTo>
                <a:close/>
              </a:path>
              <a:path fill="darkenLess" w="98462" h="21600">
                <a:moveTo>
                  <a:pt x="98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062" y="20200"/>
                </a:lnTo>
                <a:close/>
              </a:path>
              <a:path fill="lighten" w="98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лерг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>
            <a:hlinkClick r:id="rId4" action="ppaction://hlinksldjump"/>
          </p:cNvPr>
          <p:cNvSpPr/>
          <p:nvPr/>
        </p:nvSpPr>
        <p:spPr>
          <a:xfrm>
            <a:off x="1476360" y="414972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5">
            <a:hlinkClick r:id="rId5" action="ppaction://hlinksldjump"/>
          </p:cNvPr>
          <p:cNvSpPr/>
          <p:nvPr/>
        </p:nvSpPr>
        <p:spPr>
          <a:xfrm>
            <a:off x="1476360" y="486900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мат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6">
            <a:hlinkClick r:id="rId6" action="ppaction://hlinksldjump"/>
          </p:cNvPr>
          <p:cNvSpPr/>
          <p:nvPr/>
        </p:nvSpPr>
        <p:spPr>
          <a:xfrm>
            <a:off x="1476360" y="551664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н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1476360" y="6165720"/>
            <a:ext cx="2303640" cy="50508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8462" h="21600">
                <a:moveTo>
                  <a:pt x="0" y="0"/>
                </a:moveTo>
                <a:lnTo>
                  <a:pt x="98462" y="0"/>
                </a:lnTo>
                <a:lnTo>
                  <a:pt x="98462" y="21600"/>
                </a:lnTo>
                <a:lnTo>
                  <a:pt x="0" y="21600"/>
                </a:lnTo>
                <a:close/>
              </a:path>
              <a:path fill="lightenLess" w="98462" h="21600">
                <a:moveTo>
                  <a:pt x="0" y="0"/>
                </a:moveTo>
                <a:lnTo>
                  <a:pt x="98462" y="0"/>
                </a:lnTo>
                <a:lnTo>
                  <a:pt x="97062" y="1400"/>
                </a:lnTo>
                <a:lnTo>
                  <a:pt x="1400" y="1400"/>
                </a:lnTo>
                <a:close/>
              </a:path>
              <a:path fill="darken" w="98462" h="21600">
                <a:moveTo>
                  <a:pt x="98462" y="0"/>
                </a:moveTo>
                <a:lnTo>
                  <a:pt x="98462" y="21600"/>
                </a:lnTo>
                <a:lnTo>
                  <a:pt x="97062" y="20200"/>
                </a:lnTo>
                <a:lnTo>
                  <a:pt x="97062" y="1400"/>
                </a:lnTo>
                <a:close/>
              </a:path>
              <a:path fill="darkenLess" w="98462" h="21600">
                <a:moveTo>
                  <a:pt x="98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062" y="20200"/>
                </a:lnTo>
                <a:close/>
              </a:path>
              <a:path fill="lighten" w="98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ъюнктив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5076720" y="2852640"/>
            <a:ext cx="2303640" cy="50508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8462" h="21600">
                <a:moveTo>
                  <a:pt x="0" y="0"/>
                </a:moveTo>
                <a:lnTo>
                  <a:pt x="98462" y="0"/>
                </a:lnTo>
                <a:lnTo>
                  <a:pt x="98462" y="21600"/>
                </a:lnTo>
                <a:lnTo>
                  <a:pt x="0" y="21600"/>
                </a:lnTo>
                <a:close/>
              </a:path>
              <a:path fill="lightenLess" w="98462" h="21600">
                <a:moveTo>
                  <a:pt x="0" y="0"/>
                </a:moveTo>
                <a:lnTo>
                  <a:pt x="98462" y="0"/>
                </a:lnTo>
                <a:lnTo>
                  <a:pt x="97062" y="1400"/>
                </a:lnTo>
                <a:lnTo>
                  <a:pt x="1400" y="1400"/>
                </a:lnTo>
                <a:close/>
              </a:path>
              <a:path fill="darken" w="98462" h="21600">
                <a:moveTo>
                  <a:pt x="98462" y="0"/>
                </a:moveTo>
                <a:lnTo>
                  <a:pt x="98462" y="21600"/>
                </a:lnTo>
                <a:lnTo>
                  <a:pt x="97062" y="20200"/>
                </a:lnTo>
                <a:lnTo>
                  <a:pt x="97062" y="1400"/>
                </a:lnTo>
                <a:close/>
              </a:path>
              <a:path fill="darkenLess" w="98462" h="21600">
                <a:moveTo>
                  <a:pt x="98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062" y="20200"/>
                </a:lnTo>
                <a:close/>
              </a:path>
              <a:path fill="lighten" w="98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лин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5076720" y="342900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пив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0"/>
          <p:cNvSpPr/>
          <p:nvPr/>
        </p:nvSpPr>
        <p:spPr>
          <a:xfrm>
            <a:off x="5076720" y="414972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щ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1"/>
          <p:cNvSpPr/>
          <p:nvPr/>
        </p:nvSpPr>
        <p:spPr>
          <a:xfrm>
            <a:off x="5076720" y="551664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2"/>
          <p:cNvSpPr/>
          <p:nvPr/>
        </p:nvSpPr>
        <p:spPr>
          <a:xfrm>
            <a:off x="5076720" y="479736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4"/>
          <p:cNvSpPr/>
          <p:nvPr/>
        </p:nvSpPr>
        <p:spPr>
          <a:xfrm>
            <a:off x="5076720" y="623736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у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268360" y="2205000"/>
            <a:ext cx="4175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Содерж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0" y="836640"/>
            <a:ext cx="9144000" cy="16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- раздел медицины, изучающий аллергические заболевания, механизмы их возникновения и развития, методы их профилактики и лечения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Book Antiqua"/>
              </a:rPr>
              <a:t>Что такое аллергия?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95280" y="2133720"/>
            <a:ext cx="424800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 Antiqua"/>
              </a:rPr>
              <a:t>Аллерги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это необычная повышенная чувствительность к различным веществам, которые у большинства людей не вызывают болезненных реакц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15458424"/>
          <p:cNvPicPr/>
          <p:nvPr/>
        </p:nvPicPr>
        <p:blipFill>
          <a:blip r:embed="rId1"/>
          <a:stretch/>
        </p:blipFill>
        <p:spPr>
          <a:xfrm>
            <a:off x="5219640" y="1700280"/>
            <a:ext cx="3175200" cy="44956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9b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604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93300"/>
                </a:solidFill>
                <a:latin typeface="Book Antiqua"/>
              </a:rPr>
              <a:t>Аллерге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big_3612"/>
          <p:cNvPicPr/>
          <p:nvPr/>
        </p:nvPicPr>
        <p:blipFill>
          <a:blip r:embed="rId1"/>
          <a:stretch/>
        </p:blipFill>
        <p:spPr>
          <a:xfrm>
            <a:off x="1403280" y="2708280"/>
            <a:ext cx="6337440" cy="38019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0" y="981000"/>
            <a:ext cx="91440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Book Antiqua"/>
              </a:rPr>
              <a:t>–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2800" spc="-1" strike="noStrike">
                <a:solidFill>
                  <a:srgbClr val="993300"/>
                </a:solidFill>
                <a:latin typeface="Book Antiqua"/>
              </a:rPr>
              <a:t>чужеродные вещества, которые, поступая в организм, становятся основной причиной аллергических реакций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9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 u="sng">
                <a:solidFill>
                  <a:srgbClr val="000000"/>
                </a:solidFill>
                <a:uFillTx/>
                <a:latin typeface="Book Antiqua"/>
              </a:rPr>
              <a:t>Виды </a:t>
            </a:r>
            <a:r>
              <a:rPr b="0" lang="ru-RU" sz="7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7200" spc="-1" strike="noStrike" u="sng">
                <a:solidFill>
                  <a:srgbClr val="000000"/>
                </a:solidFill>
                <a:uFillTx/>
                <a:latin typeface="Book Antiqua"/>
              </a:rPr>
              <a:t>аллергии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468360" y="198900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топический дермат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468360" y="2549520"/>
            <a:ext cx="45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ллергический рин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468360" y="311148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ллергический конъюнктивит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68360" y="36734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Поллино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468360" y="42354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Крапивниц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468360" y="4797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Пищев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ллерг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Атопический дермати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2738883_f520"/>
          <p:cNvPicPr/>
          <p:nvPr/>
        </p:nvPicPr>
        <p:blipFill>
          <a:blip r:embed="rId2"/>
          <a:stretch/>
        </p:blipFill>
        <p:spPr>
          <a:xfrm>
            <a:off x="1476360" y="2924280"/>
            <a:ext cx="5616720" cy="31431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0" y="907920"/>
            <a:ext cx="9144000" cy="27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хроническое аллергическое заболевание кожи, развитие которого связано как с наследственной предрасположенностью, так и с воздействием целого ряда неблагоприятных факторов внешней ср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Аллергический ринит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Для аллергического ринита характерны водянистые выделения из носа, затруднение носового дыхания, чихание, зуд в области носа, снижение обоняни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nose1"/>
          <p:cNvPicPr/>
          <p:nvPr/>
        </p:nvPicPr>
        <p:blipFill>
          <a:blip r:embed="rId2"/>
          <a:stretch/>
        </p:blipFill>
        <p:spPr>
          <a:xfrm>
            <a:off x="1979640" y="3068640"/>
            <a:ext cx="4824360" cy="32781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8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 Antiqua"/>
              </a:rPr>
              <a:t>Аллергический конъюнктивит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К основным проявлениям аллергического конъюнктивита относятся зуд в области глаз, ощущение «песка» в глазах, слезотечение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светобоязнь, жжение глаз, покраснение и отек век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kon"/>
          <p:cNvPicPr/>
          <p:nvPr/>
        </p:nvPicPr>
        <p:blipFill>
          <a:blip r:embed="rId2"/>
          <a:stretch/>
        </p:blipFill>
        <p:spPr>
          <a:xfrm>
            <a:off x="1692360" y="2997360"/>
            <a:ext cx="4968720" cy="33112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96472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Поллиноз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Название «поллиноз» происходит от латинского слова pollen – пыльца, так как болезнь вызывает пыльца растений. Когда-то поллиноз называли сенной лихорадкой, считая, что причиной развития заболевания является сено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43971412"/>
          <p:cNvPicPr/>
          <p:nvPr/>
        </p:nvPicPr>
        <p:blipFill>
          <a:blip r:embed="rId2"/>
          <a:stretch/>
        </p:blipFill>
        <p:spPr>
          <a:xfrm>
            <a:off x="2627280" y="342900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9T13:13:13Z</dcterms:created>
  <dc:creator>User</dc:creator>
  <dc:description/>
  <dc:language>en-US</dc:language>
  <cp:lastModifiedBy>LEGION</cp:lastModifiedBy>
  <dcterms:modified xsi:type="dcterms:W3CDTF">2015-02-13T11:07:29Z</dcterms:modified>
  <cp:revision>12</cp:revision>
  <dc:subject/>
  <dc:title>Аллергология</dc:title>
</cp:coreProperties>
</file>