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EB6B-4DB1-43FD-A5A3-09540089D2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дисциплине: «Основы сестринско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Филатова А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F0E1-6DF8-48FE-88A8-BFDCFCCBB7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онятие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DA5D-8D21-4749-A295-8411D7C1D7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F9E8-D3A8-4FE3-B0B4-F9B2B427AC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то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8C3C-C34C-430F-B5F7-B50A195A9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Химические сред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359B-F112-47E5-A1AE-4FF20CE305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особы использования дезинфект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C5D0-55F2-4CAA-B7B0-55A03F797B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Меры предосторожности при работе с дезинфекта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аботе с дезинфектантами допускаются лица, достигшие 18-и лет и прошедшие инструктаж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езинфектантами работают только в средствах индивидуальной защи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ых комнатах – санитарных комна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разводят в специальной таре, промаркированной, с плотной крыш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хранят в фирменной упаковке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ресыпание, переливание недопуст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танты должны храниться в недоступном для пациента ме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49F0-7754-4C63-A466-4D19898641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бор и хранение медицинских от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D6DC-347B-4F28-BBD3-EAB310E553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166C-E1CB-4FD8-9CB9-74B21FECA7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321-4E14-4D49-A7E6-DCA6D143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C9B-6338-4225-B8E2-F50030FA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5DE-A297-4B31-89C0-F130FBAE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F3C-DC6C-40AD-A0E8-06E8AE25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5931-5865-413C-A669-8CCB9A05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DB08-7AA9-4735-A6CC-F1A73F52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E0F9-5A70-4C84-8185-1FD144D9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FE88-0664-4043-855C-94455F89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5326-7500-4CFE-BD82-DD9CA736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F568-87B2-4326-814B-E92AE642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AE1D-2AED-4C97-BE44-D1C663F1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8FA-F939-4089-B2CB-CF028801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05AF-D024-4B50-AFDF-E1A5A82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78EB-679E-4A79-94D5-4E90229A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E97E-2149-4BE9-9F0B-EBA1EA4E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402B-0056-4860-A6C0-839E6890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5E8A-3630-423B-AB6A-3770CABF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F506-B8C9-4863-9803-48D9DAA3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525E-2F9C-4F92-BEDD-C9175CB7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147F-B02F-4269-8F57-912A2358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B071-9351-48D8-BFED-E00D40E7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61DE9-21A1-414C-8685-EF0A0157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25E-3E9D-4F60-99A7-46C5C0D7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EF657-D61C-4127-A0E5-0AEF69F0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1296-CA83-4F77-846F-4490B2A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6B05C-EB36-4EC1-B891-4A8B319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070E-5A58-49FF-9A19-4D09C594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1E07D-702A-4C6A-885F-40C15B70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736F-0CB5-4200-BEFD-46DD6A4F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BBFD-ADC0-429B-B41D-825823EA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C215F-1FD3-48C7-BD94-C1A73899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A752-0835-41CC-8D4B-F21152A3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8CBA-F04C-4DBC-B604-D8341380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D26-20A4-4C20-9B82-77516177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45E1-7129-4AAE-A7D6-AB63CBF4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645D-ACB9-483C-A22B-F93F94D3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53D31-36A0-45E0-B8B2-192D3DFA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A203-2984-4DAA-9971-D6DBDDD8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4FFCF-19E9-40B8-84D1-44DE304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4F01E-2F7E-4C8A-94FC-C160E90E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F415E-AAC7-4D45-9730-1CBE2B31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F4C0-F576-43FC-8AB0-639E2C56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59B5-0A4E-4192-A1F8-A3883D71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F729F-3676-48B7-90B4-C426E465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59B-32E2-4CC1-866D-084A31E4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785E0-6BD1-44E6-BB5D-EF6A2861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13152-B184-48A6-A00F-68774F3B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A7D6C-6BE7-4969-952D-90DCC0DF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31036-4E0A-4AC2-A13F-ED542C96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71379-53C5-475D-96E6-3018BB97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405F-C3FA-4086-8360-46A849EB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B64B-0E5B-4307-9243-5A126966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AF686-A22B-4288-8D3C-D2769196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B277-44F8-4DAA-904F-9970E158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BE78F-DA7F-41AD-8531-7BC0E8EA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05B-9869-4042-A365-B92EBA59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A5A09-198B-48C7-9B77-49D2DE51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743BE-D50F-4A26-AA04-E98DC76E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E186-9D71-4FD0-986F-A19BB332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1B17-47FA-4682-9D91-E6F4C448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05E93-1660-478C-9EF5-65577964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2AC02-609C-4A3E-990A-CBE7904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0CB16-B34C-45C8-B1B4-C49C8FD9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3F511-0D1A-4C3D-807E-14EC907E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71F9E-D306-4034-9436-CB84AF6C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2B88-8338-4583-88B1-2BF09F81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485-F708-4778-8954-FE681B6D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8BA8C-BC04-4B08-8F99-1AD475B0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11F55-AB2B-4691-814C-20FE21A8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D2BE0-8319-4D94-8248-2AA4B750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EA309-B235-40A8-9BE7-92352DAF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13CD-BC40-4453-B287-022254B9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0D85-C397-4291-99A7-8AAB6DDC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678D3-D221-4BFD-8BB0-24B9655C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4C317-FC81-4036-9934-AD036444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FECC-EF22-4EE9-B19F-B2747F00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F703C-8423-4297-A707-CC4E510D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571-41EC-4791-AB42-41BE4E29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BAA41-8B97-4896-88A6-21A3DC16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C3EF2-FA98-4B64-8995-ACFD383A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9ECDC-650B-47D5-988A-4D678A3A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B5F8C-F4C7-49E5-80DA-C4C59FBD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9CDC7-F662-4DF5-BD24-903C8EA8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581-D24C-476A-9BE3-89DCD587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8ED1-8D15-4120-B00A-4FC01E112F2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56A-0E85-4490-AF86-F42DC34F35E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AEBE-A90E-4F22-9969-24D03FA433F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110F-C79B-439B-95E8-76130902F6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D18E-F5A0-4EE6-8042-22AD6CCDA5B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64B1-B34F-4975-BD98-070AC3CE01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C70A-1359-4046-8216-F5FF17BDC4F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5389-190D-4337-8AE4-20514C7AEC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2C9B-0A5A-43ED-B957-BF9EE526DA1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A27E-A72C-45B7-B0DB-38BB57A24D0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FC47-02C6-4373-B12B-A5AD44CF328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2EFB-CFD8-4E2B-B276-17A795DCD1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B1B2-D572-4346-80C8-63DA0255400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42DC-212C-4D5A-9A0C-50056965FEE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3" descr="7.jpg"/>
          <p:cNvPicPr/>
          <p:nvPr/>
        </p:nvPicPr>
        <p:blipFill>
          <a:blip r:embed="rId1"/>
          <a:stretch/>
        </p:blipFill>
        <p:spPr>
          <a:xfrm>
            <a:off x="1071720" y="2928960"/>
            <a:ext cx="5047920" cy="37861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ЗИНФЕ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2080" y="1848960"/>
            <a:ext cx="77119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езентация по дисциплине: «Основы сестринского дел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 Филатова А.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143760" y="6072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кци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е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ЗИНФЕКЦИЯ – комплекс мероприятий, направленный на уничтожение в дезинфицируемом объекте патогенных и условно-патогенных микроорганизм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3" descr="8.jpg"/>
          <p:cNvPicPr/>
          <p:nvPr/>
        </p:nvPicPr>
        <p:blipFill>
          <a:blip r:embed="rId1"/>
          <a:stretch/>
        </p:blipFill>
        <p:spPr>
          <a:xfrm>
            <a:off x="1285920" y="3830760"/>
            <a:ext cx="7858080" cy="286380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TextBox 3"/>
          <p:cNvSpPr/>
          <p:nvPr/>
        </p:nvSpPr>
        <p:spPr>
          <a:xfrm>
            <a:off x="2857680" y="1357200"/>
            <a:ext cx="43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ЕЗИНФ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1071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5"/>
          <p:cNvSpPr/>
          <p:nvPr/>
        </p:nvSpPr>
        <p:spPr>
          <a:xfrm>
            <a:off x="5643720" y="1928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Очаг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143000" y="292896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оматическое отделение стацио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143000" y="41432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мбулаторное лечеб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3857760" y="2571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у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6357960" y="2571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ключ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000680" y="3357720"/>
            <a:ext cx="207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многократно до госпитализации в домашних условиях и 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6215040" y="3429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арелки, ложки, дверные ручки, туалет, па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6286680" y="4714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изводится однок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14"/>
          <p:cNvCxnSpPr/>
          <p:nvPr/>
        </p:nvCxnSpPr>
        <p:spPr>
          <a:xfrm flipH="1">
            <a:off x="2999880" y="1714680"/>
            <a:ext cx="1966320" cy="2433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6" name="Прямая со стрелкой 15"/>
          <p:cNvCxnSpPr/>
          <p:nvPr/>
        </p:nvCxnSpPr>
        <p:spPr>
          <a:xfrm>
            <a:off x="5000400" y="1714320"/>
            <a:ext cx="1929240" cy="21492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7" name="Прямая со стрелкой 20"/>
          <p:cNvCxnSpPr/>
          <p:nvPr/>
        </p:nvCxnSpPr>
        <p:spPr>
          <a:xfrm flipH="1">
            <a:off x="2428560" y="2214720"/>
            <a:ext cx="2160" cy="786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8" name="Прямая со стрелкой 23"/>
          <p:cNvCxnSpPr/>
          <p:nvPr/>
        </p:nvCxnSpPr>
        <p:spPr>
          <a:xfrm flipH="1">
            <a:off x="3142440" y="2214720"/>
            <a:ext cx="2520" cy="20718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49" name="Прямая со стрелкой 25"/>
          <p:cNvCxnSpPr/>
          <p:nvPr/>
        </p:nvCxnSpPr>
        <p:spPr>
          <a:xfrm flipH="1">
            <a:off x="5143320" y="2214720"/>
            <a:ext cx="1894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0" name="Прямая со стрелкой 27"/>
          <p:cNvCxnSpPr/>
          <p:nvPr/>
        </p:nvCxnSpPr>
        <p:spPr>
          <a:xfrm>
            <a:off x="7214760" y="2214720"/>
            <a:ext cx="715320" cy="3578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1" name="Прямая со стрелкой 29"/>
          <p:cNvCxnSpPr/>
          <p:nvPr/>
        </p:nvCxnSpPr>
        <p:spPr>
          <a:xfrm flipH="1">
            <a:off x="48574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2" name="Прямая со стрелкой 31"/>
          <p:cNvCxnSpPr/>
          <p:nvPr/>
        </p:nvCxnSpPr>
        <p:spPr>
          <a:xfrm flipH="1">
            <a:off x="7357680" y="28573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53" name="Прямая со стрелкой 32"/>
          <p:cNvCxnSpPr/>
          <p:nvPr/>
        </p:nvCxnSpPr>
        <p:spPr>
          <a:xfrm flipH="1">
            <a:off x="7357680" y="4214520"/>
            <a:ext cx="2160" cy="5720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ы дезинфек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Прямоугольник 2"/>
          <p:cNvSpPr/>
          <p:nvPr/>
        </p:nvSpPr>
        <p:spPr>
          <a:xfrm>
            <a:off x="1143000" y="1928880"/>
            <a:ext cx="3286080" cy="6429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ХА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Стирка, проветрива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5500800" y="192888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Воздействие низкими и высокими 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, лучистой энерг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4"/>
          <p:cNvSpPr/>
          <p:nvPr/>
        </p:nvSpPr>
        <p:spPr>
          <a:xfrm>
            <a:off x="3286080" y="3643200"/>
            <a:ext cx="3286080" cy="1143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ХИ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- Обработка химическими дезинфекта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3429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низ 6"/>
          <p:cNvSpPr/>
          <p:nvPr/>
        </p:nvSpPr>
        <p:spPr>
          <a:xfrm>
            <a:off x="6858000" y="1071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4714920" y="1071720"/>
            <a:ext cx="357120" cy="250020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8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Прямая со стрелкой 22"/>
          <p:cNvCxnSpPr>
            <a:stCxn id="364" idx="2"/>
            <a:endCxn id="365" idx="0"/>
          </p:cNvCxnSpPr>
          <p:nvPr/>
        </p:nvCxnSpPr>
        <p:spPr>
          <a:xfrm flipH="1">
            <a:off x="2820600" y="1869840"/>
            <a:ext cx="203760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6" name="Прямая со стрелкой 24"/>
          <p:cNvCxnSpPr>
            <a:stCxn id="364" idx="2"/>
            <a:endCxn id="367" idx="0"/>
          </p:cNvCxnSpPr>
          <p:nvPr/>
        </p:nvCxnSpPr>
        <p:spPr>
          <a:xfrm>
            <a:off x="4856760" y="1869840"/>
            <a:ext cx="1965960" cy="3702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68" name="Прямая со стрелкой 20"/>
          <p:cNvCxnSpPr>
            <a:stCxn id="364" idx="2"/>
            <a:endCxn id="369" idx="0"/>
          </p:cNvCxnSpPr>
          <p:nvPr/>
        </p:nvCxnSpPr>
        <p:spPr>
          <a:xfrm>
            <a:off x="4856760" y="1869840"/>
            <a:ext cx="1965960" cy="2631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0" name="Прямая со стрелкой 16"/>
          <p:cNvCxnSpPr>
            <a:stCxn id="364" idx="2"/>
            <a:endCxn id="371" idx="0"/>
          </p:cNvCxnSpPr>
          <p:nvPr/>
        </p:nvCxnSpPr>
        <p:spPr>
          <a:xfrm flipH="1">
            <a:off x="2891880" y="1869840"/>
            <a:ext cx="1965960" cy="27021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Химические средства дезинфекци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3357720" y="15001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071720" y="2214720"/>
            <a:ext cx="32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аллоидо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Хлорсодержащ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рганические хлорсодержащие соеди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бро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основе изоциану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5357880" y="2214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ислоро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429160" y="32860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Поверхностно-активные вещества (ПАВ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1285920" y="45720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Гуани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121428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Альдегид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9"/>
          <p:cNvSpPr/>
          <p:nvPr/>
        </p:nvSpPr>
        <p:spPr>
          <a:xfrm>
            <a:off x="5214960" y="55720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Спи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214960" y="450072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Фенолсодерж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Прямая со стрелкой 12"/>
          <p:cNvCxnSpPr>
            <a:stCxn id="364" idx="2"/>
            <a:endCxn id="373" idx="0"/>
          </p:cNvCxnSpPr>
          <p:nvPr/>
        </p:nvCxnSpPr>
        <p:spPr>
          <a:xfrm flipH="1">
            <a:off x="2677320" y="1869840"/>
            <a:ext cx="218052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7" name="Прямая со стрелкой 14"/>
          <p:cNvCxnSpPr>
            <a:stCxn id="364" idx="2"/>
            <a:endCxn id="374" idx="0"/>
          </p:cNvCxnSpPr>
          <p:nvPr/>
        </p:nvCxnSpPr>
        <p:spPr>
          <a:xfrm>
            <a:off x="4857840" y="1869840"/>
            <a:ext cx="2108880" cy="345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8" name="Прямая со стрелкой 18"/>
          <p:cNvCxnSpPr>
            <a:stCxn id="364" idx="2"/>
            <a:endCxn id="375" idx="0"/>
          </p:cNvCxnSpPr>
          <p:nvPr/>
        </p:nvCxnSpPr>
        <p:spPr>
          <a:xfrm>
            <a:off x="4857840" y="1869840"/>
            <a:ext cx="2180160" cy="1416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7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особы использования дезинфекта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143000" y="1928880"/>
            <a:ext cx="7500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РОШ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ГРУ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СЫП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ТИР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еры предосторожности при работе с дезинфектант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работе с дезинфектантами допускаются лица, достигшие 18-и лет и прошедшие инструктаж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 допускаются лица с повышенной чувствительностью к применяемым химическим средства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 дезинфектантами работают только в средствах индивидуальной защиты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ых комнатах – санитарных комнатах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разводят в специальной таре, промаркированной, с плотной крышкой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хранят в фирменной упаковке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ересыпание, переливание недопустимо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зинфектанты должны храниться в недоступном для пациента мест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бор и хранение медицинских отход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071720" y="14288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Классификация отх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1071720" y="17859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Отходы, не имеющие контакта с БЖ –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неопасные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 ним относятся: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ищевые, мебель, инвентар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Утилизируются в многоразовые емкости или пакеты бел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тенциально инфицированные, загрязненные кровью. Отходы из операционных, патологоанатомических отделений, с микроорганизмами 3-го и 4-го классов собираются в пакеты желт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Чрезвычайно опас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ходы, контактирующие с больными с особо опасными инфекциями; отходы из лабораторий, работающих с микробами 1 – 4-х классов; отходы микологических и физиатрических больниц; отходы пациентов с анаэробными инфекциями. Утилизируются в контейнеры красного цвета с надписью «Чрезвычайно опасные отх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Отходы, близкие к промышленным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сроченные лекарства, дезинфицирующие средства; цитостатики, ртутьсодержащие предметы. Утилизируются в бесцветные пак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)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диоактивные отходы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 виды отходов, содержащие радиоактивные компоненты. Утилизируются в контейнеры чер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Не разрешается пересыпать отходы из одной тары в другую, ставить пакеты с нагревательными приборам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исок используемой литератур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1071720" y="157176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ухина С.А., Тарановская И.И. – Практическое руководство к предмету «Основы Сестринского Дела». Москва, ИК «Родник», 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2:30:23Z</dcterms:created>
  <dc:creator>Филатова А.С. </dc:creator>
  <dc:description>http://ppt.3dn.ru</dc:description>
  <dc:language>en-US</dc:language>
  <cp:lastModifiedBy>LEGION</cp:lastModifiedBy>
  <dcterms:modified xsi:type="dcterms:W3CDTF">2015-02-13T11:09:52Z</dcterms:modified>
  <cp:revision>12</cp:revision>
  <dc:subject>Сестринское дело</dc:subject>
  <dc:title>ДЕЗИНФЕКЦИЯ</dc:title>
</cp:coreProperties>
</file>