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2648-F488-45C5-9A43-C7AB1DAE79B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борты. О вреде абортов</a:t>
            </a: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7E9D-86C2-4E9D-8ADC-19532CFA4BC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7C72-0F69-42D5-9FE2-6224B878A30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42DD-3587-4E59-886F-3F29B4820B8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29FC-11F3-472B-BC67-1F5996AA73B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8E03-F2DF-4857-A3A3-E3E93F13BBC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0440-FAF0-49DB-A7AB-8606520E7A3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887B-F7F4-4A46-8A73-D9A14E9F8ED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FB9B-BF2C-45E3-8E3D-C917D3CEFF3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CAE7-1915-4883-BE9B-0377A1E45DB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A9BC-1F43-4891-B9A8-094DDC0C092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E457-4166-4B8E-B5C9-CCCA6331E6A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9511-7670-4996-B440-BD076701C22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C9F4-077E-4CFE-88BF-F4419466683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F3E8-261C-4C7F-9D67-F52FC42E8FC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D14C-5852-4BDB-8C28-30E427DE211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1683-8068-4B05-A6E9-4AC8E48A37E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289CB-FAED-44EA-A4BC-B65FE3C4A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0AD28-7765-488D-8FEA-26516711C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968B8-A4DE-4B51-9E21-2888FFB7D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DFB0B-EC67-413C-8BC8-79C8189EE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731EA-979F-4347-A5B5-D569E701C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A2728-47D6-4347-ABED-40CF3A12B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A32E1-5549-4A2D-B19E-E0E53D1C2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DDC6C-BF5B-4037-867B-D30F6FE7C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2E1ED-29F8-491A-9C9C-AF1370DAF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409B2-B74E-42C2-B4F0-417223DE9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14EA7-3E0A-4A0F-9197-C440ADBA5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AF591-1B75-4B5E-B9AC-DFB2E6F05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F998C-2310-42CC-A80A-70BF59B4A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A16A3-8172-4B6A-8349-55A97941E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A3D6A-9CD0-4174-AF49-F6C63F5F3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16C8C-9148-4DC8-86E3-5F98310BB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3566A-02EB-4B15-877B-095639A89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287E0B7-6C8E-4B27-AADB-43421D7AD3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6A9EEE-E33C-4626-8E48-46B63B785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091CE7F-751A-4095-A305-96A9C5422B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2A1A331-4320-45CB-909B-CCAB31D56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5A0A7A3-C10D-41E4-9F83-05FCE6CE4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B8032-D65B-48D7-86B8-974237F18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B83224-4217-4ED8-87B6-08023A4DC5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18CBFF-2EA2-4082-841C-159E35CE7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FB30F50-1990-4EBC-95BB-0BF6D2BC6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3CDAC7-6616-48FC-95B3-472F6B2ED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AB7D6A-84BF-47EF-82B3-BC68F228FC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8DF4D8F-A988-4CE5-B511-76B19B2DE7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A190178-A25C-4096-8DF0-A41087C7FE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C4B2106-C65C-42AD-8403-462127BB5D6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3C18F1-D165-40A7-8F40-97D7E74302F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EE8D15-3D82-4C30-BED4-5D6742F972C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CB6EF-04E1-47D0-8EC4-0DCFF6C8A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E2F177-671E-4A4B-A45B-B41EF496CCD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D2ECAC-62FA-4FFD-A2FB-0BD8D2C2B91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A2881F4-A33D-46A3-B157-96D4AF656BE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BE997E-8AA4-4E0B-A9A7-5A4C51A356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2F3463-294D-4829-A29C-C132196BF89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17847B-A251-4D69-9854-4349D37772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80F778-4A45-4884-B012-712BE29BC09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5E0DC68-7BC3-4C60-8E35-2E6451BBE5A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B4FBB3A-90EE-4132-84C7-D2ACBE859F1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7D0A4B-30D0-4F32-AF11-8F87375635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0F4F7-B8DF-4982-910F-30330F413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F5F44E-ABE8-4DB4-8779-198D557FBB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22ADF1-7801-41C2-81EF-89B02A471C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08AFDA-0F39-451F-B695-F54745A80D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50807-E517-4010-B610-E7D0A3D8C9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D51954-B53E-41C6-A451-F384B206C4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E1DC5-4BA5-43FE-8DFC-D3F37661DE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3DB36-801F-4D05-BB68-4F6AA3F1E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C814D1-714C-41B6-ABD7-C256CFE320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87C55B-7F5C-41C7-B47E-6E80A05731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2FA50B-1D86-4FCD-A5C9-817929A8B1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6BBA3-E906-4D66-9A0C-ED6B5DFCA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BC86B8-7B0B-4AAF-9C53-41E2C9A862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F8EC29-7E0A-4CE9-8F7D-0F5D7711BB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0157C7-7CFC-4B28-90EC-2E321E2D43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8361E0-90A0-46B5-AD05-1820017670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2867BB-819E-43FD-B57D-045834F4D8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EF829-D1F5-44B7-B791-0BA62F8B1B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46BE8C-1F99-426F-A5AC-96B83E7FE6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416337-E73A-4A77-9C74-7D352A419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0D58B7-E360-4BD8-8241-F3A1492F18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E6967D-6235-45B8-ADB7-09D843538F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05C05-5EA5-4AC8-8029-816C47F6A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55B997-580B-4036-96B6-28AEFBF9DA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8CC90E-DE97-449A-95ED-A59F98E01F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69EF45-D8E2-48AE-88C0-C899637EEA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528D9-91CA-475A-9865-35F60B680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C4425-948A-4506-8790-E3F62DB58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5C4B-55AC-4C14-BCEA-65C08557735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E141-2978-490A-85D6-08CDE188E77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DE45-D927-4408-AAC6-0CE6F57F846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0885-1E7E-457E-BDF6-B68065F6EB5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A714-58D5-47B3-A7DA-D7DEB6F8DB5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1183-A89D-47B9-846F-ACA6A04B530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00040" y="21420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Аборты. О вреде абортов</a:t>
            </a:r>
            <a:endParaRPr b="0" lang="en-US" sz="4400" spc="-1" strike="noStrike">
              <a:solidFill>
                <a:srgbClr val="ffffff"/>
              </a:solidFill>
              <a:latin typeface="Tahoma"/>
            </a:endParaRPr>
          </a:p>
        </p:txBody>
      </p:sp>
      <p:pic>
        <p:nvPicPr>
          <p:cNvPr id="353" name="Picture 5" descr="mini_abort1sm"/>
          <p:cNvPicPr/>
          <p:nvPr/>
        </p:nvPicPr>
        <p:blipFill>
          <a:blip r:embed="rId1"/>
          <a:stretch/>
        </p:blipFill>
        <p:spPr>
          <a:xfrm>
            <a:off x="2428920" y="2143080"/>
            <a:ext cx="4429080" cy="3321000"/>
          </a:xfrm>
          <a:prstGeom prst="rect">
            <a:avLst/>
          </a:prstGeom>
          <a:ln w="0">
            <a:noFill/>
          </a:ln>
        </p:spPr>
      </p:pic>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5" descr="abort9sm"/>
          <p:cNvPicPr/>
          <p:nvPr/>
        </p:nvPicPr>
        <p:blipFill>
          <a:blip r:embed="rId1"/>
          <a:stretch/>
        </p:blipFill>
        <p:spPr>
          <a:xfrm>
            <a:off x="0" y="0"/>
            <a:ext cx="9144000" cy="6858000"/>
          </a:xfrm>
          <a:prstGeom prst="rect">
            <a:avLst/>
          </a:prstGeom>
          <a:ln w="0">
            <a:noFill/>
          </a:ln>
        </p:spPr>
      </p:pic>
      <p:sp>
        <p:nvSpPr>
          <p:cNvPr id="3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7"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8" name="Picture 4" descr="Солевой аборт"/>
          <p:cNvPicPr/>
          <p:nvPr/>
        </p:nvPicPr>
        <p:blipFill>
          <a:blip r:embed="rId1"/>
          <a:stretch/>
        </p:blipFill>
        <p:spPr>
          <a:xfrm>
            <a:off x="611280" y="2205000"/>
            <a:ext cx="1571400" cy="1457280"/>
          </a:xfrm>
          <a:prstGeom prst="rect">
            <a:avLst/>
          </a:prstGeom>
          <a:ln w="0">
            <a:noFill/>
          </a:ln>
        </p:spPr>
      </p:pic>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1"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3" name="Picture 7" descr="http://www.aborti.ru/UserFiles/Image/posters/salt.gif"/>
          <p:cNvPicPr/>
          <p:nvPr/>
        </p:nvPicPr>
        <p:blipFill>
          <a:blip r:embed="rId1"/>
          <a:stretch/>
        </p:blipFill>
        <p:spPr>
          <a:xfrm>
            <a:off x="0" y="0"/>
            <a:ext cx="9220320" cy="685800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7" name="Picture 8" descr="24"/>
          <p:cNvPicPr/>
          <p:nvPr/>
        </p:nvPicPr>
        <p:blipFill>
          <a:blip r:embed="rId1"/>
          <a:stretch/>
        </p:blipFill>
        <p:spPr>
          <a:xfrm rot="20147400">
            <a:off x="250920" y="5949720"/>
            <a:ext cx="952560" cy="618840"/>
          </a:xfrm>
          <a:prstGeom prst="rect">
            <a:avLst/>
          </a:prstGeom>
          <a:ln w="0">
            <a:noFill/>
          </a:ln>
        </p:spPr>
      </p:pic>
      <p:pic>
        <p:nvPicPr>
          <p:cNvPr id="408" name="Picture 7" descr="13"/>
          <p:cNvPicPr/>
          <p:nvPr/>
        </p:nvPicPr>
        <p:blipFill>
          <a:blip r:embed="rId2"/>
          <a:stretch/>
        </p:blipFill>
        <p:spPr>
          <a:xfrm rot="19982400">
            <a:off x="826920" y="1197000"/>
            <a:ext cx="952560" cy="628560"/>
          </a:xfrm>
          <a:prstGeom prst="rect">
            <a:avLst/>
          </a:prstGeom>
          <a:ln w="0">
            <a:noFill/>
          </a:ln>
        </p:spPr>
      </p:pic>
      <p:pic>
        <p:nvPicPr>
          <p:cNvPr id="409" name="Picture 6" descr="23"/>
          <p:cNvPicPr/>
          <p:nvPr/>
        </p:nvPicPr>
        <p:blipFill>
          <a:blip r:embed="rId3"/>
          <a:stretch/>
        </p:blipFill>
        <p:spPr>
          <a:xfrm>
            <a:off x="4140360" y="5950080"/>
            <a:ext cx="952200" cy="714240"/>
          </a:xfrm>
          <a:prstGeom prst="rect">
            <a:avLst/>
          </a:prstGeom>
          <a:ln w="0">
            <a:noFill/>
          </a:ln>
        </p:spPr>
      </p:pic>
      <p:pic>
        <p:nvPicPr>
          <p:cNvPr id="410" name="Picture 5" descr="36"/>
          <p:cNvPicPr/>
          <p:nvPr/>
        </p:nvPicPr>
        <p:blipFill>
          <a:blip r:embed="rId4"/>
          <a:stretch/>
        </p:blipFill>
        <p:spPr>
          <a:xfrm rot="1379400">
            <a:off x="7596000" y="1052640"/>
            <a:ext cx="952200" cy="933480"/>
          </a:xfrm>
          <a:prstGeom prst="rect">
            <a:avLst/>
          </a:prstGeom>
          <a:ln w="0">
            <a:noFill/>
          </a:ln>
        </p:spPr>
      </p:pic>
      <p:pic>
        <p:nvPicPr>
          <p:cNvPr id="411" name="Picture 4" descr="91"/>
          <p:cNvPicPr/>
          <p:nvPr/>
        </p:nvPicPr>
        <p:blipFill>
          <a:blip r:embed="rId5"/>
          <a:stretch/>
        </p:blipFill>
        <p:spPr>
          <a:xfrm rot="17880600">
            <a:off x="8100720" y="5733360"/>
            <a:ext cx="685800" cy="952560"/>
          </a:xfrm>
          <a:prstGeom prst="rect">
            <a:avLst/>
          </a:prstGeom>
          <a:ln w="0">
            <a:noFill/>
          </a:ln>
        </p:spPr>
      </p:pic>
      <p:sp>
        <p:nvSpPr>
          <p:cNvPr id="412"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19"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2"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5"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6"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29"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2"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5"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6"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6"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39"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59"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2"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3" name="Picture 9" descr="pg225smp"/>
          <p:cNvPicPr/>
          <p:nvPr/>
        </p:nvPicPr>
        <p:blipFill>
          <a:blip r:embed="rId1"/>
          <a:stretch/>
        </p:blipFill>
        <p:spPr>
          <a:xfrm>
            <a:off x="5940360" y="1413000"/>
            <a:ext cx="2143080" cy="2143080"/>
          </a:xfrm>
          <a:prstGeom prst="rect">
            <a:avLst/>
          </a:prstGeom>
          <a:ln w="0">
            <a:noFill/>
          </a:ln>
        </p:spPr>
      </p:pic>
      <p:sp>
        <p:nvSpPr>
          <p:cNvPr id="3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5" descr="mini_abort1sm"/>
          <p:cNvPicPr/>
          <p:nvPr/>
        </p:nvPicPr>
        <p:blipFill>
          <a:blip r:embed="rId1"/>
          <a:stretch/>
        </p:blipFill>
        <p:spPr>
          <a:xfrm>
            <a:off x="0" y="-19080"/>
            <a:ext cx="9144000" cy="6858000"/>
          </a:xfrm>
          <a:prstGeom prst="rect">
            <a:avLst/>
          </a:prstGeom>
          <a:ln w="0">
            <a:noFill/>
          </a:ln>
        </p:spPr>
      </p:pic>
      <p:sp>
        <p:nvSpPr>
          <p:cNvPr id="3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8"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69"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0"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1"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2"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3"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4"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5" descr="abort23sm"/>
          <p:cNvPicPr/>
          <p:nvPr/>
        </p:nvPicPr>
        <p:blipFill>
          <a:blip r:embed="rId1"/>
          <a:stretch/>
        </p:blipFill>
        <p:spPr>
          <a:xfrm>
            <a:off x="0" y="0"/>
            <a:ext cx="9144000" cy="6853320"/>
          </a:xfrm>
          <a:prstGeom prst="rect">
            <a:avLst/>
          </a:prstGeom>
          <a:ln w="0">
            <a:noFill/>
          </a:ln>
        </p:spPr>
      </p:pic>
      <p:sp>
        <p:nvSpPr>
          <p:cNvPr id="382"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3"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4"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5"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6"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89"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2"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5-02-13T11:12:32Z</dcterms:modified>
  <cp:revision>7</cp:revision>
  <dc:subject/>
  <dc:title>Аборт как социально-медицинская проблема</dc:title>
</cp:coreProperties>
</file>