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0B5C-BECA-42A4-976B-E05759DF7A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slide" Target="../slides/slide7.xml"/><Relationship Id="rId5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slide" Target="../slides/slide9.xml"/><Relationship Id="rId7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мунолог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F6AC-6DF6-4425-A9DD-5BD7C09AB4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66B2-900E-4D09-A8F7-42574714C5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комплемент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гаптенов; Родни Портер (Rodney Porter; 1917-1985) и Джеральд Эдельман (Gerald Edelman; 1929), изучившие структуру антител; Джордж Снелл (George Snell), Барух Венацерраф (Baruj Benacerraf) и Жан Доссе (Jean Dausset), описавшие главный комплекс гистосовместимости у животных и человека и открывшие гены иммунного от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40DC-B27B-4F82-AB13-F726509ECA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852-2B1B-4B65-8EF0-410FB9F5FD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мену инокуляции пришел метод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акцин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35A8-D594-49E7-BB02-232F30B135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A4D7-1BED-4165-99BA-3250EA0520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антител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Работы этих ученых положили начало изучению механизмо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ого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1FC5-2374-4933-9A9B-D8E9850CACA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83 году он сделал первое сообщение по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агоцитарной (клеточной)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крофа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ейтрофи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BAE2-857D-4516-AE15-8FEAF0096D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антител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теорию "боковых цепей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антиг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83EC-A00C-4AC8-90FB-0C6B1BF823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еори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клеточ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фагоцитарная) и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гумор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230D-7412-44D3-86B2-596D1C7C32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лимф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иммуноц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толеран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Именно Бернет указал на особую ро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иму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клонально-селекционной теории иммуните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8D32-57AE-416F-9B86-BE704E09C1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E530-08C6-4692-A01E-77113992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808B-8638-4B28-A6D6-E5E3BE7C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E5F6-F10C-4395-98F2-6C899EF9E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9C3F-5B0F-4710-8763-50880C4D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6928-1DCE-4753-BD5C-A9AE2CC6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4B2A-3931-4575-B896-4BAE3C9E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7BCC-5001-4C18-AD5C-8AF912C1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0514-F451-4760-857B-FA3C9946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0758-008D-4DD1-88AF-EE000931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484A-3874-4339-A7CC-056351D6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CB85-4521-430F-912C-F09DAE49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6FA7-F7C2-4B6F-9D0C-621FD41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4367-A387-4D31-AF03-8B8C93C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97FA-8E09-4F79-8E30-5E086E8B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2E57-9EC4-4293-BF6D-CC8A2D37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186C-11FD-465E-BBC4-C85C8F82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580D0-9633-4FB9-8729-D9033B64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3280-AC78-4A9C-8868-D5CBE26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8ABB-FFC0-439F-B83C-D44BE76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2B4BC-E4F5-428F-9551-130C2A8E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A4AA-7054-4AD7-B7C1-219A92A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2B26-C7ED-4BC3-B998-01E5371F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EAF3-D493-4B0C-AE5F-B29B1F1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5D15-8D05-4361-8197-66B9183E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E065-578E-4F89-84D7-1BA4CAA92A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294B-F4B0-446E-9302-E945E9C9359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u.wikipedia.org/wiki/&#1040;&#1085;&#1075;&#1083;&#1080;&#1081;&#1089;&#1082;&#1080;&#1081;_&#1103;&#1079;&#1099;&#1082;" TargetMode="External"/><Relationship Id="rId3" Type="http://schemas.openxmlformats.org/officeDocument/2006/relationships/hyperlink" Target="http://ru.wikipedia.org/wiki/28_&#1092;&#1077;&#1074;&#1088;&#1072;&#1083;&#1103;" TargetMode="External"/><Relationship Id="rId4" Type="http://schemas.openxmlformats.org/officeDocument/2006/relationships/hyperlink" Target="http://ru.wikipedia.org/wiki/1915" TargetMode="External"/><Relationship Id="rId5" Type="http://schemas.openxmlformats.org/officeDocument/2006/relationships/hyperlink" Target="http://ru.wikipedia.org/wiki/&#1056;&#1080;&#1086;-&#1076;&#1077;-&#1046;&#1072;&#1085;&#1077;&#1081;&#1088;&#1086;" TargetMode="External"/><Relationship Id="rId6" Type="http://schemas.openxmlformats.org/officeDocument/2006/relationships/hyperlink" Target="http://ru.wikipedia.org/wiki/2_&#1086;&#1082;&#1090;&#1103;&#1073;&#1088;&#1103;" TargetMode="External"/><Relationship Id="rId7" Type="http://schemas.openxmlformats.org/officeDocument/2006/relationships/hyperlink" Target="http://ru.wikipedia.org/wiki/1987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3eaa.htm" TargetMode="External"/><Relationship Id="rId2" Type="http://schemas.openxmlformats.org/officeDocument/2006/relationships/hyperlink" Target="http://humbio.ru/humbio/immunology/imm-gal/0006290a.htm" TargetMode="External"/><Relationship Id="rId3" Type="http://schemas.openxmlformats.org/officeDocument/2006/relationships/hyperlink" Target="http://humbio.ru/humbio/immunology/imm-gal/00049f5d.htm" TargetMode="External"/><Relationship Id="rId4" Type="http://schemas.openxmlformats.org/officeDocument/2006/relationships/hyperlink" Target="http://humbio.ru/humbio/immunology/imm-gal/0007256e.htm" TargetMode="External"/><Relationship Id="rId5" Type="http://schemas.openxmlformats.org/officeDocument/2006/relationships/hyperlink" Target="http://humbio.ru/humbio/immunology/imm-gal/0001499b.htm" TargetMode="External"/><Relationship Id="rId6" Type="http://schemas.openxmlformats.org/officeDocument/2006/relationships/hyperlink" Target="http://upload.wikimedia.org/wikipedia/commons/8/8d/RobertKoch_cropped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54f32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2/Louis_Pasteur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bd465.htm" TargetMode="External"/><Relationship Id="rId3" Type="http://schemas.openxmlformats.org/officeDocument/2006/relationships/hyperlink" Target="http://humbio.ru/humbio/physiology/000997ac.htm" TargetMode="External"/><Relationship Id="rId4" Type="http://schemas.openxmlformats.org/officeDocument/2006/relationships/hyperlink" Target="http://upload.wikimedia.org/wikipedia/commons/4/4f/Ilja_Iljitsch_Metschnikow_Nadar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humbio.ru/humbio/immunology/imm-gal/0008008e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49f5d.htm" TargetMode="External"/><Relationship Id="rId2" Type="http://schemas.openxmlformats.org/officeDocument/2006/relationships/hyperlink" Target="http://humbio.ru/humbio/immunology/imm-gal/001256e5.htm" TargetMode="External"/><Relationship Id="rId3" Type="http://schemas.openxmlformats.org/officeDocument/2006/relationships/hyperlink" Target="http://humbio.ru/humbio/immunology/imm-gal/00045fb3.htm" TargetMode="External"/><Relationship Id="rId4" Type="http://schemas.openxmlformats.org/officeDocument/2006/relationships/hyperlink" Target="http://upload.wikimedia.org/wikipedia/commons/4/45/Paul_Ehrlich.pn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8008e.htm" TargetMode="External"/><Relationship Id="rId2" Type="http://schemas.openxmlformats.org/officeDocument/2006/relationships/hyperlink" Target="http://humbio.ru/humbio/immunology/imm-gal/0007ceb2.htm" TargetMode="External"/><Relationship Id="rId3" Type="http://schemas.openxmlformats.org/officeDocument/2006/relationships/hyperlink" Target="http://upload.wikimedia.org/wikipedia/commons/d/d6/Paul_Ehrlich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umbio.ru/humbio/immunology/imm-gal/000bbbe9.htm" TargetMode="External"/><Relationship Id="rId2" Type="http://schemas.openxmlformats.org/officeDocument/2006/relationships/hyperlink" Target="http://humbio.ru/humbio/immunology/imm-gal/0009a383.htm" TargetMode="External"/><Relationship Id="rId3" Type="http://schemas.openxmlformats.org/officeDocument/2006/relationships/hyperlink" Target="http://humbio.ru/humbio/immunology/imm-gal/00093dd0.htm" TargetMode="External"/><Relationship Id="rId4" Type="http://schemas.openxmlformats.org/officeDocument/2006/relationships/hyperlink" Target="http://humbio.ru/humbio/immunology/imm-gal/00154e33.htm" TargetMode="External"/><Relationship Id="rId5" Type="http://schemas.openxmlformats.org/officeDocument/2006/relationships/hyperlink" Target="http://humbio.ru/humbio/immunology/imm-gal/000b13fc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cc"/>
                </a:solidFill>
                <a:latin typeface="Tahoma"/>
              </a:rPr>
              <a:t>Иммунология</a:t>
            </a:r>
            <a:br>
              <a:rPr sz="8000"/>
            </a:b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4572000" y="6488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итель Большаков С. 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843280" y="549000"/>
            <a:ext cx="5843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обого внимания заслуживают взгляды Бернета на иммунитет как на такую реакцию организма, которая отличает все "свое" от всего "чужого". После доказательств Питером Медаваром иммунной природы отторжения чужеродного трансплантата и накопления фактов по иммунологии злокачественных новообразований стало очевидным, что иммунная реакция развивается не только на микробные антигены, но и тогда, когда имеются любые, пусть незначительные антигенные различия между организмом и тем биологическим материалом (трансплантатом, злокачественной опухолью), с которым встречается организм.  Строго говоря, ученые прошлого, включая Мечникова, понимали, что предназначение иммунитета - не только борьба с инфекционными агентами. Однако интересы иммунологов первой половины нашего столетия концентрировались в основном на разработке проблем инфекционной патологии. Необходимо было время, чтобы естественный ход научного познания позволил выдвинуть концепцию роли иммунитета в индивидуальном развитии. И автором нового обобщения был Бернет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Питер Медавар (Peter Medawar)"/>
          <p:cNvPicPr/>
          <p:nvPr/>
        </p:nvPicPr>
        <p:blipFill>
          <a:blip r:embed="rId1"/>
          <a:stretch/>
        </p:blipFill>
        <p:spPr>
          <a:xfrm>
            <a:off x="324000" y="549360"/>
            <a:ext cx="2431800" cy="30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9"/>
          <p:cNvSpPr/>
          <p:nvPr/>
        </p:nvSpPr>
        <p:spPr>
          <a:xfrm>
            <a:off x="250920" y="3689640"/>
            <a:ext cx="288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тер Брайан Медавар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англ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Sir Peter Brian Medawar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(р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3"/>
              </a:rPr>
              <a:t>28 февра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4"/>
              </a:rPr>
              <a:t>1915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5"/>
              </a:rPr>
              <a:t>Рио-де-Жанейр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— у.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6"/>
              </a:rPr>
              <a:t>2 октябр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Arial"/>
                <a:hlinkClick r:id="rId7"/>
              </a:rPr>
              <a:t>198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 — английский биолог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700000" y="476280"/>
            <a:ext cx="5986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ольшой вклад в становление современной иммунологии внесли также Роберт Кох (Robert Koch; 1843-1910), открывший возбудитель туберкулеза и описавший кожную туберкулиновую реакцию; Жюль Борде (Jules Bordet; 1870-1961), сделавший важный вклад в пониман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омплемен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зависимого лизиса бактерий; Карл Ландштейнер (Karl Landsteiner; 1868-1943), получивший Нобелевскую премию за открытие групп крови и разработавший подходы к изучению тонкой специфичности антител с помощью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аптенов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Родни Портер (Rodney Porter; 1917-1985) и Джеральд Эдельман (Gerald Edelman; 1929), изучившие структуру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тел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; Джордж Снелл (George Snell), Барух Венацерраф (Baruj Benacerraf) и Жан Доссе (Jean Dausset), описа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главный комплекс гистосовместим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у животных и человека и открывши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гены иммунного отв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Файл:RobertKoch cropped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50920" y="47628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613440" y="33577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берт К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мунология как определенное направление исследований возникла из практической необходимости борьбы с инфекционными заболеваниям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еются свидетельства тому, что первые прививки оспы проводили в Китае за тысячу лет до Рождества Христова. Инокуляция содержимого оспенных пустул здоровым людям с целью их защиты от острой формы заболевания распространилась затем в Индию, Малую Азию, Европу, на Кавказ. Однако прием искусственного заражения натуральной (человеческой) оспой не во всех случаях давал положительные результаты. Иногда после инокуляции отмечалась острая форма заболевания и даже смер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564000" y="404640"/>
            <a:ext cx="512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смену инокуляции пришел метод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вакцин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от лат. vacca - корова), разработанный в конце XVIIIв. английским врачом Э.Дженнером (E.Jenner). Он обратил внимание на тот факт, что молочницы, ухаживавшие за больными животными, иногда заболевали в крайне слабой форме оспой коров, но при этом никогда не болели натуральной оспой. Подобное наблюдение давало в руки исследователя реальную возможность борьбы с болезнью людей. В 1796г., через 30 лет после начала своих изысканий, Э.Дженнер решился апробировать метод вакцинации коровьей оспой. Эксперимент прошел успешно, и с тех пор способ вакцинации по Э.Дженнеру нашел широкое применение во всем ми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ospa3"/>
          <p:cNvPicPr/>
          <p:nvPr/>
        </p:nvPicPr>
        <p:blipFill>
          <a:blip r:embed="rId2"/>
          <a:stretch/>
        </p:blipFill>
        <p:spPr>
          <a:xfrm>
            <a:off x="324000" y="476280"/>
            <a:ext cx="3233520" cy="3816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252800" y="45813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E.Jenn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924000" y="404280"/>
            <a:ext cx="476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ождение инфекционной иммунологии связывают с именем выдающегося французского ученого Луи Пастера (Louis Paster). Первый шаг к целенаправленному поиску вакцинных препаратов, создающих устойчивый иммунитет к инфекции, был сделан после хорошо известного наблюдения Пастера над патогенностью возбудителя куриной холеры. Было показано, что заражение кур ослабленной (аттенуированной) культурой возбудителя создает невосприимчивость к патогенному микробу (1880г). В 1881г. Пастер продемонстрировал эффективный подход к иммунизации коров против сибирской язвы, а в 1885г. ему удалось показать возможность защиты людей от бешенств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Файл:Louis Pasteu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76280"/>
            <a:ext cx="3571560" cy="4321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 40-50-м годам нашего столетия принципы вакцинации, заложенные Пастером, нашли свое проявление в создании целого арсенала вакцин против самого широкого набора инфекционных заболевани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отя Пастер считается основателем инфекционной иммунологии, он ничего не знал о факторах, включенных в процесс защиты от инфекции. Первыми, кто пролил свет на один из механизмов невосприимчивости к инфекции, были Беринг (Behring) и Китазато (Kitasato). Они продемонстрировали, что сыворотка от мышей, предварительно иммунизированных столбнячным токсином, введенная интактным животным, защищает последних от смертельной дозы токсина. Образовавшийся в результате иммунизации сывороточный фактор - антитоксин - представлял собой первое обнаруженное специфическое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антител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Работы этих ученых положили начало изучению механизм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2565360"/>
            <a:ext cx="8686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83 году он сделал первое сообщение по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фагоцитарной (клеточной)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съезде врачей и естествоиспытателей в Одессе. Мечников утверждал тогда, что способность подвижных клеток беспозвоночных животных поглощать пищевые частицы, т.е. участвовать в пищеварении, есть фактически их способность поглощать вообще все "чужое", не свойственное организму: различных микробов, инертных частиц, отмирающих частей тела. У человека также есть амебоидные подвижные клетк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макрофа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нейтрофи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Но "едят" они пищу особого рода - патогенных микробов. Эволюция сохранила поглотительную способность амебоидных клеток от одноклеточных животных до высших позвоночных, включая человека. Однако функция этих клеток у высокоорганизованных многоклеточных стала иной - это борьба с микробной агресси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Файл:Ilja Iljitsch Metschnikow Nadar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1280" y="260280"/>
            <a:ext cx="3024000" cy="2154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3995640" y="260280"/>
            <a:ext cx="41911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истоков познания вопросов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6"/>
              </a:rPr>
              <a:t>клеточного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тоял русский биолог-эволюционист Илья Мечн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908000" y="549000"/>
            <a:ext cx="67788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раллельно с Мечниковым разрабатывал свою теорию иммунной защиты от инфекции немецкий фармаколог Пауль Эрлих. Он знал о том факте, что в сыворотке крови животных, зараженных бактериями, появляются белковые вещества, способные убивать патогенные микроорганизмы. Эти вещества впоследствии были названы им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 антитела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Самое характерное свойство антител - это их ярко выраженная специфичность. Образовавшись как защитное средство против одного микроорганизма, они нейтрализуют и разрушают только его, оставаясь безразличными к другим. Пытаясь понять это явление специфичности, Эрлих выдвинул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теорию "боковых цепей"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по которой антитела в виде рецепторов предсуществуют на поверхности клеток. При этом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антиге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микроорганизмов выступает в качестве селективного фактора. Вступив в контакт со специфическим рецептором, он обеспечивает усиленную продукцию и выход в циркуляцию только этого конкретного рецептора (антитела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7" descr="Файл:Paul Ehrlich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9960" y="1557360"/>
            <a:ext cx="1689120" cy="23893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780000" y="404280"/>
            <a:ext cx="4906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зорливость Эрлиха поражает, поскольку с некоторыми изменениями эта в целом умозрительная теория подтвердилась в настоящее врем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ве теори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клеточ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(фагоцитарная) и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гуморальна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в период своего возникновения стояли на антагонистических позициях. Школы Мечникова и Эрлиха боролись за научную истину, не подозревая, что каждый удар и каждое его парирование сближало противников. В 1908г. обоим ученым одновременно была присуждена Нобелевская преми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Файл:Paul Ehrlich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76280"/>
            <a:ext cx="3247920" cy="3600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324000" y="4109040"/>
            <a:ext cx="35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уль Эрлих. Портрет на банкноте в 200 марок 1996 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700000" y="475920"/>
            <a:ext cx="5986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он в значительной степени определил лицо современной иммунологии. Рассматривая иммунитет как реакцию, направленную на дифференциацию всего "своего" от всего "чужого", он поднял вопрос о значении иммунных механизмов в поддержании генетической целостности организма в период индивидуального (онтогенетического) развития. Именно Бернет обратил внимание на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лимф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как на основного участника специфического иммунного реагирования, дав ему название "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 иммуноцит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". Именно Бернет предсказал, а англичанин Питер Медавар и чех Милан Гашек экспериментально подтвердили состояние, противоположное иммунной реактивности -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толерантност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Именно Бернет указал на особую ро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тиму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формировании иммунного ответа. И наконец, Бернет остался в истории иммунологии как создатель </a:t>
            </a:r>
            <a:r>
              <a:rPr b="0" lang="ru-RU" sz="20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клонально-селекционной теории иммунитет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Формула такой теории проста: один клон лимфоцитов способен реагировать только на одну конкретную антигенную специфическую детерминан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7" descr="3b92a30ca276c"/>
          <p:cNvPicPr/>
          <p:nvPr/>
        </p:nvPicPr>
        <p:blipFill>
          <a:blip r:embed="rId6"/>
          <a:stretch/>
        </p:blipFill>
        <p:spPr>
          <a:xfrm>
            <a:off x="468360" y="476280"/>
            <a:ext cx="2090520" cy="3024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79280" y="37162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ый этап развития иммунологии связан в первую очередь с именем выдающегося австралийского ученого М.Бернета (Macfarlane Burnet; 1899-1985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28:07Z</dcterms:created>
  <dc:creator>User</dc:creator>
  <dc:description/>
  <dc:language>en-US</dc:language>
  <cp:lastModifiedBy>LEGION</cp:lastModifiedBy>
  <dcterms:modified xsi:type="dcterms:W3CDTF">2015-02-13T11:14:20Z</dcterms:modified>
  <cp:revision>9</cp:revision>
  <dc:subject/>
  <dc:title>Иммунология: исторический обзор </dc:title>
</cp:coreProperties>
</file>