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2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2A3F-4FCA-4785-AD4A-F4673E9A95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BC3D-2908-43A7-957C-D89EEF42CB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шибки питания, ведущие к возникновению болезней желудочно-кишечного тра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 еди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ы едим слишком жир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ы неправильно выбираем 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 пье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ы едим неправи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ы едим слишком много слад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ы неправильно готов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ы слишком часто лакомим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ы слишком мало знаем о пит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93E5-1465-4A91-8442-E9DE6A0270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равила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рное питание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ща должна иметь привлекательный вид, приятный запах и вку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знообразное пит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меренность в 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ть не торопя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облюдение правил личной гиги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D631-0052-49C7-B850-AED3F3E1B7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зменения, которым подвергается пища в органах пищевари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пищевод – продвижение пищи в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5A77-478E-4345-B344-A1728527D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FE74-D451-4855-8813-1394E1F5D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BC13-0E45-41EB-8C2A-DD2441F9DD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D6AF-9A8E-4D6F-909C-900DEECFC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стные инваз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гельминтами происходит фекально-оральным путем через р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з-за прямых контактов с землей, пес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загрязненные предм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продукты пит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редством насекомых (мух, тараканов, муравье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контакты с животными (собаки, ко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AB8F-AF25-4B9D-B939-3F465AF441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ым синдромом при глистной инвазии является дисфункция Ж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устойчивый ст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евой синд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ыжка, тошнота, быстрое насы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амых частых проявлений глистной инвазии является алл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ениями интоксикации при гельминтозах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ипение зуб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ражительность, капризность, агресс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96CB-D7FD-4A4C-BFD1-6118FC1440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951F-67E4-4E09-9F0A-3E3BFC10BA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тье рук с мылом после уборной, контактов с животными или с зем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Термическая обработка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т те условия, которые помогут избежать желудочно-кишечных инфекци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D08D-C144-4A9E-9CD0-BCB39D8714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A8F-3FA4-46D4-839B-0EB78816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1B0-2ED1-43E1-961E-ABD51539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466-944D-4940-BF42-08FA238E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8C5-E967-4E6B-BB45-E911AA3E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F18-1733-4B01-95F0-C180E59B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3B4-8A53-45AA-949D-8A0DF59E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56B-77F2-4420-879A-75040705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68A-D7F3-43AA-B4FA-498CE1B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8F6-F1BB-4D67-BCD6-91DB89CC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019-0C1D-4B83-895A-7918B63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EDF-1190-4766-AC5E-6C22F5B5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B27-DCD4-40F1-B3D1-F0154891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6627-8F28-4959-9BAF-AE9B40829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6071760"/>
            <a:ext cx="61149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392436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шибки питания, ведущие к возникновению болезней желудочно-кишечного тра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1640" y="206064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 еди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ы едим слишком жи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ы неправильно выбираем е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 пье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ы едим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ы едим слишком много слад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ы неправильно готов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Мы слишком часто лакоми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Мы слишком мало знаем о п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08908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6659640" y="3716280"/>
            <a:ext cx="2087640" cy="2962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авил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228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егулярное пита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ща должна иметь привлекательный вид, приятный запах и вк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нообразное пит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меренность в 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Есть не торопя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облюдение правил личной гиги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51280" cy="21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2503440" cy="2881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102280" cy="638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910800"/>
            <a:ext cx="3851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ищевод – продвижение пищи в желуд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, которым подвергается пища в органах пищеваритель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94160" y="3933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мон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580000" y="393372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очки боту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797080" y="63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ный виб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2879640" cy="194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044000" y="630864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зентерий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я передается через зараженные пищевые продукты – мясо, рыбу, молоко, салат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0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истные инв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ение гельминтами происходит фекально-оральным путем через ро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з-за прямых контактов с землей, п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загрязненные предм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продукты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редством насекомых (мух, тараканов, муравь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ез контакты с животными (собаки, ко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735280" cy="32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873160" cy="3240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40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ым синдромом при глистной инвазии является дисфункция Ж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устойчивый сту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олевой синд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ыжка, тошнота, быстрое насы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самых частых проявлений глистной инвазии является алле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ми интоксикации при гельминтозах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ение зуб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, капризность, агресс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16036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4859280" y="45529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476360" y="4554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3635280" y="1916280"/>
            <a:ext cx="1513080" cy="2447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88000" y="476280"/>
            <a:ext cx="4114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тье рук с мылом после уборной, контактов с животными или с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рмическая обработка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те условия, которые помогут избежать желудочно-кишечных инфек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17492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51:53Z</dcterms:created>
  <dc:creator>Admin</dc:creator>
  <dc:description/>
  <dc:language>en-US</dc:language>
  <cp:lastModifiedBy>LEGION</cp:lastModifiedBy>
  <dcterms:modified xsi:type="dcterms:W3CDTF">2015-02-13T11:14:50Z</dcterms:modified>
  <cp:revision>15</cp:revision>
  <dc:subject/>
  <dc:title>Слайд 1</dc:title>
</cp:coreProperties>
</file>