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DEFC-5ECB-42FF-BD9C-7C5111E759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утомлени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В.А Ковалё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B588-FA81-42EB-BFE5-F2DFB09DB56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ссаж активных точек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ж точек на висках на ли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уголка глаза снаружи до козелка на ушной ракови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ижения паль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ообраз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исующими букву “с”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 - 15 с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Затем выполня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ирание переносиц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близко к уголкам глаз, по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глаз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линии крыльев но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дбровные д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низу ближе к перенос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544E-C524-4D40-805B-92AB7649024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енажер “Флажок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цвет использовать и когда? В понедельник используетс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рас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еле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, как и в среду. Затем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уб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иолето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AD12-F4D0-435D-932A-83B0E21685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для тренажёра «Флаж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Восьмер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ется мед­ленно, рисуется восьмерка, лежащая на б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Ромбик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Пил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44C6-680B-4718-9555-8002E1B18D2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ажёр «Видеоазиму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несколько вариантов тренажер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большой, для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то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веши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с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могает  снять зрительное уто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85C1-1483-42CA-AF1B-17D0573B284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а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бежать взором зелены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бежать взором диагональ из угла в угол. Поочередно кажд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ертикаль и горизонталь в той же дозиров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866F-743F-4A71-9AB1-407D8C41D5A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«Чт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C48A-CCB8-4AB0-95BA-E2FC0316460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класс «Окружающий мир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на тему «Если хочешь быть здоров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8B30-52F2-4F43-8803-0BFB076CA5D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AB7-DE58-4209-A82F-0D3B5AB1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783-E106-48B8-95E8-5247BA8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204-FDF7-486D-A9BC-4EE288A2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ACE-17C7-46FE-95A9-D814D628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968D-BE93-4E06-9299-67E4C854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46A2-0FCB-48BA-B3D8-155C6E5E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BBDC-AB82-41A3-A226-C9D43B87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017B-923E-4D67-AA5D-2FF0FBE0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93A0-37DA-45B3-8AC1-B1BE4917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1B75-FBC9-43CE-85D0-72F638F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EAF6-3506-4131-BB5C-5033DD84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769-8D50-4949-BECA-32C1D3C6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3181-6CA6-4CA0-ABE5-A10B2C4D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F497-EFDB-4C80-831C-22B654DD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EEEF-1495-416E-B5FC-557850B5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2207-85B1-45E9-8746-60E388F9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8568-74A3-4BE0-BE7B-7939A3E5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C72-02E7-4DE3-863C-71F9A4A6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671-BE51-41DB-B099-C58B4792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C69-C2DB-4180-B18E-632009F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171-1FD0-47F8-B058-3728F08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A19-69A4-491A-87FA-618640C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304-3B20-4085-97A0-515D275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6D6-3D47-4665-A696-876C551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C17-4AC0-4EF3-89F2-046CEE7478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6CC-80E7-49E4-BEB2-59CFA0C764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631280" cy="297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филактика утомления гл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а В.А Ковалё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ассаж активных точек л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ж точек на висках на ли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уголка глаза снаружи до козелка на ушной раков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ижения пальц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угообраз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исующими букву “с”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мя - 15 с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Затем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ирание переносиц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остаточно близко к уголкам глаз, потом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глаз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линии крыльев носа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дбровные дуг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низу ближе к переноси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Тренажер “Флажок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цвет использовать и когда? В понедельник использу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цвет, как и в среду. Затем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Восьмерка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олняется мед­ленно, рисуется восьмерка, лежащая на б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Ромбик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Пила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ражнения для тренажёра «Флажо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енажёр «Видеоазиму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жно быть несколько вариантов тренажера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небольшой, для работы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сто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г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вешивает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дос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могает  снять зрительное утомлен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видеоазиму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хема упраж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2803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Оббежать взором зеленый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Оббежать взором диагональ из угла в угол. Поочередно кажд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ертикаль и горизонталь в той же дозировк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класс «Чт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класс «Окружающий мир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на тему «Если хочешь быть здоров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9:02:16Z</dcterms:created>
  <dc:creator>Admin</dc:creator>
  <dc:description/>
  <dc:language>en-US</dc:language>
  <cp:lastModifiedBy>LEGION</cp:lastModifiedBy>
  <dcterms:modified xsi:type="dcterms:W3CDTF">2015-02-13T11:15:19Z</dcterms:modified>
  <cp:revision>7</cp:revision>
  <dc:subject/>
  <dc:title>Профилактика зрительного утомления и нарушений зрения у учащихся массовой школы  </dc:title>
</cp:coreProperties>
</file>