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3.jpeg" ContentType="image/jpeg"/>
  <Override PartName="/ppt/media/image4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2.jpeg" ContentType="image/jpeg"/>
  <Override PartName="/ppt/media/image13.png" ContentType="image/png"/>
  <Override PartName="/ppt/media/image48.png" ContentType="image/png"/>
  <Override PartName="/ppt/media/image5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11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34.jpeg" ContentType="image/jpeg"/>
  <Override PartName="/ppt/media/image7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D090-98CB-4FC5-A69A-C52B147B608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ила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Явление тяготения. Сила тяже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C6DA-E766-4A92-9EBD-566A461C6E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я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ила тяжести, Н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g– коэффициент силы тяжести, Н/кг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– масса тела, кг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ила тяжести, действующая на тело, прямо пропорциональна массе этого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9FC4-EFB6-4EED-9648-B17DFAD2F2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эффициенты силы тяжести, Н/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mbria"/>
              </a:rPr>
              <a:t>Объясните, почему сила тяжести на экваторе меньше силы тяжести на полюсах Зем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mbria"/>
              </a:rPr>
              <a:t>Будет ли сила тяжести на вершине горы меньше, чем у её поднож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6FDD-7C40-4412-A499-B9CB6A843E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увеличивается с увеличением массы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зависит от места наблю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измеряется в килограм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на Земле везде одинак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уменьшается при удалении от поверхности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на поверхности всех планет одинаков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действует только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8E01-133D-4F0F-B62F-2BC5DB8BC1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ринято говор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mbria"/>
              </a:rPr>
              <a:t>«На тело действует си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mbria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mbria"/>
              </a:rPr>
              <a:t>«К телу приложена си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D546-67C7-430F-8967-E05FED51E3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42217"/>
                </a:solidFill>
                <a:latin typeface="Cambria"/>
              </a:rPr>
              <a:t>Сила, действующая на тело, может изменить не только 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скорость всего тела, </a:t>
            </a:r>
            <a:r>
              <a:rPr b="1" lang="ru-RU" sz="1200" spc="-1" strike="noStrike">
                <a:solidFill>
                  <a:srgbClr val="4e1610"/>
                </a:solidFill>
                <a:latin typeface="Cambria"/>
              </a:rPr>
              <a:t>но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 и его отдельных ча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3BB7-F856-4ED2-BC16-65538765E8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Сила – мера взаимодействия те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результате воздействия силы тела могут изменить скорость или деформирова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Сила – физическая велич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е можно измери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Сила – векторная велич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на характеризуется направл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A1FA-E429-44CD-987A-EC9F3EB7A9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80d9b"/>
                </a:solidFill>
                <a:latin typeface="Calibri"/>
              </a:rPr>
              <a:t>Явление тягот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Что произойдет, если?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80d9b"/>
                </a:solidFill>
                <a:latin typeface="Calibri"/>
              </a:rPr>
              <a:t>Мы уронили поклажу из рук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80d9b"/>
                </a:solidFill>
                <a:latin typeface="Calibri"/>
              </a:rPr>
              <a:t>Мы подбросили вверх мяч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80d9b"/>
                </a:solidFill>
                <a:latin typeface="Calibri"/>
              </a:rPr>
              <a:t>Мы бросили в горизонтальном направлении палк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0901-91A2-4848-9455-9B60B33BEB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mbria"/>
              </a:rPr>
              <a:t>Некоторые примеры воздействия силы притяжения к Зем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EF1B-753F-43B6-9269-DCF0827834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ритяжение существует меж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Землей и телами, находящимися на 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mbria"/>
              </a:rPr>
              <a:t>Притяжение всех тел Вселенной друг к другу называется </a:t>
            </a:r>
            <a:r>
              <a:rPr b="1" lang="ru-RU" sz="1200" spc="-1" strike="noStrike">
                <a:solidFill>
                  <a:srgbClr val="c00000"/>
                </a:solidFill>
                <a:latin typeface="Cambria"/>
              </a:rPr>
              <a:t>Всемирным тягот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Все тела притягиваются друг к д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90E4-1DEE-4A17-AC15-FFA70A1B12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нглийский ученый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саак Ньютон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рвым доказал и установил закон всемирного тяго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Силы притяжения между телами тем больше, чем больше массы этих т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0d9b"/>
                </a:solidFill>
                <a:latin typeface="Calibri"/>
              </a:rPr>
              <a:t>Силы притяжения между телами уменьшаются, если увеличивается расстояние между н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3ED2-8855-48BE-9A94-C17DB95B44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0d9b"/>
                </a:solidFill>
                <a:latin typeface="Calibri"/>
              </a:rPr>
              <a:t>Сила, с которой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Земля</a:t>
            </a:r>
            <a:r>
              <a:rPr b="1" lang="ru-RU" sz="1200" spc="-1" strike="noStrike">
                <a:solidFill>
                  <a:srgbClr val="280d9b"/>
                </a:solidFill>
                <a:latin typeface="Calibri"/>
              </a:rPr>
              <a:t> притягивает к себе тело, называется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илой тяжести</a:t>
            </a:r>
            <a:r>
              <a:rPr b="1" lang="ru-RU" sz="1200" spc="-1" strike="noStrike">
                <a:solidFill>
                  <a:srgbClr val="280d9b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означение силы тяжести: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F</a:t>
            </a:r>
            <a:r>
              <a:rPr b="1" lang="ru-RU" sz="1000" spc="-1" strike="noStrike">
                <a:solidFill>
                  <a:srgbClr val="c00000"/>
                </a:solidFill>
                <a:latin typeface="Calibri"/>
              </a:rPr>
              <a:t>тяж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Calibri"/>
              </a:rPr>
              <a:t>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Направление силы тяжести: </a:t>
            </a:r>
            <a:r>
              <a:rPr b="1" lang="ru-RU" sz="1100" spc="-1" strike="noStrike">
                <a:solidFill>
                  <a:srgbClr val="c00000"/>
                </a:solidFill>
                <a:latin typeface="Calibri"/>
              </a:rPr>
              <a:t>вертикально вниз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97D3-D29D-4C37-93FF-D7A491F0A8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0D44-85B0-4A1E-8DB5-685984E9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088F-D07D-4777-9F59-02511CEC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0A63-7CDE-42CE-B0F8-4867C586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41B1-E732-4737-903D-4E053C95A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38BB-0465-4CB7-AB47-86519CF9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92C8-2C1A-4F1C-A8F0-59758272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9101-005E-4D46-AAEB-E55D8EB0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D324-7A44-4CBA-98EA-8BE6808A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6D84-E575-4FB0-8359-E49B3CCE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EA37-F3E5-4378-956E-AF1740FD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DFA5-EED3-43CF-BB15-3EA773E0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0C60-C641-49D3-B3D4-A62A8628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3F51-E406-448F-83C7-4CED92B5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C4D0-661F-4225-86EA-6E5B17A1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0271-8632-4B3F-AE18-3652A6C7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D9FD-8FDD-48BE-B704-0C7DF8890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238D-0053-4B39-B132-6DD8B92CE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7827B-C13D-4A7D-97D6-B0119006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A9434-2CF4-486A-BDC2-3A2314F8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CEB9E-E30C-482C-8901-09246EB9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AD735-1CC8-45D0-AA8E-A221A777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2613A-71F6-4F15-83A2-ADBF8AA6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DBBC-4323-4114-BD19-5E64ED7B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8F294-045A-48AC-9102-5583874D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381B4-C033-4057-88E7-F91E5F79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D9F90-E8C4-440A-BC4C-DA3C7DC3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16527-884B-4171-ACF0-CD00DBD7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A1CE7-BDB5-48A5-8F23-6641F76C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D15C8-4708-4A83-B937-A530D091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E1B4F-F088-4314-81D0-D32CFC6B8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E52EB-C5CD-4590-84CB-AA1EBE3AF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8E20E-88CE-4445-B73A-E139316B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547AD-D756-408B-A012-151BB8EE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919F-7B90-4484-A0DA-A1FB0720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D8FDB-3FF6-4BF9-8BA4-0278EAB5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F2726-368B-43EA-8440-F6385394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7F56B-F28B-48E7-887A-A11C0E12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81E5F-AE29-41B6-B881-08588838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24297-4D33-4A6E-855A-54C620E9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B9629-96D4-4A37-8C45-5F014408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EB9C1-1A2A-42D1-A510-BF655038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8440B-7F84-4017-B720-811BBB02C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3ACE1-6D65-4D26-8423-7A192953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E67C7-0EE4-49D5-ADE2-3248AAC5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C587-9D6E-4B1D-B3C5-E1EA8588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22C56-476F-4E99-88F9-D9B33631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38A6D-42F5-4A54-A5DA-C4E695D8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65111-F282-49A5-854D-15F720DD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95FAF-78F8-441F-AB52-D6D4B9BC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6F0F1-D953-47B9-BE23-DEFAA437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6974E-1EED-4837-872A-A311E563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F7CF3-509D-4827-BA84-99AFEB94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8A8F9-8416-4C50-9BB3-8D9131D5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26270-3367-4AD0-9091-A13AE93F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4C004-5B23-4440-9CB2-7D1C35C8E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69AB-40A3-4051-B4E2-6D6EEE33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A703A-7B17-4380-AB98-10D63754A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5AF7-E95F-4AC0-8241-7F8314E9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34A6-0343-4409-BB66-25D6DDE7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2C69-7A29-429D-9064-370CF5DE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E69F-398A-409C-986A-6960D7C46CC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8B39-2F5D-424B-A359-6770802AD79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4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0A5C-E986-4965-A9C2-8B05855B8D3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224C-BEEE-43C6-9BEC-6C192A02D72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A1B4-638E-4472-A3CD-0EAB4219569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jpe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jpe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ила.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Явление тяготения. Сила тяжести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4147200" y="508464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1905120" y="5950080"/>
            <a:ext cx="578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 математики и информатики Тивякова Л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1, г.Светлый Калининград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68000" y="2060640"/>
            <a:ext cx="8496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яж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– сила тяжести, Н 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g– коэффициент силы тяжести, Н/кг 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m– масса тела, кг 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Сила тяжести, действующая на тело, прямо пропорциональна массе этого тел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21" name="Овал 3"/>
          <p:cNvGrpSpPr/>
          <p:nvPr/>
        </p:nvGrpSpPr>
        <p:grpSpPr>
          <a:xfrm>
            <a:off x="1347840" y="158760"/>
            <a:ext cx="6375240" cy="1670040"/>
            <a:chOff x="1347840" y="158760"/>
            <a:chExt cx="6375240" cy="1670040"/>
          </a:xfrm>
        </p:grpSpPr>
        <p:pic>
          <p:nvPicPr>
            <p:cNvPr id="322" name="Овал 3" descr=""/>
            <p:cNvPicPr/>
            <p:nvPr/>
          </p:nvPicPr>
          <p:blipFill>
            <a:blip r:embed="rId1"/>
            <a:stretch/>
          </p:blipFill>
          <p:spPr>
            <a:xfrm>
              <a:off x="1347840" y="158760"/>
              <a:ext cx="637524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Text Box 4"/>
            <p:cNvSpPr/>
            <p:nvPr/>
          </p:nvSpPr>
          <p:spPr>
            <a:xfrm>
              <a:off x="2320920" y="417600"/>
              <a:ext cx="443088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00000"/>
                  </a:solidFill>
                  <a:latin typeface="Perpetua"/>
                </a:rPr>
                <a:t>F</a:t>
              </a:r>
              <a:r>
                <a:rPr b="1" lang="ru-RU" sz="2800" spc="-1" strike="noStrike">
                  <a:solidFill>
                    <a:srgbClr val="c00000"/>
                  </a:solidFill>
                  <a:latin typeface="Cambria"/>
                </a:rPr>
                <a:t>тяж</a:t>
              </a:r>
              <a:r>
                <a:rPr b="1" lang="en-US" sz="5400" spc="-1" strike="noStrike">
                  <a:solidFill>
                    <a:srgbClr val="c00000"/>
                  </a:solidFill>
                  <a:latin typeface="Perpetua"/>
                </a:rPr>
                <a:t> = gm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Прямоугольник 5"/>
          <p:cNvSpPr/>
          <p:nvPr/>
        </p:nvSpPr>
        <p:spPr>
          <a:xfrm>
            <a:off x="395280" y="4724280"/>
            <a:ext cx="8424720" cy="16182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сколько раз увеличится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о столько же раз увеличится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тяж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сколько раз уменьшится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о столько же раз уменьшится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</a:t>
            </a: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тяж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массы тел одинаковы, то одинаковы и действующие на них силы тяже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c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0" lang="ru-RU" sz="11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0" lang="ru-RU" sz="11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то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</a:t>
            </a:r>
            <a:r>
              <a:rPr b="0" lang="ru-RU" sz="1100" spc="-1" strike="noStrike">
                <a:solidFill>
                  <a:srgbClr val="c00000"/>
                </a:solidFill>
                <a:latin typeface="Arial"/>
              </a:rPr>
              <a:t>тяж1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</a:t>
            </a:r>
            <a:r>
              <a:rPr b="0" lang="ru-RU" sz="1100" spc="-1" strike="noStrike">
                <a:solidFill>
                  <a:srgbClr val="c00000"/>
                </a:solidFill>
                <a:latin typeface="Arial"/>
              </a:rPr>
              <a:t>тяж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1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8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Коэффициенты силы тяжести, Н/кг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26" name="Picture 25" descr=""/>
          <p:cNvPicPr/>
          <p:nvPr/>
        </p:nvPicPr>
        <p:blipFill>
          <a:blip r:embed="rId1"/>
          <a:stretch/>
        </p:blipFill>
        <p:spPr>
          <a:xfrm rot="21151800">
            <a:off x="971640" y="1125000"/>
            <a:ext cx="2790720" cy="223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27" name="TextBox 4"/>
          <p:cNvSpPr/>
          <p:nvPr/>
        </p:nvSpPr>
        <p:spPr>
          <a:xfrm>
            <a:off x="978480" y="1341360"/>
            <a:ext cx="10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Лу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Прямоугольник 5"/>
          <p:cNvGrpSpPr/>
          <p:nvPr/>
        </p:nvGrpSpPr>
        <p:grpSpPr>
          <a:xfrm>
            <a:off x="2846520" y="2425680"/>
            <a:ext cx="903240" cy="609480"/>
            <a:chOff x="2846520" y="2425680"/>
            <a:chExt cx="903240" cy="609480"/>
          </a:xfrm>
        </p:grpSpPr>
        <p:pic>
          <p:nvPicPr>
            <p:cNvPr id="329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846520" y="242568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 Box 6"/>
            <p:cNvSpPr/>
            <p:nvPr/>
          </p:nvSpPr>
          <p:spPr>
            <a:xfrm>
              <a:off x="3022920" y="249228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mbria"/>
                </a:rPr>
                <a:t>1,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" name="Picture 26" descr=""/>
          <p:cNvPicPr/>
          <p:nvPr/>
        </p:nvPicPr>
        <p:blipFill>
          <a:blip r:embed="rId3"/>
          <a:stretch/>
        </p:blipFill>
        <p:spPr>
          <a:xfrm rot="618000">
            <a:off x="5281200" y="1196640"/>
            <a:ext cx="3029040" cy="21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32" name="Прямоугольник 7"/>
          <p:cNvSpPr/>
          <p:nvPr/>
        </p:nvSpPr>
        <p:spPr>
          <a:xfrm>
            <a:off x="5518080" y="11970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Ма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Прямоугольник 8"/>
          <p:cNvGrpSpPr/>
          <p:nvPr/>
        </p:nvGrpSpPr>
        <p:grpSpPr>
          <a:xfrm>
            <a:off x="7169040" y="2712960"/>
            <a:ext cx="901800" cy="609840"/>
            <a:chOff x="7169040" y="2712960"/>
            <a:chExt cx="901800" cy="609840"/>
          </a:xfrm>
        </p:grpSpPr>
        <p:pic>
          <p:nvPicPr>
            <p:cNvPr id="334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7169040" y="2712960"/>
              <a:ext cx="90180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Text Box 11"/>
            <p:cNvSpPr/>
            <p:nvPr/>
          </p:nvSpPr>
          <p:spPr>
            <a:xfrm>
              <a:off x="7332120" y="2781360"/>
              <a:ext cx="5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mbria"/>
                </a:rPr>
                <a:t>3,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Picture 27" descr=""/>
          <p:cNvPicPr/>
          <p:nvPr/>
        </p:nvPicPr>
        <p:blipFill>
          <a:blip r:embed="rId5"/>
          <a:stretch/>
        </p:blipFill>
        <p:spPr>
          <a:xfrm rot="520800">
            <a:off x="609120" y="3989520"/>
            <a:ext cx="2808360" cy="2097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37" name="Прямоугольник 10"/>
          <p:cNvSpPr/>
          <p:nvPr/>
        </p:nvSpPr>
        <p:spPr>
          <a:xfrm>
            <a:off x="837720" y="4076640"/>
            <a:ext cx="15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Юпи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Прямоугольник 11"/>
          <p:cNvGrpSpPr/>
          <p:nvPr/>
        </p:nvGrpSpPr>
        <p:grpSpPr>
          <a:xfrm>
            <a:off x="2408400" y="5450040"/>
            <a:ext cx="828360" cy="609480"/>
            <a:chOff x="2408400" y="5450040"/>
            <a:chExt cx="828360" cy="609480"/>
          </a:xfrm>
        </p:grpSpPr>
        <p:pic>
          <p:nvPicPr>
            <p:cNvPr id="339" name="Прямоугольник 11" descr=""/>
            <p:cNvPicPr/>
            <p:nvPr/>
          </p:nvPicPr>
          <p:blipFill>
            <a:blip r:embed="rId6"/>
            <a:stretch/>
          </p:blipFill>
          <p:spPr>
            <a:xfrm>
              <a:off x="2408400" y="5450040"/>
              <a:ext cx="8283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 Box 16"/>
            <p:cNvSpPr/>
            <p:nvPr/>
          </p:nvSpPr>
          <p:spPr>
            <a:xfrm>
              <a:off x="2567520" y="5516640"/>
              <a:ext cx="5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mbri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1" name="Picture 28" descr=""/>
          <p:cNvPicPr/>
          <p:nvPr/>
        </p:nvPicPr>
        <p:blipFill>
          <a:blip r:embed="rId7"/>
          <a:stretch/>
        </p:blipFill>
        <p:spPr>
          <a:xfrm rot="21169200">
            <a:off x="4341600" y="3751200"/>
            <a:ext cx="3008160" cy="226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342" name="Прямоугольник 14"/>
          <p:cNvGrpSpPr/>
          <p:nvPr/>
        </p:nvGrpSpPr>
        <p:grpSpPr>
          <a:xfrm>
            <a:off x="6675480" y="5754600"/>
            <a:ext cx="2035080" cy="835200"/>
            <a:chOff x="6675480" y="5754600"/>
            <a:chExt cx="2035080" cy="835200"/>
          </a:xfrm>
        </p:grpSpPr>
        <p:pic>
          <p:nvPicPr>
            <p:cNvPr id="343" name="Прямоугольник 14" descr=""/>
            <p:cNvPicPr/>
            <p:nvPr/>
          </p:nvPicPr>
          <p:blipFill>
            <a:blip r:embed="rId8"/>
            <a:stretch/>
          </p:blipFill>
          <p:spPr>
            <a:xfrm>
              <a:off x="6675480" y="5754600"/>
              <a:ext cx="203508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20"/>
            <p:cNvSpPr/>
            <p:nvPr/>
          </p:nvSpPr>
          <p:spPr>
            <a:xfrm>
              <a:off x="6732720" y="5805360"/>
              <a:ext cx="1923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Cambria"/>
                </a:rPr>
                <a:t>На полюсах - 9,8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Прямоугольник 15"/>
          <p:cNvGrpSpPr/>
          <p:nvPr/>
        </p:nvGrpSpPr>
        <p:grpSpPr>
          <a:xfrm>
            <a:off x="6924600" y="4529160"/>
            <a:ext cx="2024280" cy="841320"/>
            <a:chOff x="6924600" y="4529160"/>
            <a:chExt cx="2024280" cy="841320"/>
          </a:xfrm>
        </p:grpSpPr>
        <p:pic>
          <p:nvPicPr>
            <p:cNvPr id="346" name="Прямоугольник 15" descr=""/>
            <p:cNvPicPr/>
            <p:nvPr/>
          </p:nvPicPr>
          <p:blipFill>
            <a:blip r:embed="rId9"/>
            <a:stretch/>
          </p:blipFill>
          <p:spPr>
            <a:xfrm>
              <a:off x="6924600" y="4529160"/>
              <a:ext cx="20242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Text Box 23"/>
            <p:cNvSpPr/>
            <p:nvPr/>
          </p:nvSpPr>
          <p:spPr>
            <a:xfrm>
              <a:off x="7020000" y="4581360"/>
              <a:ext cx="1836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Cambria"/>
                </a:rPr>
                <a:t>На экваторе - 9,7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Прямоугольник 17"/>
          <p:cNvGrpSpPr/>
          <p:nvPr/>
        </p:nvGrpSpPr>
        <p:grpSpPr>
          <a:xfrm>
            <a:off x="-55440" y="1884240"/>
            <a:ext cx="9285120" cy="3065760"/>
            <a:chOff x="-55440" y="1884240"/>
            <a:chExt cx="9285120" cy="3065760"/>
          </a:xfrm>
        </p:grpSpPr>
        <p:pic>
          <p:nvPicPr>
            <p:cNvPr id="349" name="Прямоугольник 17" descr=""/>
            <p:cNvPicPr/>
            <p:nvPr/>
          </p:nvPicPr>
          <p:blipFill>
            <a:blip r:embed="rId10"/>
            <a:stretch/>
          </p:blipFill>
          <p:spPr>
            <a:xfrm>
              <a:off x="-55440" y="1884240"/>
              <a:ext cx="9285120" cy="30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Text Box 26"/>
            <p:cNvSpPr/>
            <p:nvPr/>
          </p:nvSpPr>
          <p:spPr>
            <a:xfrm>
              <a:off x="0" y="1916280"/>
              <a:ext cx="9144000" cy="29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Cambria"/>
                </a:rPr>
                <a:t>Объясните, почему сила тяжести на экваторе меньше силы тяжести на полюсах Земли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Cambria"/>
                </a:rPr>
                <a:t>Будет ли сила тяжести на вершине горы меньше, чем у её подножия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7.40741E-007 L -0.5434 0.10509 E">
                                      <p:cBhvr>
                                        <p:cTn id="148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58560" y="1628280"/>
            <a:ext cx="87850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увеличивается с увеличением массы тел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зависит от места наблюдения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измеряется в килограммах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на Земле везде одинаков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уменьшается при удалении от поверхности Земли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на поверхности всех планет одинаковая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действует только на Земле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52" name="TextBox 2"/>
          <p:cNvGrpSpPr/>
          <p:nvPr/>
        </p:nvGrpSpPr>
        <p:grpSpPr>
          <a:xfrm>
            <a:off x="-55440" y="536400"/>
            <a:ext cx="9254880" cy="689040"/>
            <a:chOff x="-55440" y="536400"/>
            <a:chExt cx="9254880" cy="689040"/>
          </a:xfrm>
        </p:grpSpPr>
        <p:pic>
          <p:nvPicPr>
            <p:cNvPr id="353" name="TextBox 2" descr=""/>
            <p:cNvPicPr/>
            <p:nvPr/>
          </p:nvPicPr>
          <p:blipFill>
            <a:blip r:embed="rId1"/>
            <a:stretch/>
          </p:blipFill>
          <p:spPr>
            <a:xfrm>
              <a:off x="-55440" y="536400"/>
              <a:ext cx="92548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 Box 4"/>
            <p:cNvSpPr/>
            <p:nvPr/>
          </p:nvSpPr>
          <p:spPr>
            <a:xfrm>
              <a:off x="0" y="62064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280d9b"/>
                  </a:solidFill>
                  <a:latin typeface="Cambria"/>
                </a:rPr>
                <a:t>Найди верные утвержд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2016360" cy="18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9" name="TextBox 2"/>
          <p:cNvSpPr/>
          <p:nvPr/>
        </p:nvSpPr>
        <p:spPr>
          <a:xfrm>
            <a:off x="484200" y="260280"/>
            <a:ext cx="52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Примеры взаимодействия 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2"/>
          <a:stretch/>
        </p:blipFill>
        <p:spPr>
          <a:xfrm>
            <a:off x="6804000" y="907920"/>
            <a:ext cx="2144880" cy="18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1" name="TextBox 5"/>
          <p:cNvSpPr/>
          <p:nvPr/>
        </p:nvSpPr>
        <p:spPr>
          <a:xfrm>
            <a:off x="250920" y="3141720"/>
            <a:ext cx="864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акие тела взаимодействуют между соб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Что происходит с направлением движения мяча, при воздействии на него ногой мальчи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Если мяч имел бы меньшую массу, то скорость полета была бы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Что происходит со скоростью тележки, когда ребенок начинает толкать ее сильне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6"/>
          <p:cNvSpPr/>
          <p:nvPr/>
        </p:nvSpPr>
        <p:spPr>
          <a:xfrm>
            <a:off x="324000" y="580536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ывод: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корость тела меняется при взаимодействии его с другими те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3"/>
          <a:stretch/>
        </p:blipFill>
        <p:spPr>
          <a:xfrm>
            <a:off x="4500720" y="907920"/>
            <a:ext cx="2158920" cy="18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244" name="Группа 10"/>
          <p:cNvGrpSpPr/>
          <p:nvPr/>
        </p:nvGrpSpPr>
        <p:grpSpPr>
          <a:xfrm>
            <a:off x="250920" y="3068640"/>
            <a:ext cx="8642160" cy="3529080"/>
            <a:chOff x="250920" y="3068640"/>
            <a:chExt cx="8642160" cy="3529080"/>
          </a:xfrm>
        </p:grpSpPr>
        <p:grpSp>
          <p:nvGrpSpPr>
            <p:cNvPr id="245" name="Прямоугольник 8"/>
            <p:cNvGrpSpPr/>
            <p:nvPr/>
          </p:nvGrpSpPr>
          <p:grpSpPr>
            <a:xfrm>
              <a:off x="250920" y="3068640"/>
              <a:ext cx="8642160" cy="3529080"/>
              <a:chOff x="250920" y="3068640"/>
              <a:chExt cx="8642160" cy="3529080"/>
            </a:xfrm>
          </p:grpSpPr>
          <p:pic>
            <p:nvPicPr>
              <p:cNvPr id="246" name="Прямоугольник 8" descr=""/>
              <p:cNvPicPr/>
              <p:nvPr/>
            </p:nvPicPr>
            <p:blipFill>
              <a:blip r:embed="rId4"/>
              <a:stretch/>
            </p:blipFill>
            <p:spPr>
              <a:xfrm>
                <a:off x="250920" y="3068640"/>
                <a:ext cx="8642160" cy="35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Text Box 11"/>
              <p:cNvSpPr/>
              <p:nvPr/>
            </p:nvSpPr>
            <p:spPr>
              <a:xfrm>
                <a:off x="305640" y="3100320"/>
                <a:ext cx="8532360" cy="342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TextBox 9"/>
            <p:cNvGrpSpPr/>
            <p:nvPr/>
          </p:nvGrpSpPr>
          <p:grpSpPr>
            <a:xfrm>
              <a:off x="2230920" y="3801600"/>
              <a:ext cx="4314960" cy="2355480"/>
              <a:chOff x="2230920" y="3801600"/>
              <a:chExt cx="4314960" cy="2355480"/>
            </a:xfrm>
          </p:grpSpPr>
          <p:pic>
            <p:nvPicPr>
              <p:cNvPr id="249" name="TextBox 9" descr=""/>
              <p:cNvPicPr/>
              <p:nvPr/>
            </p:nvPicPr>
            <p:blipFill>
              <a:blip r:embed="rId5"/>
              <a:stretch/>
            </p:blipFill>
            <p:spPr>
              <a:xfrm>
                <a:off x="2230920" y="3801600"/>
                <a:ext cx="4314960" cy="166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Text Box 14"/>
              <p:cNvSpPr/>
              <p:nvPr/>
            </p:nvSpPr>
            <p:spPr>
              <a:xfrm>
                <a:off x="2367720" y="3868560"/>
                <a:ext cx="412380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Cambria"/>
                  </a:rPr>
                  <a:t>Принято говорить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00000"/>
                    </a:solidFill>
                    <a:latin typeface="Cambria"/>
                  </a:rPr>
                  <a:t>«На тело действует сила»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2060"/>
                    </a:solidFill>
                    <a:latin typeface="Cambria"/>
                  </a:rPr>
                  <a:t>ил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00000"/>
                    </a:solidFill>
                    <a:latin typeface="Cambria"/>
                  </a:rPr>
                  <a:t>«К телу приложена сила»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51" name="Picture 5" descr=""/>
          <p:cNvPicPr/>
          <p:nvPr/>
        </p:nvPicPr>
        <p:blipFill>
          <a:blip r:embed="rId6"/>
          <a:stretch/>
        </p:blipFill>
        <p:spPr>
          <a:xfrm>
            <a:off x="2340000" y="907920"/>
            <a:ext cx="2016000" cy="18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TextBox 2"/>
          <p:cNvGrpSpPr/>
          <p:nvPr/>
        </p:nvGrpSpPr>
        <p:grpSpPr>
          <a:xfrm>
            <a:off x="628560" y="189000"/>
            <a:ext cx="8174160" cy="1353960"/>
            <a:chOff x="628560" y="189000"/>
            <a:chExt cx="8174160" cy="1353960"/>
          </a:xfrm>
        </p:grpSpPr>
        <p:pic>
          <p:nvPicPr>
            <p:cNvPr id="253" name="TextBox 2" descr=""/>
            <p:cNvPicPr/>
            <p:nvPr/>
          </p:nvPicPr>
          <p:blipFill>
            <a:blip r:embed="rId1"/>
            <a:stretch/>
          </p:blipFill>
          <p:spPr>
            <a:xfrm>
              <a:off x="628560" y="189000"/>
              <a:ext cx="817416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3"/>
            <p:cNvSpPr/>
            <p:nvPr/>
          </p:nvSpPr>
          <p:spPr>
            <a:xfrm>
              <a:off x="684360" y="260280"/>
              <a:ext cx="806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742217"/>
                  </a:solidFill>
                  <a:latin typeface="Cambria"/>
                </a:rPr>
                <a:t>Сила, действующая на тело, может изменить не только </a:t>
              </a:r>
              <a:r>
                <a:rPr b="1" lang="ru-RU" sz="2400" spc="-1" strike="noStrike">
                  <a:solidFill>
                    <a:srgbClr val="0070c0"/>
                  </a:solidFill>
                  <a:latin typeface="Cambria"/>
                </a:rPr>
                <a:t>скорость всего тела, </a:t>
              </a:r>
              <a:r>
                <a:rPr b="1" lang="ru-RU" sz="2400" spc="-1" strike="noStrike">
                  <a:solidFill>
                    <a:srgbClr val="4e1610"/>
                  </a:solidFill>
                  <a:latin typeface="Cambria"/>
                </a:rPr>
                <a:t>но</a:t>
              </a:r>
              <a:r>
                <a:rPr b="1" lang="ru-RU" sz="2400" spc="-1" strike="noStrike">
                  <a:solidFill>
                    <a:srgbClr val="0070c0"/>
                  </a:solidFill>
                  <a:latin typeface="Cambria"/>
                </a:rPr>
                <a:t> и его отдельных част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Группа 9"/>
          <p:cNvGrpSpPr/>
          <p:nvPr/>
        </p:nvGrpSpPr>
        <p:grpSpPr>
          <a:xfrm>
            <a:off x="684360" y="1773360"/>
            <a:ext cx="8621280" cy="1942920"/>
            <a:chOff x="684360" y="1773360"/>
            <a:chExt cx="8621280" cy="1942920"/>
          </a:xfrm>
        </p:grpSpPr>
        <p:pic>
          <p:nvPicPr>
            <p:cNvPr id="256" name="Picture 4" descr=""/>
            <p:cNvPicPr/>
            <p:nvPr/>
          </p:nvPicPr>
          <p:blipFill>
            <a:blip r:embed="rId2"/>
            <a:stretch/>
          </p:blipFill>
          <p:spPr>
            <a:xfrm>
              <a:off x="7596000" y="2349000"/>
              <a:ext cx="1709640" cy="136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Группа 6"/>
            <p:cNvGrpSpPr/>
            <p:nvPr/>
          </p:nvGrpSpPr>
          <p:grpSpPr>
            <a:xfrm>
              <a:off x="684360" y="1773360"/>
              <a:ext cx="8064000" cy="1724040"/>
              <a:chOff x="684360" y="1773360"/>
              <a:chExt cx="8064000" cy="1724040"/>
            </a:xfrm>
          </p:grpSpPr>
          <p:sp>
            <p:nvSpPr>
              <p:cNvPr id="258" name="TextBox 3"/>
              <p:cNvSpPr/>
              <p:nvPr/>
            </p:nvSpPr>
            <p:spPr>
              <a:xfrm>
                <a:off x="3924360" y="1917720"/>
                <a:ext cx="4824000" cy="1191240"/>
              </a:xfrm>
              <a:prstGeom prst="rect">
                <a:avLst/>
              </a:prstGeom>
              <a:noFill/>
              <a:ln w="9360">
                <a:solidFill>
                  <a:srgbClr val="d348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9240c"/>
                    </a:solidFill>
                    <a:latin typeface="Arial"/>
                  </a:rPr>
                  <a:t>Деформация тела – любое изменение формы и размера тел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9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684360" y="1773360"/>
                <a:ext cx="2730240" cy="172404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</p:grpSp>
      <p:grpSp>
        <p:nvGrpSpPr>
          <p:cNvPr id="260" name="Группа 12"/>
          <p:cNvGrpSpPr/>
          <p:nvPr/>
        </p:nvGrpSpPr>
        <p:grpSpPr>
          <a:xfrm>
            <a:off x="5724360" y="3933720"/>
            <a:ext cx="2965680" cy="2157480"/>
            <a:chOff x="5724360" y="3933720"/>
            <a:chExt cx="2965680" cy="2157480"/>
          </a:xfrm>
        </p:grpSpPr>
        <p:pic>
          <p:nvPicPr>
            <p:cNvPr id="261" name="Picture 6" descr=""/>
            <p:cNvPicPr/>
            <p:nvPr/>
          </p:nvPicPr>
          <p:blipFill>
            <a:blip r:embed="rId4"/>
            <a:stretch/>
          </p:blipFill>
          <p:spPr>
            <a:xfrm>
              <a:off x="7164000" y="3933720"/>
              <a:ext cx="152604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Box 11"/>
            <p:cNvSpPr/>
            <p:nvPr/>
          </p:nvSpPr>
          <p:spPr>
            <a:xfrm>
              <a:off x="5724360" y="4078080"/>
              <a:ext cx="15843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69240c"/>
                  </a:solidFill>
                  <a:latin typeface="Arial"/>
                </a:rPr>
                <a:t>Веревка провисла, когда на ней стал резвиться  котенок</a:t>
              </a:r>
              <a:r>
                <a:rPr b="0" lang="ru-RU" sz="2000" spc="-1" strike="noStrike">
                  <a:solidFill>
                    <a:srgbClr val="69240c"/>
                  </a:solidFill>
                  <a:latin typeface="Wingdings"/>
                  <a:ea typeface="Wingdings"/>
                </a:rPr>
                <a:t>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Группа 18"/>
          <p:cNvGrpSpPr/>
          <p:nvPr/>
        </p:nvGrpSpPr>
        <p:grpSpPr>
          <a:xfrm>
            <a:off x="468360" y="3860640"/>
            <a:ext cx="4535280" cy="2570400"/>
            <a:chOff x="468360" y="3860640"/>
            <a:chExt cx="4535280" cy="2570400"/>
          </a:xfrm>
        </p:grpSpPr>
        <p:pic>
          <p:nvPicPr>
            <p:cNvPr id="264" name="Picture 8" descr=""/>
            <p:cNvPicPr/>
            <p:nvPr/>
          </p:nvPicPr>
          <p:blipFill>
            <a:blip r:embed="rId5"/>
            <a:stretch/>
          </p:blipFill>
          <p:spPr>
            <a:xfrm>
              <a:off x="3132000" y="4868640"/>
              <a:ext cx="1871640" cy="15624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265" name="Picture 9" descr=""/>
            <p:cNvPicPr/>
            <p:nvPr/>
          </p:nvPicPr>
          <p:blipFill>
            <a:blip r:embed="rId6"/>
            <a:stretch/>
          </p:blipFill>
          <p:spPr>
            <a:xfrm>
              <a:off x="612720" y="4868640"/>
              <a:ext cx="2225520" cy="15559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66" name="TextBox 17"/>
            <p:cNvSpPr/>
            <p:nvPr/>
          </p:nvSpPr>
          <p:spPr>
            <a:xfrm>
              <a:off x="468360" y="3860640"/>
              <a:ext cx="4319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00000"/>
                  </a:solidFill>
                  <a:latin typeface="Arial"/>
                </a:rPr>
                <a:t>Чтобы сдвинуть автомобили с места требуется приложить силы разной величи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250560" y="691920"/>
            <a:ext cx="86072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Cambria"/>
              </a:rPr>
              <a:t>Сила – мера взаимодействия тел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в результате воздействия силы тела могут изменить скорость или деформироваться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600" spc="-1" strike="noStrike">
                <a:solidFill>
                  <a:srgbClr val="7030a0"/>
                </a:solidFill>
                <a:latin typeface="Cambria"/>
              </a:rPr>
              <a:t>Сила – физическая величина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ее можно измерить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Cambria"/>
              </a:rPr>
              <a:t>Сила – векторная величина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она характеризуется направлением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68" name="TextBox 3"/>
          <p:cNvGrpSpPr/>
          <p:nvPr/>
        </p:nvGrpSpPr>
        <p:grpSpPr>
          <a:xfrm>
            <a:off x="-55440" y="109440"/>
            <a:ext cx="9254880" cy="682560"/>
            <a:chOff x="-55440" y="109440"/>
            <a:chExt cx="9254880" cy="682560"/>
          </a:xfrm>
        </p:grpSpPr>
        <p:pic>
          <p:nvPicPr>
            <p:cNvPr id="269" name="TextBox 3" descr=""/>
            <p:cNvPicPr/>
            <p:nvPr/>
          </p:nvPicPr>
          <p:blipFill>
            <a:blip r:embed="rId1"/>
            <a:stretch/>
          </p:blipFill>
          <p:spPr>
            <a:xfrm>
              <a:off x="-55440" y="109440"/>
              <a:ext cx="92548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4"/>
            <p:cNvSpPr/>
            <p:nvPr/>
          </p:nvSpPr>
          <p:spPr>
            <a:xfrm>
              <a:off x="0" y="18900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ambria"/>
                </a:rPr>
                <a:t>Что мы должны знать о понятии «сила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Группа 7"/>
          <p:cNvGrpSpPr/>
          <p:nvPr/>
        </p:nvGrpSpPr>
        <p:grpSpPr>
          <a:xfrm>
            <a:off x="0" y="3357720"/>
            <a:ext cx="8893080" cy="1958760"/>
            <a:chOff x="0" y="3357720"/>
            <a:chExt cx="8893080" cy="1958760"/>
          </a:xfrm>
        </p:grpSpPr>
        <p:pic>
          <p:nvPicPr>
            <p:cNvPr id="272" name="Picture 4" descr="Сложение сил_ лебедь-рак-щука"/>
            <p:cNvPicPr/>
            <p:nvPr/>
          </p:nvPicPr>
          <p:blipFill>
            <a:blip r:embed="rId2"/>
            <a:stretch/>
          </p:blipFill>
          <p:spPr>
            <a:xfrm>
              <a:off x="6445440" y="3357720"/>
              <a:ext cx="2447640" cy="19587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73" name="Прямоугольник 6"/>
            <p:cNvSpPr/>
            <p:nvPr/>
          </p:nvSpPr>
          <p:spPr>
            <a:xfrm>
              <a:off x="0" y="3645720"/>
              <a:ext cx="640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09480" indent="-609480">
                <a:buClr>
                  <a:srgbClr val="c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Arial"/>
                </a:rPr>
                <a:t>Результат действия силы на тело зависит от ее модуля, направления и точки прилож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Группа 13"/>
          <p:cNvGrpSpPr/>
          <p:nvPr/>
        </p:nvGrpSpPr>
        <p:grpSpPr>
          <a:xfrm>
            <a:off x="963720" y="4869000"/>
            <a:ext cx="7537320" cy="1736640"/>
            <a:chOff x="963720" y="4869000"/>
            <a:chExt cx="7537320" cy="1736640"/>
          </a:xfrm>
        </p:grpSpPr>
        <p:grpSp>
          <p:nvGrpSpPr>
            <p:cNvPr id="275" name="Группа 11"/>
            <p:cNvGrpSpPr/>
            <p:nvPr/>
          </p:nvGrpSpPr>
          <p:grpSpPr>
            <a:xfrm>
              <a:off x="5224680" y="5517000"/>
              <a:ext cx="3276360" cy="1041480"/>
              <a:chOff x="5224680" y="5517000"/>
              <a:chExt cx="3276360" cy="1041480"/>
            </a:xfrm>
          </p:grpSpPr>
          <p:sp>
            <p:nvSpPr>
              <p:cNvPr id="276" name="TextBox 8"/>
              <p:cNvSpPr/>
              <p:nvPr/>
            </p:nvSpPr>
            <p:spPr>
              <a:xfrm>
                <a:off x="5224680" y="5733000"/>
                <a:ext cx="3043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c00000"/>
                    </a:solidFill>
                    <a:latin typeface="Arial"/>
                  </a:rPr>
                  <a:t>Обозначение силы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c00000"/>
                    </a:solidFill>
                    <a:latin typeface="Arial"/>
                  </a:rPr>
                  <a:t>          </a:t>
                </a:r>
                <a:r>
                  <a:rPr b="0" i="1" lang="ru-RU" sz="2400" spc="-1" strike="noStrike">
                    <a:solidFill>
                      <a:srgbClr val="c00000"/>
                    </a:solidFill>
                    <a:latin typeface="Arial"/>
                  </a:rPr>
                  <a:t>модуля силы: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7" name="Pictur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28720" y="5517000"/>
                <a:ext cx="472320" cy="57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" name="Pictur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8100720" y="6093360"/>
                <a:ext cx="339840" cy="431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79" name="Picture 6" descr=""/>
            <p:cNvPicPr/>
            <p:nvPr/>
          </p:nvPicPr>
          <p:blipFill>
            <a:blip r:embed="rId5"/>
            <a:stretch/>
          </p:blipFill>
          <p:spPr>
            <a:xfrm>
              <a:off x="963720" y="4869000"/>
              <a:ext cx="3680640" cy="1736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ircl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4392360" cy="836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0d9b"/>
                </a:solidFill>
                <a:latin typeface="Calibri"/>
              </a:rPr>
              <a:t>Явление тяготен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95280" y="765000"/>
            <a:ext cx="51134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mbria"/>
              </a:rPr>
              <a:t>Что произойдет, если?.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80d9b"/>
                </a:solidFill>
                <a:latin typeface="Cambria"/>
              </a:rPr>
              <a:t>Мы уронили поклажу из рук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80d9b"/>
                </a:solidFill>
                <a:latin typeface="Cambria"/>
              </a:rPr>
              <a:t>Мы подбросили вверх мяч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80d9b"/>
                </a:solidFill>
                <a:latin typeface="Cambria"/>
              </a:rPr>
              <a:t>Мы бросили в горизонтальном направлении палку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1"/>
          <a:stretch/>
        </p:blipFill>
        <p:spPr>
          <a:xfrm>
            <a:off x="6012000" y="333360"/>
            <a:ext cx="2305080" cy="2617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83" name="TextBox 5"/>
          <p:cNvSpPr/>
          <p:nvPr/>
        </p:nvSpPr>
        <p:spPr>
          <a:xfrm>
            <a:off x="1346040" y="3429000"/>
            <a:ext cx="57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акова будет траектория движ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Группа 14"/>
          <p:cNvGrpSpPr/>
          <p:nvPr/>
        </p:nvGrpSpPr>
        <p:grpSpPr>
          <a:xfrm>
            <a:off x="1258920" y="3860640"/>
            <a:ext cx="7453440" cy="2737080"/>
            <a:chOff x="1258920" y="3860640"/>
            <a:chExt cx="7453440" cy="2737080"/>
          </a:xfrm>
        </p:grpSpPr>
        <p:pic>
          <p:nvPicPr>
            <p:cNvPr id="285" name="Picture 11" descr=""/>
            <p:cNvPicPr/>
            <p:nvPr/>
          </p:nvPicPr>
          <p:blipFill>
            <a:blip r:embed="rId2"/>
            <a:stretch/>
          </p:blipFill>
          <p:spPr>
            <a:xfrm>
              <a:off x="1258920" y="3860640"/>
              <a:ext cx="1152360" cy="25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2" descr=""/>
            <p:cNvPicPr/>
            <p:nvPr/>
          </p:nvPicPr>
          <p:blipFill>
            <a:blip r:embed="rId3"/>
            <a:stretch/>
          </p:blipFill>
          <p:spPr>
            <a:xfrm>
              <a:off x="2987280" y="4220640"/>
              <a:ext cx="5725080" cy="2377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ircl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1">
            <a:lum bright="10000"/>
          </a:blip>
          <a:stretch/>
        </p:blipFill>
        <p:spPr>
          <a:xfrm rot="21239400">
            <a:off x="493560" y="3481560"/>
            <a:ext cx="2494080" cy="199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8" name="Picture 9" descr=""/>
          <p:cNvPicPr/>
          <p:nvPr/>
        </p:nvPicPr>
        <p:blipFill>
          <a:blip r:embed="rId2"/>
          <a:stretch/>
        </p:blipFill>
        <p:spPr>
          <a:xfrm rot="661800">
            <a:off x="5825880" y="3595680"/>
            <a:ext cx="2692440" cy="2081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9" name="Picture 10" descr=""/>
          <p:cNvPicPr/>
          <p:nvPr/>
        </p:nvPicPr>
        <p:blipFill>
          <a:blip r:embed="rId3"/>
          <a:srcRect l="0" t="16049" r="0" b="0"/>
          <a:stretch/>
        </p:blipFill>
        <p:spPr>
          <a:xfrm>
            <a:off x="3851280" y="3068640"/>
            <a:ext cx="1197000" cy="1506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290" name="TextBox 6"/>
          <p:cNvGrpSpPr/>
          <p:nvPr/>
        </p:nvGrpSpPr>
        <p:grpSpPr>
          <a:xfrm>
            <a:off x="-128520" y="2352600"/>
            <a:ext cx="9401040" cy="893880"/>
            <a:chOff x="-128520" y="2352600"/>
            <a:chExt cx="9401040" cy="893880"/>
          </a:xfrm>
        </p:grpSpPr>
        <p:pic>
          <p:nvPicPr>
            <p:cNvPr id="291" name="TextBox 6" descr=""/>
            <p:cNvPicPr/>
            <p:nvPr/>
          </p:nvPicPr>
          <p:blipFill>
            <a:blip r:embed="rId4"/>
            <a:stretch/>
          </p:blipFill>
          <p:spPr>
            <a:xfrm>
              <a:off x="-128520" y="2352600"/>
              <a:ext cx="940104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Text Box 6"/>
            <p:cNvSpPr/>
            <p:nvPr/>
          </p:nvSpPr>
          <p:spPr>
            <a:xfrm>
              <a:off x="0" y="242100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mbria"/>
                </a:rPr>
                <a:t>Некоторые примеры воздействия силы притяжения к Земл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Picture 3" descr=""/>
          <p:cNvPicPr/>
          <p:nvPr/>
        </p:nvPicPr>
        <p:blipFill>
          <a:blip r:embed="rId5"/>
          <a:stretch/>
        </p:blipFill>
        <p:spPr>
          <a:xfrm>
            <a:off x="3492360" y="4941720"/>
            <a:ext cx="1833840" cy="1651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94" name="Picture 4" descr=""/>
          <p:cNvPicPr/>
          <p:nvPr/>
        </p:nvPicPr>
        <p:blipFill>
          <a:blip r:embed="rId6"/>
          <a:stretch/>
        </p:blipFill>
        <p:spPr>
          <a:xfrm>
            <a:off x="468360" y="189000"/>
            <a:ext cx="3029040" cy="1992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95" name="Picture 7" descr=""/>
          <p:cNvPicPr/>
          <p:nvPr/>
        </p:nvPicPr>
        <p:blipFill>
          <a:blip r:embed="rId7"/>
          <a:stretch/>
        </p:blipFill>
        <p:spPr>
          <a:xfrm>
            <a:off x="4140360" y="260280"/>
            <a:ext cx="1244520" cy="1866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96" name="Picture 5" descr=""/>
          <p:cNvPicPr/>
          <p:nvPr/>
        </p:nvPicPr>
        <p:blipFill>
          <a:blip r:embed="rId8"/>
          <a:stretch/>
        </p:blipFill>
        <p:spPr>
          <a:xfrm>
            <a:off x="5867280" y="260280"/>
            <a:ext cx="2781360" cy="192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Группа 19"/>
          <p:cNvGrpSpPr/>
          <p:nvPr/>
        </p:nvGrpSpPr>
        <p:grpSpPr>
          <a:xfrm>
            <a:off x="1763640" y="4437000"/>
            <a:ext cx="6875640" cy="1944720"/>
            <a:chOff x="1763640" y="4437000"/>
            <a:chExt cx="6875640" cy="1944720"/>
          </a:xfrm>
        </p:grpSpPr>
        <p:sp>
          <p:nvSpPr>
            <p:cNvPr id="298" name="Прямоугольник 5"/>
            <p:cNvSpPr/>
            <p:nvPr/>
          </p:nvSpPr>
          <p:spPr>
            <a:xfrm>
              <a:off x="4067640" y="5229360"/>
              <a:ext cx="457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c00000"/>
                  </a:solidFill>
                  <a:latin typeface="Arial"/>
                </a:rPr>
                <a:t>Все тела притягиваются друг к друг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9" name="Picture 5" descr="Сила тяжести - это сила тяготения тела к планете. Сила тяжести всегда направлена к центру планеты"/>
            <p:cNvPicPr/>
            <p:nvPr/>
          </p:nvPicPr>
          <p:blipFill>
            <a:blip r:embed="rId1"/>
            <a:stretch/>
          </p:blipFill>
          <p:spPr>
            <a:xfrm>
              <a:off x="1763640" y="4437000"/>
              <a:ext cx="1717560" cy="1944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300" name="TextBox 13"/>
          <p:cNvSpPr/>
          <p:nvPr/>
        </p:nvSpPr>
        <p:spPr>
          <a:xfrm>
            <a:off x="324000" y="2421000"/>
            <a:ext cx="29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Между планет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тягиваются между собой Земля и Лу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15"/>
          <p:cNvSpPr/>
          <p:nvPr/>
        </p:nvSpPr>
        <p:spPr>
          <a:xfrm>
            <a:off x="395280" y="3429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мля и другие планеты движутся вокруг Солнца, притягиваясь к нему и друг др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Группа 18"/>
          <p:cNvGrpSpPr/>
          <p:nvPr/>
        </p:nvGrpSpPr>
        <p:grpSpPr>
          <a:xfrm>
            <a:off x="250920" y="189000"/>
            <a:ext cx="8580240" cy="3024000"/>
            <a:chOff x="250920" y="189000"/>
            <a:chExt cx="8580240" cy="3024000"/>
          </a:xfrm>
        </p:grpSpPr>
        <p:pic>
          <p:nvPicPr>
            <p:cNvPr id="303" name="Picture 9" descr=""/>
            <p:cNvPicPr/>
            <p:nvPr/>
          </p:nvPicPr>
          <p:blipFill>
            <a:blip r:embed="rId2"/>
            <a:stretch/>
          </p:blipFill>
          <p:spPr>
            <a:xfrm>
              <a:off x="250920" y="189000"/>
              <a:ext cx="1722240" cy="14461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304" name="TextBox 11"/>
            <p:cNvSpPr/>
            <p:nvPr/>
          </p:nvSpPr>
          <p:spPr>
            <a:xfrm>
              <a:off x="2266920" y="189000"/>
              <a:ext cx="453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00000"/>
                  </a:solidFill>
                  <a:latin typeface="Arial"/>
                </a:rPr>
                <a:t>Притяжение существует межд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00000"/>
                  </a:solidFill>
                  <a:latin typeface="Arial"/>
                </a:rPr>
                <a:t>Землей и телами, находящимися на ней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Picture 11" descr=""/>
            <p:cNvPicPr/>
            <p:nvPr/>
          </p:nvPicPr>
          <p:blipFill>
            <a:blip r:embed="rId3"/>
            <a:stretch/>
          </p:blipFill>
          <p:spPr>
            <a:xfrm>
              <a:off x="6824880" y="260280"/>
              <a:ext cx="2006280" cy="1512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306" name="Picture 12" descr=""/>
            <p:cNvPicPr/>
            <p:nvPr/>
          </p:nvPicPr>
          <p:blipFill>
            <a:blip r:embed="rId4"/>
            <a:stretch/>
          </p:blipFill>
          <p:spPr>
            <a:xfrm>
              <a:off x="3058920" y="1197000"/>
              <a:ext cx="2825640" cy="20160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pic>
        <p:nvPicPr>
          <p:cNvPr id="307" name="Picture 8" descr=""/>
          <p:cNvPicPr/>
          <p:nvPr/>
        </p:nvPicPr>
        <p:blipFill>
          <a:blip r:embed="rId5"/>
          <a:stretch/>
        </p:blipFill>
        <p:spPr>
          <a:xfrm>
            <a:off x="4932360" y="2852640"/>
            <a:ext cx="2354400" cy="1757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308" name="Прямоугольник 17"/>
          <p:cNvGrpSpPr/>
          <p:nvPr/>
        </p:nvGrpSpPr>
        <p:grpSpPr>
          <a:xfrm>
            <a:off x="268200" y="1457280"/>
            <a:ext cx="8753400" cy="3632400"/>
            <a:chOff x="268200" y="1457280"/>
            <a:chExt cx="8753400" cy="3632400"/>
          </a:xfrm>
        </p:grpSpPr>
        <p:pic>
          <p:nvPicPr>
            <p:cNvPr id="309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268200" y="1457280"/>
              <a:ext cx="8753400" cy="363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8"/>
            <p:cNvSpPr/>
            <p:nvPr/>
          </p:nvSpPr>
          <p:spPr>
            <a:xfrm>
              <a:off x="324000" y="1484280"/>
              <a:ext cx="8640720" cy="35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Cambria"/>
                </a:rPr>
                <a:t>Притяжение всех тел Вселенной друг к другу называется </a:t>
              </a:r>
              <a:r>
                <a:rPr b="1" lang="ru-RU" sz="2800" spc="-1" strike="noStrike">
                  <a:solidFill>
                    <a:srgbClr val="c00000"/>
                  </a:solidFill>
                  <a:latin typeface="Cambria"/>
                </a:rPr>
                <a:t>Всемирным тяготение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8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571640" y="1267920"/>
            <a:ext cx="4321080" cy="11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Английский ученый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Исаак Ньютон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ервым доказал и установил закон всемирного тяготени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Прямоугольник 3"/>
          <p:cNvSpPr/>
          <p:nvPr/>
        </p:nvSpPr>
        <p:spPr>
          <a:xfrm>
            <a:off x="971640" y="3645000"/>
            <a:ext cx="7416720" cy="228852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e3611"/>
                </a:solidFill>
                <a:latin typeface="Arial"/>
              </a:rPr>
              <a:t>Силы притяжения между телами тем больше, чем больше массы этих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0d9b"/>
                </a:solidFill>
                <a:latin typeface="Arial"/>
              </a:rPr>
              <a:t>Силы притяжения между телами уменьшаются, если увеличивается расстояние между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048200" cy="266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circl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497800" cy="1363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0d9b"/>
                </a:solidFill>
                <a:latin typeface="Calibri"/>
              </a:rPr>
              <a:t>Сила, с которой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Земля</a:t>
            </a:r>
            <a:r>
              <a:rPr b="1" lang="ru-RU" sz="2800" spc="-1" strike="noStrike">
                <a:solidFill>
                  <a:srgbClr val="280d9b"/>
                </a:solidFill>
                <a:latin typeface="Calibri"/>
              </a:rPr>
              <a:t> притягивает к себе тело, называется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силой тяжести</a:t>
            </a:r>
            <a:r>
              <a:rPr b="1" lang="ru-RU" sz="2800" spc="-1" strike="noStrike">
                <a:solidFill>
                  <a:srgbClr val="280d9b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08000" y="1773000"/>
            <a:ext cx="9036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бозначение силы тяжести: </a:t>
            </a:r>
            <a:r>
              <a:rPr b="1" lang="en-US" sz="3200" spc="-1" strike="noStrike">
                <a:solidFill>
                  <a:srgbClr val="c00000"/>
                </a:solidFill>
                <a:latin typeface="Perpetua"/>
              </a:rPr>
              <a:t>F</a:t>
            </a:r>
            <a:r>
              <a:rPr b="1" lang="ru-RU" sz="2000" spc="-1" strike="noStrike">
                <a:solidFill>
                  <a:srgbClr val="c00000"/>
                </a:solidFill>
                <a:latin typeface="Cambria"/>
              </a:rPr>
              <a:t>тяж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mbria"/>
              </a:rPr>
              <a:t>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Направление силы тяжести: </a:t>
            </a:r>
            <a:r>
              <a:rPr b="1" lang="ru-RU" sz="2400" spc="-1" strike="noStrike">
                <a:solidFill>
                  <a:srgbClr val="c00000"/>
                </a:solidFill>
                <a:latin typeface="Cambria"/>
              </a:rPr>
              <a:t>вертикально вниз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16" name="Группа 6"/>
          <p:cNvGrpSpPr/>
          <p:nvPr/>
        </p:nvGrpSpPr>
        <p:grpSpPr>
          <a:xfrm>
            <a:off x="684360" y="2924280"/>
            <a:ext cx="8172360" cy="3533760"/>
            <a:chOff x="684360" y="2924280"/>
            <a:chExt cx="8172360" cy="3533760"/>
          </a:xfrm>
        </p:grpSpPr>
        <p:sp>
          <p:nvSpPr>
            <p:cNvPr id="317" name="Прямоугольник 3"/>
            <p:cNvSpPr/>
            <p:nvPr/>
          </p:nvSpPr>
          <p:spPr>
            <a:xfrm>
              <a:off x="5220720" y="2996280"/>
              <a:ext cx="3636000" cy="34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72880" indent="-272880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200" spc="-1" strike="noStrike">
                  <a:solidFill>
                    <a:srgbClr val="000000"/>
                  </a:solidFill>
                  <a:latin typeface="Arial"/>
                </a:rPr>
                <a:t>На Луне сила тяжести примерно в 6 раз слабее, чем на Земле, а на Юпитере - в 2,5 раза сильнее, чем на Земле. В таких условиях 10-ти килограммовая гиря будет казаться нам 25-ти килограммовой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8" name="Picture 4" descr=""/>
            <p:cNvPicPr/>
            <p:nvPr/>
          </p:nvPicPr>
          <p:blipFill>
            <a:blip r:embed="rId1"/>
            <a:stretch/>
          </p:blipFill>
          <p:spPr>
            <a:xfrm>
              <a:off x="684360" y="2924280"/>
              <a:ext cx="2139840" cy="21844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319" name="Picture 5" descr=""/>
            <p:cNvPicPr/>
            <p:nvPr/>
          </p:nvPicPr>
          <p:blipFill>
            <a:blip r:embed="rId2"/>
            <a:stretch/>
          </p:blipFill>
          <p:spPr>
            <a:xfrm>
              <a:off x="3132360" y="3932280"/>
              <a:ext cx="1800000" cy="25257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</p:spTree>
  </p:cSld>
  <p:transition spd="med">
    <p:circl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15:36:44Z</dcterms:created>
  <dc:creator>ЛюдмилкаТ</dc:creator>
  <dc:description/>
  <dc:language>en-US</dc:language>
  <cp:lastModifiedBy>LEGION</cp:lastModifiedBy>
  <dcterms:modified xsi:type="dcterms:W3CDTF">2015-03-30T08:13:38Z</dcterms:modified>
  <cp:revision>40</cp:revision>
  <dc:subject>Сила. Явление тяготения. Сила тяжести.</dc:subject>
  <dc:title>Сила. Явление тяготения. Сила тяжести.</dc:title>
</cp:coreProperties>
</file>