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6885-9E73-4B4A-A6BC-219B1B6872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НЦИП ГЮЙГЕНСА. ЗАКОН ОТРАЖЕНИЯ СВЕТ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EDCA-0D8D-42F1-A36E-6A87CDA73F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аконы отражения и преломления света можно вывести из одного общего принципа, описывающего поведение волн. Этот принцип впервые был выдвинут современником Ньютона Христианом Гюйгенсом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юйгенс Христиан (1629-1695) – голландский физик и математик, создатель первой волновой теории света. Основы этой теории Гюйгенс изложил в «Трактате о свете» (1690). Гюйгенс впервые использовал маятник для достижения регулярного хода часов и вывел формулу для периода колебаний математического и физического маятников. Математические работы Гюйгенса касались исследования конических сечений, циклоиды и других кривых. Ему принадлежит одна из первых работ по теории вероятности. С помощью усовершенствованной им астрономической трубы Гюйгенс открыл спутник Сатурна – Ти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C6E8-AB51-4024-9110-353D814FD8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Гюйген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о принципу Гюйгенса каждая точка среды, до которой дошло возмущение, сама становится источником вторичных волн. Для того чтобы, зная положение волновой поверхности в момент времени t, найти ее положение в следующий момент времени t+∆t, нужно каждую точку волновой поверхности рассматривать как источник вторичных волн. Поверхность, касательная ко всем вторичным волнам, представляет собой волновую поверхность в следующий момент времени (рис.1). Этот принцип в равной мере пригоден для описания распространения волн любой природы: механических, световых и т. д. Гюйгенс сформулировал его первоначально именно для световых вол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механических волн принцип Гюйгенса имеет наглядное истолкование: частицы среды, до которых доходят колебания, в свою очередь, колеблясь, приводят в движение соседние частицы среды, с которыми они взаимодейству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55C8-B591-492D-861F-1EA38A9DDF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принципа Гюйгенса можно вывести закон, которому подчиняются волны при отражении от границы раздела с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отражение плоской волны. Волна называется плоской, если поверхности равной фазы (волновые поверхности) представляют собой плоскости. На рис.2. MN – отражающая поверхность, прямые А1А и В1В – два луча падающей плоской волны (они параллельны друг другу). Плоскость AC – волновая поверхность этой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жду падающим лучом и перпендикуляром к отражающей поверхности и точке падения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лом пад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новую поверхность отраженной волны можно получить, если провести огибающую вторичных волн, центры которых лежат на границе раздела сред. Различные участки волновой поверхно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остигают отражающей границы не одновременно. Возбуждение колебаний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чнется раньше, чем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на время, где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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скорость волны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3C1B-422B-4CA9-9B74-D20212A1DB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омент, когда волна достигне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 этой точке начнется возбуждение колебаний, вторичная волна с центром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же будет представлять собой полусферу радиусом 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диусы вторичных волн от источников, расположенных между точкам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яются так, как показано на рис. 2. Огибающей вторичных волн является плоскость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Н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сательная к сферическим поверхностям. Она представляет собой волновую поверхность отраженной волны. Отраженные луч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0" i="1" lang="ru-RU" sz="1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ru-RU" sz="12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пендикулярны волновой поверхно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гол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жду перпендикуляром к отражающей поверхности и отраженным лучом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лом отраж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 к.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D=С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треугольник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С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ямоугольные, то 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A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CAB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о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к углы с перпендикулярными сторонами. Следовательно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ол отражения равен углу па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2763-5181-4249-BAC2-0ABEA49B4C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вытекает из построения Гюйгенса, падающий луч, луч отраженный и перпендикуляр, восставленный в точке падения, лежат в одной плоскости. Эти два утверждения представляют собой закон отражения с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братить направление распространения световых лучей, то отраженный луч станет падающим, а падающий – отраженным. Обратимость хода световых лучей – их важное свой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A762-4D26-4439-97C8-B63B05E231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C6B41-626C-454F-88D1-252FCC0E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A8DE3-29D8-49BD-A59B-844BFF1A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DAA3-9285-44A2-9564-734C4B70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5F5EA-1DBD-41CE-BEED-2C6E6D16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96D1-9A72-40FF-B9EF-18D12058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7255-302C-42D2-92C1-814901C8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63EB-01E6-47CC-9A5C-321E4183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FC83-2F98-4A21-870A-F31DA441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C0AF-0F36-478A-ACB0-68E56C2A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4E83-0674-4A2D-829D-3F072128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A929-8A6C-484C-97EB-74FB728F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C2AB1-3601-462D-A649-E129930A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4391-F4A2-46F8-9FB9-48E7FC1E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8E34-F5F7-4211-902C-C6DECCA2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ACA8-E932-476C-A8F4-55F2212A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FA00-F80C-4A18-94D7-E5811A36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418B-6F3D-478E-AF59-D6860D55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2055D-8538-4E5D-803A-4EA08715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17400-43A6-4C54-B5A5-79DE59C3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EDB2-1474-4DCA-87E8-E92D10F3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20EF3-A2B3-4911-A94D-3AB3837A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B184C-33AB-453E-BBE3-7BC678B2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97856-FC7C-491C-9D58-D37D881B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BD20C-67A9-49EF-90C7-D73BB4D5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F101-5D6D-4163-BB3E-15FB3BC445F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02BD-F40C-4AD9-AE9A-DA3D5BC41B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ПРИНЦИП ГЮЙГЕНСА. ЗАКОН ОТРАЖЕНИЯ СВЕТА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779640" y="5877000"/>
            <a:ext cx="52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Трифоева Наталия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422880" y="6237360"/>
            <a:ext cx="56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а № 489 Московского р-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коны отражения и преломления света можно вывести из одного общего принципа, описывающего поведение волн. Этот принцип впервые был выдвинут современником Ньютона Христианом Гюйгенсом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юйгенс Христиан (1629-1695) – голландский физик и математик, создатель первой волновой теории света. Основы этой теории Гюйгенс изложил в «Трактате о свете» (1690). Гюйгенс впервые использовал маятник для достижения регулярного хода часов и вывел формулу для периода колебаний математического и физического маятников. Математические работы Гюйгенса касались исследования конических сечений, циклоиды и других кривых. Ему принадлежит одна из первых работ по теории вероятности. С помощью усовершенствованной им астрономической трубы Гюйгенс открыл спутник Сатурна – Тит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Gugens"/>
          <p:cNvPicPr/>
          <p:nvPr/>
        </p:nvPicPr>
        <p:blipFill>
          <a:blip r:embed="rId1"/>
          <a:stretch/>
        </p:blipFill>
        <p:spPr>
          <a:xfrm>
            <a:off x="5435640" y="2060640"/>
            <a:ext cx="2808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Гюйген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гласно принципу Гюйгенса каждая точка среды, до которой дошло возмущение, сама становится источником вторичных волн. Для того чтобы, зная положение волновой поверхности в момент времени t, найти ее положение в следующий момент времени t+∆t, нужно каждую точку волновой поверхности рассматривать как источник вторичных волн. Поверхность, касательная ко всем вторичным волнам, представляет собой волновую поверхность в следующий момент времени (рис.1). Этот принцип в равной мере пригоден для описания распространения волн любой природы: механических, световых и т. д. Гюйгенс сформулировал его первоначально именно для световых во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механических волн принцип Гюйгенса имеет наглядное истолкование: частицы среды, до которых доходят колебания, в свою очередь, колеблясь, приводят в движение соседние частицы среды, с которыми они взаимодейству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ris3"/>
          <p:cNvPicPr/>
          <p:nvPr/>
        </p:nvPicPr>
        <p:blipFill>
          <a:blip r:embed="rId1"/>
          <a:stretch/>
        </p:blipFill>
        <p:spPr>
          <a:xfrm>
            <a:off x="1547640" y="4606920"/>
            <a:ext cx="6048720" cy="2251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7576560" y="63295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омощью принципа Гюйгенса можно вывести закон, которому подчиняются волны при отражении от границы раздела ср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отрим отражение плоской волны. Волна называется плоской, если поверхности равной фазы (волновые поверхности) представляют собой плоскости. На рис.2. MN – отражающая поверхность, прямые А1А и В1В – два луча падающей плоской волны (они параллельны друг другу). Плоскость AC – волновая поверхность этой вол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жду падающим лучом и перпендикуляром к отражающей поверхности и точке падения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лом пад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лновую поверхность отраженной волны можно получить, если провести огибающую вторичных волн, центры которых лежат на границе раздела сред. Различные участки волновой поверх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остигают отражающей границы не одновременно. Возбуждение колебаний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чнется раньше, чем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а время, где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скорость волны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ris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2_1"/>
          <p:cNvPicPr/>
          <p:nvPr/>
        </p:nvPicPr>
        <p:blipFill>
          <a:blip r:embed="rId2"/>
          <a:stretch/>
        </p:blipFill>
        <p:spPr>
          <a:xfrm>
            <a:off x="6156360" y="5850000"/>
            <a:ext cx="1224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момент, когда волна достигнет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в этой точке начнется возбуждение колебаний, вторичная волна с центром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же будет представлять собой полусферу радиусом 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диусы вторичных волн от источников, расположенных между точкам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няются так, как показано на рис. 2. Огибающей вторичных волн является плоскость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Н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асательная к сферическим поверхностям. Она представляет собой волновую поверхность отраженной волны. Отраженные луч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пендикулярны волновой поверх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жду перпендикуляром к отражающей поверхности и отраженным лучом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лом отраж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 к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D=С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треугольни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С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оугольные, то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A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AB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о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ак углы с перпендикулярными сторонами. Следовательно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ол отражения равен углу па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ris4"/>
          <p:cNvPicPr/>
          <p:nvPr/>
        </p:nvPicPr>
        <p:blipFill>
          <a:blip r:embed="rId1"/>
          <a:stretch/>
        </p:blipFill>
        <p:spPr>
          <a:xfrm>
            <a:off x="2195640" y="5013360"/>
            <a:ext cx="4681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вытекает из построения Гюйгенса, падающий луч, луч отраженный и перпендикуляр, восставленный в точке падения, лежат в одной плоскости. Эти два утверждения представляют собой закон отражения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братить направление распространения световых лучей, то отраженный луч станет падающим, а падающий – отраженным. Обратимость хода световых лучей – их важное свой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29:49Z</dcterms:created>
  <dc:creator>Admin</dc:creator>
  <dc:description/>
  <dc:language>en-US</dc:language>
  <cp:lastModifiedBy>LEGION</cp:lastModifiedBy>
  <dcterms:modified xsi:type="dcterms:W3CDTF">2015-03-30T08:14:58Z</dcterms:modified>
  <cp:revision>5</cp:revision>
  <dc:subject/>
  <dc:title>ПРИНЦИП ГЮЙГЕНСА. ЗАКОН ОТРАЖЕНИЯ СВЕТА </dc:title>
</cp:coreProperties>
</file>