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A4DF-9E58-4BE6-8CFF-051335A1DC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0DEC-527C-48AF-ACA5-6D1AF6BA07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FFF7-3B60-48A8-AF38-46C0DB5676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П охватывает комплекс мероприя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правление финансовой деятельностью государства и других субъектов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4FBF-FF4F-4935-AD31-400F5A2183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ловий для формирования максимально возможных финансовых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финансового механ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управления финанса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0268-90CE-4A19-AAC6-56C5AAEADB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ханиз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ивный финансовый мех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ий финансовый мех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3A00-133A-42C5-B7BA-CDFDAD1759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онсервати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о – дирек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75DF-9192-4217-9EEA-8F8C6812B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ая политика на современном этап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алоговой нагруз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ие государственных обяза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финансовых ресурсов на решении приорите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зависимости бюджетных доходов от конъюнктуры мировы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DF50-DD5F-48C9-95A7-56A715F80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9B2-D726-4CDD-9D34-A5D72384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EDD-A999-408C-BD4A-1BA0A1A0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946-8AEB-4759-A2A7-72CED103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B91-DB73-4C2B-8D6B-3FCF3D75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831-DEDD-4178-86B1-9CA4DC9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C21-505F-4C58-A9FF-ED3D94A7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6FA-43E9-41F1-A15F-0752097B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BA6-A38A-44AC-8891-B4207F7E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56D-528A-44FC-99E4-26AA2701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D97-3256-4212-A5A2-B3E78C06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B57-D4DC-4229-803E-3FD34294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11B-ABA9-4945-97DD-2808F19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D35C-1E15-4052-8109-C8268E7B5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П охватывает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управление финансовой деятельностью государства и других субъектов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для формирования максимально возможных финансовых усл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финансового мех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эффективной системы управления финанс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й механиз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рективный финансовый механиз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ий финансовый мех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серв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ово – дирек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политика на современн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налогов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ение государственных обяз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финансовых ресурсов на решении приорите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зависимости бюджетных доходов от конъюнктуры мировых ц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46:37Z</dcterms:created>
  <dc:creator>eryabova</dc:creator>
  <dc:description/>
  <dc:language>en-US</dc:language>
  <cp:lastModifiedBy>LEGION</cp:lastModifiedBy>
  <dcterms:modified xsi:type="dcterms:W3CDTF">2014-11-10T10:50:40Z</dcterms:modified>
  <cp:revision>7</cp:revision>
  <dc:subject/>
  <dc:title>Финансовая политика государства</dc:title>
</cp:coreProperties>
</file>