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8C89-26BA-4FDE-B114-13272904E5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литика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8BAB-66EC-4244-A244-D2E1B9D0E1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литик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государственных мероприятий по использованию финансовых отношений для выполнения государством своих фу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16AF-AB1F-470D-80E8-8AE3542CB4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П охватывает комплекс мероприят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разработка общей концепции финансовой политики, определение ее основных направлений, целей, глав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управление финансовой деятельностью государства и других субъектов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C39B-7B09-49AA-8EB3-8C4BA63119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финансов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условий для формирования максимально возможных финансовых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ционального (с точки зрения государства) распределения и использования финансовы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гулирования и стимулирования экономических и социальных процессов финансовыми метод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финансового механ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управления финанса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2E3F-2A4C-4306-AEDE-2EBA6F9194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механиз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ивный финансовый механ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ий финансовый мех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E858-FC93-4AE2-8D6B-4108234026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финансов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консервати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о – директив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F910-B91C-4979-8BF3-815E336C15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нансовая политика на современном этап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алоговой нагруз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ие государственных обязатель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я финансовых ресурсов на решении приоритет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зависимости бюджетных доходов от конъюнктуры мировых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межбюджетных отношений и управление государственными финан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5324-57A5-4329-A454-B52FFFE3AF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858-9701-4B58-B987-72BE2BE8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E0B-1D8D-4FD1-B7CA-6EE45BC4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F0A-BF32-41A8-BA6B-E27A8BED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D2D-4518-475A-8976-3B5515FD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FC3-1537-45C4-AD99-1E548FC8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D11-96F9-483C-917C-EFFB6494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CE6-6089-45FE-975E-E2953BB8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F9D-83A3-4124-A0A0-11F3A55A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8D4-D517-48E8-AD92-5D95FE5F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975C-3E0F-45AB-A3AF-93BC7806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302-79C3-4C22-AC1E-F89F26A9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FAA-D571-46A9-A48F-5D67A57E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7ED1-A4CE-4D4E-9075-B82EF16F8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политика госуда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политик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мероприятий по использованию финансовых отношений для выполнения государством своих фун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П охватывает комплекс мероприят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разработка общей концепции финансовой политики, определение ее основных направлений, целей, главных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управление финансовой деятельностью государства и других субъектов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финансовой полит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словий для формирования максимально возможных финансовых усло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рационального (с точки зрения государства) распределения и использования финансов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регулирования и стимулирования экономических и социальных процессов финансовыми метод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отка финансового механ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эффективной системы управления финанса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ый механиз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рективный финансовый механиз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ующий финансовый механ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финансовой полит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консервати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ово – директив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овая политика на современном эта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налоговой нагруз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рядочение государственных обязатель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центрация финансовых ресурсов на решении приоритет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зависимости бюджетных доходов от конъюнктуры мировых ц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эффективной системы межбюджетных отношений и управление государственными финан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1:46:37Z</dcterms:created>
  <dc:creator>eryabova</dc:creator>
  <dc:description/>
  <dc:language>en-US</dc:language>
  <cp:lastModifiedBy>LEGION</cp:lastModifiedBy>
  <dcterms:modified xsi:type="dcterms:W3CDTF">2014-11-10T10:50:40Z</dcterms:modified>
  <cp:revision>7</cp:revision>
  <dc:subject/>
  <dc:title>Финансовая политика государства</dc:title>
</cp:coreProperties>
</file>