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0C77-577A-4302-A66D-418326F931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ки и деньги</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ил: ученик 7класса</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У «Берёзовская СОШ» п. Канифольный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ин Алексей</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учитель физики Савина Е.Г.</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6D11-6811-4589-84C6-26694BAC517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КЛ ФАРАДЕЙ, Английская валюта 1993 года - купюра в 20 фу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5C5B-4CD8-4414-A4A6-BD4DEE04C7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Й КОПЕРНИК -1000 золотых, Польша, 198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7457-2D80-477B-BF76-AD296FA9EF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Я СКЛОДОВСКАЯ-КЮРИ, 20000 золотых, Поль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4356-1AFE-4411-9963-EFA6E2F650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 ТЕСЛА- 500 динаров, Югославия, 197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A667-44B0-4BF9-A159-A87B9094DD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ЛЕЗ </a:t>
            </a:r>
            <a:r>
              <a:rPr b="0" lang="ru-RU" sz="1200" spc="-1" strike="noStrike">
                <a:solidFill>
                  <a:srgbClr val="000000"/>
                </a:solidFill>
                <a:latin typeface="Calibri"/>
              </a:rPr>
              <a:t>ПАСКАЛЬ-500 франков, Франц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85AE-E110-4970-A7EF-FDD8D54EDB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ИЛЕО ГАЛИЛЕЙ- 2000 лир, Италия, 1973, 197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932E-645E-4BF1-8C70-546749011F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АК НЬТОН- 1 фунт, Англ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D81D-9289-4AB4-B35B-F01CEBA5B5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НЕСТ РЕЗЕРФОРД- 100 долларов, Новая Зеланд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7DEF-9AD3-49C2-89EE-786EA9051D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ССАНДРО ВОЛЬТО -10000 лир, Италия,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B2C9-1A52-4CC2-ABA9-6041BC572F7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анклин Бенджами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ниамин)</a:t>
            </a:r>
            <a:r>
              <a:rPr b="0" lang="ru-RU" sz="1200" spc="-1" strike="noStrike">
                <a:solidFill>
                  <a:srgbClr val="000000"/>
                </a:solidFill>
                <a:latin typeface="Calibri"/>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BBB4-1F4D-4D64-9A2A-000450B01E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2FF7-F6BC-4587-9977-1CF8423BC7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есла Нико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A169-F7B8-4E0D-9580-D607920379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аскаль Бле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1A61-DB8F-46F4-A944-86D288EF7C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алилей Галиле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3582-9715-4915-8E1D-7480B83FDE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r>
              <a:rPr b="0" lang="ru-RU" sz="1200" spc="-1" strike="noStrike">
                <a:solidFill>
                  <a:srgbClr val="000000"/>
                </a:solidFill>
                <a:latin typeface="Calibri"/>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C12E-FF1D-4E23-B10D-19FBD9D2EF2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r>
              <a:rPr b="0" lang="ru-RU" sz="1200" spc="-1" strike="noStrike">
                <a:solidFill>
                  <a:srgbClr val="000000"/>
                </a:solidFill>
                <a:latin typeface="Calibri"/>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9BF9-5EB6-4F80-AF46-F55EC7AE55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r>
              <a:rPr b="0" lang="ru-RU" sz="1200" spc="-1" strike="noStrike">
                <a:solidFill>
                  <a:srgbClr val="000000"/>
                </a:solidFill>
                <a:latin typeface="Calibri"/>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83A8-9A0A-4E2B-83A1-7C93631499D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1200" spc="-1" strike="noStrike">
                <a:solidFill>
                  <a:srgbClr val="000000"/>
                </a:solidFill>
                <a:latin typeface="Calibri"/>
              </a:rPr>
              <a:t>Михаил Васильевич Ломоносов</a:t>
            </a:r>
            <a:r>
              <a:rPr b="0" lang="ru-RU" sz="1200" spc="-1" strike="noStrike">
                <a:solidFill>
                  <a:srgbClr val="000000"/>
                </a:solidFill>
                <a:latin typeface="Calibri"/>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200"/>
            </a:br>
            <a:r>
              <a:rPr b="1" lang="ru-RU" sz="1200" spc="-1" strike="noStrike">
                <a:solidFill>
                  <a:srgbClr val="000000"/>
                </a:solidFill>
                <a:latin typeface="Calibri"/>
              </a:rPr>
              <a:t>Памятная серебряная монета номиналом 2 рубля - монета посвящена 300-летию со дня рождения учёного-естествоиспытателя , 2011г</a:t>
            </a:r>
            <a:br>
              <a:rPr sz="1200"/>
            </a:br>
            <a:br>
              <a:rPr sz="3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2A75-708A-4831-94BF-7479761075E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информа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ИЗИКИ И ДЕНЬГИ.Ю.Э. Китаев</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erm.ru</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http://www.all-fizika.com</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то монет- </a:t>
            </a:r>
            <a:r>
              <a:rPr b="0" lang="en-US" sz="1400" spc="-1" strike="noStrike">
                <a:solidFill>
                  <a:srgbClr val="000000"/>
                </a:solidFill>
                <a:latin typeface="Calibri"/>
              </a:rPr>
              <a:t>http://theorphysics.inf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спользованы иллюстрации из WWWpage</a:t>
            </a:r>
            <a:r>
              <a:rPr b="0" lang="ru-RU" sz="1200" spc="-1" strike="noStrike">
                <a:solidFill>
                  <a:srgbClr val="000000"/>
                </a:solidFill>
                <a:latin typeface="Calibri"/>
              </a:rPr>
              <a:t> </a:t>
            </a:r>
            <a:r>
              <a:rPr b="0" lang="en-US" sz="1200" spc="-1" strike="noStrike">
                <a:solidFill>
                  <a:srgbClr val="000000"/>
                </a:solidFill>
                <a:latin typeface="Calibri"/>
              </a:rPr>
              <a:t>http://ww2.physics.umd.edu/~redish/money, подготовленной Эдвардом Редишом (Edward F.Re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BEF2-D709-40E9-961D-60351BBC37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A445-756E-480F-9757-3963A5105C4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ександру Сергеевичу Попову</a:t>
            </a:r>
            <a:r>
              <a:rPr b="0" lang="ru-RU" sz="1200" spc="-1" strike="noStrike">
                <a:solidFill>
                  <a:srgbClr val="000000"/>
                </a:solidFill>
                <a:latin typeface="Calibri"/>
              </a:rPr>
              <a:t> посвящена Юбилейная монета СССР достоинством 1 рубль, выпущенная в свет в 1984 год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DFB8-9EC4-4BA4-B3E9-6EBC9BEFC1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Эдуардович Циолковский</a:t>
            </a:r>
            <a:r>
              <a:rPr b="0" lang="ru-RU" sz="1200" spc="-1" strike="noStrike">
                <a:solidFill>
                  <a:srgbClr val="000000"/>
                </a:solidFill>
                <a:latin typeface="Calibri"/>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72E4-D1CE-4F45-AEED-C471E63E0D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кар со своим летательным аппаратом и </a:t>
            </a:r>
            <a:r>
              <a:rPr b="1" lang="ru-RU" sz="1200" spc="-1" strike="noStrike">
                <a:solidFill>
                  <a:srgbClr val="000000"/>
                </a:solidFill>
                <a:latin typeface="Calibri"/>
              </a:rPr>
              <a:t>Николай Егорович Жуковский</a:t>
            </a:r>
            <a:r>
              <a:rPr b="0" lang="ru-RU" sz="1200" spc="-1" strike="noStrike">
                <a:solidFill>
                  <a:srgbClr val="000000"/>
                </a:solidFill>
                <a:latin typeface="Calibri"/>
              </a:rPr>
              <a:t> представлены на юбилейной серебряной монете России достоинством 2 рубля в 1997г </a:t>
            </a:r>
            <a:r>
              <a:rPr b="0" lang="ru-RU" sz="3200" spc="-1" strike="noStrike">
                <a:solidFill>
                  <a:srgbClr val="000000"/>
                </a:solidFill>
                <a:latin typeface="Calibri"/>
              </a:rPr>
              <a:t> </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7FE2-4544-4DE0-8E51-99E26124FD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ДЖАМИН ФРАНКЛИН изображен на любимой многими людьми купюре номиналом в 100 долларов С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401B-4780-483C-B097-9A4E8AE0123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F0C6-F79F-4AB5-B423-33BC93CE3F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ЬЕР и МАРИЯ КЮРИ -купюра в 500 франков, Франция, 1994. Единственная в мире банкнота с изображением двух ученых физиков сраз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A7FF-DF93-4B21-8401-5186E4DE5A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A0DDF-FAFD-4F47-9E14-EC180DD6C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A9B3C-BCB0-4C19-A787-F46EA2CC5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254B-F326-4D2E-9B9D-694D6DBE1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9E024-9A43-4F1C-ACE0-492ADA26F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07C7C-7121-4700-A979-9C1AA1C65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BEFF4-A6BE-4BF3-9833-0EBB3DE7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82B4-0D7A-4FFD-A30E-82CD81C0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9344-F787-4049-B8AC-4015D222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2FBCC-B5A8-44BD-996A-EEDD0550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C99C-E4E4-40BE-A007-7B69CF33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F3B4-8168-4EA4-9D3F-99D1B401B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4D47-ECDF-4344-ABFC-8AA68E183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D2DC-B9C7-4757-8422-8A4F2DB7B89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ики и деньг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904760" y="4419360"/>
            <a:ext cx="6933960" cy="1600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ученик 7класса</a:t>
            </a: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У «Берёзовская СОШ» п. Канифольны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ин Алексей</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физики Савина Е.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КЛ ФАРАДЕЙ, Английская валюта 1993 года - купюра в 20 фунтов. </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914400" y="2057400"/>
            <a:ext cx="754380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Й КОПЕРНИК -1000 золотых, Польша, 1982. </a:t>
            </a:r>
            <a:endParaRPr b="0" lang="en-US" sz="1600" spc="-1" strike="noStrike">
              <a:solidFill>
                <a:srgbClr val="000000"/>
              </a:solidFill>
              <a:latin typeface="Arial"/>
            </a:endParaRPr>
          </a:p>
        </p:txBody>
      </p:sp>
      <p:pic>
        <p:nvPicPr>
          <p:cNvPr id="73" name="Picture 3" descr=""/>
          <p:cNvPicPr/>
          <p:nvPr/>
        </p:nvPicPr>
        <p:blipFill>
          <a:blip r:embed="rId1"/>
          <a:stretch/>
        </p:blipFill>
        <p:spPr>
          <a:xfrm>
            <a:off x="457200" y="1905120"/>
            <a:ext cx="822960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ИЯ СКЛОДОВСКАЯ-КЮРИ, 20000 золотых, Польша. </a:t>
            </a:r>
            <a:endParaRPr b="0" lang="en-US" sz="1600" spc="-1" strike="noStrike">
              <a:solidFill>
                <a:srgbClr val="000000"/>
              </a:solidFill>
              <a:latin typeface="Arial"/>
            </a:endParaRPr>
          </a:p>
        </p:txBody>
      </p:sp>
      <p:pic>
        <p:nvPicPr>
          <p:cNvPr id="7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 ТЕСЛА- 500 динаров, Югославия, 1970. </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ЕЗ </a:t>
            </a:r>
            <a:r>
              <a:rPr b="0" lang="ru-RU" sz="1800" spc="-1" strike="noStrike">
                <a:solidFill>
                  <a:srgbClr val="000000"/>
                </a:solidFill>
                <a:latin typeface="Arial"/>
              </a:rPr>
              <a:t>ПАСКАЛЬ-500 франков, Франция, 199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ЛИЛЕО ГАЛИЛЕЙ- 2000 лир, Италия, 1973, 1976 </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АК НЬТОН- 1 фунт, Англия, 1990 </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РНЕСТ РЕЗЕРФОРД- 100 долларов, Новая Зеландия.</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457200" y="1600200"/>
            <a:ext cx="8229600" cy="4525920"/>
          </a:xfrm>
          <a:prstGeom prst="rect">
            <a:avLst/>
          </a:prstGeom>
          <a:ln w="0">
            <a:noFill/>
          </a:ln>
        </p:spPr>
      </p:pic>
      <p:sp>
        <p:nvSpPr>
          <p:cNvPr id="86" name="Rectangle 4"/>
          <p:cNvSpPr/>
          <p:nvPr/>
        </p:nvSpPr>
        <p:spPr>
          <a:xfrm>
            <a:off x="2735280" y="3245760"/>
            <a:ext cx="367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0 долларов, Новая Зеланд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ЛЕССАНДРО ВОЛЬТО -10000 лир, Италия, 1984. </a:t>
            </a:r>
            <a:endParaRPr b="0" lang="en-US" sz="1600" spc="-1" strike="noStrike">
              <a:solidFill>
                <a:srgbClr val="000000"/>
              </a:solidFill>
              <a:latin typeface="Arial"/>
            </a:endParaRPr>
          </a:p>
        </p:txBody>
      </p:sp>
      <p:pic>
        <p:nvPicPr>
          <p:cNvPr id="8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ранклин Бенджамин</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иамин)</a:t>
            </a:r>
            <a:r>
              <a:rPr b="0" lang="ru-RU" sz="1200" spc="-1" strike="noStrike">
                <a:solidFill>
                  <a:srgbClr val="000000"/>
                </a:solidFill>
                <a:latin typeface="Arial"/>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Arial"/>
            </a:endParaRPr>
          </a:p>
        </p:txBody>
      </p:sp>
      <p:sp>
        <p:nvSpPr>
          <p:cNvPr id="9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р Нильс Хендрик</a:t>
            </a:r>
            <a:endParaRPr b="0" lang="en-US" sz="4400" spc="-1" strike="noStrike">
              <a:solidFill>
                <a:srgbClr val="000000"/>
              </a:solidFill>
              <a:latin typeface="Arial"/>
            </a:endParaRPr>
          </a:p>
        </p:txBody>
      </p:sp>
      <p:sp>
        <p:nvSpPr>
          <p:cNvPr id="93"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авид</a:t>
            </a:r>
            <a:r>
              <a:rPr b="0" lang="ru-RU" sz="900" spc="-1" strike="noStrike">
                <a:solidFill>
                  <a:srgbClr val="000000"/>
                </a:solidFill>
                <a:latin typeface="Arial"/>
              </a:rPr>
              <a:t> (7.10.1885-18.11.1962) — выдающийся датский физик-теоретик, один из создателей современной физики, член Датского королевского общества (1917), президент с 1939. Родился в Копенгагене. Окончил Копенгагенский университет (1908). В 1911 — 12 работал в Кембридже у Дж. Дж. Томсона, в 1912—13 —в Манчестере у Э. Резерфорда. С 1916 — профессор Копенгагенского университета и с 1920 — директор созданного им Института теоретической физики, который стал международным центром физиков-теоретиков и сыграй большую роль в международном общении ученых (Институт Нильса Бора). Как ученый Бор формировался в очень острый для физики период, когда она вплотную подошла к изучению мира атомных процессов и связанных с ними полей. Работы М. Планка, А. Эйнштейна, анализ, спектров излучения атомов уже показали необычность закономерностей микромира. Был накоплен огромный экспериментальный материал, весьма противоречивый в свете ранее известных законов. Нужен был принципиально новый подход для создания физической картины атомных процессов. Важная заслуга Бора и состояла в том, что он нашел такой подход. Он ориентировал физиков на исследование противоречивых сторон физической реальности микромира, сформулировал идею о дискретности энергетических состояний атомов, в свете новых идей построил атомную модель, открыв условия устойчивости атомов, и объяснил большой круг явлений. В 1913, исходя из идеи М. Планка о квантовании энергии, Бор на основе модели атома Резерфорда создал свою теорию водородоподобного атома, основанную на двух постулатах, которые прямо противоречили классическим представлениям и законам. Это была первая квантовая модель атома, положившая начало новой эре в атомной теории. Согласно этой теории планетарная структура атома и свойства его спектра излучения легко объясняются, если предположить, что движение электрона в атоме «подчиняется» некоторым ограничениям, которые Бор сформулировал в виде двух постулатов. Бор установил наличие в атоме стационарных разрешенных орбит, двигаясь по которым электрон, вопреки законам электродинамики, не излучает энергию, однако может скачком перейти на более близкую к ядру также разрешенную орбиту, испустив при этом квант энергии, равный разности энергий атома в стационарных состояниях, разработал некоторые правила квантования. Теория Бора позволила объяснить целый ряд сложных вопросов строения атома и фактов, чего не в состоянии была сделать классическая физика. В частности, Бор нашел основные законы спектральных линий и электронных оболочек атомов, объяснил (1923) особенности периодической системы химических элементов, предложив свой вариант изображения периодической системы элементов, и в том же году пришел к представлению об оболочечной структуре атома, основанной на классификации электронных орбит по главному и азимутальному квантовым числам. За создание квантовой теории планетарного атома в 1922 удостоен Нобелевской премии. В 1918 сформулировал важный для новой атомной теории принцип соответствия, показывающий, когда именно существенны квантовые ограничения, а когда достаточно и классической физики. Многое сделал Бор для становления и интерпретации квантовой механики, возникшей в 20-х годах нашего века. Усилиями Бора и его сотрудников и учеников была создана стройная система физических идей квантовой механики. В 1927 сформулировал важный для ее понимания принцип дополнительности, что привело к его известным дискуссиям с А. Эйнштейном о детерминизме. Критика со стороны Эйнштейна, по признанию самого Бора, способствовала более глубокому пониманию им квантовой механики. В интерпретации новых идей и фактов, в теории познания Бор иногда высказывал ошибочные философские утверждения, а отдельные его формулировки служили поводом для истолкования его высказываний в позитивистском духе. Однако, как пишет В. А. Фок, «общее впечатление от всех работ Бора, начиная с самых первых, — их глубокая диалектичность. Бора не волнуют противоречия, возникающие тогда, когда к существенно новым явлениям природы подходят с точки зрения старых понятий и старых взглядов, он ищет разрешение противоречий в новых идеях». Советские физики и философы многое сделали для материалистического осмысления положительного вклада Бора в физику. Они проводили такую линию, чтобы исключить какую бы то ни было возможность для позитивистов использовать этот вклад. Бор много сделал и для развития ядерной физики. Он — автор теории составного ядра (1936), один из создателей капельной модели ядра (1936) и теории деления атомного ядра (1939). Совместно с Дж. Уилером (независимо от Я. И. Френкеля) дал количественную интерпретацию деления ядра, введя так называемый параметр деления, предсказал спонтанное деление урана. В 1912 сформулировал важную теорему статистической механики, переоткрытую в 1919 Ж. Ван Левей (теорема Бора — Ван Левен). Создал большую интернациональную школу физиков (Ф. Блох, О. Бор. В. Вайскопф, X. Казимир, О. Клейн, X. Крамере, Л. Д. Ландау, К. Мёллер, У. Нишина, А. Пайс, Л. Розенфельд, С. Росселанд, Дж. Уилер и др.) Почетный член более 20 академий наук мира, в т. ч. иностранный член АН СССР (1929). </a:t>
            </a:r>
            <a:endParaRPr b="0" lang="en-US" sz="900" spc="-1" strike="noStrike">
              <a:solidFill>
                <a:srgbClr val="000000"/>
              </a:solidFill>
              <a:latin typeface="Arial"/>
            </a:endParaRPr>
          </a:p>
        </p:txBody>
      </p:sp>
      <p:sp>
        <p:nvSpPr>
          <p:cNvPr id="94"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арадей Майкл</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09.1791-25.08.1867) — английский физик, член Лондонского королевского общества (1824). Родился в Лондоне. Учился самостоятельно. В 1813 стал ассистентом Г. Дэви в Королевском институте в Лондоне, в 1825 — директором лаборатории Королевского института, сменив на этом посту Г. Дэви, в 1833 —62— профессор кафедры химии. Исследования в области электричества, магнетизма, магнитооптики, электрохимии. В 1821 впервые осуществил вращение магнита вокруг проводника с током и проводника с током вокруг магнита, создав тем самым лабораторную модель электродвигателя. В этом опыте наглядно проявилась связь между электрическими и магнитными явлениями. Не случайно, что в этом же году Фарадей поставил себе целью «превратить магнетизм в электричество». В 183Н открыл явление электромагнитной индукции — возникновение электрического тока в проводнике при изменении магнитного потока через контур проводника. В последующие годы подробно изучил открытое им явление и установил законы электромагнитной индукции, открыл (1835) экстратоки при замыкании и размыкании и установил их направление. Используя огромный экспериментальный материал, Фарадей доказал тождественность известных тогда видов электричества: «животного», «магнитного», термоэлектричества, электричества, возникающего от трения, гальванического электричества. Стремление выяснить природу электрического тока привело его к экспериментам по прохождению тока через растворы кислот, солей и щелочей. Результатом этих исследований было открытие в 1833 законов электролиза (законы Фарадея). Кроме большого практического значения, эти законы стали также существенным аргументом в пользу дискретного характера электричества. Ввел понятия: подвижность (1827), катод, анод, ионы, электролиз, электролиты, электроды (1834), изобрел (1833) вольтаметр. В 1845 открыл диамагнетизм и в 1847 — парамагнетизм. Обнаружил (1845) явление вращения плоскости поляризации света в магнитном поле (эффект Фарадея). Последнее было первым экспериментальным доказательством связи между светом и магнетизмом и положило начало магнитооптике. В работах Фарадея по электромагнетизму важным также является понятие поля. Он первый в 30-х годах ввел понятие поля, в 1845 употребил термин «магнитное поле», отчетливо сформулировал свою концепцию поля в 1852. По мнению А. Эйнштейна, идея поля была самой оригинальной идеей Фарадея, самым важным открытием со времен Ньютона. У Ньютона и других ученых пространство выступало как пассивное вместилище тел и электрических зарядов, у Фарадея же пространство участвует в явлениях. «Надо иметь могучий дар научного предвидения, — писал А. Эйнштейн, — чтобы распознать, что в описании электрических явлений не заряды и не частицы описывают суть явлений, а скорее пространство между зарядами и частицами». Для описания электрических и магнитных явлений Фарадей ввел представление об электрических и магнитных силовых линиях, которые он, правда, считал реально существующими. Является создателем учения об электромагнитном поле. В 1846 в мемуаре «Мысли о лучевых колебаниях» высказал идею об электромагнитной природе света. В 1837 обнаружил влияние диэлектриков на электрическое взаимодействие (поляризацию диэлектриков) и ввел понятие диэлектрической проницаемости. Высказал мысль о распространении электрического и магнитного взаимодействий через промежуточную среду. В 1843 экспериментально доказал закон сохранения электрического заряда. Близко подошел к открытию закона сохранения и превращения энергии, высказав (1840) мысль о единстве сил природы (различных видов энергии) и их взаимном превращении. Был популяризатором физики, в частности широко известна его книга «История свечи», переведенная почти на все языки мира. Член Петербургской АН (1830). </a:t>
            </a:r>
            <a:endParaRPr b="0" lang="en-US" sz="1000" spc="-1" strike="noStrike">
              <a:solidFill>
                <a:srgbClr val="000000"/>
              </a:solidFill>
              <a:latin typeface="Arial"/>
            </a:endParaRPr>
          </a:p>
        </p:txBody>
      </p:sp>
      <p:sp>
        <p:nvSpPr>
          <p:cNvPr id="97"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перник Николай</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02.1473-24.05.1543) — выдающийся польский астроном, создатель гелиоцентрической системы мира. Родился в Торуне. Учился в Краковском университете (1491—95) и в университетах Италии. В 1503 возвратился в Польшу, был секретарем и врачом у своего дяди — епископа Ваченроде, после смерти которого поселился во Фромборке. Коперник отбросил общепринятую в то время геоцентрическую систему мира Птолемея, согласно которой Земля является центральным телом Вселенной, а Солнце, все планеты и сфера неподвижных звезд вращаются вокруг нее, и создал новую, гелиоцентрическую систему мира, согласно которой Земля, как и другие планеты, вращается вокруг Солнца, а видимое суточное перемещение небесного свода является лишь следствием движения Земли вокруг оси. Новая система мира раскрыла природу видимых перемещений планет, вывела их из простейших движений, осуществляемых небесными телами вокруг Солнца, и вращения Земли, на которой находится наблюдатель. Это была не простая замена одной схемы строения планетной системы другой. Необходимо было «сломать» установившиеся истины, которые считались очевидными. К таким представлениям прежде всего принадлежал постулат о неподвижности Земли, о том, что сложный характер планетных движений является чем-то данным свыше и не подлежит объяснению. Необходимо было отказаться от идеи о центральном положении человека в природе. Наконец, необходимо было выступить против многовекового авторитета Аристотеля и Птолемея, а также церкви, канонизировавшей старую систему мира и сделавшей ее составной частью своего мировоззрения. Это был научный подвиг, разрушивший основы религиозного мировоззрения средневековья, освободивший науку от теологии и схоластики, приведший к перевороту в естествознании. Свою систему мира, над которой работал более 30 лет, Коперник изложил в сочинении «О вращениях небесных сфер», опубликованном в год его смерти. В 1616 книга была запрещена католической церковью, однако новые идеи неудержимо пробивали себе путь. Открытие Коперника дало толчок естествознанию для движения по новому пути. </a:t>
            </a:r>
            <a:endParaRPr b="0" lang="en-US" sz="1400" spc="-1" strike="noStrike">
              <a:solidFill>
                <a:srgbClr val="000000"/>
              </a:solidFill>
              <a:latin typeface="Arial"/>
            </a:endParaRPr>
          </a:p>
        </p:txBody>
      </p:sp>
      <p:sp>
        <p:nvSpPr>
          <p:cNvPr id="100"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клодовская-Кюри Мария</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11.1867—4.07.1934) — польский и французский физик и химик, один из основоположников учения о радиоактивности. Родилась в Варшаве. В 1891 — 94 училась в Парижском университете и, окончив его, получила два диплома лиценциата—по физике (1893) и математике (1894). В 1895 вышла замуж за французского физика П. Кюри и с этого же года начала работать в его лаборатории в Школе физики и химии (Париж). В 1900 —06 — преподаватель физики в Севрской нормальной школе. В 1903 защитила в Парижском университете-доктор-скую диссертацию. С 1906 — профессор и заведующая кафедрой Парижского университета, с 1914 — также директор Института радия. Работы посвящены радиоактивности и ее применению. В 1897 начала исследование радиоактивного излучения солей урана и пришла к выводу, что оно является свойством самих атомов урана. В 1898 независимо от Г. Шмидта доказала наличие радиоактивности у тория. Также заметила, что радиоактивность у некоторых минералов, содержащих уран и торий, намного интенсивнее, чем можно было бы ожидать. Предположила, что эти минералы (урановая смоляная руда, хальколит и аутонит) содержат новый радиоактивный элемент, отличный от урана и тория. Поиски этого гипотетического радиоактивного элемента были проведены в урановой смолке совместно с П. Кюри. Используя разработанный ими метод обогащения активным веществом, они приходят к выводу, что в урановой смолке присутствуют два новых радиоактивных элемента. В результате совместной напряженной и кропотливой работы по переработке больших количеств урановой смолки с целью концентрации активного вещества, они в июле 1898 открывают один из этих элементов — полоний, в декабре второй — радий, в 1899 — наведенную радиоактивность. В 1902 получила несколько дециграммов чистой соли радия, а в 1910 вместе с французским химиком А. Дебьерном — металлический радий. Определила атомный вес радия и его место в периодической таблице химических элементов. В 1903 за исследование явления радиоактивности супруги Кюри (совместно с А Беккерелем) удостоены Нобелевской премии по физике, а в 1911 М. Склодовской-Кюри за получение радия в металлическом состоянии присуждена Нобелевская премия по химии. Испытала много элементов на радиоактивность, исследовала, их свойства, разработала основы количественных методов радиоактивных измерений, изучала наведенную радиоактивность, установила влияние радиоактивного излучения на живую клетку, первая использовала радиоактивность (эманация радия) в медицине, ввела термин «радиоактивность» и т. д. В годы первой мировой войны (1914—18) организовала 220 передвижных и стационарных рентгеновских установок для рентгено- и радиологического обслуживания юсниталей Франции. Умерла от лейкемии. Член многих академий наук и научных обществ, в частности иностранный член АН СССР (1926). Медали Г. Дэви (1903), Э. Грессона (1909). </a:t>
            </a:r>
            <a:endParaRPr b="0" lang="en-US" sz="1200" spc="-1" strike="noStrike">
              <a:solidFill>
                <a:srgbClr val="000000"/>
              </a:solidFill>
              <a:latin typeface="Arial"/>
            </a:endParaRPr>
          </a:p>
        </p:txBody>
      </p:sp>
      <p:sp>
        <p:nvSpPr>
          <p:cNvPr id="103" name="AutoShape 5">
            <a:hlinkClick r:id="" action="ppaction://hlinkshowjump?jump=previousslide"/>
          </p:cNvPr>
          <p:cNvSpPr/>
          <p:nvPr/>
        </p:nvSpPr>
        <p:spPr>
          <a:xfrm rot="17818800">
            <a:off x="8191440" y="605736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7493"/>
                </a:moveTo>
                <a:lnTo>
                  <a:pt x="18081" y="7493"/>
                </a:lnTo>
                <a:lnTo>
                  <a:pt x="18081" y="12828"/>
                </a:lnTo>
                <a:cubicBezTo>
                  <a:pt x="18081" y="13751"/>
                  <a:pt x="18881" y="14482"/>
                  <a:pt x="19917" y="14482"/>
                </a:cubicBezTo>
                <a:lnTo>
                  <a:pt x="21580" y="14482"/>
                </a:lnTo>
                <a:cubicBezTo>
                  <a:pt x="22615" y="14482"/>
                  <a:pt x="23416" y="13751"/>
                  <a:pt x="23416" y="12828"/>
                </a:cubicBezTo>
                <a:lnTo>
                  <a:pt x="23416" y="7493"/>
                </a:lnTo>
                <a:lnTo>
                  <a:pt x="21580" y="7493"/>
                </a:lnTo>
                <a:lnTo>
                  <a:pt x="25087" y="3985"/>
                </a:lnTo>
                <a:lnTo>
                  <a:pt x="28760" y="7493"/>
                </a:lnTo>
                <a:lnTo>
                  <a:pt x="26924" y="7493"/>
                </a:lnTo>
                <a:lnTo>
                  <a:pt x="26924" y="12828"/>
                </a:lnTo>
                <a:cubicBezTo>
                  <a:pt x="26924" y="15596"/>
                  <a:pt x="24347" y="18155"/>
                  <a:pt x="21580" y="18155"/>
                </a:cubicBezTo>
                <a:lnTo>
                  <a:pt x="19917" y="18155"/>
                </a:lnTo>
                <a:cubicBezTo>
                  <a:pt x="17149" y="18155"/>
                  <a:pt x="14573" y="15596"/>
                  <a:pt x="1457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ла Никол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600" spc="-1" strike="noStrike">
              <a:solidFill>
                <a:srgbClr val="000000"/>
              </a:solidFill>
              <a:latin typeface="Arial"/>
            </a:endParaRPr>
          </a:p>
        </p:txBody>
      </p:sp>
      <p:sp>
        <p:nvSpPr>
          <p:cNvPr id="106" name="AutoShape 5">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скаль Блез</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600" spc="-1" strike="noStrike">
              <a:solidFill>
                <a:srgbClr val="000000"/>
              </a:solidFill>
              <a:latin typeface="Arial"/>
            </a:endParaRPr>
          </a:p>
        </p:txBody>
      </p:sp>
      <p:sp>
        <p:nvSpPr>
          <p:cNvPr id="109"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алилей Галилео</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900" spc="-1" strike="noStrike">
              <a:solidFill>
                <a:srgbClr val="000000"/>
              </a:solidFill>
              <a:latin typeface="Arial"/>
            </a:endParaRPr>
          </a:p>
        </p:txBody>
      </p:sp>
      <p:sp>
        <p:nvSpPr>
          <p:cNvPr id="112"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ьютон Исаак</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ьютон Исаак</a:t>
            </a:r>
            <a:r>
              <a:rPr b="0" lang="ru-RU" sz="900" spc="-1" strike="noStrike">
                <a:solidFill>
                  <a:srgbClr val="000000"/>
                </a:solidFill>
                <a:latin typeface="Arial"/>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900" spc="-1" strike="noStrike">
              <a:solidFill>
                <a:srgbClr val="000000"/>
              </a:solidFill>
              <a:latin typeface="Arial"/>
            </a:endParaRPr>
          </a:p>
        </p:txBody>
      </p:sp>
      <p:sp>
        <p:nvSpPr>
          <p:cNvPr id="115"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зерфорд Эрнес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ерфорд Эрнест</a:t>
            </a:r>
            <a:r>
              <a:rPr b="0" lang="ru-RU" sz="1000" spc="-1" strike="noStrike">
                <a:solidFill>
                  <a:srgbClr val="000000"/>
                </a:solidFill>
                <a:latin typeface="Arial"/>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000" spc="-1" strike="noStrike">
              <a:solidFill>
                <a:srgbClr val="000000"/>
              </a:solidFill>
              <a:latin typeface="Arial"/>
            </a:endParaRPr>
          </a:p>
        </p:txBody>
      </p:sp>
      <p:sp>
        <p:nvSpPr>
          <p:cNvPr id="118"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льта Алессандро</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ьта Алессандро</a:t>
            </a:r>
            <a:r>
              <a:rPr b="0" lang="ru-RU" sz="1400" spc="-1" strike="noStrike">
                <a:solidFill>
                  <a:srgbClr val="000000"/>
                </a:solidFill>
                <a:latin typeface="Arial"/>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400" spc="-1" strike="noStrike">
              <a:solidFill>
                <a:srgbClr val="000000"/>
              </a:solidFill>
              <a:latin typeface="Arial"/>
            </a:endParaRPr>
          </a:p>
        </p:txBody>
      </p:sp>
      <p:sp>
        <p:nvSpPr>
          <p:cNvPr id="12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1600" spc="-1" strike="noStrike">
                <a:solidFill>
                  <a:srgbClr val="000000"/>
                </a:solidFill>
                <a:latin typeface="Arial"/>
              </a:rPr>
              <a:t>Михаил Васильевич Ломоносов</a:t>
            </a:r>
            <a:r>
              <a:rPr b="0" lang="ru-RU" sz="1600" spc="-1" strike="noStrike">
                <a:solidFill>
                  <a:srgbClr val="000000"/>
                </a:solidFill>
                <a:latin typeface="Arial"/>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600"/>
            </a:br>
            <a:r>
              <a:rPr b="1" lang="ru-RU" sz="1600" spc="-1" strike="noStrike">
                <a:solidFill>
                  <a:srgbClr val="000000"/>
                </a:solidFill>
                <a:latin typeface="Arial"/>
              </a:rPr>
              <a:t>Памятная серебряная монета номиналом 2 рубля - монета посвящена 300-летию со дня рождения учёного-естествоиспытателя , 2011г</a:t>
            </a:r>
            <a:br>
              <a:rPr sz="1600"/>
            </a:br>
            <a:br>
              <a:rPr sz="4000"/>
            </a:br>
            <a:endParaRPr b="0" lang="en-US" sz="1600" spc="-1" strike="noStrike">
              <a:solidFill>
                <a:srgbClr val="000000"/>
              </a:solidFill>
              <a:latin typeface="Arial"/>
            </a:endParaRPr>
          </a:p>
        </p:txBody>
      </p:sp>
      <p:pic>
        <p:nvPicPr>
          <p:cNvPr id="52" name="Picture 5" descr=""/>
          <p:cNvPicPr/>
          <p:nvPr/>
        </p:nvPicPr>
        <p:blipFill>
          <a:blip r:embed="rId1"/>
          <a:stretch/>
        </p:blipFill>
        <p:spPr>
          <a:xfrm>
            <a:off x="609480" y="1981080"/>
            <a:ext cx="3810240" cy="2017800"/>
          </a:xfrm>
          <a:prstGeom prst="rect">
            <a:avLst/>
          </a:prstGeom>
          <a:ln w="0">
            <a:noFill/>
          </a:ln>
        </p:spPr>
      </p:pic>
      <p:pic>
        <p:nvPicPr>
          <p:cNvPr id="53" name="Picture 6" descr=""/>
          <p:cNvPicPr/>
          <p:nvPr/>
        </p:nvPicPr>
        <p:blipFill>
          <a:blip r:embed="rId2"/>
          <a:stretch/>
        </p:blipFill>
        <p:spPr>
          <a:xfrm>
            <a:off x="5181480" y="1981080"/>
            <a:ext cx="3581640" cy="1833840"/>
          </a:xfrm>
          <a:prstGeom prst="rect">
            <a:avLst/>
          </a:prstGeom>
          <a:ln w="0">
            <a:noFill/>
          </a:ln>
        </p:spPr>
      </p:pic>
      <p:pic>
        <p:nvPicPr>
          <p:cNvPr id="54" name="Picture 7" descr=""/>
          <p:cNvPicPr/>
          <p:nvPr/>
        </p:nvPicPr>
        <p:blipFill>
          <a:blip r:embed="rId3"/>
          <a:stretch/>
        </p:blipFill>
        <p:spPr>
          <a:xfrm>
            <a:off x="2514600" y="4114800"/>
            <a:ext cx="480060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 информаци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ИЗИКИ И ДЕНЬГИ.Ю.Э. Китае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erm.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all-fizika.com</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то монет- </a:t>
            </a:r>
            <a:r>
              <a:rPr b="0" lang="en-US" sz="1800" spc="-1" strike="noStrike">
                <a:solidFill>
                  <a:srgbClr val="000000"/>
                </a:solidFill>
                <a:latin typeface="Arial"/>
              </a:rPr>
              <a:t>http://theorphysics.info/</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пользованы иллюстрации из WWWpage</a:t>
            </a:r>
            <a:r>
              <a:rPr b="0" lang="ru-RU" sz="1600" spc="-1" strike="noStrike">
                <a:solidFill>
                  <a:srgbClr val="000000"/>
                </a:solidFill>
                <a:latin typeface="Arial"/>
              </a:rPr>
              <a:t> </a:t>
            </a:r>
            <a:r>
              <a:rPr b="0" lang="en-US" sz="1600" spc="-1" strike="noStrike">
                <a:solidFill>
                  <a:srgbClr val="000000"/>
                </a:solidFill>
                <a:latin typeface="Arial"/>
              </a:rPr>
              <a:t>http://ww2.physics.umd.edu/~redish/money, подготовленной Эдвардом Редишом (Edward F.Redis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у Сергеевичу Попову</a:t>
            </a:r>
            <a:r>
              <a:rPr b="0" lang="ru-RU" sz="1600" spc="-1" strike="noStrike">
                <a:solidFill>
                  <a:srgbClr val="000000"/>
                </a:solidFill>
                <a:latin typeface="Arial"/>
              </a:rPr>
              <a:t> посвящена Юбилейная монета СССР достоинством 1 рубль, выпущенная в свет в 1984 году </a:t>
            </a:r>
            <a:endParaRPr b="0" lang="en-US" sz="1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7" name="Picture 4" descr=""/>
          <p:cNvPicPr/>
          <p:nvPr/>
        </p:nvPicPr>
        <p:blipFill>
          <a:blip r:embed="rId1"/>
          <a:srcRect l="0" t="0" r="1107" b="0"/>
          <a:stretch/>
        </p:blipFill>
        <p:spPr>
          <a:xfrm>
            <a:off x="990720" y="1905120"/>
            <a:ext cx="7772400" cy="3828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тантин Эдуардович Циолковский</a:t>
            </a:r>
            <a:r>
              <a:rPr b="0" lang="ru-RU" sz="1600" spc="-1" strike="noStrike">
                <a:solidFill>
                  <a:srgbClr val="000000"/>
                </a:solidFill>
                <a:latin typeface="Arial"/>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0" name="Picture 4" descr=""/>
          <p:cNvPicPr/>
          <p:nvPr/>
        </p:nvPicPr>
        <p:blipFill>
          <a:blip r:embed="rId1"/>
          <a:stretch/>
        </p:blipFill>
        <p:spPr>
          <a:xfrm>
            <a:off x="2133720" y="1752480"/>
            <a:ext cx="4647960" cy="42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кар со своим летательным аппаратом и </a:t>
            </a:r>
            <a:r>
              <a:rPr b="1" lang="ru-RU" sz="1600" spc="-1" strike="noStrike">
                <a:solidFill>
                  <a:srgbClr val="000000"/>
                </a:solidFill>
                <a:latin typeface="Arial"/>
              </a:rPr>
              <a:t>Николай Егорович Жуковский</a:t>
            </a:r>
            <a:r>
              <a:rPr b="0" lang="ru-RU" sz="1600" spc="-1" strike="noStrike">
                <a:solidFill>
                  <a:srgbClr val="000000"/>
                </a:solidFill>
                <a:latin typeface="Arial"/>
              </a:rPr>
              <a:t> представлены на юбилейной серебряной монете России достоинством 2 рубля в 1997г </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3" name="Picture 4" descr=""/>
          <p:cNvPicPr/>
          <p:nvPr/>
        </p:nvPicPr>
        <p:blipFill>
          <a:blip r:embed="rId1"/>
          <a:stretch/>
        </p:blipFill>
        <p:spPr>
          <a:xfrm>
            <a:off x="1295280" y="2209680"/>
            <a:ext cx="6705720" cy="32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57200" y="1905120"/>
            <a:ext cx="8458200" cy="3657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ДЖАМИН ФРАНКЛИН изображен на любимой многими людьми купюре номиналом в 100 долларов США.</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600" spc="-1" strike="noStrike">
              <a:solidFill>
                <a:srgbClr val="000000"/>
              </a:solidFill>
              <a:latin typeface="Arial"/>
            </a:endParaRPr>
          </a:p>
        </p:txBody>
      </p:sp>
      <p:pic>
        <p:nvPicPr>
          <p:cNvPr id="67" name="Picture 3" descr=""/>
          <p:cNvPicPr/>
          <p:nvPr/>
        </p:nvPicPr>
        <p:blipFill>
          <a:blip r:embed="rId1"/>
          <a:stretch/>
        </p:blipFill>
        <p:spPr>
          <a:xfrm>
            <a:off x="838080" y="2133720"/>
            <a:ext cx="769644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ЬЕР и МАРИЯ КЮРИ -купюра в 500 франков, Франция, 1994. Единственная в мире банкнота с изображением двух ученых физиков сразу. </a:t>
            </a:r>
            <a:endParaRPr b="0" lang="en-US" sz="1600" spc="-1" strike="noStrike">
              <a:solidFill>
                <a:srgbClr val="000000"/>
              </a:solidFill>
              <a:latin typeface="Arial"/>
            </a:endParaRPr>
          </a:p>
        </p:txBody>
      </p:sp>
      <p:pic>
        <p:nvPicPr>
          <p:cNvPr id="6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19:4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