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0F69-3E8D-47FD-97FD-D9852F98D4D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аботу подготовил ученик 8-а класса ЗОШ№3 г.Запорожья Коваленко Антон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Учитель Карпова Лариса Борис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2820-1815-4BB3-A15E-F871A59B4B5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Интересный фа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Учитывая огромную роль воды в жизни человечества и отмечая пуск нового водопровода, жители г.Новороссийска в 1974 году, как сообщала газета "Известия" 24 марта 1974 года, разработали памятник воде. Если он был воздвигнут, то этим актом люди выразили свое преклонение перед этим чудом природы — обыкновенной и вместе с тем необыкновенной вод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31863-DB54-4989-B820-E45A496F912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Аномальные свойства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C25B-3A6A-4F90-930A-F62A63F65CA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Удивительное ве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Times New Roman"/>
              </a:rPr>
              <a:t>Исследуя воду и, особенно ее водные растворы, ученые раз за разом убеждались, что вода обладает ненормальными — аномальными свойствами, присущими только ей, ее Величеству — Воде, подарившей нам Жизнь и возможность мыслить. Мы даже и не подозреваем, что столь привычные и естественные свойства воды в природе, в различных технологиях, наконец, в обыденной жизни нашей являются уникальными и неповторимы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1B716-E1F8-42D3-AA90-DB38ED39BA0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Пло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Для всей биосферы исключительна важной особенностью воды является ее способность при замерзании увеличивать, а не уменьшать свой объем, т.е. уменьшать плот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Действительно, при переходе любой жидкости в твердое состояние молекулы располагаются теснее, а само вещество, уменьшаясь в объеме, становится плотнее. Да, для любой из необозримо разных жидкостей, но не воды. Вода здесь представляет исклю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При охлаждении вода сначала ведет себя как и другие жидкости: постепенно уплотняясь, уменьшает свой объем. Такое явление можно наблюдать до +3,98 °С. Затем, при дальнейшем снижении температуры до 0 °С, вся вода замерзает и расширяется в объеме. В результате удельный вес льда становится меньше воды и лед плавает. Если бы лед не всплывал, а тонул, то все водоемы (реки, озера, моря) промерзли бы до дна, испарение бы резко сократилось, все пресноводные животные и растения погибли бы. Жизнь на Земле стала бы невозмож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ода — единственная жидкость на Земле, лед которой не тонет за счет того, что его объем на 1/11 больше объема 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8711-0C36-4496-961C-7C657F988F3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Поверхностное натя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Благодаря тому, что круглые шарики воды очень упруги, идет дождь, выпадает 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Что же это за удивительная сила, которая сохраняет капли росы, а поверхностный слой воды в любой лужице делает эластичным и относительно прочны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Известно, что если стальную иголку осторожно положить на поверхность воды, налитой в блюдце, то иголка не тонет. А ведь удельная масса металла значительно больше, чем у воды. Молекулы воды связаны силой поверхностного натяжения, которая позволяет им подниматься вверх по капиллярам, преодолевая силу земного притяжения. Без этого свойства воды жизнь на Земле была бы также невозмож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5FFA-61B0-4B22-869E-5CC1098D9F4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Теплоемк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Ни одно вещество в мире не поглощает и не отдает среде столько тепла, сколько вода. Теплоемкость воды в 10 раз больше теплоемкости стали и в 30 раз больше ртути. Вода сохраняет тепло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С поверхности морей, океанов, суши испаряется за год 520000 кубических километров воды, которые, конденсируясь, отдают много тепла холодным и полярным регио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ода в организме человека составляет 70-90%. от веса тела. Не обладай вода такой теплоемкостью, как сейчас, обмен веществ в теплокровных и холоднокровных организмах был бы невозмож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3C6F-86CA-4F11-9589-5EACC3A4090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гче всего вода нагревается и быстрее всего охлаждается в своеобразной "температурной яме", соответствующей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+37 °С, температуре человеческого тела 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78C6-FCBF-48E7-BD3E-E71B1325B8F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ще несколько удивительных свойств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 одна жидкость не поглощает газы с такой жадностью, как вода. Но она их также легко отд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ждь растворяет в себе все ядовитые газы атмосферы. Вода -ее мощный природный фильтр, очищающий атмосферу от всех вредных и ядовитых газ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е одно удивительное свойство воды проявляется при воздействии на нее магнитного поля. Вода, подвергнутая магнитной обработке, меняет растворимость солей и скорость химических реак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0D5E-F684-409A-9E2E-A82453F702F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Но </a:t>
            </a:r>
            <a:r>
              <a:rPr b="1" lang="ru-RU" sz="1400" spc="-1" strike="noStrike">
                <a:solidFill>
                  <a:srgbClr val="eeece1"/>
                </a:solidFill>
                <a:latin typeface="Calibri"/>
              </a:rPr>
              <a:t>самое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, пожалуй, удивительное свойство воды – это свойство практически универсального растворителя. И если какие-то вещества в ней не растворяются, то и это для жизни сыграло громадную роль в эволюции: скорее всего именно гидрофобным свойствам первичных биологических мембран и обязана жизнь своим появлением и развитием в водной сре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9393-5B5B-444D-9038-3F3DB671D25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28FA-9550-4988-A568-4F340D001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051E-BBA1-4201-BF3E-FFFBF796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562C-6E41-472F-A642-E17693A01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AD80-A236-4839-A7C9-2FD69A2BC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EBEE6-10DB-4791-B073-E66D54C7D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A6058-D62B-43E4-955D-47218E90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98904-C3FE-476C-8DD9-8C9962AF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BDE86-B21D-4CB9-812A-EC27469C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7F9E1-F95B-4A3C-B147-373B5A42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AD0C6F-9A12-4F78-BD91-C5AFE7D2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A0B09-0B6D-434C-8543-88BB6523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37C9-16C5-49B1-973D-11A1F7A2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E6E12C-5B00-4802-88E6-E58DAA6D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0C9E2-63E9-4F8B-93A9-1FED56AF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B64BB-2AAE-4DDC-91CE-744F44B9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D1980-F97C-4F16-BBF3-CB126B186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63A7D-8284-48D5-A2A9-558AEB28C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5721-4B72-4407-B23D-95AF9396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92B8-FAB0-46DA-8F1B-02BC0704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EDD0-E49C-4EDD-A773-61B8611D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D19D-8C74-4141-9823-9770F21C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EAA5-47FE-423B-AA1D-A1E1A6F0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83E8-8EC9-4153-984E-4F579C5D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6BE3-DB91-4971-88BB-1BBDDDD2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0E6E-F80C-420A-BF34-CDD6C44B6D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1951-E9E2-48BC-A571-80B412BBFEE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2712/mezhdusosen.9/0_16c57_6bede103_X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30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d93ff"/>
                </a:solidFill>
                <a:latin typeface="Tahoma"/>
              </a:rPr>
              <a:t>Работу подготовил ученик 8-а класса ЗОШ№3 г.Запорожья Коваленко Антон </a:t>
            </a:r>
            <a:br>
              <a:rPr sz="4000"/>
            </a:br>
            <a:r>
              <a:rPr b="0" lang="ru-RU" sz="4000" spc="-1" strike="noStrike">
                <a:solidFill>
                  <a:srgbClr val="5d93ff"/>
                </a:solidFill>
                <a:latin typeface="Tahoma"/>
              </a:rPr>
              <a:t>Учитель Карпова Лариса Борисов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4" descr="43213313[1]"/>
          <p:cNvPicPr/>
          <p:nvPr/>
        </p:nvPicPr>
        <p:blipFill>
          <a:blip r:embed="rId1"/>
          <a:stretch/>
        </p:blipFill>
        <p:spPr>
          <a:xfrm>
            <a:off x="2743200" y="2905200"/>
            <a:ext cx="6400800" cy="39528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ahoma"/>
              </a:rPr>
              <a:t>Интересный фак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724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ahoma"/>
              </a:rPr>
              <a:t>Учитывая огромную роль воды в жизни человечества и отмечая пуск нового водопровода, жители г.Новороссийска в 1974 году, как сообщала газета "Известия" 24 марта 1974 года, разработали памятник воде. Если он был воздвигнут, то этим актом люди выразили свое преклонение перед этим чудом природы — обыкновенной и вместе с тем необыкновенной вод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5" descr="Картинка 3 из 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1752480"/>
            <a:ext cx="3371760" cy="449604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1295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ahoma"/>
              </a:rPr>
              <a:t>Аномальные свойства во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2401dc21d5c4[1]"/>
          <p:cNvPicPr/>
          <p:nvPr/>
        </p:nvPicPr>
        <p:blipFill>
          <a:blip r:embed="rId1"/>
          <a:stretch/>
        </p:blipFill>
        <p:spPr>
          <a:xfrm>
            <a:off x="2666880" y="2971800"/>
            <a:ext cx="3743280" cy="315288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ahoma"/>
              </a:rPr>
              <a:t>Удивительное веществ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Times New Roman"/>
              </a:rPr>
              <a:t>Исследуя воду и, особенно ее водные растворы, ученые раз за разом убеждались, что вода обладает ненормальными — аномальными свойствами, присущими только ей, ее Величеству — Воде, подарившей нам Жизнь и возможность мыслить. Мы даже и не подозреваем, что столь привычные и естественные свойства воды в природе, в различных технологиях, наконец, в обыденной жизни нашей являются уникальными и неповторимы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waterstructure[1]"/>
          <p:cNvPicPr/>
          <p:nvPr/>
        </p:nvPicPr>
        <p:blipFill>
          <a:blip r:embed="rId1"/>
          <a:stretch/>
        </p:blipFill>
        <p:spPr>
          <a:xfrm>
            <a:off x="3505320" y="4267080"/>
            <a:ext cx="1981080" cy="19368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3581280" y="6248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Молекула вод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ahoma"/>
              </a:rPr>
              <a:t>Плотн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Для всей биосферы исключительна важной особенностью воды является ее способность при замерзании увеличивать, а не уменьшать свой объем, т.е. уменьшать плотнос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Действительно, при переходе любой жидкости в твердое состояние молекулы располагаются теснее, а само вещество, уменьшаясь в объеме, становится плотнее. Да, для любой из необозримо разных жидкостей, но не воды. Вода здесь представляет исключен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При охлаждении вода сначала ведет себя как и другие жидкости: постепенно уплотняясь, уменьшает свой объем. Такое явление можно наблюдать до +3,98 °С. Затем, при дальнейшем снижении температуры до 0 °С, вся вода замерзает и расширяется в объеме. В результате удельный вес льда становится меньше воды и лед плавает. Если бы лед не всплывал, а тонул, то все водоемы (реки, озера, моря) промерзли бы до дна, испарение бы резко сократилось, все пресноводные животные и растения погибли бы. Жизнь на Земле стала бы невозможн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Вода — единственная жидкость на Земле, лед которой не тонет за счет того, что его объем на 1/11 больше объема во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ahoma"/>
              </a:rPr>
              <a:t>Поверхностное натяже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ahoma"/>
              </a:rPr>
              <a:t>Благодаря тому, что круглые шарики воды очень упруги, идет дождь, выпадает рос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ahoma"/>
              </a:rPr>
              <a:t>Что же это за удивительная сила, которая сохраняет капли росы, а поверхностный слой воды в любой лужице делает эластичным и относительно прочным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ahoma"/>
              </a:rPr>
              <a:t>Известно, что если стальную иголку осторожно положить на поверхность воды, налитой в блюдце, то иголка не тонет. А ведь удельная масса металла значительно больше, чем у воды. Молекулы воды связаны силой поверхностного натяжения, которая позволяет им подниматься вверх по капиллярам, преодолевая силу земного притяжения. Без этого свойства воды жизнь на Земле была бы также невозмож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ahoma"/>
              </a:rPr>
              <a:t>Теплоемк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Tahoma"/>
              </a:rPr>
              <a:t>Ни одно вещество в мире не поглощает и не отдает среде столько тепла, сколько вода. Теплоемкость воды в 10 раз больше теплоемкости стали и в 30 раз больше ртути. Вода сохраняет тепло на Земл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Tahoma"/>
              </a:rPr>
              <a:t>С поверхности морей, океанов, суши испаряется за год 520000 кубических километров воды, которые, конденсируясь, отдают много тепла холодным и полярным регион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Tahoma"/>
              </a:rPr>
              <a:t>Вода в организме человека составляет 70-90%. от веса тела. Не обладай вода такой теплоемкостью, как сейчас, обмен веществ в теплокровных и холоднокровных организмах был бы невозможе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image008"/>
          <p:cNvPicPr/>
          <p:nvPr/>
        </p:nvPicPr>
        <p:blipFill>
          <a:blip r:embed="rId1"/>
          <a:stretch/>
        </p:blipFill>
        <p:spPr>
          <a:xfrm>
            <a:off x="1295280" y="2514600"/>
            <a:ext cx="6477120" cy="38862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Легче всего вода нагревается и быстрее всего охлаждается в своеобразной "температурной яме", соответствующей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+37 °С, температуре человеческого тела .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Еще несколько удивительных свойств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и одна жидкость не поглощает газы с такой жадностью, как вода. Но она их также легко отда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ждь растворяет в себе все ядовитые газы атмосферы. Вода -ее мощный природный фильтр, очищающий атмосферу от всех вредных и ядовитых газ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ще одно удивительное свойство воды проявляется при воздействии на нее магнитного поля. Вода, подвергнутая магнитной обработке, меняет растворимость солей и скорость химических реакц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3505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Но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самое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, пожалуй, удивительное свойство воды – это свойство практически универсального растворителя. И если какие-то вещества в ней не растворяются, то и это для жизни сыграло громадную роль в эволюции: скорее всего именно гидрофобным свойствам первичных биологических мембран и обязана жизнь своим появлением и развитием в водной сред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strvoda[1]"/>
          <p:cNvPicPr/>
          <p:nvPr/>
        </p:nvPicPr>
        <p:blipFill>
          <a:blip r:embed="rId1"/>
          <a:stretch/>
        </p:blipFill>
        <p:spPr>
          <a:xfrm>
            <a:off x="533520" y="457200"/>
            <a:ext cx="7848360" cy="280044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0T08:20:11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