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C431-2429-496A-AA92-F0E2C1852C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боту подготовил ученик 8-а класса ЗОШ№3 г.Запорожья Коваленко Анто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читель Карпова Ларис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53D-56DA-408A-BE2D-C2D135B7E9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нтересны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AF31-9F71-4344-A4C3-FD2CC59A08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Аномальные свойства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ABE2-0D0E-4F59-96FA-334D994352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Удивительное ве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4DA0-5613-410A-A58B-A5524874F1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ло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1EC8-EE64-4434-9003-966ABFCD9E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верхностное на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Благодаря тому, что круглые шарики воды очень упруги, идет дождь, выпадает 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7E22-3748-4731-A561-1DFD387844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еплоем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6465-FE7B-4E58-8C4D-CD37E31FA2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37 °С, температуре человеческого тела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2E56-A47A-447C-9417-70FC1B8B23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ще несколько удивительных свойст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93D-993E-4E40-AEBB-C220D9C224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Но </a:t>
            </a:r>
            <a:r>
              <a:rPr b="1" lang="ru-RU" sz="1400" spc="-1" strike="noStrike">
                <a:solidFill>
                  <a:srgbClr val="eeece1"/>
                </a:solidFill>
                <a:latin typeface="Calibri"/>
              </a:rPr>
              <a:t>самое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92AC-E514-40BB-BCC4-C2EAF6F3DE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823-2F95-48DE-A7A6-6CA9A4A1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38A-68C1-4463-BE94-AEDC4770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221-5FA3-4CBE-AF9A-C8DC8F67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DB2-58A6-49C1-83B0-3B2537C4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FBC1D-01C2-49B3-A3E4-DA70E3E1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FB13D-E860-4E8F-8A31-D49B01CC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12ED2-7235-47CB-B9CB-FCCF8125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01C05-2EF7-4390-9B18-E3A8FB63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1D49A-BEB5-4B07-B0C2-93210E0B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BF48-5001-4F66-BC3A-FB1A27E4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CD5D3-240A-4CBF-ABED-C8F5046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B6A-7BFC-4EFC-9667-C20D6506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3F624-D805-4F0F-AC5C-76211396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D4A17-B37A-4FE8-A7BE-13601D5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9F0F9-9CBD-4C18-A16D-3F023660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615B8-FD7E-45C1-B2D3-B41DBD5A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4F99D-4A17-4DFF-A495-2D2E8A1E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338-AA20-4658-8E43-F747F653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63A-8552-4F7B-9DA5-D4FB43B6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800-4C2F-44E0-BC88-E6DCF11C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B21-2B36-41E5-A919-B5905F85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968-37F0-4B66-BCCF-2D4E963E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E9A-4FA1-4F60-B213-AA984939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7F8-472A-4EEE-976A-6097E895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BF2D-670F-4C42-93B5-7D8528914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B67D-89E9-4BD7-A6B4-A2AFEE8E62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2/mezhdusosen.9/0_16c57_6bede103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05920" cy="30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Работу подготовил ученик 8-а класса ЗОШ№3 г.Запорожья Коваленко Антон </a:t>
            </a:r>
            <a:br>
              <a:rPr sz="4000"/>
            </a:br>
            <a:r>
              <a:rPr b="0" lang="ru-RU" sz="4000" spc="-1" strike="noStrike">
                <a:solidFill>
                  <a:srgbClr val="5d93ff"/>
                </a:solidFill>
                <a:latin typeface="Tahoma"/>
              </a:rPr>
              <a:t>Учитель Карпова Лариса Борисов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43213313[1]"/>
          <p:cNvPicPr/>
          <p:nvPr/>
        </p:nvPicPr>
        <p:blipFill>
          <a:blip r:embed="rId1"/>
          <a:stretch/>
        </p:blipFill>
        <p:spPr>
          <a:xfrm>
            <a:off x="2743200" y="2905200"/>
            <a:ext cx="6400800" cy="39528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Интересный фа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Учитывая огромную роль воды в жизни человечества и отмечая пуск нового водопровода, жители г.Новороссийска в 1974 году, как сообщала газета "Известия" 24 марта 1974 года, разработали памятник воде. Если он был воздвигнут, то этим актом люди выразили свое преклонение перед этим чудом природы — обыкновенной и вместе с тем необыкновенной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Картинка 3 из 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371760" cy="44960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Аномальные свойства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2401dc21d5c4[1]"/>
          <p:cNvPicPr/>
          <p:nvPr/>
        </p:nvPicPr>
        <p:blipFill>
          <a:blip r:embed="rId1"/>
          <a:stretch/>
        </p:blipFill>
        <p:spPr>
          <a:xfrm>
            <a:off x="2666880" y="2971800"/>
            <a:ext cx="3743280" cy="3152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Удивительное веще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imes New Roman"/>
              </a:rPr>
              <a:t>Исследуя воду и, особенно ее водные растворы, ученые раз за разом убеждались, что вода обладает ненормальными — аномальными свойствами, присущими только ей, ее Величеству — Воде, подарившей нам Жизнь и возможность мыслить. Мы даже и не подозреваем, что столь привычные и естественные свойства воды в природе, в различных технологиях, наконец, в обыденной жизни нашей являются уникальными и неповтори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waterstructure[1]"/>
          <p:cNvPicPr/>
          <p:nvPr/>
        </p:nvPicPr>
        <p:blipFill>
          <a:blip r:embed="rId1"/>
          <a:stretch/>
        </p:blipFill>
        <p:spPr>
          <a:xfrm>
            <a:off x="3505320" y="4267080"/>
            <a:ext cx="1981080" cy="1936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58128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Молекул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лот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ля всей биосферы исключительна важной особенностью воды является ее способность при замерзании увеличивать, а не уменьшать свой объем, т.е. уменьшать пло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Действительно, при переходе любой жидкости в твердое состояние молекулы располагаются теснее, а само вещество, уменьшаясь в объеме, становится плотнее. Да, для любой из необозримо разных жидкостей, но не воды. Вода здесь представляет исключ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При охлаждении вода сначала ведет себя как и другие жидкости: постепенно уплотняясь, уменьшает свой объем. Такое явление можно наблюдать до +3,98 °С. Затем, при дальнейшем снижении температуры до 0 °С, вся вода замерзает и расширяется в объеме. В результате удельный вес льда становится меньше воды и лед плавает. Если бы лед не всплывал, а тонул, то все водоемы (реки, озера, моря) промерзли бы до дна, испарение бы резко сократилось, все пресноводные животные и растения погибли бы. Жизнь на Земле стала бы невозмож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Tahoma"/>
              </a:rPr>
              <a:t>Вода — единственная жидкость на Земле, лед которой не тонет за счет того, что его объем на 1/11 больше объема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Поверхностное натяж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Благодаря тому, что круглые шарики воды очень упруги, идет дождь, выпадает ро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Что же это за удивительная сила, которая сохраняет капли росы, а поверхностный слой воды в любой лужице делает эластичным и относительно прочн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ahoma"/>
              </a:rPr>
              <a:t>Известно, что если стальную иголку осторожно положить на поверхность воды, налитой в блюдце, то иголка не тонет. А ведь удельная масса металла значительно больше, чем у воды. Молекулы воды связаны силой поверхностного натяжения, которая позволяет им подниматься вверх по капиллярам, преодолевая силу земного притяжения. Без этого свойства воды жизнь на Земле была бы также невозмо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ahoma"/>
              </a:rPr>
              <a:t>Теплоемк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Ни одно вещество в мире не поглощает и не отдает среде столько тепла, сколько вода. Теплоемкость воды в 10 раз больше теплоемкости стали и в 30 раз больше ртути. Вода сохраняет тепло на Зем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С поверхности морей, океанов, суши испаряется за год 520000 кубических километров воды, которые, конденсируясь, отдают много тепла холодным и полярным регион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Tahoma"/>
              </a:rPr>
              <a:t>Вода в организме человека составляет 70-90%. от веса тела. Не обладай вода такой теплоемкостью, как сейчас, обмен веществ в теплокровных и холоднокровных организмах был бы невозмож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008"/>
          <p:cNvPicPr/>
          <p:nvPr/>
        </p:nvPicPr>
        <p:blipFill>
          <a:blip r:embed="rId1"/>
          <a:stretch/>
        </p:blipFill>
        <p:spPr>
          <a:xfrm>
            <a:off x="1295280" y="2514600"/>
            <a:ext cx="647712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гче всего вода нагревается и быстрее всего охлаждается в своеобразной "температурной яме", соответствующ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+37 °С, температуре человеческого тела .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ще несколько удивительных свойст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 одна жидкость не поглощает газы с такой жадностью, как вода. Но она их также легко отд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ждь растворяет в себе все ядовитые газы атмосферы. Вода -ее мощный природный фильтр, очищающий атмосферу от всех вредных и ядовитых га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одно удивительное свойство воды проявляется при воздействии на нее магнитного поля. Вода, подвергнутая магнитной обработке, меняет растворимость солей и скорость химических реа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амо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, пожалуй, удивительное свойство воды – это свойство практически универсального растворителя. И если какие-то вещества в ней не растворяются, то и это для жизни сыграло громадную роль в эволюции: скорее всего именно гидрофобным свойствам первичных биологических мембран и обязана жизнь своим появлением и развитием в водной сре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strvoda[1]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28004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0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