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7BB1-BDBD-4EEE-B990-19F6B42792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8EB4-A489-4745-9BE7-981502B35BE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атт (1736-18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23CB-C92E-41EE-B99A-1F64F17EFF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ите развить мощность 1 Вт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нимите  груз массой 100 г на высоту 1 м    за    1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5C90-D501-453D-8019-CAA9946986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мощности, 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3DF6-AAA2-43C2-B3EE-F244198C12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139B-B96C-4F2E-B702-E97FB290E5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2B29-BC93-4986-AC99-BEC84A5914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1" lang="ru-RU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6D0B-F9A9-4E55-B802-97DA476522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853F-10F6-4224-908B-A4B478916B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EB6C-476B-4011-B882-8166377F01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. № 3.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ите мощность штангиста, поднимающего штангу массой 250 кг на высоту 2 м за 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71A3-012F-44DB-B48D-55AA766E02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а № 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м/ч  1м/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A=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кН        12000Н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S=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= 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=12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1м/с=12000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586E-63AA-40FC-A5A0-F3C2A4A15A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. 28 (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?              А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500кг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 м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Н/кг · 2500кг =25000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А=2500Н· 12м=300000Дж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30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5265-8F61-4A45-A80B-0F3FFD9457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природных я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рч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м мощность смер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подъему - А=29400000Дж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струи воздух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490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я часть смерча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314 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иаметр всей колоны смерча 200м, 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=314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 baseline="24000">
                <a:solidFill>
                  <a:srgbClr val="000000"/>
                </a:solidFill>
                <a:latin typeface="Calibri"/>
              </a:rPr>
              <a:t>2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Мощность всей колоны 490 МВт. Сравним с мощностью техники, созданной рукам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448B-F23E-4916-A2A6-375D59CC56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ы сегодня нового узнали на уроке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у мы науч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лось ваше настро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9113-A668-40A8-B6F0-E4022F29AA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54.  Упр. 29 (3,6),   задание 18 (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тор: Дмитрюк Т.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физ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МКОУ «Ситнико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A1BF-C257-4CCC-B527-89974D461F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. 28 (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?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F S          S=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т   120000кг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120 см   1,2м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200000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10 Н/кг                    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=1200000Н·1,2м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0000Дж=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240к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03E6-8DA9-4E17-9069-1D6F7E2A7A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щ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Единицы 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B63F-CD21-4A96-BAE8-F12BAC0C37C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н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понятие мощ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ы измерения мощ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ме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решать задачи на применение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A /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D38D-C88D-484E-A24D-8EF5EF3C48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же лифт делает её быстрее все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A93-07BF-41E9-B423-42B0663505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 быстроту выполнения работы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5C4C-5068-425A-ACF5-2E23E33987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сть равна  отношению работы ко времени, за которое она соверш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F2CA-BEB3-4BF9-9740-8302EE729E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диницы измер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Вт - мощность, при которой в 1 с совершается работа в 1 Д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CCB8-E38F-4E22-B3C2-7A9803A9A3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FF1-7FAA-41B6-818D-4B67F42F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93C-630A-4393-B974-EBFB2149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693-A928-43B3-BAD6-608BA6DD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AC9-AB78-48CC-A73E-8C8E9B6A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0A41-EF99-4220-8CCF-1C6B38EB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A805-138E-4E70-8285-F2CB7563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78DF-0FFC-4629-AC4B-80BA24FB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7808-989A-42F9-9483-3F544BE1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9402-C23C-4504-8625-F8C00C6F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1387-0C29-476C-B190-1F417C1B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547D-49CB-4489-964A-A5C201D9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0425-2330-44DA-9AB4-4E6FF54E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283C-89EC-4699-B112-77956DF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C1CE-FF3A-472F-8409-8E40F195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D962-D737-4309-A01F-8B8187C5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297C-3071-4A55-9A39-DC031BB6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EEEC-997F-47FC-97B4-F61B9BEE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13A-930D-419A-97A0-E21CB691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AEA-7284-45AE-A6F2-E6221174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34C-B838-43FA-B8F0-F2FD90D7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D35-1555-46A9-AA26-8E723A32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3F8B-6799-4968-ADA5-275FE751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10C-328A-4F1D-9C49-7C396BC8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F55-F780-4DD5-AD0C-6A7A1EA3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8625-4A22-4F57-B74C-FDA1D2C89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317D-F61F-4344-812F-367E6C13F9E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10"/>
          <p:cNvSpPr txBox="1"/>
          <p:nvPr/>
        </p:nvSpPr>
        <p:spPr>
          <a:xfrm>
            <a:off x="900000" y="1268280"/>
            <a:ext cx="7315200" cy="423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жеймс Уатт (1736-1819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зобретатель, создатель универсального парового двигателя (первая паровая машина была им построена в 1774г.). Ввел первую единицу мощности – лошадиную сил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45309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0"/>
          <p:cNvSpPr/>
          <p:nvPr/>
        </p:nvSpPr>
        <p:spPr>
          <a:xfrm>
            <a:off x="4643280" y="1628640"/>
            <a:ext cx="40323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4032360" cy="453708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826920" y="1483920"/>
            <a:ext cx="7490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тите развить мощность 1 Вт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нимите  груз массой 100 г на высоту 1 м    за    1 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>
            <a:off x="900000" y="2133720"/>
            <a:ext cx="741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начение мощности, В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7200" y="1600200"/>
          <a:ext cx="8229600" cy="4911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ловеческого сердц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мощность челове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– 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збегая по лестниц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иная сил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5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ошадь совершает прыжок высота 2 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18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динаковую ли скорость развивают  двигатели вагона трамвая, когда он движется с одинаковой скоростью без пассажиров и с пассажирам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 наличии пассажиров сила тяжести вагона больше,  увеличивается сила трения, равная в данном случае силе тяги , возрастает мощность, увеличивается расход электроэнерг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а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е мощность двигателей одного из первых космических кораблей, если за 3 с они производили работу, равную 4,5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∙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1" lang="ru-RU" sz="4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Д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8532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0" y="2924280"/>
            <a:ext cx="31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3132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0" y="3141720"/>
            <a:ext cx="3745080" cy="21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 = 3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,5 ∙10 </a:t>
            </a:r>
            <a:r>
              <a:rPr b="1" lang="ru-RU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443640" y="263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7380360" y="29955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7451640" y="2421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7523280" y="292428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51640" y="407664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203640" y="407664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5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>
            <a:off x="5580000" y="2133720"/>
            <a:ext cx="0" cy="3600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6516720" y="436572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6"/>
          <p:cNvSpPr/>
          <p:nvPr/>
        </p:nvSpPr>
        <p:spPr>
          <a:xfrm>
            <a:off x="6948360" y="3789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6443640" y="37162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5 10 </a:t>
            </a:r>
            <a:r>
              <a:rPr b="0" lang="ru-RU" sz="2800" spc="-1" strike="noStrike" baseline="22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6659640" y="4365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9"/>
          <p:cNvSpPr/>
          <p:nvPr/>
        </p:nvSpPr>
        <p:spPr>
          <a:xfrm>
            <a:off x="8532720" y="4076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0"/>
          <p:cNvSpPr/>
          <p:nvPr/>
        </p:nvSpPr>
        <p:spPr>
          <a:xfrm>
            <a:off x="6012000" y="530064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5 10 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1"/>
          <p:cNvSpPr/>
          <p:nvPr/>
        </p:nvSpPr>
        <p:spPr>
          <a:xfrm>
            <a:off x="5796000" y="522936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1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ую мощность развивают спортсмены. Мало того, что им нужно совершить большую работу, но к тому же и за максимально короткое время (бегуны, пловцы, лыжники, велосипедисты и т.д.). Иногда условия действия таковы, что его можно выполнить только за очень короткое время (штангисты, прыгуны; не будешь же поднимать штангу (или отталкиваться) полчас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134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дача. № 3.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пределите мощность штангиста, поднимающего штангу массой 250 кг на высоту 2 м за 4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шение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>
            <a:off x="395280" y="2781360"/>
            <a:ext cx="2448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843280" y="1989000"/>
            <a:ext cx="1440" cy="453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900000" y="206208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 -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250920" y="3141720"/>
            <a:ext cx="259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=h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 =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40"/>
          <p:cNvSpPr/>
          <p:nvPr/>
        </p:nvSpPr>
        <p:spPr>
          <a:xfrm>
            <a:off x="3132000" y="227664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291636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51"/>
          <p:cNvSpPr/>
          <p:nvPr/>
        </p:nvSpPr>
        <p:spPr>
          <a:xfrm>
            <a:off x="3851280" y="2854440"/>
            <a:ext cx="504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924360" y="2349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3851280" y="22780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3924360" y="2781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4427640" y="2565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 flipV="1" rot="10836600">
            <a:off x="2916000" y="3430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2843280" y="4221000"/>
            <a:ext cx="17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59"/>
          <p:cNvSpPr/>
          <p:nvPr/>
        </p:nvSpPr>
        <p:spPr>
          <a:xfrm>
            <a:off x="2843280" y="400536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m 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г 1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1692360" y="523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1692360" y="5662440"/>
            <a:ext cx="3585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169236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4"/>
          <p:cNvSpPr/>
          <p:nvPr/>
        </p:nvSpPr>
        <p:spPr>
          <a:xfrm>
            <a:off x="493236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5"/>
          <p:cNvSpPr/>
          <p:nvPr/>
        </p:nvSpPr>
        <p:spPr>
          <a:xfrm>
            <a:off x="5003640" y="4726080"/>
            <a:ext cx="3603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66"/>
          <p:cNvSpPr/>
          <p:nvPr/>
        </p:nvSpPr>
        <p:spPr>
          <a:xfrm>
            <a:off x="4932360" y="46544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67"/>
          <p:cNvSpPr/>
          <p:nvPr/>
        </p:nvSpPr>
        <p:spPr>
          <a:xfrm>
            <a:off x="5364000" y="451008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2 500 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68"/>
          <p:cNvSpPr/>
          <p:nvPr/>
        </p:nvSpPr>
        <p:spPr>
          <a:xfrm>
            <a:off x="3003480" y="5291280"/>
            <a:ext cx="380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69"/>
          <p:cNvSpPr/>
          <p:nvPr/>
        </p:nvSpPr>
        <p:spPr>
          <a:xfrm>
            <a:off x="2987640" y="53020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2500 Н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м =5000 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70"/>
          <p:cNvSpPr/>
          <p:nvPr/>
        </p:nvSpPr>
        <p:spPr>
          <a:xfrm>
            <a:off x="3132000" y="602136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72"/>
          <p:cNvSpPr/>
          <p:nvPr/>
        </p:nvSpPr>
        <p:spPr>
          <a:xfrm>
            <a:off x="3924360" y="567540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3"/>
          <p:cNvSpPr/>
          <p:nvPr/>
        </p:nvSpPr>
        <p:spPr>
          <a:xfrm>
            <a:off x="4067280" y="5877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74"/>
          <p:cNvSpPr/>
          <p:nvPr/>
        </p:nvSpPr>
        <p:spPr>
          <a:xfrm>
            <a:off x="4067280" y="63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5"/>
          <p:cNvSpPr/>
          <p:nvPr/>
        </p:nvSpPr>
        <p:spPr>
          <a:xfrm>
            <a:off x="4427640" y="630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76"/>
          <p:cNvSpPr/>
          <p:nvPr/>
        </p:nvSpPr>
        <p:spPr>
          <a:xfrm>
            <a:off x="5724360" y="602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77"/>
          <p:cNvSpPr/>
          <p:nvPr/>
        </p:nvSpPr>
        <p:spPr>
          <a:xfrm>
            <a:off x="6156360" y="6021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50 В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адача №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ую мощность  развивает трактор при равномерном  движении на первой скорости, равной 3,6 км/ч, если у трактора сила тяги 12 кН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м/ч  1м/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A=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=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2кН        12000Н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S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= 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=1200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1м/с=12000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2843280" y="3213000"/>
            <a:ext cx="0" cy="201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611280" y="3716280"/>
            <a:ext cx="2232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572000" y="3284640"/>
            <a:ext cx="0" cy="20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пр. 28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- ?              А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2500кг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 м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0Н/кг · 2500кг =25000Н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А=2500Н· 12м=300000Дж=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30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539640" y="2133720"/>
            <a:ext cx="216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700360" y="1628640"/>
            <a:ext cx="0" cy="29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природных явл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рч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им мощность смер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мерч в штате Флорида поднял на высоту 300м самолёт весом 10т и отбросил его далеко в сторону. Всё произошло за 6 секу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по подъему - А=29400000Дж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щность струи воздух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=49000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уя часть смерча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314 м</a:t>
            </a:r>
            <a:r>
              <a:rPr b="0" lang="ru-RU" sz="2800" spc="-1" strike="noStrike" baseline="30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Диаметр всей колоны смерча 200м, 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=31400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ru-RU" sz="2800" spc="-1" strike="noStrike" baseline="24000">
                <a:solidFill>
                  <a:srgbClr val="ffffff"/>
                </a:solidFill>
                <a:latin typeface="Arial"/>
              </a:rPr>
              <a:t>2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Мощность всей колоны 490 МВт. Сравним с мощностью техники, созданной рукам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то мы сегодня нового узнали на уроке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ему мы научилис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 изменилось ваше настро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54.  Упр. 29 (3,6),   задание 18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втор: Дмитрюк Т.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КОУ «Ситниковская СОШ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пр. 28 (4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8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?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F S          S=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т   120000кг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20 см   1,2м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200000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0 Н/кг                    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=1200000Н·1,2м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40000Дж=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240к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2556000" y="1844640"/>
            <a:ext cx="0" cy="230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356000" y="184464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539640" y="2205000"/>
            <a:ext cx="201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900000" y="1268280"/>
            <a:ext cx="734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щность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Единицы мощност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на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понятие мощ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диницы измерения мощ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Уме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решать задачи на применение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=A / 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сть на 5-й этаж дома надо поднять мешок песка. Лифт выполнит эту работу за считанные секунды, человек, сгибаясь под тяжестью ноши, взберется по лестнице за несколько минут, а муравей, таская по одной песчинке, проканителится много лет, и наверное ему даже не хватит на это его короткой жизни. Во всех трёх случаях будет выполнена одна и та же работа, но за разное время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чему же лифт делает её быстрее все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53272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Мощност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характеризует  быстроту выполнения работы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ощность равна  отношению работы ко времени, за которое она соверше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971640" y="242100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71640" y="2492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3348000" y="2492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4067280" y="2852640"/>
            <a:ext cx="201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4284720" y="2205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4356000" y="2852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187280" y="378936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835280" y="3860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21"/>
          <p:cNvSpPr/>
          <p:nvPr/>
        </p:nvSpPr>
        <p:spPr>
          <a:xfrm>
            <a:off x="2627280" y="4221000"/>
            <a:ext cx="79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2771640" y="3500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2843280" y="4149720"/>
            <a:ext cx="43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500720" y="393372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5076720" y="4292640"/>
            <a:ext cx="358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6"/>
          <p:cNvSpPr/>
          <p:nvPr/>
        </p:nvSpPr>
        <p:spPr>
          <a:xfrm>
            <a:off x="5580000" y="4005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ощ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7"/>
          <p:cNvSpPr/>
          <p:nvPr/>
        </p:nvSpPr>
        <p:spPr>
          <a:xfrm>
            <a:off x="4572000" y="4508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30"/>
          <p:cNvSpPr/>
          <p:nvPr/>
        </p:nvSpPr>
        <p:spPr>
          <a:xfrm>
            <a:off x="5651640" y="458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б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31"/>
          <p:cNvSpPr/>
          <p:nvPr/>
        </p:nvSpPr>
        <p:spPr>
          <a:xfrm>
            <a:off x="4643280" y="51577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32"/>
          <p:cNvSpPr/>
          <p:nvPr/>
        </p:nvSpPr>
        <p:spPr>
          <a:xfrm>
            <a:off x="5148360" y="5445000"/>
            <a:ext cx="360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33"/>
          <p:cNvSpPr/>
          <p:nvPr/>
        </p:nvSpPr>
        <p:spPr>
          <a:xfrm>
            <a:off x="565164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рем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111600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6"/>
          <p:cNvSpPr/>
          <p:nvPr/>
        </p:nvSpPr>
        <p:spPr>
          <a:xfrm>
            <a:off x="1116000" y="357336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1116000" y="494172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9"/>
          <p:cNvSpPr/>
          <p:nvPr/>
        </p:nvSpPr>
        <p:spPr>
          <a:xfrm>
            <a:off x="3635280" y="3573360"/>
            <a:ext cx="0" cy="136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41"/>
          <p:cNvSpPr/>
          <p:nvPr/>
        </p:nvSpPr>
        <p:spPr>
          <a:xfrm>
            <a:off x="234000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1258920" y="57340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1763640" y="5805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2340000" y="57340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 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45"/>
          <p:cNvSpPr/>
          <p:nvPr/>
        </p:nvSpPr>
        <p:spPr>
          <a:xfrm>
            <a:off x="1116000" y="5589720"/>
            <a:ext cx="0" cy="863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6"/>
          <p:cNvSpPr/>
          <p:nvPr/>
        </p:nvSpPr>
        <p:spPr>
          <a:xfrm>
            <a:off x="1116000" y="558972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47"/>
          <p:cNvSpPr/>
          <p:nvPr/>
        </p:nvSpPr>
        <p:spPr>
          <a:xfrm>
            <a:off x="3419640" y="5589720"/>
            <a:ext cx="0" cy="79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Line 48"/>
          <p:cNvSpPr/>
          <p:nvPr/>
        </p:nvSpPr>
        <p:spPr>
          <a:xfrm>
            <a:off x="1116000" y="645336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8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диницы измер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Вт - мощность, при которой в 1 с совершается работа в 1 Д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11280" y="2852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ват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6836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987640" y="3213000"/>
            <a:ext cx="230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2916360" y="2492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джоу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012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987640" y="31399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 секун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5796000" y="299736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6732720" y="29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>
            <a:off x="7596360" y="3357720"/>
            <a:ext cx="865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596360" y="270828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251840" y="33465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716436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812000" y="335772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324000" y="3933720"/>
            <a:ext cx="8280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1000000 Вт          1 Вт = 0,000001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кВт = 1000 Вт                1 Вт = 0,001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мВт = 0,001 Вт               1 Вт = 1000 м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 л.с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~ 735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5 В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2T13:03:31Z</dcterms:created>
  <dc:creator>User</dc:creator>
  <dc:description/>
  <dc:language>en-US</dc:language>
  <cp:lastModifiedBy>LEGION</cp:lastModifiedBy>
  <dcterms:modified xsi:type="dcterms:W3CDTF">2015-03-30T08:21:04Z</dcterms:modified>
  <cp:revision>42</cp:revision>
  <dc:subject/>
  <dc:title>Слайд 1</dc:title>
</cp:coreProperties>
</file>