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2951-AC10-4CB8-B534-E2308189E9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55FA-D329-405E-A1CC-847C0A1C5E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атт (1736-18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D21F-B8B2-40F8-8318-A74CAA26CC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развить мощность 1 Вт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 груз массой 100 г на высоту 1 м    за    1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548B-3DAA-47BE-A93E-44969E9749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мощности, 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7A2-B718-4A18-A95A-09E366DAF9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2972-338D-49C0-BE27-00BC789341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1539-05C6-4D58-83AF-E62E45A0D4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E143-251E-42BC-98DE-658FEBA643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6F4C-2737-44FF-9166-E6B11E0BD0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D48D-2A21-4ACD-A212-C99FA0E275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. № 3.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ите мощность штангиста, поднимающего штангу массой 250 кг на высоту 2 м за 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D901-8247-4026-8174-94DED4D043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а №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м/ч  1м/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A=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кН        12000Н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S=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= 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=12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м/с=12000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172E-14EE-4361-85BA-7BB22D8F31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. 28 (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?              А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500кг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 м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Н/кг · 2500кг =25000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А=2500Н· 12м=300000Дж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37F8-8AF2-4212-ACA9-8E5156D55A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приро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р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м мощность смер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подъему - А=29400000Дж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струи воздух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490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я часть смерча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14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иаметр всей колоны смерча 200м, 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=314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24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Мощность всей колоны 490 МВт. Сравним с мощностью техники, созданной рукам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5134-AB63-45FB-A634-815A561BF1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сегодня нового узнали на урок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у мы науч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лось ваше настро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D96A-EFCD-4C02-87F9-95F4420914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54.  Упр. 29 (3,6),   задание 18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тор: Дмитрюк Т.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итнико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B425-FB2D-48FC-B5C1-2D54834248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. 28 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?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F S          S=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т   120000кг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0 см   1,2м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0000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              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0Дж=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1511-F0F0-43EE-8178-791F66FC14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1A27-BCB2-48CC-B601-DA43998363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нятие мощ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мощ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решать задачи на применение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A867-1710-4732-82BF-6B3046CF46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же лифт делает её быстрее все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B0E4-D8FB-4F0B-A4E9-38C7E155A7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 быстроту выполнения работы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94F8-A693-4A6C-A040-53A762E871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равна  отношению работы ко времени, за которое она соверш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4746-B426-4B7D-8BAC-D4F94C773F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Вт - мощность, при которой в 1 с совершается работа в 1 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884F-63A3-4A65-BC11-DAF89B49C2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9DF-5F2C-43A1-925F-77A404CA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E60-1E7C-442A-BD9F-4C875C76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7A4-5BF3-4D8E-86DD-34FD7605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1E2-5792-472D-9BEF-E15BEE82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5C08-0A3D-4590-8FAA-E7151170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6970-8D5B-4BFF-B154-D03F3C98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0CE4-4EE2-474D-8402-FC5D668A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6553-CC8F-4B8C-BAEB-4A548793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2935-B698-490B-853C-02DD0E47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60B3-A631-4B62-AACE-71CEA415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72D7-2870-422F-B053-45046E09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7F3-2E83-4DFE-AB24-812FC52E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BB97-3CA7-4417-8825-1DF8387E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F41D-7F4F-45D8-8333-696DCE65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B755-ACEA-4351-A733-034B6B04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2DD1-B53E-4E54-AB33-FC39D550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914E-457B-4FF5-A88E-16F70459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DAB-EA81-438D-AB04-803531BD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226-EE0E-4AFF-9790-EAF6D7DF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EDB-4F48-4A49-A878-EDEE7D7F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15F-FE82-4279-9B9C-5EF0E582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3ED-52CA-476F-8625-67BA57D3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083-E57E-4812-802A-B1E02DE6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044-C49E-46E9-9583-874F444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B7B3-52EA-4661-81BC-D4EEF043F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40C6-23DD-497B-9EB3-FC1AE45FAF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0"/>
          <p:cNvSpPr txBox="1"/>
          <p:nvPr/>
        </p:nvSpPr>
        <p:spPr>
          <a:xfrm>
            <a:off x="900000" y="1268280"/>
            <a:ext cx="7315200" cy="423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жеймс Уатт (1736-181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4643280" y="1628640"/>
            <a:ext cx="403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45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826920" y="1483920"/>
            <a:ext cx="7490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тите развить мощность 1 Вт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нимите  груз массой 100 г на высоту 1 м    за    1 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900000" y="2133720"/>
            <a:ext cx="741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начение мощности, В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ческого серд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мощность челов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– 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бегая по лестни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иная си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5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ь совершает прыжок высота 2 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Д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532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0" y="2924280"/>
            <a:ext cx="31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132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0" y="3141720"/>
            <a:ext cx="374508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= 3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,5 ∙10 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443640" y="263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7380360" y="29955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745164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523280" y="29242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51640" y="4076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203640" y="407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5580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516720" y="4365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694836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6443640" y="37162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5 10 </a:t>
            </a:r>
            <a:r>
              <a:rPr b="0" lang="ru-RU" sz="2800" spc="-1" strike="noStrike" baseline="22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6659640" y="4365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8532720" y="4076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6012000" y="5300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5 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796000" y="5229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. № 3.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ределите мощность штангиста, поднимающего штангу массой 250 кг на высоту 2 м за 4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шение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395280" y="2781360"/>
            <a:ext cx="24480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843280" y="1989000"/>
            <a:ext cx="1440" cy="453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900000" y="20620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 -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50920" y="3141720"/>
            <a:ext cx="259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h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3132000" y="2276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2916360" y="256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3851280" y="2854440"/>
            <a:ext cx="504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924360" y="2349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3851280" y="22780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924360" y="278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427640" y="2565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 flipV="1" rot="10836600">
            <a:off x="2916000" y="3430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2843280" y="4221000"/>
            <a:ext cx="17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9"/>
          <p:cNvSpPr/>
          <p:nvPr/>
        </p:nvSpPr>
        <p:spPr>
          <a:xfrm>
            <a:off x="2843280" y="4005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m 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1692360" y="5230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1692360" y="5662440"/>
            <a:ext cx="3585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169236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4"/>
          <p:cNvSpPr/>
          <p:nvPr/>
        </p:nvSpPr>
        <p:spPr>
          <a:xfrm>
            <a:off x="493236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5003640" y="4726080"/>
            <a:ext cx="360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6"/>
          <p:cNvSpPr/>
          <p:nvPr/>
        </p:nvSpPr>
        <p:spPr>
          <a:xfrm>
            <a:off x="4932360" y="4654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7"/>
          <p:cNvSpPr/>
          <p:nvPr/>
        </p:nvSpPr>
        <p:spPr>
          <a:xfrm>
            <a:off x="5364000" y="45100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 500 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8"/>
          <p:cNvSpPr/>
          <p:nvPr/>
        </p:nvSpPr>
        <p:spPr>
          <a:xfrm>
            <a:off x="3003480" y="5291280"/>
            <a:ext cx="38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9"/>
          <p:cNvSpPr/>
          <p:nvPr/>
        </p:nvSpPr>
        <p:spPr>
          <a:xfrm>
            <a:off x="2987640" y="53020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= 2500 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м =5000 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0"/>
          <p:cNvSpPr/>
          <p:nvPr/>
        </p:nvSpPr>
        <p:spPr>
          <a:xfrm>
            <a:off x="3132000" y="602136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2"/>
          <p:cNvSpPr/>
          <p:nvPr/>
        </p:nvSpPr>
        <p:spPr>
          <a:xfrm>
            <a:off x="3924360" y="56754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406728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74"/>
          <p:cNvSpPr/>
          <p:nvPr/>
        </p:nvSpPr>
        <p:spPr>
          <a:xfrm>
            <a:off x="4067280" y="63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4427640" y="630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5724360" y="602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6156360" y="6021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50 В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дача №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м/ч  1м/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A=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кН        12000Н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S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= 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=1200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м/с=12000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2843280" y="321300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611280" y="3716280"/>
            <a:ext cx="22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572000" y="3284640"/>
            <a:ext cx="0" cy="20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. 28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- ?              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2500кг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 м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0Н/кг · 2500кг =25000Н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А=2500Н· 12м=300000Дж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539640" y="2133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700360" y="1628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природных явл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рч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м мощность смер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по подъему - А=29400000Дж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ость струи воздух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49000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я часть смерча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314 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иаметр всей колоны смерча 200м, 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=314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24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Мощность всей колоны 490 МВт. Сравним с мощностью техники, созданной рукам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мы сегодня нового узнали на уро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у мы научилис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изменилось ваше настро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54.  Упр. 29 (3,6),   задание 18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втор: Дмитрюк Т.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КОУ «Ситниковская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пр. 28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?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F S          S=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т   120000кг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0 см   1,2м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000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              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40000Дж=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2556000" y="1844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356000" y="184464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539640" y="220500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900000" y="1268280"/>
            <a:ext cx="734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на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 понятие мощ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ицы измерения мощ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ме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решать задачи на применение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же лифт делает её быстрее все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532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Мощнос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характеризует  быстроту выполнения работы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равна  отношению работы ко времени, за которое она соверш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1640" y="2421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71640" y="2492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34800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4067280" y="285264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28472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356000" y="285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187280" y="378936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835280" y="3860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627280" y="422100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771640" y="3500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2843280" y="41497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500720" y="393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5076720" y="4292640"/>
            <a:ext cx="35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5580000" y="4005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572000" y="450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5651640" y="458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64328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5148360" y="5445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5651640" y="51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111600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1116000" y="357336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1116000" y="494172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>
            <a:off x="363528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41"/>
          <p:cNvSpPr/>
          <p:nvPr/>
        </p:nvSpPr>
        <p:spPr>
          <a:xfrm>
            <a:off x="2340000" y="50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125892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1763640" y="5805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2340000" y="57340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 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45"/>
          <p:cNvSpPr/>
          <p:nvPr/>
        </p:nvSpPr>
        <p:spPr>
          <a:xfrm>
            <a:off x="1116000" y="558972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6"/>
          <p:cNvSpPr/>
          <p:nvPr/>
        </p:nvSpPr>
        <p:spPr>
          <a:xfrm>
            <a:off x="1116000" y="558972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7"/>
          <p:cNvSpPr/>
          <p:nvPr/>
        </p:nvSpPr>
        <p:spPr>
          <a:xfrm>
            <a:off x="3419640" y="558972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8"/>
          <p:cNvSpPr/>
          <p:nvPr/>
        </p:nvSpPr>
        <p:spPr>
          <a:xfrm>
            <a:off x="1116000" y="6453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диницы измер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Вт - мощность, при которой в 1 с совершается работа в 1 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11280" y="28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ват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268360" y="2924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987640" y="321300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916360" y="2492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джо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012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987640" y="3139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секу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5796000" y="299736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6732720" y="29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7596360" y="335772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596360" y="2708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251840" y="334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7164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812000" y="3357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5292720" y="28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324000" y="393372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1000000 Вт          1 Вт = 0,000001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кВт = 1000 Вт                1 Вт = 0,001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0,001 Вт               1 Вт = 1000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л.с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~ 735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5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3:03:31Z</dcterms:created>
  <dc:creator>User</dc:creator>
  <dc:description/>
  <dc:language>en-US</dc:language>
  <cp:lastModifiedBy>LEGION</cp:lastModifiedBy>
  <dcterms:modified xsi:type="dcterms:W3CDTF">2015-03-30T08:21:04Z</dcterms:modified>
  <cp:revision>42</cp:revision>
  <dc:subject/>
  <dc:title>Слайд 1</dc:title>
</cp:coreProperties>
</file>