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E936-B92B-409A-BE35-1EEB019BD9B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CD00-5CBC-4052-9CFB-05459DF6528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2104-8DE3-4754-A0CA-8F9299A98AA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2EFF-482B-41DE-9E98-03EF798B2582}"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F33F-956F-44B0-946C-4D454DDD3EE5}"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FDA0-8EC1-49D2-B153-E00DDCB02B4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DA6E-1B1E-44D7-8EEF-DAF668F8F7F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6730-EE00-48C3-9F7B-14ACA200274D}"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7933E-61FA-43A5-9B2E-98B9595C8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88EB-F0CC-4B79-A662-65753D49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F09F4-CDBE-4975-B4D8-958D20D24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0581D-7BA1-4539-B2E6-A7F72B808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284EF-A078-44C4-85C2-4F0DA5CD6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2DD23-3288-4190-8548-9630DC0D6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EBBE7-F597-481C-AC0F-5ED35BF59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AB798-9F62-4B57-A964-920FBCC68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5D79C-FF7D-4999-9B36-42CCF012D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6EED-7304-48F6-8D90-BD8233661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1AAC-FCE4-4C4A-A9D9-4941741D7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822A-82C2-411B-9DC3-692A5904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F03F2-1178-47C5-AE79-94E0CFC3E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64C86-CD1D-4299-B928-4A167E56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9214C-D7FC-4866-91D7-1BC89C4A9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DFF83-0F05-43AF-A87C-41B1BEE16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F88C4-7E6E-4E75-92FF-64FF94D9C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EBEA-802A-48B8-AF5E-D32A243A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02F0-B79D-482B-955F-AFED8235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A675F-045B-4C0F-A24E-BA90EAE7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3531-799D-442F-BC59-B9E1F0DF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487D-D1C3-4E3E-BAA8-F1040844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3C15C-A657-4769-981E-CF50ADF0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AD74-4095-486A-BA38-08676DB71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443-638F-4E5C-AA8B-2BDA9205DDF0}"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7817-5DB6-4572-8916-F2D2802CFCF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172D-1EA2-4237-B519-6D66CFC1F605}" type="datetime">
              <a:rPr b="0" lang="ru-RU" sz="1400" spc="-1" strike="noStrike">
                <a:solidFill>
                  <a:srgbClr val="ffffff"/>
                </a:solidFill>
                <a:latin typeface="Times New Roman"/>
              </a:rPr>
              <a:t>29.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7115-E5BF-4A36-BF8B-8007F0EA0B4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B258-A4EE-4CEA-BBE2-1CE05EC3D112}"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75A3-B38B-424C-9DEA-0EB994CC5109}"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D291-E44D-4C16-A877-425F42743CC3}"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9C21-8551-44BF-A659-26A9284C336B}"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B6EA-F023-47B9-875E-BBA92635F417}"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EA97-C6A3-4C45-9004-1385EC2ABDB8}"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E135-0A96-4B0F-B810-C35415791693}" type="datetime">
              <a:rPr b="0" lang="ru-RU" sz="1400" spc="-1" strike="noStrike">
                <a:solidFill>
                  <a:srgbClr val="ffffff"/>
                </a:solidFill>
                <a:latin typeface="Arial"/>
              </a:rPr>
              <a:t>29.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