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392-13C7-44BD-A93F-9F6D295EBA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391-EEAA-4869-B73D-0A3AA81B8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7F1E-1D07-4A82-9B44-A91BEC69B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8F5-9C85-4B93-8A79-4A62E3F05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2E88-DAD3-4422-9DAA-D2EE836B30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BDBA-2B83-4F7C-9BEA-074D2ED02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D73D-3D51-43A0-A467-286BA9D66C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5951-9255-46C1-B3F0-68EEEDB9A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9D6-BC10-483A-B6A3-7040E9FB8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4F4-9F4B-4804-9553-067EDA2772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2B0-EAFF-47D5-8CFB-9981317CE3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B92E-D725-4C8B-9D22-02ACD0CC6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FA2-EB1D-4A2F-9B6E-BA9FFA9BA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C359-5965-417A-984D-62A190700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93E8-B68B-4CAF-B8D2-062150F851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79D-523C-41FE-81E0-69AC648F0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FB47-D610-4892-A6F3-88069C5668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129B-A77B-438E-A490-69878ED5B6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1AA5-8305-4D42-B76A-AF3B3514C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Килограмм – единица массы, равная массе международного эталона килограмм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близительно равен массе 1 л чистой воды при 15 </a:t>
            </a:r>
            <a:r>
              <a:rPr b="1" lang="ru-RU" sz="1200" spc="-1" strike="noStrike" baseline="30000">
                <a:solidFill>
                  <a:srgbClr val="ffff00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A8D3-6DEE-4420-BE50-29EB258DE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56D-D2BB-4BE5-9188-0298C9FDD5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– измерение сопротивления проводника и плотности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70B0-C0EB-4951-91C0-7F0BE6D4C9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44C-B7DC-460D-9612-277B50371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B346-0669-4863-88C5-31F14839E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33F5-C3BC-4F98-9CCA-921C3320E9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C73-7A72-4B58-8D82-9D4E70681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EF0-C64F-4D8F-AB69-331BCC2794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F225-C979-4288-B109-A3E337F9B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2C1-7004-49BB-AAC1-E081E96FC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753-FC28-435B-A5A8-95C29BDA0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1B0-D4AC-4AF4-8380-1A1FE0D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0AF-260A-4911-AEB8-F22E8B5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A6C-D3D0-4A01-AF7F-57AF010D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C15-DD2F-4977-B814-7A1134A8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9BB-0C6A-4065-B1C1-25876BB9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AEF-BD39-4A54-8EF7-7F89FAC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9ED-4F4E-4713-86F3-A7F50D7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7FD-B24C-4601-9DBB-6CE13DD1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000-CB86-4412-A877-34688B5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E6A-4680-4465-9CAC-F41BC0E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CE0-2433-4011-836E-AFEBCDD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0D6-D093-4B70-90C5-2F80F62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1CB-B5E6-4165-A6D3-5DA3D9B21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3-30T08:22:56Z</dcterms:modified>
  <cp:revision>11</cp:revision>
  <dc:subject/>
  <dc:title>ФИЗИКА И ПОЗНАНИЕ МИРА</dc:title>
</cp:coreProperties>
</file>