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24.png" ContentType="image/png"/>
  <Override PartName="/ppt/media/image11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2.jpeg" ContentType="image/jpeg"/>
  <Override PartName="/ppt/media/image36.jpeg" ContentType="image/jpeg"/>
  <Override PartName="/ppt/media/image18.png" ContentType="image/png"/>
  <Override PartName="/ppt/media/image1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7.png" ContentType="image/png"/>
  <Override PartName="/ppt/media/image37.png" ContentType="image/png"/>
  <Override PartName="/ppt/media/image14.jpeg" ContentType="image/jpeg"/>
  <Override PartName="/ppt/media/image33.png" ContentType="image/png"/>
  <Override PartName="/ppt/media/image8.png" ContentType="image/png"/>
  <Override PartName="/ppt/media/image38.png" ContentType="image/png"/>
  <Override PartName="/ppt/media/image9.jpeg" ContentType="image/jpeg"/>
  <Override PartName="/ppt/media/image30.jpeg" ContentType="image/jpeg"/>
  <Override PartName="/ppt/media/image3.jpeg" ContentType="image/jpeg"/>
  <Override PartName="/ppt/media/image31.jpeg" ContentType="image/jpeg"/>
  <Override PartName="/ppt/media/image40.png" ContentType="image/png"/>
  <Override PartName="/ppt/media/image4.jpeg" ContentType="image/jpeg"/>
  <Override PartName="/ppt/media/image32.png" ContentType="image/png"/>
  <Override PartName="/ppt/media/image25.jpeg" ContentType="image/jpeg"/>
  <Override PartName="/ppt/media/image13.jpeg" ContentType="image/jpeg"/>
  <Override PartName="/ppt/media/image39.png" ContentType="image/png"/>
  <Override PartName="/ppt/media/image34.png" ContentType="image/png"/>
  <Override PartName="/ppt/media/image12.jpeg" ContentType="image/jpeg"/>
  <Override PartName="/ppt/media/image6.png" ContentType="image/png"/>
  <Override PartName="/ppt/media/image5.jpeg" ContentType="image/jpeg"/>
  <Override PartName="/ppt/media/image26.jpeg" ContentType="image/jpeg"/>
  <Override PartName="/ppt/media/image23.jpeg" ContentType="image/jpeg"/>
  <Override PartName="/ppt/media/image15.jpeg" ContentType="image/jpeg"/>
  <Override PartName="/ppt/media/image16.png" ContentType="image/png"/>
  <Override PartName="/ppt/media/image1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CD366-130A-479C-A916-BDDE7867CC7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0 класс                                      ФИЗИКА И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ОЗНАНИЕ МИ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B0F30-0ED1-4F8C-8C41-C052391884E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Научная гипоте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научная гипотеза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 является предположением о том, что существует связь между известным и вновь объясняемым явлением. Но те гипотезы, которые не нашли подтверждения в экспериментах, считаются </a:t>
            </a: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ложными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 и отвергаю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117ED-FC83-420C-A959-4B9B77A8252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Теор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Галиле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Свободное падение те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Ньютон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Закон Всемирного тягот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087D5-D6CC-4016-A57B-79269A55604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ФУНДАМЕНТАЛЬНЫЕ ФИЗИЧЕСКИЕ ТЕОРИИ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Особенность фундаментальных физических теорий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их преемственност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ее общая теория включает частные, уже известные закон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яет границы                           использования предыдущей теор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5B1AD-AF42-4055-A6E1-684507E2A1B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ФИЗИЧЕСКИЕ ЗАКОНЫ И ТЕОРИИ, ГРАНИЦЫ ИХ ПРИМЕНИМОСТИ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езультате обобщения экспериментальных фактов, а также результатов деятельности людей устанавливаются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физические законы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 устойчивые повторяющиеся объективные закономерности, существующие в природе. Наиболее важные законы устанавливают связь между физическими величинами, для чего необходимо эти величины измеря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Научный метод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опираясь на опыт, отыскивают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личественны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математически формулируемые)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коны природ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 открытые законы проверяются практико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9058B-4A90-4CDB-B859-D5F2C530E28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ЗАДАЧ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8A86C-CC59-4E10-ACA9-974324EF527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РЕШ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ЗМЫ ДЛЯ ПРОВЕДЕНИЯ ОПЫТА ДОЛЖНЫ БЫТЬ ОДИНАКОВЫМИ, Т.Е. УГОЛ ПРИ ВЕРШИНЕ РАВНЫ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ОТЕТСВЕННО УГЛЫ ПАДЕНИЯ БУДУТ РАЗЛЧИНЫ В СЛУЧАЕ 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И 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Б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ПОМНИТЕ, КАК ПОСТРОИТЬ УГОЛ ПАД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A9795-AB1B-43D5-B5E0-A647E4013B6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ЗАДАЧ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ЕГЭ 2009,А7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НА ФОТОГРАФИИ ПОКАЗАНА УСТАНОВКА ДЛЯ ИССЛЕДОВАНИЯ РАВНОУС-КОРЕННОГО СКОЛЬЖЕНИЯ КАРЕТКИ (1) МАССОЙ 0,1 КГ ПО НАКЛОННОЙ ПЛОСКОСТИ, УСТАНОВЛЕННОЙ ПОД УГЛОМ 30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0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ГОРИЗОНТ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момент начала движения верхний датчик (А) включает секундомер (2), а при  прохождении каретки мимо нижнего датчика (В) секундомер выключается. Числа на линейке обозначают длину в см. Какое выражение описывает зависимость скорости каретки от времен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F8254-91E8-4569-8D40-EEC8016494D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РЕШ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УЙТЕ ФОРМУЛУ РАВНОУСКОРЕННОГО ДВИЖЕНИЯ БЕЗ НАЧАЛЬНОЙ СКОР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alibri"/>
              </a:rPr>
              <a:t>S=</a:t>
            </a:r>
            <a:r>
              <a:rPr b="1" lang="en-US" sz="1200" spc="-1" strike="noStrike">
                <a:solidFill>
                  <a:srgbClr val="ff0000"/>
                </a:solidFill>
                <a:latin typeface="Calibri"/>
                <a:ea typeface="Arial"/>
              </a:rPr>
              <a:t>ɑt</a:t>
            </a:r>
            <a:r>
              <a:rPr b="1" lang="en-US" sz="1200" spc="-1" strike="noStrike" baseline="30000">
                <a:solidFill>
                  <a:srgbClr val="ff0000"/>
                </a:solidFill>
                <a:latin typeface="Calibri"/>
                <a:ea typeface="Arial"/>
              </a:rPr>
              <a:t>2</a:t>
            </a:r>
            <a:r>
              <a:rPr b="1" lang="en-US" sz="1200" spc="-1" strike="noStrike">
                <a:solidFill>
                  <a:srgbClr val="ff0000"/>
                </a:solidFill>
                <a:latin typeface="Calibri"/>
                <a:ea typeface="Arial"/>
              </a:rPr>
              <a:t>/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НАХОДИТЕ УСКОРЕНИЕ  </a:t>
            </a:r>
            <a:r>
              <a:rPr b="1" lang="ru-RU" sz="1200" spc="-1" strike="noStrike" u="sng">
                <a:solidFill>
                  <a:srgbClr val="ff0000"/>
                </a:solidFill>
                <a:uFillTx/>
                <a:latin typeface="Calibri"/>
                <a:ea typeface="Arial"/>
              </a:rPr>
              <a:t>1,25 м/с</a:t>
            </a:r>
            <a:r>
              <a:rPr b="1" lang="ru-RU" sz="1200" spc="-1" strike="noStrike" u="sng" baseline="30000">
                <a:solidFill>
                  <a:srgbClr val="ff0000"/>
                </a:solidFill>
                <a:uFillTx/>
                <a:latin typeface="Calibri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ЗАПИСЫВАЕТЕ УРАВНЕНИЕ СКОРОСТИ ОТ ВРЕМЕНИ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  <a:ea typeface="Arial"/>
              </a:rPr>
              <a:t>Ʋ</a:t>
            </a:r>
            <a:r>
              <a:rPr b="0" lang="el-GR" sz="1200" spc="-1" strike="noStrike">
                <a:solidFill>
                  <a:srgbClr val="ff0000"/>
                </a:solidFill>
                <a:latin typeface="Calibri"/>
              </a:rPr>
              <a:t> =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  <a:ea typeface="Arial"/>
              </a:rPr>
              <a:t>Ʋ</a:t>
            </a:r>
            <a:r>
              <a:rPr b="0" lang="ru-RU" sz="1200" spc="-1" strike="noStrike" baseline="-25000">
                <a:solidFill>
                  <a:srgbClr val="ff0000"/>
                </a:solidFill>
                <a:latin typeface="Calibri"/>
                <a:ea typeface="Arial"/>
              </a:rPr>
              <a:t>0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  <a:ea typeface="Arial"/>
              </a:rPr>
              <a:t> +</a:t>
            </a:r>
            <a:r>
              <a:rPr b="0" lang="el-GR" sz="1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  <a:ea typeface="Arial"/>
              </a:rPr>
              <a:t>ɑ</a:t>
            </a:r>
            <a:r>
              <a:rPr b="0" i="1" lang="en-US" sz="1200" spc="-1" strike="noStrike">
                <a:solidFill>
                  <a:srgbClr val="ff0000"/>
                </a:solidFill>
                <a:latin typeface="Calibri"/>
              </a:rPr>
              <a:t>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200" spc="-1" strike="noStrike" u="sng">
                <a:solidFill>
                  <a:srgbClr val="ff0000"/>
                </a:solidFill>
                <a:uFillTx/>
                <a:latin typeface="Calibri"/>
                <a:ea typeface="Arial"/>
              </a:rPr>
              <a:t>Ʋ</a:t>
            </a:r>
            <a:r>
              <a:rPr b="1" lang="el-GR" sz="1200" spc="-1" strike="noStrike" u="sng">
                <a:solidFill>
                  <a:srgbClr val="ff0000"/>
                </a:solidFill>
                <a:uFillTx/>
                <a:latin typeface="Calibri"/>
              </a:rPr>
              <a:t> = 1,25</a:t>
            </a:r>
            <a:r>
              <a:rPr b="1" i="1" lang="en-US" sz="1200" spc="-1" strike="noStrike" u="sng">
                <a:solidFill>
                  <a:srgbClr val="ff0000"/>
                </a:solidFill>
                <a:uFillTx/>
                <a:latin typeface="Calibri"/>
              </a:rPr>
              <a:t>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0D49E-CED3-4687-9FCE-EF3813A66B8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ЗАДАЧ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00D0A-5668-4714-AA7C-33B5CA2E920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ФУНДАМЕНТАЛЬНЫЕ ВЗАИМОДЕЙСТВ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ff0000"/>
                </a:solidFill>
                <a:uFillTx/>
                <a:latin typeface="Calibri"/>
              </a:rPr>
              <a:t>Все бесконечное разнообразие физических процессов, происходящих в нашем мире, можно объяснить существованием в природе очень малого количества фундаментальных взаимодейств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EA682-EF4A-4866-B895-27CE38378C0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ЧТО ИЗУЧАЕТ ФИЗИК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Black"/>
              </a:rPr>
              <a:t>Физика изучает мир, в котором мы живем, явления, в нем происходящие, открывает законы, которым подчиняются все эти явления, устанавливает их взаимосвяз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BD4D7-680B-4A33-A7AB-AB0F69BD7D8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ГРАВИТАЦИОН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C78C6-2D18-4AFD-AE5F-A8B2A99D921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ЭЛЕКТРОМАГНИТ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6C817-D16B-4C11-916F-235AA869AD2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СИЛЬНОЕ (ЯДЕРНО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6B28B-DC71-4A14-B02F-F52778120C8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СЛАБОЕ (ЯДЕРНО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38A1F-CDF0-4226-A90A-E43B6DAF61E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ФИЗИЧЕСКИЕ ВЕЛИЧИН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ДЛ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2aac"/>
                </a:solidFill>
                <a:latin typeface="Calibri"/>
              </a:rPr>
              <a:t>Длина</a:t>
            </a:r>
            <a:r>
              <a:rPr b="1" lang="ru-RU" sz="1200" spc="-1" strike="noStrike">
                <a:solidFill>
                  <a:srgbClr val="332aac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332aac"/>
                </a:solidFill>
                <a:latin typeface="Calibri"/>
              </a:rPr>
              <a:t>–</a:t>
            </a:r>
            <a:r>
              <a:rPr b="1" lang="ru-RU" sz="1200" spc="-1" strike="noStrike">
                <a:solidFill>
                  <a:srgbClr val="332aac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332aac"/>
                </a:solidFill>
                <a:latin typeface="Calibri"/>
              </a:rPr>
              <a:t>мера для измерения расстояния</a:t>
            </a:r>
            <a:r>
              <a:rPr b="1" lang="ru-RU" sz="1200" spc="-1" strike="noStrike">
                <a:solidFill>
                  <a:srgbClr val="332aac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2aac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332aac"/>
                </a:solidFill>
                <a:latin typeface="Calibri"/>
              </a:rPr>
              <a:t>Метр </a:t>
            </a:r>
            <a:r>
              <a:rPr b="1" lang="ru-RU" sz="1200" spc="-1" strike="noStrike">
                <a:solidFill>
                  <a:srgbClr val="332aac"/>
                </a:solidFill>
                <a:latin typeface="Calibri"/>
              </a:rPr>
              <a:t>– </a:t>
            </a:r>
            <a:r>
              <a:rPr b="1" i="1" lang="ru-RU" sz="1200" spc="-1" strike="noStrike">
                <a:solidFill>
                  <a:srgbClr val="332aac"/>
                </a:solidFill>
                <a:latin typeface="Calibri"/>
              </a:rPr>
              <a:t>единица длины, равная расстоянию, которое проходит свет в вакууме за время ½ 99 792 458 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D8F0F-1B7D-48AC-B4FA-CC468CF1DAD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ФИЗИЧЕСКИЕ ВЕЛИЧИНЫ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2aac"/>
                </a:solidFill>
                <a:latin typeface="Calibri"/>
              </a:rPr>
              <a:t>Время – мера измерение разных промежутков времени</a:t>
            </a:r>
            <a:r>
              <a:rPr b="1" lang="ru-RU" sz="1200" spc="-1" strike="noStrike">
                <a:solidFill>
                  <a:srgbClr val="332aac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09DFF-4600-45BC-8DA0-97AD0535C69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ФИЗИЧЕСКИЕ ВЕЛИЧИНЫ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2aac"/>
                </a:solidFill>
                <a:latin typeface="Calibri"/>
              </a:rPr>
              <a:t>Килограмм – единица массы, равная массе международного эталона килограмма</a:t>
            </a:r>
            <a:r>
              <a:rPr b="1" lang="ru-RU" sz="1200" spc="-1" strike="noStrike">
                <a:solidFill>
                  <a:srgbClr val="332aac"/>
                </a:solidFill>
                <a:latin typeface="Calibri"/>
              </a:rPr>
              <a:t>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приблизительно равен массе 1 л чистой воды при 15 </a:t>
            </a:r>
            <a:r>
              <a:rPr b="1" lang="ru-RU" sz="1200" spc="-1" strike="noStrike" baseline="30000">
                <a:solidFill>
                  <a:srgbClr val="ffff00"/>
                </a:solidFill>
                <a:latin typeface="Calibri"/>
              </a:rPr>
              <a:t>0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С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B85E5-D5C2-4B7F-A8F4-5D6F7451410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ИЗМЕРЕНИЕ ФИЗИЧЕСКИХ ВЕЛИЧ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ff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Измерение физических величи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есть действие, выполняемое с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мощью средств измерений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хождения значения физической величины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инятых единица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ff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Прямое измерение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измерение, при котором искомое значение величины находят непосредственно из опытных данных. Например: измерение напряжения при помощи вольтметр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EE1D3-ECB3-4040-BC81-B9AB8BFFD80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ИЗМЕРЕНИЕ ФИЗИЧЕСКИХ ВЕЛИЧИ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Косвенное измерение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измерение, при котором искомое значение величины находят на основании известной зависимости между этой величиной и величинами, подвергаемыми прямым измерения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меры – измерение сопротивления проводника и плотности ве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1E0E0-5865-45A7-B340-D1D133E8B52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ИЗМЕРЕНИЕ ФИЗИЧЕСКИХ ВЕЛИЧ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Погрешность измерения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 — 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оценка отклонения величины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измеренного значения величины от её истинного значения. Погрешность измерения является 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характеристикой (мерой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точности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измер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Погрешность измерительного прибора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- разность между показанием прибора и истинным значением измеряемой величи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Погрешность измерения равна половине цены деления прибо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Абсолютная погрешность измерения (</a:t>
            </a: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Δизм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.)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- разность между действительным и истинным значениями измеряемой величины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Δизм.=Хд. - Хи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Относительная погрешность измерения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(</a:t>
            </a: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δизм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.) - отношение абсолютной погрешности измерения к истинному значению измеряемой величины, выраженное в %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831B5-ED5B-404F-ADAC-CE8D471BFA2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Возникновение физики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66711-3F45-4454-9AFC-A47523E56AE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Материя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Все то, что существует во Вселенной, независимо от нашего сознания. Материя в нашем мире существует в виде </a:t>
            </a: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вещества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 и пол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5CFD1-E531-4B6C-802D-A28F6133DD5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Что и как изучает физ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1D121-F585-4040-B8A0-A564471EC18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Эволюция взгляда на физическую картину ми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8E40F-C066-4642-A2B1-9CE96900FAD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ТЕХНИЧЕСКИЕ УСТРОЙСТВА ДЛЯ ИЗУЧЕНИЯ ВСЕЛЕННОЙ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EEBF3-D63B-4514-8ADF-F53628D1257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ТЕХНИЧЕСКИЕ УСТРОЙСТВА ДЛЯ ИЗУЧЕНИЯ ВСЕЛЕННО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4FA9E-3E08-49EA-8DFE-0DCC058BF99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ЭТАПЫ НАУЧНОГО ПОЗНАНИЯ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524EA-3403-4FD5-96AE-F219E2DFFE5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64DA-0A9E-4EF7-8F2A-4EA8371B9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BD3B-C6C8-40F1-8CD6-5CBCDCAC7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3808-D4CF-45EE-859D-DE2E2BE27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32DC-1AFB-4325-842C-DF75D02C6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79FE-8AEF-4743-93FB-699A905BD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AAC7-484A-47C9-B541-FD3CF91DB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0EC2-5218-4929-8A58-D276F999E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2DC6-B209-405B-86D5-C102855AC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0C7D-CEF8-4B36-A9E0-DCADE6C56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1254-5933-47B6-BA05-987B16C11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D583-3F90-4807-9B67-F6B9A8FD1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F9C3-96E0-4BEE-BA15-1146BCAEC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295DD-F282-45C2-B03D-99213705911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hyperlink" Target="file:///D:/&#1052;&#1040;&#1056;&#1048;&#1053;&#1040;%20&#1044;&#1054;&#1052;/&#1060;&#1048;&#1047;&#1048;&#1050;&#1040;%202010-2011/10%20&#1087;&#1088;&#1086;&#1092;&#1080;&#1083;&#1100;/http.doc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hyperlink" Target="file:///D:/&#1052;&#1040;&#1056;&#1048;&#1053;&#1040;%20&#1044;&#1054;&#1052;/&#1060;&#1048;&#1047;&#1048;&#1050;&#1040;%202010-2011/10%20&#1087;&#1088;&#1086;&#1092;&#1080;&#1083;&#1100;/http.doc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4920" y="115920"/>
            <a:ext cx="8280360" cy="197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10 класс                                      ФИЗИКА И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ОЗНАНИЕ МИ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1042920" y="5300640"/>
            <a:ext cx="77058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итель физики Чижова Марина Валентинов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. Тверь, МОУ СОШ № 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Научная гипотез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1890360"/>
            <a:ext cx="4680000" cy="42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научная гипотеза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является предположением о том, что существует связь между известным и вновь объясняемым явлением. Но те гипотезы, которые не нашли подтверждения в экспериментах, считаются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ложными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и отвергаю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Ньютон"/>
          <p:cNvPicPr/>
          <p:nvPr/>
        </p:nvPicPr>
        <p:blipFill>
          <a:blip r:embed="rId1"/>
          <a:stretch/>
        </p:blipFill>
        <p:spPr>
          <a:xfrm>
            <a:off x="6227640" y="1916280"/>
            <a:ext cx="2081160" cy="2519280"/>
          </a:xfrm>
          <a:prstGeom prst="rect">
            <a:avLst/>
          </a:prstGeom>
          <a:ln w="0">
            <a:noFill/>
          </a:ln>
        </p:spPr>
      </p:pic>
      <p:sp>
        <p:nvSpPr>
          <p:cNvPr id="95" name="Text Box 5"/>
          <p:cNvSpPr/>
          <p:nvPr/>
        </p:nvSpPr>
        <p:spPr>
          <a:xfrm>
            <a:off x="6372360" y="5013360"/>
            <a:ext cx="23032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И. Ньют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Теор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Галиле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Свободное падение те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Ньютон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Закон Всемирного тягот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4"/>
          <p:cNvSpPr/>
          <p:nvPr/>
        </p:nvSpPr>
        <p:spPr>
          <a:xfrm>
            <a:off x="4500720" y="2781360"/>
            <a:ext cx="0" cy="6476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5"/>
          <p:cNvSpPr/>
          <p:nvPr/>
        </p:nvSpPr>
        <p:spPr>
          <a:xfrm>
            <a:off x="4500720" y="4508640"/>
            <a:ext cx="0" cy="6476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324000" y="5157720"/>
            <a:ext cx="84960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зультаты теории проверяются постоянно 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эксперименто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который является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критерием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вильности теор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ФУНДАМЕНТАЛЬНЫЕ ФИЗИЧЕСКИЕ ТЕОРИ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8920" y="1557000"/>
            <a:ext cx="87138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Особенность фундаментальных физических теорий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–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 их преемственности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более общая теория включает частные, уже известные закон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пределяет границы                           использования предыдущей теории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Заголовок 1" descr=""/>
          <p:cNvPicPr/>
          <p:nvPr/>
        </p:nvPicPr>
        <p:blipFill>
          <a:blip r:embed="rId1"/>
          <a:stretch/>
        </p:blipFill>
        <p:spPr>
          <a:xfrm>
            <a:off x="-195120" y="-6480"/>
            <a:ext cx="9339120" cy="15433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 результате обобщения экспериментальных фактов, а также результатов деятельности людей устанавливаются </a:t>
            </a:r>
            <a:r>
              <a:rPr b="1" lang="ru-RU" sz="2700" spc="-1" strike="noStrike">
                <a:solidFill>
                  <a:srgbClr val="ff0000"/>
                </a:solidFill>
                <a:latin typeface="Arial"/>
              </a:rPr>
              <a:t>физические законы</a:t>
            </a: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— устойчивые повторяющиеся объективные закономерности, существующие в природе. Наиболее важные законы устанавливают связь между физическими величинами, для чего необходимо эти величины измерять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0000"/>
                </a:solidFill>
                <a:latin typeface="Arial"/>
              </a:rPr>
              <a:t>Научный метод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, опираясь на опыт, отыскивают </a:t>
            </a: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количественные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 (математически формулируемые) </a:t>
            </a: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законы природы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; открытые законы проверяются практикой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2" descr="http://markx.narod.ru/pic/poznanie.gif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" descr="http://markx.narod.ru/pic/poznanie.gif"/>
          <p:cNvPicPr/>
          <p:nvPr/>
        </p:nvPicPr>
        <p:blipFill>
          <a:blip r:embed="rId3"/>
          <a:stretch/>
        </p:blipFill>
        <p:spPr>
          <a:xfrm>
            <a:off x="0" y="171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ЗАДАЧ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Заголовок 1" descr=""/>
          <p:cNvPicPr/>
          <p:nvPr/>
        </p:nvPicPr>
        <p:blipFill>
          <a:blip r:embed="rId1"/>
          <a:srcRect l="0" t="13707" r="0" b="10041"/>
          <a:stretch/>
        </p:blipFill>
        <p:spPr>
          <a:xfrm>
            <a:off x="539640" y="1341360"/>
            <a:ext cx="8290080" cy="28083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"/>
          <p:cNvPicPr/>
          <p:nvPr/>
        </p:nvPicPr>
        <p:blipFill>
          <a:blip r:embed="rId2"/>
          <a:stretch/>
        </p:blipFill>
        <p:spPr>
          <a:xfrm>
            <a:off x="179280" y="4437000"/>
            <a:ext cx="7324920" cy="1542960"/>
          </a:xfrm>
          <a:prstGeom prst="rect">
            <a:avLst/>
          </a:prstGeom>
          <a:ln w="0">
            <a:noFill/>
          </a:ln>
        </p:spPr>
      </p:pic>
      <p:sp>
        <p:nvSpPr>
          <p:cNvPr id="114" name="Прямоугольник 12"/>
          <p:cNvSpPr/>
          <p:nvPr/>
        </p:nvSpPr>
        <p:spPr>
          <a:xfrm>
            <a:off x="7524720" y="4437000"/>
            <a:ext cx="1386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  <a:ea typeface="Arial"/>
              </a:rPr>
              <a:t>Б и 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  <a:ea typeface="Arial"/>
              </a:rPr>
              <a:t>Б и 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  <a:ea typeface="Arial"/>
              </a:rPr>
              <a:t>А и Б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  <a:ea typeface="Arial"/>
              </a:rPr>
              <a:t>В и 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РЕШ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ЗМЫ ДЛЯ ПРОВЕДЕНИЯ ОПЫТА ДОЛЖНЫ БЫТЬ ОДИНАКОВЫМИ, Т.Е. УГОЛ ПРИ ВЕРШИНЕ РАВНЫ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ОТЕТСВЕННО УГЛЫ ПАДЕНИЯ БУДУТ РАЗЛЧИНЫ В СЛУЧАЕ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И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Б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ПОМНИТЕ, КАК ПОСТРОИТЬ УГОЛ ПАД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108000" y="1341360"/>
            <a:ext cx="3959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ЕГЭ 2009,А7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А ФОТОГРАФИИ ПОКАЗАНА УСТАНОВКА ДЛЯ ИССЛЕДОВАНИЯ РАВНОУС-КОРЕННОГО СКОЛЬЖЕНИЯ КАРЕТКИ (1) МАССОЙ 0,1 КГ ПО НАКЛОННОЙ ПЛОСКОСТИ, УСТАНОВЛЕННОЙ ПОД УГЛОМ 30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0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 ГОРИЗОНТ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ЗАДАЧ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4211640" y="1197000"/>
            <a:ext cx="4932360" cy="381636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5"/>
          <p:cNvSpPr/>
          <p:nvPr/>
        </p:nvSpPr>
        <p:spPr>
          <a:xfrm>
            <a:off x="0" y="3860640"/>
            <a:ext cx="46083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момент начала движения верхний датчик (А) включает секундомер (2), а при  прохождении каретки мимо нижнего датчика (В) секундомер выключается. Числа на линейке обозначают длину в см. Какое выражение описывает зависимость скорости каретки от времен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11"/>
          <p:cNvSpPr/>
          <p:nvPr/>
        </p:nvSpPr>
        <p:spPr>
          <a:xfrm>
            <a:off x="4932360" y="4941720"/>
            <a:ext cx="2162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Ʋ</a:t>
            </a:r>
            <a:r>
              <a:rPr b="1" lang="el-GR" sz="2400" spc="-1" strike="noStrike">
                <a:solidFill>
                  <a:srgbClr val="ff0000"/>
                </a:solidFill>
                <a:latin typeface="Constantia"/>
                <a:ea typeface="Arial"/>
              </a:rPr>
              <a:t> = 1,25</a:t>
            </a:r>
            <a:r>
              <a:rPr b="1" i="1" lang="en-US" sz="2400" spc="-1" strike="noStrike">
                <a:solidFill>
                  <a:srgbClr val="ff0000"/>
                </a:solidFill>
                <a:latin typeface="Constantia"/>
                <a:ea typeface="Arial"/>
              </a:rPr>
              <a:t>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Ʋ</a:t>
            </a:r>
            <a:r>
              <a:rPr b="1" i="1" lang="el-GR" sz="2400" spc="-1" strike="noStrike">
                <a:solidFill>
                  <a:srgbClr val="ff0000"/>
                </a:solidFill>
                <a:latin typeface="Constantia"/>
                <a:ea typeface="Arial"/>
              </a:rPr>
              <a:t> = 0,5</a:t>
            </a:r>
            <a:r>
              <a:rPr b="1" i="1" lang="en-US" sz="2400" spc="-1" strike="noStrike">
                <a:solidFill>
                  <a:srgbClr val="ff0000"/>
                </a:solidFill>
                <a:latin typeface="Constantia"/>
                <a:ea typeface="Arial"/>
              </a:rPr>
              <a:t>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Ʋ</a:t>
            </a:r>
            <a:r>
              <a:rPr b="1" i="1" lang="el-GR" sz="2400" spc="-1" strike="noStrike">
                <a:solidFill>
                  <a:srgbClr val="ff0000"/>
                </a:solidFill>
                <a:latin typeface="Constantia"/>
                <a:ea typeface="Arial"/>
              </a:rPr>
              <a:t> = 2,5</a:t>
            </a:r>
            <a:r>
              <a:rPr b="1" i="1" lang="en-US" sz="2400" spc="-1" strike="noStrike">
                <a:solidFill>
                  <a:srgbClr val="ff0000"/>
                </a:solidFill>
                <a:latin typeface="Constantia"/>
                <a:ea typeface="Arial"/>
              </a:rPr>
              <a:t>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Ʋ</a:t>
            </a:r>
            <a:r>
              <a:rPr b="1" i="1" lang="el-GR" sz="2400" spc="-1" strike="noStrike">
                <a:solidFill>
                  <a:srgbClr val="ff0000"/>
                </a:solidFill>
                <a:latin typeface="Constantia"/>
                <a:ea typeface="Arial"/>
              </a:rPr>
              <a:t> = 1,9</a:t>
            </a:r>
            <a:r>
              <a:rPr b="1" i="1" lang="en-US" sz="2400" spc="-1" strike="noStrike">
                <a:solidFill>
                  <a:srgbClr val="ff0000"/>
                </a:solidFill>
                <a:latin typeface="Constantia"/>
                <a:ea typeface="Arial"/>
              </a:rPr>
              <a:t>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ПОЛЬЗУЙТЕ ФОРМУЛУ РАВНОУСКОРЕННОГО ДВИЖЕНИЯ БЕЗ НАЧАЛЬНОЙ СКОР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=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ɑt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  <a:ea typeface="Arial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НАХОДИТЕ УСКОРЕНИЕ  </a:t>
            </a:r>
            <a:r>
              <a:rPr b="1" lang="ru-RU" sz="32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1,25 м/с</a:t>
            </a:r>
            <a:r>
              <a:rPr b="1" lang="ru-RU" sz="3200" spc="-1" strike="noStrike" u="sng" baseline="30000">
                <a:solidFill>
                  <a:srgbClr val="ff0000"/>
                </a:solidFill>
                <a:uFillTx/>
                <a:latin typeface="Arial"/>
                <a:ea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ЗАПИСЫВАЕТЕ УРАВНЕНИЕ СКОРОСТИ ОТ ВРЕМЕНИ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Ʋ</a:t>
            </a:r>
            <a:r>
              <a:rPr b="0" lang="el-GR" sz="3200" spc="-1" strike="noStrike">
                <a:solidFill>
                  <a:srgbClr val="ff0000"/>
                </a:solidFill>
                <a:latin typeface="Arial"/>
              </a:rPr>
              <a:t> =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Ʋ</a:t>
            </a:r>
            <a:r>
              <a:rPr b="0" lang="ru-RU" sz="32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0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 +</a:t>
            </a:r>
            <a:r>
              <a:rPr b="0" lang="el-GR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ɑ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Ʋ</a:t>
            </a:r>
            <a:r>
              <a:rPr b="1" lang="el-GR" sz="3200" spc="-1" strike="noStrike" u="sng">
                <a:solidFill>
                  <a:srgbClr val="ff0000"/>
                </a:solidFill>
                <a:uFillTx/>
                <a:latin typeface="Arial"/>
              </a:rPr>
              <a:t> = 1,25</a:t>
            </a:r>
            <a:r>
              <a:rPr b="1" i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РЕШ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ЗАДАЧ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Заголовок 1" descr=""/>
          <p:cNvPicPr/>
          <p:nvPr/>
        </p:nvPicPr>
        <p:blipFill>
          <a:blip r:embed="rId1"/>
          <a:stretch/>
        </p:blipFill>
        <p:spPr>
          <a:xfrm>
            <a:off x="179280" y="1268280"/>
            <a:ext cx="8717040" cy="26384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" descr=""/>
          <p:cNvPicPr/>
          <p:nvPr/>
        </p:nvPicPr>
        <p:blipFill>
          <a:blip r:embed="rId2"/>
          <a:stretch/>
        </p:blipFill>
        <p:spPr>
          <a:xfrm>
            <a:off x="0" y="4292640"/>
            <a:ext cx="9067680" cy="119052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5"/>
          <p:cNvSpPr/>
          <p:nvPr/>
        </p:nvSpPr>
        <p:spPr>
          <a:xfrm>
            <a:off x="4500720" y="4149720"/>
            <a:ext cx="237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3"/>
          <a:srcRect l="50020" t="0" r="23777" b="0"/>
          <a:stretch/>
        </p:blipFill>
        <p:spPr>
          <a:xfrm>
            <a:off x="4500720" y="4292640"/>
            <a:ext cx="2376360" cy="119052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" dur="1000" fill="hold"/>
                                        <p:tgtEl>
                                          <p:spTgt spid="13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ФУНДАМЕНТАЛЬНЫЕ ВЗАИМОДЕЙСТВ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0" y="1341360"/>
            <a:ext cx="896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Все бесконечное разнообразие физических процессов, происходящих в нашем мире, можно объяснить существованием в природе очень малого количества фундаментальных взаимодейств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Organization Chart 4"/>
          <p:cNvGrpSpPr/>
          <p:nvPr/>
        </p:nvGrpSpPr>
        <p:grpSpPr>
          <a:xfrm>
            <a:off x="179280" y="3068640"/>
            <a:ext cx="8856360" cy="3353400"/>
            <a:chOff x="179280" y="3068640"/>
            <a:chExt cx="8856360" cy="3353400"/>
          </a:xfrm>
        </p:grpSpPr>
        <p:cxnSp>
          <p:nvCxnSpPr>
            <p:cNvPr id="137" name="_s1028"/>
            <p:cNvCxnSpPr>
              <a:stCxn id="138" idx="0"/>
              <a:endCxn id="139" idx="2"/>
            </p:cNvCxnSpPr>
            <p:nvPr/>
          </p:nvCxnSpPr>
          <p:spPr>
            <a:xfrm flipV="1" rot="16200000">
              <a:off x="5937120" y="2782080"/>
              <a:ext cx="763200" cy="3465720"/>
            </a:xfrm>
            <a:prstGeom prst="bentConnector3">
              <a:avLst>
                <a:gd name="adj1" fmla="val 1495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0" name="_s1029"/>
            <p:cNvCxnSpPr>
              <a:stCxn id="141" idx="0"/>
              <a:endCxn id="139" idx="2"/>
            </p:cNvCxnSpPr>
            <p:nvPr/>
          </p:nvCxnSpPr>
          <p:spPr>
            <a:xfrm flipV="1" rot="16200000">
              <a:off x="4789080" y="3930120"/>
              <a:ext cx="763200" cy="1169640"/>
            </a:xfrm>
            <a:prstGeom prst="bentConnector3">
              <a:avLst>
                <a:gd name="adj1" fmla="val 1495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2" name="_s1030"/>
            <p:cNvCxnSpPr>
              <a:stCxn id="143" idx="0"/>
              <a:endCxn id="139" idx="2"/>
            </p:cNvCxnSpPr>
            <p:nvPr/>
          </p:nvCxnSpPr>
          <p:spPr>
            <a:xfrm flipH="1" flipV="1" rot="5400000">
              <a:off x="3641040" y="3951360"/>
              <a:ext cx="763200" cy="1127520"/>
            </a:xfrm>
            <a:prstGeom prst="bentConnector3">
              <a:avLst>
                <a:gd name="adj1" fmla="val 1495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4" name="_s1031"/>
            <p:cNvCxnSpPr>
              <a:stCxn id="145" idx="0"/>
              <a:endCxn id="139" idx="2"/>
            </p:cNvCxnSpPr>
            <p:nvPr/>
          </p:nvCxnSpPr>
          <p:spPr>
            <a:xfrm flipH="1" flipV="1" rot="5400000">
              <a:off x="2493000" y="2802960"/>
              <a:ext cx="763200" cy="3423960"/>
            </a:xfrm>
            <a:prstGeom prst="bentConnector3">
              <a:avLst>
                <a:gd name="adj1" fmla="val 1495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39" name="_s1032"/>
            <p:cNvSpPr/>
            <p:nvPr/>
          </p:nvSpPr>
          <p:spPr>
            <a:xfrm>
              <a:off x="2914920" y="3068640"/>
              <a:ext cx="3339000" cy="106524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Взаимодействи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_s1033"/>
            <p:cNvSpPr/>
            <p:nvPr/>
          </p:nvSpPr>
          <p:spPr>
            <a:xfrm>
              <a:off x="179280" y="4896720"/>
              <a:ext cx="1968120" cy="152532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Arial"/>
                </a:rPr>
                <a:t>Гравита-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Arial"/>
                </a:rPr>
                <a:t>ционно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_s1034"/>
            <p:cNvSpPr/>
            <p:nvPr/>
          </p:nvSpPr>
          <p:spPr>
            <a:xfrm>
              <a:off x="2475360" y="4896720"/>
              <a:ext cx="1968120" cy="152532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Arial"/>
                </a:rPr>
                <a:t>Электро-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Arial"/>
                </a:rPr>
                <a:t>магнитно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_s1035"/>
            <p:cNvSpPr/>
            <p:nvPr/>
          </p:nvSpPr>
          <p:spPr>
            <a:xfrm>
              <a:off x="4771440" y="4896720"/>
              <a:ext cx="1968120" cy="152532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Сильно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_s1036"/>
            <p:cNvSpPr/>
            <p:nvPr/>
          </p:nvSpPr>
          <p:spPr>
            <a:xfrm>
              <a:off x="7067520" y="4896720"/>
              <a:ext cx="1968120" cy="152532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Слабо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ЧТО ИЗУЧАЕТ ФИЗИК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1"/>
          <p:cNvPicPr/>
          <p:nvPr/>
        </p:nvPicPr>
        <p:blipFill>
          <a:blip r:embed="rId1"/>
          <a:stretch/>
        </p:blipFill>
        <p:spPr>
          <a:xfrm>
            <a:off x="250920" y="1268280"/>
            <a:ext cx="5184720" cy="4840560"/>
          </a:xfrm>
          <a:prstGeom prst="rect">
            <a:avLst/>
          </a:prstGeom>
          <a:ln w="0">
            <a:noFill/>
          </a:ln>
        </p:spPr>
      </p:pic>
      <p:sp>
        <p:nvSpPr>
          <p:cNvPr id="53" name="Text Box 7"/>
          <p:cNvSpPr/>
          <p:nvPr/>
        </p:nvSpPr>
        <p:spPr>
          <a:xfrm>
            <a:off x="5724360" y="1773360"/>
            <a:ext cx="30243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 Black"/>
              </a:rPr>
              <a:t>Физика изучает мир, в котором мы живем, явления, в нем происходящие, открывает законы, которым подчиняются все эти явления, устанавливает их взаимосвяз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ГРАВИТАЦИОННО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Рисунок 52" descr="_11"/>
          <p:cNvPicPr/>
          <p:nvPr/>
        </p:nvPicPr>
        <p:blipFill>
          <a:blip r:embed="rId1"/>
          <a:stretch/>
        </p:blipFill>
        <p:spPr>
          <a:xfrm>
            <a:off x="324000" y="1557360"/>
            <a:ext cx="4897440" cy="369900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4"/>
          <p:cNvSpPr/>
          <p:nvPr/>
        </p:nvSpPr>
        <p:spPr>
          <a:xfrm>
            <a:off x="5292720" y="1484280"/>
            <a:ext cx="338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Радиус действия, м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-Бесконечно больш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5435640" y="2781360"/>
            <a:ext cx="3382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Место взаимодействия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-Между телами, имеющими масс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6"/>
          <p:cNvSpPr/>
          <p:nvPr/>
        </p:nvSpPr>
        <p:spPr>
          <a:xfrm>
            <a:off x="5435640" y="4653000"/>
            <a:ext cx="338292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Переносчик взаимодейств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Гравито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611280" y="5661000"/>
            <a:ext cx="46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ДАЛЬНОДЕЙСТВУЮЩ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ЭЛЕКТРОМАГНИТНО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5292720" y="1484280"/>
            <a:ext cx="338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Радиус действия, м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-Бесконечно больш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5435640" y="3068640"/>
            <a:ext cx="3382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Место взаимодействия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-Между телами, имеющими заря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5435640" y="4653000"/>
            <a:ext cx="3382920" cy="11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Переносчик взаимодейств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Фотон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611280" y="5661000"/>
            <a:ext cx="46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ДАЛЬНОДЕЙСТВУЮЩ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7" descr="Magnet0873"/>
          <p:cNvPicPr/>
          <p:nvPr/>
        </p:nvPicPr>
        <p:blipFill>
          <a:blip r:embed="rId1"/>
          <a:stretch/>
        </p:blipFill>
        <p:spPr>
          <a:xfrm>
            <a:off x="0" y="1268280"/>
            <a:ext cx="3313080" cy="22240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8" descr="Картинка 8 из 1768"/>
          <p:cNvPicPr/>
          <p:nvPr/>
        </p:nvPicPr>
        <p:blipFill>
          <a:blip r:embed="rId2"/>
          <a:stretch/>
        </p:blipFill>
        <p:spPr>
          <a:xfrm>
            <a:off x="539640" y="2205000"/>
            <a:ext cx="3456000" cy="25923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9" descr="Картинка 96 из 1768"/>
          <p:cNvPicPr/>
          <p:nvPr/>
        </p:nvPicPr>
        <p:blipFill>
          <a:blip r:embed="rId3"/>
          <a:stretch/>
        </p:blipFill>
        <p:spPr>
          <a:xfrm>
            <a:off x="1547640" y="2924280"/>
            <a:ext cx="3816360" cy="2808360"/>
          </a:xfrm>
          <a:prstGeom prst="rect">
            <a:avLst/>
          </a:prstGeom>
          <a:ln w="0">
            <a:noFill/>
          </a:ln>
        </p:spPr>
      </p:pic>
      <p:sp>
        <p:nvSpPr>
          <p:cNvPr id="1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СИЛЬНОЕ (ЯДЕРНОЕ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5292720" y="1484280"/>
            <a:ext cx="338292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Радиус действия, м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1 фм (фемтометр, 10</a:t>
            </a:r>
            <a:r>
              <a:rPr b="1" lang="ru-RU" sz="2000" spc="-1" strike="noStrike" baseline="30000">
                <a:solidFill>
                  <a:srgbClr val="ff0000"/>
                </a:solidFill>
                <a:latin typeface="Arial"/>
              </a:rPr>
              <a:t>-15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м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5435640" y="2492280"/>
            <a:ext cx="3382920" cy="11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Место взаимодействия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-Между нуклонам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эл. частицам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5"/>
          <p:cNvSpPr/>
          <p:nvPr/>
        </p:nvSpPr>
        <p:spPr>
          <a:xfrm>
            <a:off x="5435640" y="3716280"/>
            <a:ext cx="3382920" cy="11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Переносчик взаимодейств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Глюон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(эл. частиц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6"/>
          <p:cNvSpPr/>
          <p:nvPr/>
        </p:nvSpPr>
        <p:spPr>
          <a:xfrm>
            <a:off x="611280" y="5661000"/>
            <a:ext cx="46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КОРТКОДЕЙСТВУЮЩ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7" descr="Формула Эйншейна"/>
          <p:cNvPicPr/>
          <p:nvPr/>
        </p:nvPicPr>
        <p:blipFill>
          <a:blip r:embed="rId1"/>
          <a:stretch/>
        </p:blipFill>
        <p:spPr>
          <a:xfrm>
            <a:off x="2124000" y="6093000"/>
            <a:ext cx="1511280" cy="4204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152712400053405a9d365b9ca4d042baf0cc5080fe"/>
          <p:cNvPicPr/>
          <p:nvPr/>
        </p:nvPicPr>
        <p:blipFill>
          <a:blip r:embed="rId2"/>
          <a:stretch/>
        </p:blipFill>
        <p:spPr>
          <a:xfrm>
            <a:off x="179280" y="1341360"/>
            <a:ext cx="3168720" cy="29386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9" descr="Удивительный мир внутри атомного ядра. Лекция для школьников атом,протон, кварки, масса"/>
          <p:cNvPicPr/>
          <p:nvPr/>
        </p:nvPicPr>
        <p:blipFill>
          <a:blip r:embed="rId3"/>
          <a:stretch/>
        </p:blipFill>
        <p:spPr>
          <a:xfrm>
            <a:off x="684360" y="2205000"/>
            <a:ext cx="4679640" cy="351000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10"/>
          <p:cNvSpPr/>
          <p:nvPr/>
        </p:nvSpPr>
        <p:spPr>
          <a:xfrm>
            <a:off x="5364000" y="5300640"/>
            <a:ext cx="331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2aac"/>
                </a:solidFill>
                <a:latin typeface="Arial"/>
              </a:rPr>
              <a:t>СТАБИЛЬНОСТЬ ЯДРА АТО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11" descr="142"/>
          <p:cNvPicPr/>
          <p:nvPr/>
        </p:nvPicPr>
        <p:blipFill>
          <a:blip r:embed="rId4"/>
          <a:stretch/>
        </p:blipFill>
        <p:spPr>
          <a:xfrm>
            <a:off x="900000" y="1341360"/>
            <a:ext cx="7201080" cy="5124600"/>
          </a:xfrm>
          <a:prstGeom prst="rect">
            <a:avLst/>
          </a:prstGeom>
          <a:ln w="0">
            <a:noFill/>
          </a:ln>
        </p:spPr>
      </p:pic>
      <p:sp>
        <p:nvSpPr>
          <p:cNvPr id="1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2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СЛАБОЕ (ЯДЕРНОЕ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5292720" y="1484280"/>
            <a:ext cx="338292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Радиус действия, м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1 ам (аттометр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, 10</a:t>
            </a:r>
            <a:r>
              <a:rPr b="1" lang="ru-RU" sz="2000" spc="-1" strike="noStrike" baseline="30000">
                <a:solidFill>
                  <a:srgbClr val="ff0000"/>
                </a:solidFill>
                <a:latin typeface="Arial"/>
              </a:rPr>
              <a:t>-17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5435640" y="3068640"/>
            <a:ext cx="338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Место взаимодействия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–Между кварк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5435640" y="3789360"/>
            <a:ext cx="3382920" cy="11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Переносчик взаимодейств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Бозон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6"/>
          <p:cNvSpPr/>
          <p:nvPr/>
        </p:nvSpPr>
        <p:spPr>
          <a:xfrm>
            <a:off x="250920" y="5950080"/>
            <a:ext cx="46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КОРТКОДЕЙСТВУЮЩ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7"/>
          <p:cNvSpPr/>
          <p:nvPr/>
        </p:nvSpPr>
        <p:spPr>
          <a:xfrm>
            <a:off x="5364000" y="5013360"/>
            <a:ext cx="35290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2aac"/>
                </a:solidFill>
                <a:latin typeface="Arial"/>
              </a:rPr>
              <a:t>Радиоактивный распад уран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2aac"/>
                </a:solidFill>
                <a:latin typeface="Arial"/>
              </a:rPr>
              <a:t>реакции термоядерного синтеза на Солнц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8" descr="1"/>
          <p:cNvPicPr/>
          <p:nvPr/>
        </p:nvPicPr>
        <p:blipFill>
          <a:blip r:embed="rId1"/>
          <a:stretch/>
        </p:blipFill>
        <p:spPr>
          <a:xfrm>
            <a:off x="468360" y="1268280"/>
            <a:ext cx="4240080" cy="45259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9" descr="Удивительный мир внутри атомного ядра. Лекция для школьников атом,протон, кварки, масса"/>
          <p:cNvPicPr/>
          <p:nvPr/>
        </p:nvPicPr>
        <p:blipFill>
          <a:blip r:embed="rId2"/>
          <a:stretch/>
        </p:blipFill>
        <p:spPr>
          <a:xfrm>
            <a:off x="395280" y="1773360"/>
            <a:ext cx="5113440" cy="3835440"/>
          </a:xfrm>
          <a:prstGeom prst="rect">
            <a:avLst/>
          </a:prstGeom>
          <a:ln w="0">
            <a:noFill/>
          </a:ln>
        </p:spPr>
      </p:pic>
      <p:sp>
        <p:nvSpPr>
          <p:cNvPr id="1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ФИЗИЧЕСКИЕ ВЕЛИЧИН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Рисунок 13" descr="длина"/>
          <p:cNvPicPr/>
          <p:nvPr/>
        </p:nvPicPr>
        <p:blipFill>
          <a:blip r:embed="rId1"/>
          <a:stretch/>
        </p:blipFill>
        <p:spPr>
          <a:xfrm>
            <a:off x="971640" y="1413000"/>
            <a:ext cx="7343640" cy="2273040"/>
          </a:xfrm>
          <a:prstGeom prst="rect">
            <a:avLst/>
          </a:prstGeom>
          <a:ln w="25560">
            <a:solidFill>
              <a:srgbClr val="ff00ff"/>
            </a:solidFill>
            <a:miter/>
          </a:ln>
        </p:spPr>
      </p:pic>
      <p:sp>
        <p:nvSpPr>
          <p:cNvPr id="185" name="Text Box 4"/>
          <p:cNvSpPr/>
          <p:nvPr/>
        </p:nvSpPr>
        <p:spPr>
          <a:xfrm>
            <a:off x="0" y="3860640"/>
            <a:ext cx="896472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ДЛ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2aac"/>
                </a:solidFill>
                <a:latin typeface="Arial"/>
              </a:rPr>
              <a:t>Длина</a:t>
            </a:r>
            <a:r>
              <a:rPr b="1" lang="ru-RU" sz="2400" spc="-1" strike="noStrike">
                <a:solidFill>
                  <a:srgbClr val="332aac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332aac"/>
                </a:solidFill>
                <a:latin typeface="Arial"/>
              </a:rPr>
              <a:t>–</a:t>
            </a:r>
            <a:r>
              <a:rPr b="1" lang="ru-RU" sz="2400" spc="-1" strike="noStrike">
                <a:solidFill>
                  <a:srgbClr val="332aac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332aac"/>
                </a:solidFill>
                <a:latin typeface="Arial"/>
              </a:rPr>
              <a:t>мера для измерения расстояния</a:t>
            </a:r>
            <a:r>
              <a:rPr b="1" lang="ru-RU" sz="2400" spc="-1" strike="noStrike">
                <a:solidFill>
                  <a:srgbClr val="332aa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2aac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332aac"/>
                </a:solidFill>
                <a:latin typeface="Arial"/>
              </a:rPr>
              <a:t>Метр </a:t>
            </a:r>
            <a:r>
              <a:rPr b="1" lang="ru-RU" sz="2400" spc="-1" strike="noStrike">
                <a:solidFill>
                  <a:srgbClr val="332aac"/>
                </a:solidFill>
                <a:latin typeface="Arial"/>
              </a:rPr>
              <a:t>– </a:t>
            </a:r>
            <a:r>
              <a:rPr b="1" i="1" lang="ru-RU" sz="2400" spc="-1" strike="noStrike">
                <a:solidFill>
                  <a:srgbClr val="332aac"/>
                </a:solidFill>
                <a:latin typeface="Arial"/>
              </a:rPr>
              <a:t>единица длины, равная расстоянию, которое проходит свет в вакууме за время ½ 99 792 458 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684360" y="6381720"/>
            <a:ext cx="158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..\..\http.do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ФИЗИЧЕСКИЕ ВЕЛИЧИНЫ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3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2016000" cy="200016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4"/>
          <p:cNvSpPr/>
          <p:nvPr/>
        </p:nvSpPr>
        <p:spPr>
          <a:xfrm>
            <a:off x="3095640" y="2133720"/>
            <a:ext cx="60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2aac"/>
                </a:solidFill>
                <a:latin typeface="Arial"/>
              </a:rPr>
              <a:t>Время – мера измерение разных промежутков времени</a:t>
            </a:r>
            <a:r>
              <a:rPr b="1" lang="ru-RU" sz="2400" spc="-1" strike="noStrike">
                <a:solidFill>
                  <a:srgbClr val="332aa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5"/>
          <p:cNvSpPr/>
          <p:nvPr/>
        </p:nvSpPr>
        <p:spPr>
          <a:xfrm>
            <a:off x="4643280" y="141300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ВРЕМ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Рисунок 30" descr="10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216000" y="3357720"/>
            <a:ext cx="8604000" cy="225108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7"/>
          <p:cNvSpPr/>
          <p:nvPr/>
        </p:nvSpPr>
        <p:spPr>
          <a:xfrm>
            <a:off x="179280" y="5661000"/>
            <a:ext cx="89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Секунда – эта единица времени, равная 9 192 631 770 периодам излучения изотопа атома цезия – 133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8"/>
          <p:cNvSpPr/>
          <p:nvPr/>
        </p:nvSpPr>
        <p:spPr>
          <a:xfrm>
            <a:off x="-1065240" y="5897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9"/>
          <p:cNvSpPr/>
          <p:nvPr/>
        </p:nvSpPr>
        <p:spPr>
          <a:xfrm>
            <a:off x="468360" y="6491160"/>
            <a:ext cx="1582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..\..\http.do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ФИЗИЧЕСКИЕ ВЕЛИЧИНЫ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2843280" y="119700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МАСС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Рисунок 32" descr="7"/>
          <p:cNvPicPr/>
          <p:nvPr/>
        </p:nvPicPr>
        <p:blipFill>
          <a:blip r:embed="rId1"/>
          <a:stretch/>
        </p:blipFill>
        <p:spPr>
          <a:xfrm>
            <a:off x="162000" y="1628640"/>
            <a:ext cx="8982000" cy="2270160"/>
          </a:xfrm>
          <a:prstGeom prst="rect">
            <a:avLst/>
          </a:prstGeom>
          <a:ln w="0">
            <a:noFill/>
          </a:ln>
        </p:spPr>
      </p:pic>
      <p:grpSp>
        <p:nvGrpSpPr>
          <p:cNvPr id="200" name="Group 5"/>
          <p:cNvGrpSpPr/>
          <p:nvPr/>
        </p:nvGrpSpPr>
        <p:grpSpPr>
          <a:xfrm>
            <a:off x="-541440" y="3933720"/>
            <a:ext cx="10080720" cy="1824120"/>
            <a:chOff x="-541440" y="3933720"/>
            <a:chExt cx="10080720" cy="1824120"/>
          </a:xfrm>
        </p:grpSpPr>
        <p:sp>
          <p:nvSpPr>
            <p:cNvPr id="201" name="AutoShape 6"/>
            <p:cNvSpPr/>
            <p:nvPr/>
          </p:nvSpPr>
          <p:spPr>
            <a:xfrm>
              <a:off x="-541440" y="3933720"/>
              <a:ext cx="10080720" cy="182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7"/>
            <p:cNvSpPr/>
            <p:nvPr/>
          </p:nvSpPr>
          <p:spPr>
            <a:xfrm>
              <a:off x="249120" y="4611600"/>
              <a:ext cx="1184400" cy="406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Масс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Rectangle 8"/>
            <p:cNvSpPr/>
            <p:nvPr/>
          </p:nvSpPr>
          <p:spPr>
            <a:xfrm>
              <a:off x="2225160" y="3933720"/>
              <a:ext cx="4942080" cy="406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ff0000"/>
                  </a:solidFill>
                  <a:latin typeface="Arial"/>
                </a:rPr>
                <a:t>Мера количества вещества и энерги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Rectangle 9"/>
            <p:cNvSpPr/>
            <p:nvPr/>
          </p:nvSpPr>
          <p:spPr>
            <a:xfrm>
              <a:off x="2225160" y="4611600"/>
              <a:ext cx="4942080" cy="406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ff0000"/>
                  </a:solidFill>
                  <a:latin typeface="Arial"/>
                </a:rPr>
                <a:t>Мера инертност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10"/>
            <p:cNvSpPr/>
            <p:nvPr/>
          </p:nvSpPr>
          <p:spPr>
            <a:xfrm>
              <a:off x="2225160" y="5289840"/>
              <a:ext cx="5891400" cy="335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ff0000"/>
                  </a:solidFill>
                  <a:latin typeface="Arial"/>
                </a:rPr>
                <a:t>Мера гравитационных свойств матери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11"/>
            <p:cNvSpPr/>
            <p:nvPr/>
          </p:nvSpPr>
          <p:spPr>
            <a:xfrm flipV="1">
              <a:off x="1435320" y="4068720"/>
              <a:ext cx="789840" cy="54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Line 12"/>
            <p:cNvSpPr/>
            <p:nvPr/>
          </p:nvSpPr>
          <p:spPr>
            <a:xfrm>
              <a:off x="1435320" y="4882320"/>
              <a:ext cx="78984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Line 13"/>
            <p:cNvSpPr/>
            <p:nvPr/>
          </p:nvSpPr>
          <p:spPr>
            <a:xfrm>
              <a:off x="1435320" y="5018400"/>
              <a:ext cx="789840" cy="54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Text Box 14"/>
          <p:cNvSpPr/>
          <p:nvPr/>
        </p:nvSpPr>
        <p:spPr>
          <a:xfrm>
            <a:off x="216000" y="5661000"/>
            <a:ext cx="8928000" cy="11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2aac"/>
                </a:solidFill>
                <a:latin typeface="Arial"/>
              </a:rPr>
              <a:t>Килограмм – единица массы, равная массе международного эталона килограмма</a:t>
            </a:r>
            <a:r>
              <a:rPr b="1" lang="ru-RU" sz="2000" spc="-1" strike="noStrike">
                <a:solidFill>
                  <a:srgbClr val="332aac"/>
                </a:solidFill>
                <a:latin typeface="Arial"/>
              </a:rPr>
              <a:t>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риблизительно равен массе 1 л чистой воды при 15 </a:t>
            </a:r>
            <a:r>
              <a:rPr b="1" lang="ru-RU" sz="1800" spc="-1" strike="noStrike" baseline="30000">
                <a:solidFill>
                  <a:srgbClr val="ffff00"/>
                </a:solidFill>
                <a:latin typeface="Arial"/>
              </a:rPr>
              <a:t>0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С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ИЗМЕРЕНИЕ ФИЗИЧЕСКИХ ВЕЛИЧ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Содержимое 2"/>
          <p:cNvSpPr/>
          <p:nvPr/>
        </p:nvSpPr>
        <p:spPr>
          <a:xfrm>
            <a:off x="108000" y="1413000"/>
            <a:ext cx="8928000" cy="37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Измерение физических величи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есть действие, выполняемое с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мощью средств измерений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хождения значения физической величины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принятых единица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рямое измерение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измерение, при котором искомое значение величины находят непосредственно из опытных данных. Например: измерение напряжения при помощи вольтметр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4" descr=""/>
          <p:cNvPicPr/>
          <p:nvPr/>
        </p:nvPicPr>
        <p:blipFill>
          <a:blip r:embed="rId1"/>
          <a:stretch/>
        </p:blipFill>
        <p:spPr>
          <a:xfrm>
            <a:off x="5364000" y="3068640"/>
            <a:ext cx="3168720" cy="339084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5" descr=""/>
          <p:cNvPicPr/>
          <p:nvPr/>
        </p:nvPicPr>
        <p:blipFill>
          <a:blip r:embed="rId2"/>
          <a:stretch/>
        </p:blipFill>
        <p:spPr>
          <a:xfrm>
            <a:off x="900000" y="2997360"/>
            <a:ext cx="4103640" cy="3436920"/>
          </a:xfrm>
          <a:prstGeom prst="rect">
            <a:avLst/>
          </a:prstGeom>
          <a:ln w="0">
            <a:noFill/>
          </a:ln>
        </p:spPr>
      </p:pic>
      <p:sp>
        <p:nvSpPr>
          <p:cNvPr id="2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108000" y="1412640"/>
            <a:ext cx="871200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Косвенное измерение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измерение, при котором искомое значение величины находят на основании известной зависимости между этой величиной и величинами, подвергаемыми прямым измерения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3"/>
          <p:cNvSpPr/>
          <p:nvPr/>
        </p:nvSpPr>
        <p:spPr>
          <a:xfrm>
            <a:off x="39528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ИЗМЕРЕНИЕ ФИЗИЧЕСКИХ ВЕЛИЧ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4" descr="погрешности"/>
          <p:cNvPicPr/>
          <p:nvPr/>
        </p:nvPicPr>
        <p:blipFill>
          <a:blip r:embed="rId1"/>
          <a:stretch/>
        </p:blipFill>
        <p:spPr>
          <a:xfrm>
            <a:off x="1547640" y="3284640"/>
            <a:ext cx="1365480" cy="146988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5"/>
          <p:cNvSpPr/>
          <p:nvPr/>
        </p:nvSpPr>
        <p:spPr>
          <a:xfrm>
            <a:off x="5364000" y="378936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/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6"/>
          <p:cNvSpPr/>
          <p:nvPr/>
        </p:nvSpPr>
        <p:spPr>
          <a:xfrm>
            <a:off x="4643280" y="5013360"/>
            <a:ext cx="34578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Использовать весы с разновесом 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)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и мерный цилиндр 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V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7"/>
          <p:cNvSpPr/>
          <p:nvPr/>
        </p:nvSpPr>
        <p:spPr>
          <a:xfrm>
            <a:off x="539640" y="5084640"/>
            <a:ext cx="3457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Использовать амперметр и вольтметр для измерения силы тока и напря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8"/>
          <p:cNvSpPr/>
          <p:nvPr/>
        </p:nvSpPr>
        <p:spPr>
          <a:xfrm>
            <a:off x="1835280" y="2565360"/>
            <a:ext cx="53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меры – измерение сопротивления проводника и плотности ве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ИЗМЕРЕНИЕ ФИЗИЧЕСКИХ ВЕЛИЧ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3"/>
          <p:cNvSpPr/>
          <p:nvPr/>
        </p:nvSpPr>
        <p:spPr>
          <a:xfrm>
            <a:off x="108000" y="1484280"/>
            <a:ext cx="8856720" cy="42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огрешность измере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—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ценка отклонения величин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змеренного значения величины от её истинного значения. Погрешность измерения является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характеристикой (мерой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очности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мер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огрешность измерительного прибора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разность между показанием прибора и истинным значением измеряемой величи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Погрешность измерения равна половине цены деления прибо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Абсолютная погрешность измерения (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Δизм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.)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разность между действительным и истинным значениями измеряемой величины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Δизм.=Хд. - Х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bbe0e3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Относительная погрешность измере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δиз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) - отношение абсолютной погрешности измерения к истинному значению измеряемой величины, выраженное в %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1" descr="http://www.prist.ru/infos/articles/general_measurement/equation_12.gif"/>
          <p:cNvPicPr/>
          <p:nvPr/>
        </p:nvPicPr>
        <p:blipFill>
          <a:blip r:embed="rId1"/>
          <a:stretch/>
        </p:blipFill>
        <p:spPr>
          <a:xfrm>
            <a:off x="3497400" y="5365800"/>
            <a:ext cx="2298600" cy="873000"/>
          </a:xfrm>
          <a:prstGeom prst="rect">
            <a:avLst/>
          </a:prstGeom>
          <a:ln w="0">
            <a:noFill/>
          </a:ln>
        </p:spPr>
      </p:pic>
      <p:sp>
        <p:nvSpPr>
          <p:cNvPr id="2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Возникновение физики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5"/>
          <p:cNvPicPr/>
          <p:nvPr/>
        </p:nvPicPr>
        <p:blipFill>
          <a:blip r:embed="rId1"/>
          <a:stretch/>
        </p:blipFill>
        <p:spPr>
          <a:xfrm>
            <a:off x="324000" y="2349360"/>
            <a:ext cx="1981080" cy="252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7" name="WordArt 5"/>
          <p:cNvSpPr txBox="1"/>
          <p:nvPr/>
        </p:nvSpPr>
        <p:spPr>
          <a:xfrm>
            <a:off x="250920" y="4869000"/>
            <a:ext cx="262872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ТОЛЕМЕЙ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1116000" y="1197000"/>
            <a:ext cx="7272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Каждый школьник знаком теперь с истинам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за которые Архимед отдал бы жизн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7"/>
          <p:cNvSpPr/>
          <p:nvPr/>
        </p:nvSpPr>
        <p:spPr>
          <a:xfrm>
            <a:off x="2340000" y="321300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Научный дух зародился в Древней Грец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8" descr="6"/>
          <p:cNvPicPr/>
          <p:nvPr/>
        </p:nvPicPr>
        <p:blipFill>
          <a:blip r:embed="rId2"/>
          <a:stretch/>
        </p:blipFill>
        <p:spPr>
          <a:xfrm>
            <a:off x="6300720" y="2276640"/>
            <a:ext cx="2103480" cy="2622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1" name="WordArt 9"/>
          <p:cNvSpPr txBox="1"/>
          <p:nvPr/>
        </p:nvSpPr>
        <p:spPr>
          <a:xfrm>
            <a:off x="6012000" y="4941720"/>
            <a:ext cx="26287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ГАЛИЛЕЙ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62" name="Text Box 10"/>
          <p:cNvSpPr/>
          <p:nvPr/>
        </p:nvSpPr>
        <p:spPr>
          <a:xfrm>
            <a:off x="4788000" y="5734080"/>
            <a:ext cx="42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Ученый, положивший начало физике, как наук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Материя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Все то, что существует во Вселенной, независимо от нашего сознания. Материя в нашем мире существует в виде 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вещества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и пол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"/>
          <p:cNvPicPr/>
          <p:nvPr/>
        </p:nvPicPr>
        <p:blipFill>
          <a:blip r:embed="rId1"/>
          <a:stretch/>
        </p:blipFill>
        <p:spPr>
          <a:xfrm>
            <a:off x="1476360" y="3429000"/>
            <a:ext cx="6120000" cy="2665440"/>
          </a:xfrm>
          <a:prstGeom prst="rect">
            <a:avLst/>
          </a:prstGeom>
          <a:ln w="0">
            <a:noFill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Что и как изучает физ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" descr=""/>
          <p:cNvPicPr/>
          <p:nvPr/>
        </p:nvPicPr>
        <p:blipFill>
          <a:blip r:embed="rId1"/>
          <a:stretch/>
        </p:blipFill>
        <p:spPr>
          <a:xfrm>
            <a:off x="31680" y="1258920"/>
            <a:ext cx="8788320" cy="4537080"/>
          </a:xfrm>
          <a:prstGeom prst="rect">
            <a:avLst/>
          </a:prstGeom>
          <a:ln w="0">
            <a:noFill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Эволюция взгляда на физическую картину ми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250920" y="1284120"/>
            <a:ext cx="8785080" cy="5245200"/>
          </a:xfrm>
          <a:prstGeom prst="rect">
            <a:avLst/>
          </a:prstGeom>
          <a:ln w="0">
            <a:noFill/>
          </a:ln>
        </p:spPr>
      </p:pic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ТЕХНИЧЕСКИЕ УСТРОЙСТВА ДЛЯ ИЗУЧЕНИЯ ВСЕЛЕННОЙ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star_refraktor"/>
          <p:cNvPicPr/>
          <p:nvPr/>
        </p:nvPicPr>
        <p:blipFill>
          <a:blip r:embed="rId1"/>
          <a:stretch/>
        </p:blipFill>
        <p:spPr>
          <a:xfrm>
            <a:off x="250920" y="1341360"/>
            <a:ext cx="2560680" cy="313236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/>
          <p:cNvSpPr/>
          <p:nvPr/>
        </p:nvSpPr>
        <p:spPr>
          <a:xfrm>
            <a:off x="0" y="4508640"/>
            <a:ext cx="3097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таринный рефрак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инзовы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6" descr="3708рефлектор Ньютона"/>
          <p:cNvPicPr/>
          <p:nvPr/>
        </p:nvPicPr>
        <p:blipFill>
          <a:blip r:embed="rId2"/>
          <a:stretch/>
        </p:blipFill>
        <p:spPr>
          <a:xfrm>
            <a:off x="3276720" y="2924280"/>
            <a:ext cx="2101680" cy="2585880"/>
          </a:xfrm>
          <a:prstGeom prst="rect">
            <a:avLst/>
          </a:prstGeom>
          <a:ln w="0">
            <a:noFill/>
          </a:ln>
        </p:spPr>
      </p:pic>
      <p:sp>
        <p:nvSpPr>
          <p:cNvPr id="78" name="Text Box 7"/>
          <p:cNvSpPr/>
          <p:nvPr/>
        </p:nvSpPr>
        <p:spPr>
          <a:xfrm>
            <a:off x="2771640" y="5445000"/>
            <a:ext cx="2952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ефлектор Ньют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еркальны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8" descr="15"/>
          <p:cNvPicPr/>
          <p:nvPr/>
        </p:nvPicPr>
        <p:blipFill>
          <a:blip r:embed="rId3"/>
          <a:stretch/>
        </p:blipFill>
        <p:spPr>
          <a:xfrm>
            <a:off x="5580000" y="2708280"/>
            <a:ext cx="3206880" cy="2724120"/>
          </a:xfrm>
          <a:prstGeom prst="rect">
            <a:avLst/>
          </a:prstGeom>
          <a:ln w="0">
            <a:noFill/>
          </a:ln>
        </p:spPr>
      </p:pic>
      <p:sp>
        <p:nvSpPr>
          <p:cNvPr id="80" name="Text Box 9"/>
          <p:cNvSpPr/>
          <p:nvPr/>
        </p:nvSpPr>
        <p:spPr>
          <a:xfrm>
            <a:off x="5435640" y="1628640"/>
            <a:ext cx="345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ершина потухшего вулкана Мауна-Кеа высотой 4200 м (остров Гавайи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16"/>
          <p:cNvPicPr/>
          <p:nvPr/>
        </p:nvPicPr>
        <p:blipFill>
          <a:blip r:embed="rId1"/>
          <a:stretch/>
        </p:blipFill>
        <p:spPr>
          <a:xfrm>
            <a:off x="395280" y="1341360"/>
            <a:ext cx="4105440" cy="3753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5"/>
          <p:cNvSpPr/>
          <p:nvPr/>
        </p:nvSpPr>
        <p:spPr>
          <a:xfrm>
            <a:off x="395280" y="5229360"/>
            <a:ext cx="33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адиотелескоп в Аресибо Пуэрто-Ри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6" descr="7"/>
          <p:cNvPicPr/>
          <p:nvPr/>
        </p:nvPicPr>
        <p:blipFill>
          <a:blip r:embed="rId2"/>
          <a:stretch/>
        </p:blipFill>
        <p:spPr>
          <a:xfrm>
            <a:off x="5219640" y="1773360"/>
            <a:ext cx="3384720" cy="2730240"/>
          </a:xfrm>
          <a:prstGeom prst="rect">
            <a:avLst/>
          </a:prstGeom>
          <a:ln w="0">
            <a:noFill/>
          </a:ln>
        </p:spPr>
      </p:pic>
      <p:sp>
        <p:nvSpPr>
          <p:cNvPr id="85" name="Text Box 7"/>
          <p:cNvSpPr/>
          <p:nvPr/>
        </p:nvSpPr>
        <p:spPr>
          <a:xfrm>
            <a:off x="4859280" y="5084640"/>
            <a:ext cx="388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овременная спутниковая обсерватория, работающая в инфракрасном диапазон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ТЕХНИЧЕСКИЕ УСТРОЙСТВА ДЛЯ ИЗУЧЕНИЯ ВСЕЛЕННОЙ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ЭТАПЫ НАУЧНОГО ПОЗНАНИЯ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4"/>
          <p:cNvPicPr/>
          <p:nvPr/>
        </p:nvPicPr>
        <p:blipFill>
          <a:blip r:embed="rId1"/>
          <a:stretch/>
        </p:blipFill>
        <p:spPr>
          <a:xfrm>
            <a:off x="1763640" y="1341360"/>
            <a:ext cx="5781600" cy="37530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5"/>
          <p:cNvSpPr/>
          <p:nvPr/>
        </p:nvSpPr>
        <p:spPr>
          <a:xfrm>
            <a:off x="755640" y="522936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юбопытство. С него все и началос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П. Джеймс, Дж. Мартин  «Все возможные миры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2T17:00:59Z</dcterms:created>
  <dc:creator>Марина</dc:creator>
  <dc:description/>
  <dc:language>en-US</dc:language>
  <cp:lastModifiedBy>LEGION</cp:lastModifiedBy>
  <dcterms:modified xsi:type="dcterms:W3CDTF">2015-03-30T08:22:56Z</dcterms:modified>
  <cp:revision>11</cp:revision>
  <dc:subject/>
  <dc:title>ФИЗИКА И ПОЗНАНИЕ МИРА</dc:title>
</cp:coreProperties>
</file>