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DAF1-7FDD-45EE-8630-04C34BA8F5F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c2cf4"/>
                </a:solidFill>
                <a:latin typeface="Calibri"/>
              </a:rPr>
              <a:t>Соединения проводников в электрической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a0aba"/>
                </a:solidFill>
                <a:latin typeface="Calibri"/>
              </a:rPr>
              <a:t>Презентация учителя физики МОУ «СОШ №6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B16D-93E4-4D14-84CF-BFE886180DB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79d3b"/>
                </a:solidFill>
                <a:latin typeface="Calibri"/>
              </a:rPr>
              <a:t>Проводники в цепи можно соединять последовательно</a:t>
            </a:r>
            <a:r>
              <a:rPr b="0" i="1" lang="ru-RU" sz="1400" spc="-1" strike="noStrike">
                <a:solidFill>
                  <a:srgbClr val="279d3b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лементы цепи соединяются один за други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E262-B8B8-41D0-A55D-BD32B79AD50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c2cf4"/>
                </a:solidFill>
                <a:latin typeface="Calibri"/>
              </a:rPr>
              <a:t>При последовательном соединении проводник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Сила то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любой 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и неизмен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яж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напряжений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стках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противл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сопротивле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ов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9FE7-0810-4D1B-AF1A-9AF7FB98402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8c515"/>
                </a:solidFill>
                <a:latin typeface="Calibri"/>
              </a:rPr>
              <a:t>Пример решения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следовательно соединённых прово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м 6 и 4 Ом включены в сеть с напряжением 20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8CB0-24E6-4F3F-98C1-464D3264AEE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8c515"/>
                </a:solidFill>
                <a:latin typeface="Calibri"/>
              </a:rPr>
              <a:t>Задача для самостоятельного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=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033B-9B2E-4F7C-9331-8453F011827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5D8-61B2-4965-9BBF-7589A296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E9E-9BC7-4807-8156-BE9F5537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B25-3665-4F8F-A6AC-2B3053BA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8A8-C4DA-4E1F-9C3C-70214DC4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CC38-8080-46AB-8BBD-759AC2CA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041B-EF99-4D15-840B-D4548EC0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9F03-FEA3-46B7-A3DE-378E87B2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0BBC-3B9C-4D85-8C20-0B437D44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9FA7-34E3-4688-B5E8-84F01485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7FFE-FD12-4C84-92E6-2A43800B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862E-48EF-47BF-A6DE-D60F45EF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C79-7856-4897-A0BF-EF3E2EEE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D30A-63C5-4F94-A50B-BC3A88EE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C50B-82E0-49FC-BB99-29429FE0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547D-3084-48D4-B549-707DA626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15BF-F458-4888-855B-DD76D50B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1E58-F32E-46A9-8318-BF81E90C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F2C-9CF5-4C6F-B27A-A795BAE8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723-3B32-48A6-A25C-5495923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041-8419-4E26-9BE4-1123DEF4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F59-9344-41EC-9005-D082C97A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5D3-FD06-488E-B74A-F020E565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0F3-B87F-4434-B208-ECC2FFC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C66-7AE8-4150-8929-F0224690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9A31-EADB-4C08-9B86-A15875CD244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0960" cy="6141960"/>
              <a:chOff x="5398920" y="63000"/>
              <a:chExt cx="363096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812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812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9164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9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75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66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200" y="294336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6120"/>
              <a:ext cx="893160" cy="825840"/>
              <a:chOff x="5643360" y="276120"/>
              <a:chExt cx="89316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080" y="375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1240"/>
              <a:chOff x="968760" y="52502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4840"/>
                <a:ext cx="250920" cy="299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26160"/>
                <a:ext cx="429840" cy="24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4717-0C26-4487-8284-F31F6761741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f4"/>
                </a:solidFill>
                <a:latin typeface="Verdana"/>
              </a:rPr>
              <a:t>Соединения проводников в электрической цеп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29718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a0aba"/>
                </a:solidFill>
                <a:latin typeface="Verdana"/>
              </a:rPr>
              <a:t>Презентация учителя физики МОУ «СОШ №6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26708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Симонова Артур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Михайлович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79d3b"/>
                </a:solidFill>
                <a:latin typeface="Verdana"/>
              </a:rPr>
              <a:t>Проводники в цепи можно соединять последовательно</a:t>
            </a:r>
            <a:r>
              <a:rPr b="0" i="1" lang="ru-RU" sz="3200" spc="-1" strike="noStrike">
                <a:solidFill>
                  <a:srgbClr val="279d3b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Элементы цепи соединяются один за други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276720" cy="1314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24996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70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307720" y="16765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4000" y="3505320"/>
            <a:ext cx="75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cf4"/>
                </a:solidFill>
                <a:latin typeface="Arial"/>
              </a:rPr>
              <a:t>Проводники можно соединить параллель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676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62480" y="426708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9e13"/>
                </a:solidFill>
                <a:latin typeface="Arial"/>
              </a:rPr>
              <a:t>Электрическая цепь при этом развет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7130880" y="4267080"/>
            <a:ext cx="1708200" cy="217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6631200" y="44197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31200" y="502920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6631200" y="5791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c2cf4"/>
                </a:solidFill>
                <a:latin typeface="Verdana"/>
              </a:rPr>
              <a:t>При последовательном соединении проводников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 любой точк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неизменн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напряжений на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участках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сопротивлени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элементов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793920" y="10666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67480" y="175248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248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567480" y="2362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4114800"/>
            <a:ext cx="3962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а сумм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ил токов в каждой ветви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о всех ветвя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одинаково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определяетс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по формуле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837440" y="342900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9d3b"/>
                </a:solidFill>
                <a:latin typeface="Verdana"/>
              </a:rPr>
              <a:t>При параллельном соединении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487560" y="411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6337800" y="4419720"/>
            <a:ext cx="105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095880" y="480060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/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59436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ли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R=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102960"/>
            <a:ext cx="59529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Пример решения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ва последовательно соединённых провод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противлением 6 и 4 Ом включены в сеть с напряжением 20 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21520" y="2398680"/>
            <a:ext cx="1668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а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6 Ом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4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20 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666880" y="2438280"/>
            <a:ext cx="48006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Из закона Ома определим силу тока в цеп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20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10 Ом=2А,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где сопротивлени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6 Ом + 4 Ом = 10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Сила тока в последовательно соединённых проводниках одинакова, поэт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=2A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пряжение найдём из закона Ом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 А*6 Ом = 12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*4 Ом = 8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 ,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10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1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,  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180720" cy="25336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Задача для самостоятельного реш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0680"/>
            <a:ext cx="21337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0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5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=12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----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33720" y="838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ва проводника сопротивлением 10 и 15 Ом соединены параллельно и подключены к сети напряжением 12 В. Определите общее сопротивление проводников, общую силу тока. А также силу тока в каждом проводни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126600" y="1828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590920" y="2209680"/>
            <a:ext cx="52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. Найдём общее сопротивление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42840" y="2895480"/>
            <a:ext cx="58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0 Ом*15 Ом/(10 Ом+15 Ом)=6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666880" y="32767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. Определим общую силу тока в цепи, используя закон Ом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1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6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2743200" y="4114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3. Определим силу тока в каждом проводнике по  закону Ома, учитывая, что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0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 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5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195000" y="563868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6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161640" cy="22482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3:0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