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A951-AF67-44B7-8B8E-33FCC5A787E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c2cf4"/>
                </a:solidFill>
                <a:latin typeface="Calibri"/>
              </a:rPr>
              <a:t>Соединения проводников в электрической цеп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a0aba"/>
                </a:solidFill>
                <a:latin typeface="Calibri"/>
              </a:rPr>
              <a:t>Презентация учителя физики МОУ «СОШ №6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5ED1-773A-40A8-98F9-6915BAA65849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279d3b"/>
                </a:solidFill>
                <a:latin typeface="Calibri"/>
              </a:rPr>
              <a:t>Проводники в цепи можно соединять последовательно</a:t>
            </a:r>
            <a:r>
              <a:rPr b="0" i="1" lang="ru-RU" sz="1400" spc="-1" strike="noStrike">
                <a:solidFill>
                  <a:srgbClr val="279d3b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лементы цепи соединяются один за другим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DCA9-FFB3-4B4E-B215-F8581AD47C0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c2cf4"/>
                </a:solidFill>
                <a:latin typeface="Calibri"/>
              </a:rPr>
              <a:t>При последовательном соединении проводников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.Сила тока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в любой точ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и неизмен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яж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напряжений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частках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противление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рав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мме сопротивле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ов цеп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A3B8-5472-4A6E-831A-79EA59C19215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8c515"/>
                </a:solidFill>
                <a:latin typeface="Calibri"/>
              </a:rPr>
              <a:t>Пример решения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а последовательно соединённых провод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м 6 и 4 Ом включены в сеть с напряжением 20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1E1D-18BC-464F-99BA-7648AC8EB85C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8c515"/>
                </a:solidFill>
                <a:latin typeface="Calibri"/>
              </a:rPr>
              <a:t>Задача для самостоятельного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1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=1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4AE6-A189-40C0-A8C5-6A19648FCD4E}" type="slidenum">
              <a:rPr b="0" lang="uk-UA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482-583D-4A3C-BBCC-8A0D9DCC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C5FE-4FCB-458F-A139-D0D36B48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492-A0A8-4A87-A8CD-4173D7A5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AFD-DEA8-4870-ADED-0AA158EC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1C2C-8868-4EB7-8D5E-F820CEA3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1A3E-7C0F-4D25-B29A-62DDB32C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D3E6-741C-4A38-A746-C6627281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0046-81A5-44C9-A5A6-32AB7EC4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3057-9502-4B1B-AE58-F447BF26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DB12-21DA-4C48-BCD7-44B6AB7C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B19C-A258-4E19-927B-E67BA41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FF8-9DE2-4D52-A4B6-68D96EED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978F-955F-457F-820B-B46FBDB1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1A9A-0784-46F5-ABE9-354C2FA2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7825-9041-4E17-BCC4-FD795874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EB84-ED9F-4ECC-B9A9-39A62F8A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F3A2-5C42-4F34-A31F-5D823DE5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DE9-AB60-4020-A62E-A769EDE2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8201-4CBB-4CF2-BC10-711BCB42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2A86-D615-4B21-B402-A0B40FBF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FE3-9D15-4D04-8EE8-5A9A401B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945-9D4A-41D2-991C-11E4D9A3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B0C-1F11-4834-8C12-DC49F865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33D-D021-4FEE-90EA-7DA4DAC3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680"/>
              <a:chOff x="-1080" y="2601000"/>
              <a:chExt cx="2687040" cy="311868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1080"/>
                <a:ext cx="1833120" cy="1668600"/>
                <a:chOff x="852840" y="4051080"/>
                <a:chExt cx="1833120" cy="16686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4400" y="3934800"/>
                  <a:ext cx="477360" cy="12438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64480" y="4978800"/>
                  <a:ext cx="110520" cy="5104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8760" y="5565600"/>
                  <a:ext cx="200880" cy="889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B810-9479-4C48-87D2-F7CB3795972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040" cy="6858000"/>
            <a:chOff x="-20160" y="0"/>
            <a:chExt cx="90500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98920" y="63000"/>
              <a:ext cx="3630960" cy="6141960"/>
              <a:chOff x="5398920" y="63000"/>
              <a:chExt cx="3630960" cy="614196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8120"/>
                <a:ext cx="2115000" cy="235692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68120"/>
                <a:ext cx="905760" cy="84276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800" y="2591640"/>
                <a:ext cx="43920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040" y="673920"/>
                <a:ext cx="38880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3120" y="2657520"/>
                <a:ext cx="16308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9080" y="1246680"/>
                <a:ext cx="19008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29200" y="2943360"/>
                <a:ext cx="523800" cy="32677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3360" y="276120"/>
              <a:ext cx="893160" cy="825840"/>
              <a:chOff x="5643360" y="276120"/>
              <a:chExt cx="89316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4960" y="770760"/>
                <a:ext cx="179280" cy="3621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4200" y="451080"/>
                <a:ext cx="30636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7080" y="3758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0240"/>
              <a:ext cx="1059480" cy="831240"/>
              <a:chOff x="968760" y="5250240"/>
              <a:chExt cx="1059480" cy="83124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440" y="5514840"/>
                <a:ext cx="250920" cy="2998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400" y="5726160"/>
                <a:ext cx="429840" cy="2491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74800"/>
                <a:ext cx="449280" cy="1267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25880"/>
              <a:ext cx="1690560" cy="1146600"/>
              <a:chOff x="375840" y="42588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443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695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8360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05920" y="3712320"/>
              <a:ext cx="1156320" cy="1607760"/>
              <a:chOff x="740592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6064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1136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0428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6617-DE87-44A6-8A11-AD0AE186990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05120" y="144792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2cf4"/>
                </a:solidFill>
                <a:latin typeface="Verdana"/>
              </a:rPr>
              <a:t>Соединения проводников в электрической цеп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00200" y="2971800"/>
            <a:ext cx="419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a0aba"/>
                </a:solidFill>
                <a:latin typeface="Verdana"/>
              </a:rPr>
              <a:t>Презентация учителя физики МОУ «СОШ №6»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267080" y="457200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Симонова Артура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2c2cf4"/>
                </a:solidFill>
                <a:latin typeface="Arial"/>
              </a:rPr>
              <a:t>Михайлович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79d3b"/>
                </a:solidFill>
                <a:latin typeface="Verdana"/>
              </a:rPr>
              <a:t>Проводники в цепи можно соединять последовательно</a:t>
            </a:r>
            <a:r>
              <a:rPr b="0" i="1" lang="ru-RU" sz="3200" spc="-1" strike="noStrike">
                <a:solidFill>
                  <a:srgbClr val="279d3b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Элементы цепи соединяются один за други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3276720" cy="1314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24996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73170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8307720" y="16765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234000" y="3505320"/>
            <a:ext cx="756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c2cf4"/>
                </a:solidFill>
                <a:latin typeface="Arial"/>
              </a:rPr>
              <a:t>Проводники можно соединить параллель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1676520" y="411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762480" y="4267080"/>
            <a:ext cx="50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59e13"/>
                </a:solidFill>
                <a:latin typeface="Arial"/>
              </a:rPr>
              <a:t>Электрическая цепь при этом разветвляется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7130880" y="4267080"/>
            <a:ext cx="1708200" cy="2171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4"/>
          <p:cNvSpPr/>
          <p:nvPr/>
        </p:nvSpPr>
        <p:spPr>
          <a:xfrm>
            <a:off x="6631200" y="44197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6631200" y="502920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6631200" y="5791320"/>
            <a:ext cx="41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85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35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850"/>
                            </p:stCondLst>
                            <p:childTnLst>
                              <p:par>
                                <p:cTn id="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3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c2cf4"/>
                </a:solidFill>
                <a:latin typeface="Verdana"/>
              </a:rPr>
              <a:t>При последовательном соединении проводников:</a:t>
            </a:r>
            <a:endParaRPr b="0" lang="en-US" sz="1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 любой точке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неизменна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напряжений на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участках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о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умме сопротивлений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элементов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793920" y="1066680"/>
            <a:ext cx="10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67480" y="175248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6248520" y="495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567480" y="2362320"/>
            <a:ext cx="151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1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80880" y="4114800"/>
            <a:ext cx="3962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1.Сила тока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равна сумм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сил токов в каждой ветви цепи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2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Напряж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во всех ветвях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цепи одинаково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1" i="1" lang="ru-RU" sz="1400" spc="-1" strike="noStrike" u="sng">
                <a:solidFill>
                  <a:srgbClr val="006699"/>
                </a:solidFill>
                <a:uFillTx/>
                <a:latin typeface="Verdana"/>
              </a:rPr>
              <a:t>Сопротивление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определяется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1400" spc="-1" strike="noStrike">
                <a:solidFill>
                  <a:srgbClr val="006699"/>
                </a:solidFill>
                <a:latin typeface="Verdana"/>
              </a:rPr>
              <a:t>по формуле: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837440" y="3429000"/>
            <a:ext cx="50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79d3b"/>
                </a:solidFill>
                <a:latin typeface="Verdana"/>
              </a:rPr>
              <a:t>При параллельном соединении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6487560" y="41148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I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6337800" y="4419720"/>
            <a:ext cx="105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=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U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095880" y="4800600"/>
            <a:ext cx="165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/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1/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TextBox 13"/>
          <p:cNvSpPr/>
          <p:nvPr/>
        </p:nvSpPr>
        <p:spPr>
          <a:xfrm>
            <a:off x="5943600" y="51814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или             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R=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8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1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1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1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20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2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2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30400" y="102960"/>
            <a:ext cx="595296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Пример решения задачи: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Два последовательно соединённых проводника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сопротивлением 6 и 4 Ом включены в сеть с напряжением 20 В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1400" spc="-1" strike="noStrike">
                <a:solidFill>
                  <a:srgbClr val="006699"/>
                </a:solidFill>
                <a:latin typeface="Verdana"/>
              </a:rPr>
              <a:t>Определите общую силу тока в цепи, силу тока в каждом проводнике, а также напряжение на каждом из них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821520" y="2398680"/>
            <a:ext cx="166824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ан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6 Ом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4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20 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---------------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=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666880" y="2438280"/>
            <a:ext cx="480060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Из закона Ома определим силу тока в цепи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20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10 Ом=2А,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где сопротивлени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6 Ом + 4 Ом = 10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Сила тока в последовательно соединённых проводниках одинакова, поэтому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              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=2A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пряжение найдём из закона Ома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 А*6 Ом = 12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А*4 Ом = 8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твет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I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А ,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10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м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12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     ,  U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=8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9" name="Picture 10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180720" cy="25336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2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c515"/>
                </a:solidFill>
                <a:latin typeface="Verdana"/>
              </a:rPr>
              <a:t>Задача для самостоятельного решения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240" y="1750680"/>
            <a:ext cx="213372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Дано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0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15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Ом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U=12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---------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=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133720" y="838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04920" y="8380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Два проводника сопротивлением 10 и 15 Ом соединены параллельно и подключены к сети напряжением 12 В. Определите общее сопротивление проводников, общую силу тока. А также силу тока в каждом проводник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126600" y="182880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2590920" y="2209680"/>
            <a:ext cx="52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. Найдём общее сопротивление проводников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742840" y="2895480"/>
            <a:ext cx="58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=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*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/(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+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0 Ом*15 Ом/(10 Ом+15 Ом)=6 Ом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2666880" y="3276720"/>
            <a:ext cx="632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2. Определим общую силу тока в цепи, используя закон Ом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=U/R=1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/6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2743200" y="41148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3. Определим силу тока в каждом проводнике по  закону Ома, учитывая, что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0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 ;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U/R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12 В/ 15 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195000" y="563868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Ответ: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=6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Ом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1,2 А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, I</a:t>
            </a:r>
            <a:r>
              <a:rPr b="0" lang="en-US" sz="1000" spc="-1" strike="noStrike">
                <a:solidFill>
                  <a:srgbClr val="006699"/>
                </a:solidFill>
                <a:latin typeface="Arial"/>
              </a:rPr>
              <a:t>2 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=0,8 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161640" cy="22482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6699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0T08:23:0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