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4.gif" ContentType="image/gif"/>
  <Override PartName="/ppt/media/image1.png" ContentType="image/png"/>
  <Override PartName="/ppt/media/image9.jpeg" ContentType="image/jpeg"/>
  <Override PartName="/ppt/media/image3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2.png" ContentType="image/png"/>
  <Override PartName="/ppt/media/image10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638D-773A-410C-99E2-F935A4521F2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 и законы дина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4F72-154B-46FE-9D53-58707ED8787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ерциальные системы отсчет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3CA5-2285-4DA7-9B71-4945D2EF10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02B3-9A28-4279-BA0D-B39D609E2E8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6D4E-0F68-4F57-B43F-3E4A4D54E14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шайба, брошенная хоккеистом, двигаться равномерно по льд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B99E-7DF8-4697-8F7E-1494D46CF45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ли вам интересен материа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звало затруд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113A-7CAB-48A1-A8BF-783F752331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ы сОтносительность 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е объяснить падение ябл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2004-A304-4CAD-9251-E8FEA390A78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-4 веке до н.э. ученые пытались понять, что заставляет двигаться тела, при каких условиях тела находятся в покое. Древнегреческий ученый Аристотель утверждал : «…» Прав ли он?? Давайте посмотрим описание опыта с те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ристотель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384 - 322 г. до н. э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 ли он??ежкой в вашем учебнике. (обсуждаются результаты опыта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О ГАЛИЛ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64-164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ь заблуждался!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сли на тело не действуют другие тела, то оно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ся в по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ижется прямолинейно и равномер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Аристотелю, шарик, упавший 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Галилей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истотел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шарик, упавш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1563-C498-41D2-AD2D-DB94DB211A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аа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ьют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43-17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Calibri"/>
              </a:rPr>
              <a:t>«Тело сохраняет свою скорость, если на него не действуют другие тел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инерции (первый закон Ньютона, первый закон механики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0C02-E12F-441F-B355-B03B9FC7838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247-CE03-4B22-8DB1-040BD480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700-A3B7-40DB-A1B6-90234AFE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86F-8EA5-4473-91F3-28E4601F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D96-1089-4FD4-B7FF-4D18EB30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EAEE-C8F8-4D44-A0D0-28E5FA8E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4999-5072-4971-A1DF-D598929D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06D4-E1A5-466E-845C-6AAFAC4E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3A82-5765-4E47-AB42-9443BCEF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5299-8A53-4A45-A39F-F3E0841F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FCB0-2A68-40A0-BB43-3155CC77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9661-4068-4CA9-A438-3F2BE7DE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0FC-8A52-48A9-A156-F3570FB5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7E67-E589-4788-94A1-DF982DC1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6754-B609-4242-9723-D0D986E8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5639-089D-468A-AAB7-4FA61C63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BB1E-785D-49FC-9B90-2977D306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A4B2-2907-41CB-8B94-08FCFFBB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EF2B-D269-4DF1-89DD-EC5814DB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BFBD-9E05-47D8-B9A2-83002EB0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25232-AE83-45A9-8092-F993AA28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8731-71D3-4EC8-BE05-61B8C3C2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F48B9-5751-40E9-8866-527635F9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8CA-B9E6-4BC0-840F-309D812F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7964-B2FC-4340-BD57-9BD7EEF9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FFA0-038E-473B-A792-D2F4A5CB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8F9E-1387-413C-A4B9-5E9CF88A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92EB1-A5D8-44E3-9954-3AAC7A7E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0E502-5906-4B75-93C6-7F283857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14532-29BB-4EE8-9589-C0AE1C7C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3DCE-2205-4BC1-9CDE-3D93529D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660B-649D-4D0A-A7DD-E9F9F930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2F64-5B22-4A3C-9119-3E1C14AD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C7346-75DA-45C1-BAEA-A45F4D1B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178-0985-4E32-A177-49E3E28F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9723B-59DD-4320-B6E9-54632A55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D46E5-C3F0-43F8-BE00-15282D9C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B183-DED5-4A82-8C09-59CABBD9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9D34-8B19-40CD-824B-DA84FD75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C64EB-749F-4476-AD4E-5000164D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A4EBC-5EC7-4D13-A938-726E277D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ED1C7-A4C9-45B8-A8B5-778369E2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DF04A-5F19-4280-AD51-94ED35FD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2C513-C201-4F62-ABBF-9233F1DB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DA247-0E98-415E-B20E-48563E52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A8D-436F-45B0-BF97-D809E002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485AA-40F4-471E-90FA-973A0546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6AB21-9B07-4E87-9541-C0A5F335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05656-DFEA-4C6F-B9F9-DFC8877A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6F68F-DCD5-4EE8-8E5F-B2A1BCFA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E4474-D17B-49E9-83D8-03E0A25B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851E5-FDC1-4142-93E6-F82E8BEE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E658D-7CAD-4D05-9062-721A3EE8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D6DFD-7CEC-4509-81C7-9F59EBBB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93A80-01CB-47BE-BAE7-B4F7182A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19C1D-22CE-4370-92CB-2CDE1D78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D9D-596D-4C00-83E7-6995301A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CFC38-29E7-46DA-932A-27CC0838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7FD-D8E5-4E99-B481-F7131DAE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4D7-F145-4EF7-AF83-6187475E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1F2-E086-47FC-8CA9-47C2E234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C737-48EE-41FE-8FA1-81CCC6A69A1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25F4-5A57-48A7-8861-9153233D498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8FDE-766D-44BB-B429-E8093CBAC425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0029-5CA9-4EE6-BD53-A6D3B92DFAD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2ADA-D5C1-46A7-9180-4836ED0820FA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9B1E-C22B-42BF-AD88-C89B5AC55B4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8FEC-64DC-4059-B45F-7F872D73A4EA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3466-5080-4951-9DD3-2CAE97AA887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6861-BB22-49C4-9050-1E29151BEFF2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7204-FF96-4C49-AFCA-ABB80743789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сновные понятия и законы динами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929160" y="5286240"/>
            <a:ext cx="77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нерциальные системы отсчета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7" descr="j0301076"/>
          <p:cNvPicPr/>
          <p:nvPr/>
        </p:nvPicPr>
        <p:blipFill>
          <a:blip r:embed="rId1"/>
          <a:stretch/>
        </p:blipFill>
        <p:spPr>
          <a:xfrm>
            <a:off x="327672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993080" cy="29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Задача 1. 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3300120" cy="20937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8352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5435640" y="4483080"/>
            <a:ext cx="2587680" cy="181944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83520" cy="27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 3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ожет ли шайба, брошенная хоккеистом, двигаться равномерно по льду?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4" descr="j0285318"/>
          <p:cNvPicPr/>
          <p:nvPr/>
        </p:nvPicPr>
        <p:blipFill>
          <a:blip r:embed="rId1"/>
          <a:stretch/>
        </p:blipFill>
        <p:spPr>
          <a:xfrm>
            <a:off x="1403280" y="3860640"/>
            <a:ext cx="2160720" cy="1927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2521080" cy="1476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Рефлексия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183520" cy="201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ли вам интересен материа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ызвало затруднен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6" descr="j0299125"/>
          <p:cNvPicPr/>
          <p:nvPr/>
        </p:nvPicPr>
        <p:blipFill>
          <a:blip r:embed="rId1"/>
          <a:stretch/>
        </p:blipFill>
        <p:spPr>
          <a:xfrm>
            <a:off x="3747960" y="3789360"/>
            <a:ext cx="149220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176364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1762200" y="4795920"/>
            <a:ext cx="20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78000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1763640" y="573408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176364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305928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AG00327_"/>
          <p:cNvPicPr/>
          <p:nvPr/>
        </p:nvPicPr>
        <p:blipFill>
          <a:blip r:embed="rId1"/>
          <a:stretch/>
        </p:blipFill>
        <p:spPr>
          <a:xfrm>
            <a:off x="2050920" y="3933720"/>
            <a:ext cx="1150920" cy="863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носительность движ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0111E-006 L 0.11823 4.80111E-006 E">
                                      <p:cBhvr>
                                        <p:cTn id="1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4.80111E-006 L 0.11823 0.2937 E">
                                      <p:cBhvr>
                                        <p:cTn id="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-152280" y="404280"/>
            <a:ext cx="94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1700280"/>
          <a:ext cx="8351640" cy="4479840"/>
        </p:xfrm>
        <a:graphic>
          <a:graphicData uri="http://schemas.openxmlformats.org/drawingml/2006/table">
            <a:tbl>
              <a:tblPr/>
              <a:tblGrid>
                <a:gridCol w="2592360"/>
                <a:gridCol w="2735280"/>
                <a:gridCol w="3024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и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 теор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о чего рассматривается движение небесных тел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позволяет объяснить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43280" y="5300640"/>
            <a:ext cx="397224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384 - 322 г. до н. э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439272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в ли он?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3" descr="249518943_tonnel"/>
          <p:cNvPicPr/>
          <p:nvPr/>
        </p:nvPicPr>
        <p:blipFill>
          <a:blip r:embed="rId1"/>
          <a:stretch/>
        </p:blipFill>
        <p:spPr>
          <a:xfrm>
            <a:off x="4859280" y="333360"/>
            <a:ext cx="3683160" cy="48243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9280" y="5300640"/>
            <a:ext cx="4619880" cy="130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ЛИЛЕО ГАЛИЛ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564-164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galileo"/>
          <p:cNvPicPr/>
          <p:nvPr/>
        </p:nvPicPr>
        <p:blipFill>
          <a:blip r:embed="rId1"/>
          <a:stretch/>
        </p:blipFill>
        <p:spPr>
          <a:xfrm>
            <a:off x="468360" y="549360"/>
            <a:ext cx="3887640" cy="46083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4643280" y="338760"/>
            <a:ext cx="39657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а тело не действуют другие тела, то оно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аходится в поко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вижется прямолинейно и равномер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otnosit"/>
          <p:cNvPicPr/>
          <p:nvPr/>
        </p:nvPicPr>
        <p:blipFill>
          <a:blip r:embed="rId1"/>
          <a:stretch/>
        </p:blipFill>
        <p:spPr>
          <a:xfrm>
            <a:off x="358920" y="476280"/>
            <a:ext cx="8785080" cy="5400720"/>
          </a:xfrm>
          <a:prstGeom prst="rect">
            <a:avLst/>
          </a:prstGeom>
          <a:ln w="0">
            <a:noFill/>
          </a:ln>
        </p:spPr>
      </p:pic>
      <p:sp>
        <p:nvSpPr>
          <p:cNvPr id="253" name="Line 5"/>
          <p:cNvSpPr/>
          <p:nvPr/>
        </p:nvSpPr>
        <p:spPr>
          <a:xfrm>
            <a:off x="4572000" y="620640"/>
            <a:ext cx="0" cy="597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468360" y="5877000"/>
            <a:ext cx="381636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932360" y="5877000"/>
            <a:ext cx="367200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И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7956360" cy="563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гласн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ю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шарик, упавш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, опыт убеждает нас, что это не так, что шарик падает у основания мачты!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алиле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5003640" y="2637000"/>
            <a:ext cx="3673800" cy="352872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280" y="5373360"/>
            <a:ext cx="3754440" cy="93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аа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ьют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643-1727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000045-1"/>
          <p:cNvPicPr/>
          <p:nvPr/>
        </p:nvPicPr>
        <p:blipFill>
          <a:blip r:embed="rId1"/>
          <a:stretch/>
        </p:blipFill>
        <p:spPr>
          <a:xfrm>
            <a:off x="539640" y="765000"/>
            <a:ext cx="4267440" cy="4608720"/>
          </a:xfrm>
          <a:prstGeom prst="rect">
            <a:avLst/>
          </a:prstGeom>
          <a:ln w="9360">
            <a:solidFill>
              <a:srgbClr val="321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Text Box 5"/>
          <p:cNvSpPr/>
          <p:nvPr/>
        </p:nvSpPr>
        <p:spPr>
          <a:xfrm>
            <a:off x="5508720" y="3284640"/>
            <a:ext cx="30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ded1"/>
                </a:solidFill>
                <a:latin typeface="Arial"/>
              </a:rPr>
              <a:t>«Тело сохраняет свою скорость, если на него не действуют другие тела.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932360" y="476280"/>
            <a:ext cx="35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3640" y="530280"/>
            <a:ext cx="5327640" cy="556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кон инерции (первый закон Ньютона, первый закон механики)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718240" y="105264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7:01:33Z</dcterms:created>
  <dc:creator>Titanik</dc:creator>
  <dc:description/>
  <dc:language>en-US</dc:language>
  <cp:lastModifiedBy>LEGION</cp:lastModifiedBy>
  <dcterms:modified xsi:type="dcterms:W3CDTF">2015-03-30T08:23:55Z</dcterms:modified>
  <cp:revision>47</cp:revision>
  <dc:subject/>
  <dc:title>Слайд 1</dc:title>
</cp:coreProperties>
</file>