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2B3-8946-454C-9223-457D34A4FD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нтовая физ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Гаврилов-Ям МОУ СОШ №3. Медведев Максим. 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2D0B-FE05-4EA7-8C52-2FB2D22158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адрона, кв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ри попытке разорвать глюонные связи образуется новый мез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D31D-67F0-44EC-B54E-009CFE0FD1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Барашенков. «Вселенная в электро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ьшая энциклопедия Кирилла и Мефод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ант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Астроном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FA49-CB87-4255-AEF9-33C802F2B0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сновные свойства элементар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зотопы водо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законы микро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с механизм ядерных реакций на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свойства мез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ить строение ад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200-EC75-4283-B16E-F68605910F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войства элементарных части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 – отрицательно заряженная элементар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11 МэВ, со спином 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н – положительная частица с масс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8,3 МэВ(≈ 1 а.е), со спином 0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рон – античастица электрона. Заряд 1, масса как у электрона, спин -0,5 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йтрон – нейтральная элементарная частица, мас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≈ 939,6 МэВ, сп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0BD3-C3E3-439E-BC66-1B48933382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и его изот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одорода три изотопа – протий, дейтерий и три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7323-987B-48CB-B099-EED86149BF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йтерий и трит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или Т (читается «те»), ядро t — трит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диоактивности три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482B-F3F0-4368-B75C-43B33E78A4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микро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52A8-F8C8-4CEF-AA32-AEDD657D11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ерные реакции на Солн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, как и другие звёзды, светит благодаря термоядерным реа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220B-4831-4704-BD3A-005A67B664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дре протоны и нейтроны обмениваются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заряженном состоянии распадается на мю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E01A-F36A-406F-BF2D-847D15D926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и тяжёлый леп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83B6-1FEE-4406-9342-EA4658C23E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3FA-CDDB-4F7D-8DA5-95D14B3B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9DA-AF4A-40C5-8D3A-F52E6419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CF8-3469-4A4B-BB27-104D331A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597-6F25-47F5-8B68-FAA62F84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70C4-1FD5-4FED-B197-1ACDC813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43DD-CCDB-4832-BC8E-3421EAF7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D368-0224-4B19-9D68-A628E31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B996-B844-47BB-A988-D145D456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49E6-2C88-4241-80EA-7CA78669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8D92-95E5-4263-BC84-2D103859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AD88-7559-4A51-9E13-C231C43C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7D6-AD7F-4C88-A913-B1E62299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B7E-43D6-4C13-A3E4-68FA825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D1D4-E52E-4382-91DC-984C8A4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3B8E-D250-472F-9A67-95C56796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682F-6D6D-44BB-9F6F-10318422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D3F-37BE-4BBA-9E6F-45038C5E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CCA-6A53-417D-A1B9-BFA8026C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6DF-BEA8-4C9D-B8C8-5DBAC161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D8D-B329-4C98-ABA1-B4141E77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DC5-AC31-4EE6-A2F5-7021CA96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3545-2EEE-439A-AE6F-D1B467CD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ADD-A73E-498C-B435-50DEEE2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9FC-124F-446B-95FE-82053BE4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1A95-11B0-44A9-8DA0-7090593E93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351"/>
            </a:gs>
            <a:gs pos="100000">
              <a:srgbClr val="4f59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282e49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303657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14974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55e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2b314d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3f4873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3e62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9639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4f59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5294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92e48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4f598d"/>
                </a:gs>
                <a:gs pos="100000">
                  <a:srgbClr val="5f6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304d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2c3250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f4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2395a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0365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62b45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4b77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2395b"/>
                </a:gs>
                <a:gs pos="100000">
                  <a:srgbClr val="3f48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3351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94166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3e466f"/>
                </a:gs>
                <a:gs pos="100000">
                  <a:srgbClr val="4f59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4166"/>
                  </a:gs>
                  <a:gs pos="100000">
                    <a:srgbClr val="4f598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f598d"/>
                  </a:gs>
                  <a:gs pos="100000">
                    <a:srgbClr val="5f68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8889-0891-406F-97E5-C8712339B28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8.wmf"/><Relationship Id="rId17" Type="http://schemas.openxmlformats.org/officeDocument/2006/relationships/image" Target="../media/image9.wmf"/><Relationship Id="rId18" Type="http://schemas.openxmlformats.org/officeDocument/2006/relationships/image" Target="../media/image10.wmf"/><Relationship Id="rId19" Type="http://schemas.openxmlformats.org/officeDocument/2006/relationships/image" Target="../media/image11.wmf"/><Relationship Id="rId20" Type="http://schemas.openxmlformats.org/officeDocument/2006/relationships/image" Target="../media/image12.wmf"/><Relationship Id="rId21" Type="http://schemas.openxmlformats.org/officeDocument/2006/relationships/image" Target="../media/image13.wmf"/><Relationship Id="rId22" Type="http://schemas.openxmlformats.org/officeDocument/2006/relationships/image" Target="../media/image10.wmf"/><Relationship Id="rId23" Type="http://schemas.openxmlformats.org/officeDocument/2006/relationships/image" Target="../media/image14.wmf"/><Relationship Id="rId24" Type="http://schemas.openxmlformats.org/officeDocument/2006/relationships/image" Target="../media/image6.wmf"/><Relationship Id="rId25" Type="http://schemas.openxmlformats.org/officeDocument/2006/relationships/slideLayout" Target="../slideLayouts/slideLayout13.xml"/><Relationship Id="rId2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6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6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14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4.wmf"/><Relationship Id="rId10" Type="http://schemas.openxmlformats.org/officeDocument/2006/relationships/image" Target="../media/image11.wmf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8.wmf"/><Relationship Id="rId4" Type="http://schemas.openxmlformats.org/officeDocument/2006/relationships/image" Target="../media/image16.wmf"/><Relationship Id="rId5" Type="http://schemas.openxmlformats.org/officeDocument/2006/relationships/image" Target="../media/image12.wmf"/><Relationship Id="rId6" Type="http://schemas.openxmlformats.org/officeDocument/2006/relationships/image" Target="../media/image1.png"/><Relationship Id="rId7" Type="http://schemas.openxmlformats.org/officeDocument/2006/relationships/image" Target="../media/image10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вантовая физ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19280" y="6424560"/>
            <a:ext cx="7524720" cy="4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. Гаврилов-Ям МОУ СОШ №3. Медведев Максим. 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8" descr="proton"/>
          <p:cNvPicPr/>
          <p:nvPr/>
        </p:nvPicPr>
        <p:blipFill>
          <a:blip r:embed="rId1"/>
          <a:stretch/>
        </p:blipFill>
        <p:spPr>
          <a:xfrm>
            <a:off x="826920" y="148428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neitron"/>
          <p:cNvPicPr/>
          <p:nvPr/>
        </p:nvPicPr>
        <p:blipFill>
          <a:blip r:embed="rId2"/>
          <a:stretch/>
        </p:blipFill>
        <p:spPr>
          <a:xfrm>
            <a:off x="826920" y="1773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elektron"/>
          <p:cNvPicPr/>
          <p:nvPr/>
        </p:nvPicPr>
        <p:blipFill>
          <a:blip r:embed="rId3"/>
          <a:stretch/>
        </p:blipFill>
        <p:spPr>
          <a:xfrm>
            <a:off x="900000" y="220500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foton"/>
          <p:cNvPicPr/>
          <p:nvPr/>
        </p:nvPicPr>
        <p:blipFill>
          <a:blip r:embed="rId4"/>
          <a:stretch/>
        </p:blipFill>
        <p:spPr>
          <a:xfrm>
            <a:off x="847800" y="292428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258920" y="1341360"/>
            <a:ext cx="29732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лек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зит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отон(кван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ейтрин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ли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з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ю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5568840" y="2697120"/>
            <a:ext cx="469800" cy="480960"/>
            <a:chOff x="5568840" y="2697120"/>
            <a:chExt cx="469800" cy="480960"/>
          </a:xfrm>
        </p:grpSpPr>
        <p:pic>
          <p:nvPicPr>
            <p:cNvPr id="177" name="Picture 21" descr="neitron"/>
            <p:cNvPicPr/>
            <p:nvPr/>
          </p:nvPicPr>
          <p:blipFill>
            <a:blip r:embed="rId5"/>
            <a:stretch/>
          </p:blipFill>
          <p:spPr>
            <a:xfrm>
              <a:off x="5773680" y="2697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2" descr="proton"/>
            <p:cNvPicPr/>
            <p:nvPr/>
          </p:nvPicPr>
          <p:blipFill>
            <a:blip r:embed="rId6"/>
            <a:stretch/>
          </p:blipFill>
          <p:spPr>
            <a:xfrm>
              <a:off x="5762520" y="29034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3" descr="neitron"/>
            <p:cNvPicPr/>
            <p:nvPr/>
          </p:nvPicPr>
          <p:blipFill>
            <a:blip r:embed="rId7"/>
            <a:stretch/>
          </p:blipFill>
          <p:spPr>
            <a:xfrm>
              <a:off x="5568840" y="291312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4" descr="proton"/>
            <p:cNvPicPr/>
            <p:nvPr/>
          </p:nvPicPr>
          <p:blipFill>
            <a:blip r:embed="rId8"/>
            <a:stretch/>
          </p:blipFill>
          <p:spPr>
            <a:xfrm>
              <a:off x="5570280" y="2701800"/>
              <a:ext cx="26532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Oval 26"/>
          <p:cNvSpPr/>
          <p:nvPr/>
        </p:nvSpPr>
        <p:spPr>
          <a:xfrm>
            <a:off x="529272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5" descr="elektron"/>
          <p:cNvPicPr/>
          <p:nvPr/>
        </p:nvPicPr>
        <p:blipFill>
          <a:blip r:embed="rId9"/>
          <a:stretch/>
        </p:blipFill>
        <p:spPr>
          <a:xfrm>
            <a:off x="5281560" y="270828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7" descr="elektron"/>
          <p:cNvPicPr/>
          <p:nvPr/>
        </p:nvPicPr>
        <p:blipFill>
          <a:blip r:embed="rId10"/>
          <a:stretch/>
        </p:blipFill>
        <p:spPr>
          <a:xfrm>
            <a:off x="6227640" y="3068640"/>
            <a:ext cx="85680" cy="8568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33"/>
          <p:cNvGrpSpPr/>
          <p:nvPr/>
        </p:nvGrpSpPr>
        <p:grpSpPr>
          <a:xfrm>
            <a:off x="7656480" y="3603600"/>
            <a:ext cx="625320" cy="419040"/>
            <a:chOff x="7656480" y="3603600"/>
            <a:chExt cx="625320" cy="419040"/>
          </a:xfrm>
        </p:grpSpPr>
        <p:pic>
          <p:nvPicPr>
            <p:cNvPr id="185" name="Picture 31" descr="neitron"/>
            <p:cNvPicPr/>
            <p:nvPr/>
          </p:nvPicPr>
          <p:blipFill>
            <a:blip r:embed="rId11"/>
            <a:stretch/>
          </p:blipFill>
          <p:spPr>
            <a:xfrm>
              <a:off x="7656480" y="361296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30" descr="proton"/>
            <p:cNvPicPr/>
            <p:nvPr/>
          </p:nvPicPr>
          <p:blipFill>
            <a:blip r:embed="rId12"/>
            <a:stretch/>
          </p:blipFill>
          <p:spPr>
            <a:xfrm>
              <a:off x="7850160" y="360360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32" descr="proton"/>
            <p:cNvPicPr/>
            <p:nvPr/>
          </p:nvPicPr>
          <p:blipFill>
            <a:blip r:embed="rId13"/>
            <a:stretch/>
          </p:blipFill>
          <p:spPr>
            <a:xfrm>
              <a:off x="8016840" y="3757320"/>
              <a:ext cx="264960" cy="2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Oval 34"/>
          <p:cNvSpPr/>
          <p:nvPr/>
        </p:nvSpPr>
        <p:spPr>
          <a:xfrm>
            <a:off x="7451640" y="328464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5" descr="elektron"/>
          <p:cNvPicPr/>
          <p:nvPr/>
        </p:nvPicPr>
        <p:blipFill>
          <a:blip r:embed="rId14"/>
          <a:stretch/>
        </p:blipFill>
        <p:spPr>
          <a:xfrm>
            <a:off x="7440480" y="35719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8" descr="elektron"/>
          <p:cNvPicPr/>
          <p:nvPr/>
        </p:nvPicPr>
        <p:blipFill>
          <a:blip r:embed="rId15"/>
          <a:stretch/>
        </p:blipFill>
        <p:spPr>
          <a:xfrm>
            <a:off x="8101080" y="4221000"/>
            <a:ext cx="85680" cy="86040"/>
          </a:xfrm>
          <a:prstGeom prst="rect">
            <a:avLst/>
          </a:prstGeom>
          <a:ln w="0">
            <a:noFill/>
          </a:ln>
        </p:spPr>
      </p:pic>
      <p:sp>
        <p:nvSpPr>
          <p:cNvPr id="191" name="Oval 151"/>
          <p:cNvSpPr/>
          <p:nvPr/>
        </p:nvSpPr>
        <p:spPr>
          <a:xfrm>
            <a:off x="992160" y="321300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156" descr="Mezon-"/>
          <p:cNvPicPr/>
          <p:nvPr/>
        </p:nvPicPr>
        <p:blipFill>
          <a:blip r:embed="rId16"/>
          <a:stretch/>
        </p:blipFill>
        <p:spPr>
          <a:xfrm>
            <a:off x="396720" y="34383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8" descr="Mezon+"/>
          <p:cNvPicPr/>
          <p:nvPr/>
        </p:nvPicPr>
        <p:blipFill>
          <a:blip r:embed="rId17"/>
          <a:stretch/>
        </p:blipFill>
        <p:spPr>
          <a:xfrm>
            <a:off x="700200" y="342900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9" descr="Mezon0"/>
          <p:cNvPicPr/>
          <p:nvPr/>
        </p:nvPicPr>
        <p:blipFill>
          <a:blip r:embed="rId18"/>
          <a:stretch/>
        </p:blipFill>
        <p:spPr>
          <a:xfrm>
            <a:off x="996840" y="342900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60"/>
          <p:cNvSpPr/>
          <p:nvPr/>
        </p:nvSpPr>
        <p:spPr>
          <a:xfrm>
            <a:off x="307800" y="36450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1"/>
          <p:cNvSpPr/>
          <p:nvPr/>
        </p:nvSpPr>
        <p:spPr>
          <a:xfrm>
            <a:off x="0" y="342900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8"/>
          <p:cNvSpPr/>
          <p:nvPr/>
        </p:nvSpPr>
        <p:spPr>
          <a:xfrm>
            <a:off x="611280" y="4149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   +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69"/>
          <p:cNvSpPr/>
          <p:nvPr/>
        </p:nvSpPr>
        <p:spPr>
          <a:xfrm>
            <a:off x="0" y="4076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1" descr="pozitron"/>
          <p:cNvPicPr/>
          <p:nvPr/>
        </p:nvPicPr>
        <p:blipFill>
          <a:blip r:embed="rId19"/>
          <a:stretch/>
        </p:blipFill>
        <p:spPr>
          <a:xfrm>
            <a:off x="900000" y="256536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3" descr="Muon-"/>
          <p:cNvPicPr/>
          <p:nvPr/>
        </p:nvPicPr>
        <p:blipFill>
          <a:blip r:embed="rId20"/>
          <a:stretch/>
        </p:blipFill>
        <p:spPr>
          <a:xfrm>
            <a:off x="684360" y="407664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4" descr="Muon+"/>
          <p:cNvPicPr/>
          <p:nvPr/>
        </p:nvPicPr>
        <p:blipFill>
          <a:blip r:embed="rId21"/>
          <a:stretch/>
        </p:blipFill>
        <p:spPr>
          <a:xfrm>
            <a:off x="1042920" y="4076640"/>
            <a:ext cx="204840" cy="204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5" descr="Mezon0"/>
          <p:cNvPicPr/>
          <p:nvPr/>
        </p:nvPicPr>
        <p:blipFill>
          <a:blip r:embed="rId22"/>
          <a:stretch/>
        </p:blipFill>
        <p:spPr>
          <a:xfrm>
            <a:off x="8101080" y="1989000"/>
            <a:ext cx="264960" cy="26532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77"/>
          <p:cNvGrpSpPr/>
          <p:nvPr/>
        </p:nvGrpSpPr>
        <p:grpSpPr>
          <a:xfrm>
            <a:off x="5435640" y="2133720"/>
            <a:ext cx="178920" cy="91800"/>
            <a:chOff x="5435640" y="2133720"/>
            <a:chExt cx="178920" cy="91800"/>
          </a:xfrm>
        </p:grpSpPr>
        <p:pic>
          <p:nvPicPr>
            <p:cNvPr id="204" name="Picture 178" descr="elektron_sl2"/>
            <p:cNvPicPr/>
            <p:nvPr/>
          </p:nvPicPr>
          <p:blipFill>
            <a:blip r:embed="rId23"/>
            <a:stretch/>
          </p:blipFill>
          <p:spPr>
            <a:xfrm>
              <a:off x="5435640" y="2133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79" descr="elektron"/>
            <p:cNvPicPr/>
            <p:nvPr/>
          </p:nvPicPr>
          <p:blipFill>
            <a:blip r:embed="rId24"/>
            <a:stretch/>
          </p:blipFill>
          <p:spPr>
            <a:xfrm>
              <a:off x="5528880" y="2133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троение адрона, квар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452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ставлении таблицы элементарных частиц в основе всех семейств предположили существование семейства кварков – частиц с зарядом меньше, чем у электрона (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⅓, +⅔, +⅔). Нуклоны состоят из трёх кварков, мезоны – из кварка и антиквар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чему кварки существуют только в виде адронов и не существуют в свободном состоянии? Электронным зондирующим пучком установили, что кварки обмениваются глюонами. Сила взаимодействия с расстоянием увеличивается, так как глюон начинает порождать другие глю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 попытке разорвать глюонные связи образуется новый мезон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11" descr="Mezon0"/>
          <p:cNvPicPr/>
          <p:nvPr/>
        </p:nvPicPr>
        <p:blipFill>
          <a:blip r:embed="rId4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16"/>
          <p:cNvGrpSpPr/>
          <p:nvPr/>
        </p:nvGrpSpPr>
        <p:grpSpPr>
          <a:xfrm>
            <a:off x="7812000" y="6441840"/>
            <a:ext cx="169560" cy="97200"/>
            <a:chOff x="7812000" y="6441840"/>
            <a:chExt cx="169560" cy="97200"/>
          </a:xfrm>
        </p:grpSpPr>
        <p:pic>
          <p:nvPicPr>
            <p:cNvPr id="360" name="Picture 14" descr="elektron_sl2"/>
            <p:cNvPicPr/>
            <p:nvPr/>
          </p:nvPicPr>
          <p:blipFill>
            <a:blip r:embed="rId5"/>
            <a:stretch/>
          </p:blipFill>
          <p:spPr>
            <a:xfrm rot="10800000">
              <a:off x="7854480" y="6441840"/>
              <a:ext cx="12708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15" descr="elektron"/>
            <p:cNvPicPr/>
            <p:nvPr/>
          </p:nvPicPr>
          <p:blipFill>
            <a:blip r:embed="rId6"/>
            <a:stretch/>
          </p:blipFill>
          <p:spPr>
            <a:xfrm>
              <a:off x="7812000" y="645336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2" name="Picture 17" descr="Mezon0"/>
          <p:cNvPicPr/>
          <p:nvPr/>
        </p:nvPicPr>
        <p:blipFill>
          <a:blip r:embed="rId7"/>
          <a:stretch/>
        </p:blipFill>
        <p:spPr>
          <a:xfrm>
            <a:off x="3635280" y="630864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8"/>
          <p:cNvSpPr/>
          <p:nvPr/>
        </p:nvSpPr>
        <p:spPr>
          <a:xfrm>
            <a:off x="845964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9"/>
          <p:cNvSpPr/>
          <p:nvPr/>
        </p:nvSpPr>
        <p:spPr>
          <a:xfrm flipH="1">
            <a:off x="795492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4356000" y="630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3851280" y="652464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1979640" y="6165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5"/>
          <p:cNvSpPr/>
          <p:nvPr/>
        </p:nvSpPr>
        <p:spPr>
          <a:xfrm flipV="1">
            <a:off x="2340000" y="6237000"/>
            <a:ext cx="503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Line 26"/>
          <p:cNvSpPr/>
          <p:nvPr/>
        </p:nvSpPr>
        <p:spPr>
          <a:xfrm>
            <a:off x="2340000" y="638172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97872E-007 L -0.45017 -0.00532 E">
                                      <p:cBhvr>
                                        <p:cTn id="709" dur="7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017 -0.00532 L -0.67066 0.07865 E">
                                      <p:cBhvr>
                                        <p:cTn id="712" dur="13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5.66736E-007 L -0.09445 -0.04187 E">
                                      <p:cBhvr>
                                        <p:cTn id="716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7.77238E-007 L -0.11024 0.02105 E">
                                      <p:cBhvr>
                                        <p:cTn id="718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формационные ресурс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С. Барашенков. «Вселенная в электрон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Большая энциклопедия Кирилла и Мефод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анта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«Астроном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основные свойства элементарных части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изотопы водо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законы микроми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мотреть с механизм ядерных реакций на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 свойства мез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cc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строение адро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1835280" y="189000"/>
            <a:ext cx="56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аши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элементарных частиц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Электрон – отрицательно заряженная элементар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11 МэВ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ротон – положительная частица с массой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8,3 МэВ(≈ 1 а.е), со спином 0,5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Позитрон – античастица электрона. Заряд 1, масса как у электрона, спин -0,5 ћ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8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Нейтрон – нейтральная элементарная частица, масса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≈ 939,6 МэВ, спин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0,5. В свободном состоянии нейтрон нестабилен и имеет время жизни около 16 мин. Вместе с протонами нейтрон образуют атомные ядра; в ядрах нейтрон стабилен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proton"/>
          <p:cNvPicPr/>
          <p:nvPr/>
        </p:nvPicPr>
        <p:blipFill>
          <a:blip r:embed="rId1"/>
          <a:stretch/>
        </p:blipFill>
        <p:spPr>
          <a:xfrm>
            <a:off x="1476360" y="27082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одород и его изотоп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водорода три изотопа – протий, дейтерий и три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elektron"/>
          <p:cNvPicPr/>
          <p:nvPr/>
        </p:nvPicPr>
        <p:blipFill>
          <a:blip r:embed="rId3"/>
          <a:stretch/>
        </p:blipFill>
        <p:spPr>
          <a:xfrm>
            <a:off x="1065240" y="28526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17" name="Oval 9"/>
          <p:cNvSpPr/>
          <p:nvPr/>
        </p:nvSpPr>
        <p:spPr>
          <a:xfrm>
            <a:off x="1116000" y="234792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3" descr="proton"/>
          <p:cNvPicPr/>
          <p:nvPr/>
        </p:nvPicPr>
        <p:blipFill>
          <a:blip r:embed="rId4"/>
          <a:stretch/>
        </p:blipFill>
        <p:spPr>
          <a:xfrm>
            <a:off x="3348000" y="278136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lektron"/>
          <p:cNvPicPr/>
          <p:nvPr/>
        </p:nvPicPr>
        <p:blipFill>
          <a:blip r:embed="rId5"/>
          <a:stretch/>
        </p:blipFill>
        <p:spPr>
          <a:xfrm>
            <a:off x="3008160" y="2925720"/>
            <a:ext cx="86040" cy="85680"/>
          </a:xfrm>
          <a:prstGeom prst="rect">
            <a:avLst/>
          </a:prstGeom>
          <a:ln w="0">
            <a:noFill/>
          </a:ln>
        </p:spPr>
      </p:pic>
      <p:sp>
        <p:nvSpPr>
          <p:cNvPr id="220" name="Oval 15"/>
          <p:cNvSpPr/>
          <p:nvPr/>
        </p:nvSpPr>
        <p:spPr>
          <a:xfrm>
            <a:off x="3059280" y="242100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6" descr="neitron"/>
          <p:cNvPicPr/>
          <p:nvPr/>
        </p:nvPicPr>
        <p:blipFill>
          <a:blip r:embed="rId6"/>
          <a:stretch/>
        </p:blipFill>
        <p:spPr>
          <a:xfrm>
            <a:off x="3564000" y="2781360"/>
            <a:ext cx="264960" cy="26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proton"/>
          <p:cNvPicPr/>
          <p:nvPr/>
        </p:nvPicPr>
        <p:blipFill>
          <a:blip r:embed="rId7"/>
          <a:stretch/>
        </p:blipFill>
        <p:spPr>
          <a:xfrm>
            <a:off x="5291280" y="27795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2" descr="elektron"/>
          <p:cNvPicPr/>
          <p:nvPr/>
        </p:nvPicPr>
        <p:blipFill>
          <a:blip r:embed="rId8"/>
          <a:stretch/>
        </p:blipFill>
        <p:spPr>
          <a:xfrm>
            <a:off x="4951440" y="294480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224" name="Oval 23"/>
          <p:cNvSpPr/>
          <p:nvPr/>
        </p:nvSpPr>
        <p:spPr>
          <a:xfrm>
            <a:off x="5002200" y="2440080"/>
            <a:ext cx="1008000" cy="1008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4" descr="neitron"/>
          <p:cNvPicPr/>
          <p:nvPr/>
        </p:nvPicPr>
        <p:blipFill>
          <a:blip r:embed="rId9"/>
          <a:stretch/>
        </p:blipFill>
        <p:spPr>
          <a:xfrm>
            <a:off x="5506920" y="2779560"/>
            <a:ext cx="265320" cy="265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neitron"/>
          <p:cNvPicPr/>
          <p:nvPr/>
        </p:nvPicPr>
        <p:blipFill>
          <a:blip r:embed="rId10"/>
          <a:stretch/>
        </p:blipFill>
        <p:spPr>
          <a:xfrm>
            <a:off x="5364000" y="2924280"/>
            <a:ext cx="265320" cy="2649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26"/>
          <p:cNvSpPr/>
          <p:nvPr/>
        </p:nvSpPr>
        <p:spPr>
          <a:xfrm>
            <a:off x="133380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30"/>
          <p:cNvSpPr/>
          <p:nvPr/>
        </p:nvSpPr>
        <p:spPr>
          <a:xfrm>
            <a:off x="327852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1"/>
          <p:cNvSpPr/>
          <p:nvPr/>
        </p:nvSpPr>
        <p:spPr>
          <a:xfrm>
            <a:off x="529416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3"/>
          <p:cNvSpPr/>
          <p:nvPr/>
        </p:nvSpPr>
        <p:spPr>
          <a:xfrm flipV="1">
            <a:off x="154764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34"/>
          <p:cNvSpPr/>
          <p:nvPr/>
        </p:nvSpPr>
        <p:spPr>
          <a:xfrm flipV="1">
            <a:off x="3492360" y="2997360"/>
            <a:ext cx="71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35"/>
          <p:cNvSpPr/>
          <p:nvPr/>
        </p:nvSpPr>
        <p:spPr>
          <a:xfrm flipV="1">
            <a:off x="5508720" y="306864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539640" y="4005360"/>
            <a:ext cx="81583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1 называют легким водородом, или протием, обозначают символом Н, а его ядро называют протоном, символ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33 C 0.00677 0.04584 0.03524 0.07269 0.06493 0.06597 C 0.09531 0.05926 0.11493 0.02107 0.1099 -0.01921 C 0.10504 -0.05879 0.07691 -0.08541 0.0467 -0.0787 C 0.01649 -0.07176 -0.00347 -0.03449 0.00156 0.00533 Z">
                                      <p:cBhvr>
                                        <p:cTn id="83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0509 C 0.00677 0.04607 0.03524 0.07245 0.06493 0.06574 C 0.09531 0.05903 0.11458 0.02083 0.1099 -0.01944 C 0.10504 -0.05903 0.07691 -0.08565 0.0467 -0.07893 C 0.01649 -0.07199 -0.00347 -0.03472 0.00156 0.00509 Z">
                                      <p:cBhvr>
                                        <p:cTn id="10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463 C 0.00729 0.0456 0.03576 0.07199 0.06545 0.06528 C 0.09583 0.05856 0.11493 0.02037 0.11042 -0.01991 C 0.10556 -0.05949 0.07743 -0.08611 0.04722 -0.0794 C 0.01701 -0.07246 -0.00295 -0.03519 0.00208 0.00463 Z">
                                      <p:cBhvr>
                                        <p:cTn id="12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1" descr="proton"/>
          <p:cNvPicPr/>
          <p:nvPr/>
        </p:nvPicPr>
        <p:blipFill>
          <a:blip r:embed="rId1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йтерий и три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3026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ород с массовым числом 2 называют тяжелым водородом, дейтерием. Для его обозначения используют символы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, или D (читается «де»), ядро d — дейтрон. Радиоактивный изотоп с массовым числом 3 называют сверхтяжелым водородом, или тритием, символ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 или Т (читается «те»), ядро t — три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хема радиоактивности три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proton"/>
          <p:cNvPicPr/>
          <p:nvPr/>
        </p:nvPicPr>
        <p:blipFill>
          <a:blip r:embed="rId4"/>
          <a:stretch/>
        </p:blipFill>
        <p:spPr>
          <a:xfrm>
            <a:off x="1401840" y="577044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neitron"/>
          <p:cNvPicPr/>
          <p:nvPr/>
        </p:nvPicPr>
        <p:blipFill>
          <a:blip r:embed="rId5"/>
          <a:stretch/>
        </p:blipFill>
        <p:spPr>
          <a:xfrm>
            <a:off x="1619280" y="5805360"/>
            <a:ext cx="264960" cy="265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neitron"/>
          <p:cNvPicPr/>
          <p:nvPr/>
        </p:nvPicPr>
        <p:blipFill>
          <a:blip r:embed="rId6"/>
          <a:stretch/>
        </p:blipFill>
        <p:spPr>
          <a:xfrm>
            <a:off x="1476360" y="595008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404720" y="6491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 flipV="1">
            <a:off x="1619280" y="6059520"/>
            <a:ext cx="71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29"/>
          <p:cNvGrpSpPr/>
          <p:nvPr/>
        </p:nvGrpSpPr>
        <p:grpSpPr>
          <a:xfrm>
            <a:off x="1763640" y="5877000"/>
            <a:ext cx="179640" cy="92160"/>
            <a:chOff x="1763640" y="5877000"/>
            <a:chExt cx="179640" cy="92160"/>
          </a:xfrm>
        </p:grpSpPr>
        <p:pic>
          <p:nvPicPr>
            <p:cNvPr id="244" name="Picture 28" descr="elektron_sl2"/>
            <p:cNvPicPr/>
            <p:nvPr/>
          </p:nvPicPr>
          <p:blipFill>
            <a:blip r:embed="rId7"/>
            <a:stretch/>
          </p:blipFill>
          <p:spPr>
            <a:xfrm>
              <a:off x="1763640" y="5877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elektron"/>
            <p:cNvPicPr/>
            <p:nvPr/>
          </p:nvPicPr>
          <p:blipFill>
            <a:blip r:embed="rId8"/>
            <a:stretch/>
          </p:blipFill>
          <p:spPr>
            <a:xfrm>
              <a:off x="1857240" y="5877000"/>
              <a:ext cx="8604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Oval 14"/>
          <p:cNvSpPr/>
          <p:nvPr/>
        </p:nvSpPr>
        <p:spPr>
          <a:xfrm>
            <a:off x="1908000" y="5950080"/>
            <a:ext cx="1764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1619280" y="6165720"/>
            <a:ext cx="792000" cy="358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68360" y="64911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7"/>
          <p:cNvSpPr/>
          <p:nvPr/>
        </p:nvSpPr>
        <p:spPr>
          <a:xfrm flipV="1">
            <a:off x="5219640" y="5589360"/>
            <a:ext cx="1440000" cy="215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588000" y="5445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H="1">
            <a:off x="5724000" y="5950080"/>
            <a:ext cx="1584360" cy="503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5508720" y="623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>
            <a:off x="1908000" y="5950080"/>
            <a:ext cx="792360" cy="3585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627280" y="6165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27"/>
          <p:cNvSpPr/>
          <p:nvPr/>
        </p:nvSpPr>
        <p:spPr>
          <a:xfrm>
            <a:off x="5591160" y="63514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2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11022E-016 L 0.60538 -0.00116 E">
                                      <p:cBhvr>
                                        <p:cTn id="18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18519E-006 L 0.36215 -0.02107 E">
                                      <p:cBhvr>
                                        <p:cTn id="193" dur="7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ы микро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Как известно, нейтрон в свободном состоянии распадается на протон, электрон и антинейтрино. А почему рождается пара лептонов? Разве ту энергию, что несёт антинейтрино, не может унести электрон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се реакции должны проходить по законам сохранения. В эти законы входят: закон сохранения энергии, электрического, лептонного, барионного заряда, и т.д…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Group 52"/>
          <p:cNvGrpSpPr/>
          <p:nvPr/>
        </p:nvGrpSpPr>
        <p:grpSpPr>
          <a:xfrm>
            <a:off x="2259000" y="5157720"/>
            <a:ext cx="5265720" cy="1611360"/>
            <a:chOff x="2259000" y="5157720"/>
            <a:chExt cx="5265720" cy="1611360"/>
          </a:xfrm>
        </p:grpSpPr>
        <p:sp>
          <p:nvSpPr>
            <p:cNvPr id="260" name="Text Box 48"/>
            <p:cNvSpPr/>
            <p:nvPr/>
          </p:nvSpPr>
          <p:spPr>
            <a:xfrm>
              <a:off x="4572000" y="580536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ктрически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1" name="Picture 4" descr="neitron"/>
            <p:cNvPicPr/>
            <p:nvPr/>
          </p:nvPicPr>
          <p:blipFill>
            <a:blip r:embed="rId3"/>
            <a:stretch/>
          </p:blipFill>
          <p:spPr>
            <a:xfrm>
              <a:off x="2341440" y="530064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Line 5"/>
            <p:cNvSpPr/>
            <p:nvPr/>
          </p:nvSpPr>
          <p:spPr>
            <a:xfrm>
              <a:off x="2700360" y="5445000"/>
              <a:ext cx="216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3" name="Picture 6" descr="proton"/>
            <p:cNvPicPr/>
            <p:nvPr/>
          </p:nvPicPr>
          <p:blipFill>
            <a:blip r:embed="rId4"/>
            <a:stretch/>
          </p:blipFill>
          <p:spPr>
            <a:xfrm>
              <a:off x="2989440" y="5300640"/>
              <a:ext cx="264960" cy="2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7"/>
            <p:cNvSpPr/>
            <p:nvPr/>
          </p:nvSpPr>
          <p:spPr>
            <a:xfrm>
              <a:off x="3277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Picture 8" descr="elektron"/>
            <p:cNvPicPr/>
            <p:nvPr/>
          </p:nvPicPr>
          <p:blipFill>
            <a:blip r:embed="rId5"/>
            <a:stretch/>
          </p:blipFill>
          <p:spPr>
            <a:xfrm>
              <a:off x="3565440" y="5373720"/>
              <a:ext cx="85680" cy="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9"/>
            <p:cNvSpPr/>
            <p:nvPr/>
          </p:nvSpPr>
          <p:spPr>
            <a:xfrm>
              <a:off x="363816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Oval 10"/>
            <p:cNvSpPr/>
            <p:nvPr/>
          </p:nvSpPr>
          <p:spPr>
            <a:xfrm>
              <a:off x="3925800" y="5394240"/>
              <a:ext cx="17640" cy="1764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2268360" y="5589720"/>
              <a:ext cx="187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→   p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 e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-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3"/>
            <p:cNvSpPr/>
            <p:nvPr/>
          </p:nvSpPr>
          <p:spPr>
            <a:xfrm>
              <a:off x="3852720" y="558972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4"/>
            <p:cNvSpPr/>
            <p:nvPr/>
          </p:nvSpPr>
          <p:spPr>
            <a:xfrm>
              <a:off x="3935520" y="5703840"/>
              <a:ext cx="14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2259000" y="586440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    =   1  +(-1)+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16"/>
            <p:cNvSpPr/>
            <p:nvPr/>
          </p:nvSpPr>
          <p:spPr>
            <a:xfrm>
              <a:off x="2259000" y="6153120"/>
              <a:ext cx="23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1/2+(-1/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32"/>
            <p:cNvSpPr/>
            <p:nvPr/>
          </p:nvSpPr>
          <p:spPr>
            <a:xfrm>
              <a:off x="4573440" y="515772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еак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4573440" y="5516640"/>
              <a:ext cx="8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запис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2268360" y="64008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=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0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+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49"/>
            <p:cNvSpPr/>
            <p:nvPr/>
          </p:nvSpPr>
          <p:spPr>
            <a:xfrm>
              <a:off x="4572000" y="60930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лепт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50"/>
            <p:cNvSpPr/>
            <p:nvPr/>
          </p:nvSpPr>
          <p:spPr>
            <a:xfrm>
              <a:off x="4572000" y="638172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арионный заря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Ядерные реакции на Солн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лнце, как и другие звёзды, светит благодаря термоядерным реакц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proton"/>
          <p:cNvPicPr/>
          <p:nvPr/>
        </p:nvPicPr>
        <p:blipFill>
          <a:blip r:embed="rId2"/>
          <a:stretch/>
        </p:blipFill>
        <p:spPr>
          <a:xfrm>
            <a:off x="539640" y="2421000"/>
            <a:ext cx="265320" cy="26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proton"/>
          <p:cNvPicPr/>
          <p:nvPr/>
        </p:nvPicPr>
        <p:blipFill>
          <a:blip r:embed="rId3"/>
          <a:stretch/>
        </p:blipFill>
        <p:spPr>
          <a:xfrm>
            <a:off x="7596360" y="242100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1189440" y="249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H="1">
            <a:off x="755640" y="263700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8461800" y="242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10"/>
          <p:cNvSpPr/>
          <p:nvPr/>
        </p:nvSpPr>
        <p:spPr>
          <a:xfrm flipH="1" flipV="1">
            <a:off x="7885080" y="2565000"/>
            <a:ext cx="57456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neitron"/>
          <p:cNvPicPr/>
          <p:nvPr/>
        </p:nvPicPr>
        <p:blipFill>
          <a:blip r:embed="rId4"/>
          <a:stretch/>
        </p:blipFill>
        <p:spPr>
          <a:xfrm>
            <a:off x="4284720" y="2492280"/>
            <a:ext cx="264960" cy="2653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2"/>
          <p:cNvSpPr/>
          <p:nvPr/>
        </p:nvSpPr>
        <p:spPr>
          <a:xfrm>
            <a:off x="551052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076720" y="299736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14" descr="proton"/>
          <p:cNvPicPr/>
          <p:nvPr/>
        </p:nvPicPr>
        <p:blipFill>
          <a:blip r:embed="rId5"/>
          <a:stretch/>
        </p:blipFill>
        <p:spPr>
          <a:xfrm>
            <a:off x="539640" y="7029360"/>
            <a:ext cx="265320" cy="2653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5"/>
          <p:cNvSpPr/>
          <p:nvPr/>
        </p:nvSpPr>
        <p:spPr>
          <a:xfrm>
            <a:off x="3858840" y="2852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826920" y="7029360"/>
            <a:ext cx="480960" cy="480960"/>
            <a:chOff x="826920" y="7029360"/>
            <a:chExt cx="480960" cy="480960"/>
          </a:xfrm>
        </p:grpSpPr>
        <p:pic>
          <p:nvPicPr>
            <p:cNvPr id="294" name="Picture 18" descr="neitron"/>
            <p:cNvPicPr/>
            <p:nvPr/>
          </p:nvPicPr>
          <p:blipFill>
            <a:blip r:embed="rId6"/>
            <a:stretch/>
          </p:blipFill>
          <p:spPr>
            <a:xfrm>
              <a:off x="826920" y="7173720"/>
              <a:ext cx="265320" cy="2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9" descr="proton"/>
            <p:cNvPicPr/>
            <p:nvPr/>
          </p:nvPicPr>
          <p:blipFill>
            <a:blip r:embed="rId7"/>
            <a:stretch/>
          </p:blipFill>
          <p:spPr>
            <a:xfrm>
              <a:off x="1042920" y="7245000"/>
              <a:ext cx="264960" cy="26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7" descr="proton"/>
            <p:cNvPicPr/>
            <p:nvPr/>
          </p:nvPicPr>
          <p:blipFill>
            <a:blip r:embed="rId8"/>
            <a:stretch/>
          </p:blipFill>
          <p:spPr>
            <a:xfrm>
              <a:off x="971280" y="7029360"/>
              <a:ext cx="265320" cy="26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Text Box 21"/>
          <p:cNvSpPr/>
          <p:nvPr/>
        </p:nvSpPr>
        <p:spPr>
          <a:xfrm>
            <a:off x="829080" y="3500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774252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4650840" y="32846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50920" y="3716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отоны с высокой энергией сближаются. Один из них может распасться на протон, позитрон и нейтрино. Тогда образуется ядро дейте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29"/>
          <p:cNvSpPr/>
          <p:nvPr/>
        </p:nvSpPr>
        <p:spPr>
          <a:xfrm>
            <a:off x="4427640" y="2781360"/>
            <a:ext cx="17280" cy="17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33"/>
          <p:cNvGrpSpPr/>
          <p:nvPr/>
        </p:nvGrpSpPr>
        <p:grpSpPr>
          <a:xfrm>
            <a:off x="4356000" y="2421000"/>
            <a:ext cx="182520" cy="92160"/>
            <a:chOff x="4356000" y="2421000"/>
            <a:chExt cx="182520" cy="92160"/>
          </a:xfrm>
        </p:grpSpPr>
        <p:pic>
          <p:nvPicPr>
            <p:cNvPr id="303" name="Picture 27" descr="elektron_sl2"/>
            <p:cNvPicPr/>
            <p:nvPr/>
          </p:nvPicPr>
          <p:blipFill>
            <a:blip r:embed="rId9"/>
            <a:stretch/>
          </p:blipFill>
          <p:spPr>
            <a:xfrm>
              <a:off x="4356000" y="2421000"/>
              <a:ext cx="127080" cy="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32" descr="pozitron"/>
            <p:cNvPicPr/>
            <p:nvPr/>
          </p:nvPicPr>
          <p:blipFill>
            <a:blip r:embed="rId10"/>
            <a:stretch/>
          </p:blipFill>
          <p:spPr>
            <a:xfrm>
              <a:off x="4452840" y="2421000"/>
              <a:ext cx="85680" cy="8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Text Box 34"/>
          <p:cNvSpPr/>
          <p:nvPr/>
        </p:nvSpPr>
        <p:spPr>
          <a:xfrm>
            <a:off x="8251560" y="1844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35"/>
          <p:cNvSpPr/>
          <p:nvPr/>
        </p:nvSpPr>
        <p:spPr>
          <a:xfrm flipH="1">
            <a:off x="7524720" y="2060640"/>
            <a:ext cx="719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853416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38"/>
          <p:cNvSpPr/>
          <p:nvPr/>
        </p:nvSpPr>
        <p:spPr>
          <a:xfrm flipH="1" flipV="1">
            <a:off x="8388360" y="3068640"/>
            <a:ext cx="287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250920" y="4365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Ядро дейтерия присоединяет к себе протон, испускает мощный гамма-квант и становится ядром лёгкого гел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4" descr="foton"/>
          <p:cNvPicPr/>
          <p:nvPr/>
        </p:nvPicPr>
        <p:blipFill>
          <a:blip r:embed="rId11"/>
          <a:stretch/>
        </p:blipFill>
        <p:spPr>
          <a:xfrm>
            <a:off x="5003640" y="3068640"/>
            <a:ext cx="171720" cy="586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5"/>
          <p:cNvSpPr/>
          <p:nvPr/>
        </p:nvSpPr>
        <p:spPr>
          <a:xfrm>
            <a:off x="88470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6"/>
          <p:cNvSpPr/>
          <p:nvPr/>
        </p:nvSpPr>
        <p:spPr>
          <a:xfrm flipH="1" flipV="1">
            <a:off x="8388360" y="3644640"/>
            <a:ext cx="504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7"/>
          <p:cNvSpPr/>
          <p:nvPr/>
        </p:nvSpPr>
        <p:spPr>
          <a:xfrm>
            <a:off x="32400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Когда такие ядра сближаются, они могут объединиться в ядро обычного гелия, «отпустив на свободу» два про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48"/>
          <p:cNvSpPr/>
          <p:nvPr/>
        </p:nvSpPr>
        <p:spPr>
          <a:xfrm>
            <a:off x="324000" y="573408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к, в итоге последовательных превращений образуется ядро обычного гелия. Так как масса ядра гелия меньше суммы масс четырёх ядер водорода, то остаток массы переходит в энерг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-1.85185E-006 L -0.33872 0.01042 E">
                                      <p:cBhvr>
                                        <p:cTn id="296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2.22222E-006 L 0.41076 0.01227 E">
                                      <p:cBhvr>
                                        <p:cTn id="298" dur="7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2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42674 0.03333 E">
                                      <p:cBhvr>
                                        <p:cTn id="313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40741E-007 L 0.32725 -0.00857 E">
                                      <p:cBhvr>
                                        <p:cTn id="315" dur="7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-1.85185E-006 L 0.0394 0.05255 E">
                                      <p:cBhvr>
                                        <p:cTn id="317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872 0.01042 L -0.29931 0.06297 E">
                                      <p:cBhvr>
                                        <p:cTn id="319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1065 L 0.45937 -0.58611 E">
                                      <p:cBhvr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2 -0.01644 L 0.35798 0.07384 E">
                                      <p:cBhvr>
                                        <p:cTn id="379" dur="3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37552 -0.6125 E">
                                      <p:cBhvr>
                                        <p:cTn id="419" dur="1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-0.60902 L 0.7967 -0.55463 E">
                                      <p:cBhvr>
                                        <p:cTn id="422" dur="7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0.06297 L -0.73889 0.12778 E">
                                      <p:cBhvr>
                                        <p:cTn id="424" dur="7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ecff"/>
                </a:solidFill>
                <a:latin typeface="Arial"/>
                <a:ea typeface="Arial"/>
              </a:rPr>
              <a:t>π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  <a:ea typeface="Arial"/>
              </a:rPr>
              <a:t>-мез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ядре протоны и нейтроны обмениваются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π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мезонами, сильновзаимодействующими частицами в примерно 270 раз тяжелее электрона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заряженном состоянии распадается на мюон и антинейтрино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4" descr="Mezon-"/>
          <p:cNvPicPr/>
          <p:nvPr/>
        </p:nvPicPr>
        <p:blipFill>
          <a:blip r:embed="rId3"/>
          <a:stretch/>
        </p:blipFill>
        <p:spPr>
          <a:xfrm>
            <a:off x="428760" y="35481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5"/>
          <p:cNvSpPr/>
          <p:nvPr/>
        </p:nvSpPr>
        <p:spPr>
          <a:xfrm>
            <a:off x="1116000" y="350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611280" y="371628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84360" y="3789360"/>
            <a:ext cx="1728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Group 14"/>
          <p:cNvGrpSpPr/>
          <p:nvPr/>
        </p:nvGrpSpPr>
        <p:grpSpPr>
          <a:xfrm>
            <a:off x="395280" y="3573360"/>
            <a:ext cx="283680" cy="216000"/>
            <a:chOff x="395280" y="3573360"/>
            <a:chExt cx="283680" cy="216000"/>
          </a:xfrm>
        </p:grpSpPr>
        <p:pic>
          <p:nvPicPr>
            <p:cNvPr id="323" name="Picture 13" descr="elektron_sl"/>
            <p:cNvPicPr/>
            <p:nvPr/>
          </p:nvPicPr>
          <p:blipFill>
            <a:blip r:embed="rId4"/>
            <a:stretch/>
          </p:blipFill>
          <p:spPr>
            <a:xfrm>
              <a:off x="395280" y="3573360"/>
              <a:ext cx="1490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12" descr="Muon-"/>
            <p:cNvPicPr/>
            <p:nvPr/>
          </p:nvPicPr>
          <p:blipFill>
            <a:blip r:embed="rId5"/>
            <a:stretch/>
          </p:blipFill>
          <p:spPr>
            <a:xfrm>
              <a:off x="474480" y="3573360"/>
              <a:ext cx="204480" cy="20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Line 15"/>
          <p:cNvSpPr/>
          <p:nvPr/>
        </p:nvSpPr>
        <p:spPr>
          <a:xfrm flipV="1">
            <a:off x="7380360" y="3500280"/>
            <a:ext cx="720720" cy="6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372360" y="3141720"/>
            <a:ext cx="27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юонное антинейтри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5076720" y="3645000"/>
            <a:ext cx="935280" cy="144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4788000" y="371628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611280" y="422100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88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В нейтральном состоянии он почти мгновенно распадается на два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  <a:ea typeface="Arial"/>
              </a:rPr>
              <a:t>-фотон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21" descr="Mezon0"/>
          <p:cNvPicPr/>
          <p:nvPr/>
        </p:nvPicPr>
        <p:blipFill>
          <a:blip r:embed="rId7"/>
          <a:stretch/>
        </p:blipFill>
        <p:spPr>
          <a:xfrm>
            <a:off x="4211640" y="5229360"/>
            <a:ext cx="264960" cy="26496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22"/>
          <p:cNvSpPr/>
          <p:nvPr/>
        </p:nvSpPr>
        <p:spPr>
          <a:xfrm>
            <a:off x="485928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π 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23"/>
          <p:cNvSpPr/>
          <p:nvPr/>
        </p:nvSpPr>
        <p:spPr>
          <a:xfrm flipH="1">
            <a:off x="4354560" y="537372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24" descr="foton"/>
          <p:cNvPicPr/>
          <p:nvPr/>
        </p:nvPicPr>
        <p:blipFill>
          <a:blip r:embed="rId8"/>
          <a:stretch/>
        </p:blipFill>
        <p:spPr>
          <a:xfrm>
            <a:off x="4282920" y="5229360"/>
            <a:ext cx="171720" cy="58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5" descr="foton"/>
          <p:cNvPicPr/>
          <p:nvPr/>
        </p:nvPicPr>
        <p:blipFill>
          <a:blip r:embed="rId9"/>
          <a:stretch/>
        </p:blipFill>
        <p:spPr>
          <a:xfrm rot="10800000">
            <a:off x="4284720" y="5373360"/>
            <a:ext cx="171360" cy="586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26"/>
          <p:cNvSpPr/>
          <p:nvPr/>
        </p:nvSpPr>
        <p:spPr>
          <a:xfrm>
            <a:off x="140328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 flipH="1">
            <a:off x="898560" y="54450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8"/>
          <p:cNvSpPr/>
          <p:nvPr/>
        </p:nvSpPr>
        <p:spPr>
          <a:xfrm>
            <a:off x="752472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 flipV="1">
            <a:off x="7812000" y="5229360"/>
            <a:ext cx="863640" cy="7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3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8.33333E-007 -2.27388E-006 L 0.58299 -0.00509 E">
                                      <p:cBhvr>
                                        <p:cTn id="509" dur="1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44444E-006 5.45917E-007 L 0.72362 0.06176 E">
                                      <p:cBhvr>
                                        <p:cTn id="511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-4.62873E-006 L 0.47899 -0.00416 E">
                                      <p:cBhvr>
                                        <p:cTn id="562" dur="3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38889E-006 -4.26324E-006 L -0.40312 0.00625 E">
                                      <p:cBhvr>
                                        <p:cTn id="564" dur="3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6" descr="Muon-"/>
          <p:cNvPicPr/>
          <p:nvPr/>
        </p:nvPicPr>
        <p:blipFill>
          <a:blip r:embed="rId1"/>
          <a:stretch/>
        </p:blipFill>
        <p:spPr>
          <a:xfrm>
            <a:off x="4284720" y="335592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юон и тяжёлый лепт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юон очень похож на электрон, но в двести с лишним раз тяжелее. Кроме того, мюон радиоактивен, он распадается на электрон и антинейтрин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4356000" y="3500280"/>
            <a:ext cx="17640" cy="1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 flipV="1">
            <a:off x="3708000" y="3357720"/>
            <a:ext cx="576360" cy="7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341964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11"/>
          <p:cNvGrpSpPr/>
          <p:nvPr/>
        </p:nvGrpSpPr>
        <p:grpSpPr>
          <a:xfrm>
            <a:off x="4284720" y="3357720"/>
            <a:ext cx="178920" cy="91800"/>
            <a:chOff x="4284720" y="3357720"/>
            <a:chExt cx="178920" cy="91800"/>
          </a:xfrm>
        </p:grpSpPr>
        <p:pic>
          <p:nvPicPr>
            <p:cNvPr id="347" name="Picture 12" descr="elektron_sl2"/>
            <p:cNvPicPr/>
            <p:nvPr/>
          </p:nvPicPr>
          <p:blipFill>
            <a:blip r:embed="rId3"/>
            <a:stretch/>
          </p:blipFill>
          <p:spPr>
            <a:xfrm>
              <a:off x="4284720" y="3357720"/>
              <a:ext cx="126720" cy="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3" descr="elektron"/>
            <p:cNvPicPr/>
            <p:nvPr/>
          </p:nvPicPr>
          <p:blipFill>
            <a:blip r:embed="rId4"/>
            <a:stretch/>
          </p:blipFill>
          <p:spPr>
            <a:xfrm>
              <a:off x="4377960" y="3357720"/>
              <a:ext cx="85680" cy="8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Line 14"/>
          <p:cNvSpPr/>
          <p:nvPr/>
        </p:nvSpPr>
        <p:spPr>
          <a:xfrm>
            <a:off x="539640" y="357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39528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8360" y="3933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7"/>
          <p:cNvSpPr/>
          <p:nvPr/>
        </p:nvSpPr>
        <p:spPr>
          <a:xfrm flipH="1">
            <a:off x="8388360" y="3573360"/>
            <a:ext cx="71280" cy="287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8"/>
          <p:cNvSpPr/>
          <p:nvPr/>
        </p:nvSpPr>
        <p:spPr>
          <a:xfrm>
            <a:off x="8244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11280" y="3860640"/>
            <a:ext cx="8229600" cy="28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 же ведёт себя и тяжёлый лепт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Лепто» - с греческого «лёгкий». Но после открытия мюона и тяжёлого лептона, название «лептон» и «адрон» стали чисто условными, фактически синонимами «слабо»- и «сильновзаимодействующ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6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3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3.7037E-006 L 0.45486 0.0037 E">
                                      <p:cBhvr>
                                        <p:cTn id="620" dur="7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1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4.07407E-006 L -0.41823 -0.00115 E">
                                      <p:cBhvr>
                                        <p:cTn id="622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2,-124,7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0:31:24Z</dcterms:created>
  <dc:creator>Максим</dc:creator>
  <dc:description/>
  <dc:language>en-US</dc:language>
  <cp:lastModifiedBy>LEGION</cp:lastModifiedBy>
  <dcterms:modified xsi:type="dcterms:W3CDTF">2015-03-30T08:27:12Z</dcterms:modified>
  <cp:revision>167</cp:revision>
  <dc:subject>Квантовая физика, радиоактивность и термоядерные реакции</dc:subject>
  <dc:title>Квантовая физ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7000000000001023620</vt:lpwstr>
  </property>
  <property fmtid="{D5CDD505-2E9C-101B-9397-08002B2CF9AE}" pid="3" name="Version">
    <vt:r8>9</vt:r8>
  </property>
</Properties>
</file>