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png" ContentType="image/png"/>
  <Override PartName="/ppt/media/image16.wmf" ContentType="image/x-wmf"/>
  <Override PartName="/ppt/media/image15.png" ContentType="image/png"/>
  <Override PartName="/ppt/media/image14.wmf" ContentType="image/x-wmf"/>
  <Override PartName="/ppt/media/image1.png" ContentType="image/png"/>
  <Override PartName="/ppt/media/image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3.png" ContentType="image/png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C5228-318B-4065-981B-241C07FB92F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вантовая физи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. Гаврилов-Ям МОУ СОШ №3. Медведев Максим. 5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A4E5B-C979-44A2-BC4D-1DCEDB63AB8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оение адрона, квар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составлении таблицы элементарных частиц в основе всех семейств предположили существование семейства кварков – частиц с зарядом меньше, чем у электрона (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⅓, +⅔, +⅔). Нуклоны состоят из трёх кварков, мезоны – из кварка и антиквар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Почему кварки существуют только в виде адронов и не существуют в свободном состоянии? Электронным зондирующим пучком установили, что кварки обмениваются глюонами. Сила взаимодействия с расстоянием увеличивается, так как глюон начинает порождать другие глюо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При попытке разорвать глюонные связи образуется новый мезон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85085-D286-4043-BBAE-2EAD04B4691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ые ресурс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 С. Барашенков. «Вселенная в электроне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Большая энциклопедия Кирилла и Мефодия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анта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«Астрономия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77E13-5D7F-45D7-A298-0BD4DD16E84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знать основные свойства элементарных частиц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отреть изотопы водор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отреть законы микроми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отреть с механизм ядерных реакций на Солнц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знать свойства мезо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ить строение адро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1BF8C-A03B-4174-8E0E-94040B4D40B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войства элементарных частиц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5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ктрон – отрицательно заряженная элементарная частица с массой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≈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0,511 МэВ, со спином 0,5 ћ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5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тон – положительная частица с массой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≈ 938,3 МэВ(≈ 1 а.е), со спином 0,5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ћ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5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итрон – античастица электрона. Заряд 1, масса как у электрона, спин -0,5 ћ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5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йтрон – нейтральная элементарная частица, масс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≈ 939,6 МэВ, спи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0,5. В свободном состоянии нейтрон нестабилен и имеет время жизни около 16 мин. Вместе с протонами нейтрон образуют атомные ядра; в ядрах нейтрон стабиле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88CFF-9326-4B40-A220-9E779C450E7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дород и его изотоп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 водорода три изотопа – протий, дейтерий и трит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D0B4C-7DC0-4591-BB54-A5C99C4AFB4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ейтерий и трити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дород с массовым числом 2 называют тяжелым водородом, дейтерием. Для его обозначения используют символы 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, или D (читается «де»), ядро d — дейтрон. Радиоактивный изотоп с массовым числом 3 называют сверхтяжелым водородом, или тритием, символ 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 или Т (читается «те»), ядро t — трито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хема радиоактивности трит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64338-CF74-4B5B-AE0D-8AC5FC60586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ы микроми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известно, нейтрон в свободном состоянии распадается на протон, электрон и антинейтрино. А почему рождается пара лептонов? Разве ту энергию, что несёт антинейтрино, не может унести электрон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реакции должны проходить по законам сохранения. В эти законы входят: закон сохранения энергии, электрического, лептонного, барионного заряда, и т.д…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9E996-D367-4F4F-9EF3-7698577C71D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дерные реакции на Солнц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лнце, как и другие звёзды, светит благодаря термоядерным реакция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26F53-6602-4B83-80FB-7ADD8D66D00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alibri"/>
                <a:ea typeface="Arial"/>
              </a:rPr>
              <a:t>π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-мез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ядре протоны и нейтроны обмениваются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  <a:ea typeface="Arial"/>
              </a:rPr>
              <a:t>π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-мезонами, сильновзаимодействующими частицами в примерно 270 раз тяжелее электро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В заряженном состоянии распадается на мюон и антинейтрин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21A83-8737-427F-AA06-459A8411046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юон и тяжёлый лепт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юон очень похож на электрон, но в двести с лишним раз тяжелее. Кроме того, мюон радиоактивен, он распадается на электрон и антинейтрин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FBD9D-DAA6-48CD-AF2C-B1FB1ADA99C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D16A-6712-4B6B-8202-2258C13A8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761B-5C51-407B-A77D-9D3660BF2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0F25-04A0-4390-88B8-F2AAB6E75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31C6-2782-4FD5-80F4-AB865C495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989E6-2AF8-427D-92D8-A988C1043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09161-742D-4EB7-9FB5-A28EB82E5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01E3F-2F85-40F2-B72E-380ACB9CC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27D05-EA58-4131-9649-E25184B8F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3866E-850A-4F70-87F1-267BCCBD1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71142-ACB8-41F9-BC22-141F5C5C3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E0254-7168-4E1A-ADA3-EFC964D7D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85BE-512F-420C-B3F9-AFD8F5875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F642E-CE36-4F0F-BCBC-CF8CD2667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3C5E3-DF63-43B0-A25F-EC59E52BD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8A2C1-68CE-409C-87B3-FF33CA603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CB389-7551-4062-9368-90A70C0A9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AC136-1A5A-47D5-BE5F-1B62C9991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E960-A7E0-4982-AF97-F310E5C9A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1F1E-A52A-4EC3-90A9-25C1DB812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D7F0-165B-4C5A-82B5-A2DE02AAB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B1E9-06DA-481E-8002-2BF751A87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39D1-214F-4372-A4A6-56481A896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2C79-0A16-41E2-B3F9-4ADCB79E4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2299-C0F8-4021-8EBB-CCE96BA8E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e3351"/>
            </a:gs>
            <a:gs pos="100000">
              <a:srgbClr val="4f598d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282e49"/>
                </a:gs>
                <a:gs pos="100000">
                  <a:srgbClr val="3f487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303656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303657"/>
                </a:gs>
                <a:gs pos="100000">
                  <a:srgbClr val="3f487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3f4873"/>
                </a:gs>
                <a:gs pos="100000">
                  <a:srgbClr val="4f59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414974"/>
                </a:gs>
                <a:gs pos="100000">
                  <a:srgbClr val="4f59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4f59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4f59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394166"/>
                </a:gs>
                <a:gs pos="100000">
                  <a:srgbClr val="4f59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4f59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555e9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4f59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2b314d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3f4873"/>
                </a:gs>
                <a:gs pos="100000">
                  <a:srgbClr val="4f59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2a304d"/>
                </a:gs>
                <a:gs pos="100000">
                  <a:srgbClr val="3f487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73e62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5963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4f59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52941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92e48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2395b"/>
                </a:gs>
                <a:gs pos="100000">
                  <a:srgbClr val="3f48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5f689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3f48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a304d"/>
                </a:gs>
                <a:gs pos="100000">
                  <a:srgbClr val="3f48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2c3250"/>
                </a:gs>
                <a:gs pos="100000">
                  <a:srgbClr val="3f48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3f48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32395a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303656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434b77"/>
                </a:gs>
                <a:gs pos="100000">
                  <a:srgbClr val="4f59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62b45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34b77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32395b"/>
                </a:gs>
                <a:gs pos="100000">
                  <a:srgbClr val="3f48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e3351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94166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3e466f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94166"/>
                  </a:gs>
                  <a:gs pos="100000">
                    <a:srgbClr val="4f598d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f598d"/>
                  </a:gs>
                  <a:gs pos="100000">
                    <a:srgbClr val="5f689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03324-B020-4DEC-A50B-6D8FBECFE6F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e3351"/>
            </a:gs>
            <a:gs pos="100000">
              <a:srgbClr val="4f598d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282e49"/>
                </a:gs>
                <a:gs pos="100000">
                  <a:srgbClr val="3f487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303656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303657"/>
                </a:gs>
                <a:gs pos="100000">
                  <a:srgbClr val="3f487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3f4873"/>
                </a:gs>
                <a:gs pos="100000">
                  <a:srgbClr val="4f59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414974"/>
                </a:gs>
                <a:gs pos="100000">
                  <a:srgbClr val="4f59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4f59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4f59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394166"/>
                </a:gs>
                <a:gs pos="100000">
                  <a:srgbClr val="4f59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4f59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555e9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4f59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2b314d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3f4873"/>
                </a:gs>
                <a:gs pos="100000">
                  <a:srgbClr val="4f59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2a304d"/>
                </a:gs>
                <a:gs pos="100000">
                  <a:srgbClr val="3f487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73e62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5963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4f59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52941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92e48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2395b"/>
                </a:gs>
                <a:gs pos="100000">
                  <a:srgbClr val="3f48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5f689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3f48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a304d"/>
                </a:gs>
                <a:gs pos="100000">
                  <a:srgbClr val="3f48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2c3250"/>
                </a:gs>
                <a:gs pos="100000">
                  <a:srgbClr val="3f48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3f48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32395a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303656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434b77"/>
                </a:gs>
                <a:gs pos="100000">
                  <a:srgbClr val="4f59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62b45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34b77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32395b"/>
                </a:gs>
                <a:gs pos="100000">
                  <a:srgbClr val="3f48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e3351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94166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3e466f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94166"/>
                  </a:gs>
                  <a:gs pos="100000">
                    <a:srgbClr val="4f598d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f598d"/>
                  </a:gs>
                  <a:gs pos="100000">
                    <a:srgbClr val="5f689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21013-FEE7-4527-BA86-CA6AC79CE8B3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5.wmf"/><Relationship Id="rId6" Type="http://schemas.openxmlformats.org/officeDocument/2006/relationships/image" Target="../media/image4.wmf"/><Relationship Id="rId7" Type="http://schemas.openxmlformats.org/officeDocument/2006/relationships/image" Target="../media/image5.wmf"/><Relationship Id="rId8" Type="http://schemas.openxmlformats.org/officeDocument/2006/relationships/image" Target="../media/image4.wmf"/><Relationship Id="rId9" Type="http://schemas.openxmlformats.org/officeDocument/2006/relationships/image" Target="../media/image6.wmf"/><Relationship Id="rId10" Type="http://schemas.openxmlformats.org/officeDocument/2006/relationships/image" Target="../media/image6.wmf"/><Relationship Id="rId11" Type="http://schemas.openxmlformats.org/officeDocument/2006/relationships/image" Target="../media/image5.wmf"/><Relationship Id="rId12" Type="http://schemas.openxmlformats.org/officeDocument/2006/relationships/image" Target="../media/image4.wmf"/><Relationship Id="rId13" Type="http://schemas.openxmlformats.org/officeDocument/2006/relationships/image" Target="../media/image4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8.wmf"/><Relationship Id="rId17" Type="http://schemas.openxmlformats.org/officeDocument/2006/relationships/image" Target="../media/image9.wmf"/><Relationship Id="rId18" Type="http://schemas.openxmlformats.org/officeDocument/2006/relationships/image" Target="../media/image10.wmf"/><Relationship Id="rId19" Type="http://schemas.openxmlformats.org/officeDocument/2006/relationships/image" Target="../media/image11.wmf"/><Relationship Id="rId20" Type="http://schemas.openxmlformats.org/officeDocument/2006/relationships/image" Target="../media/image12.wmf"/><Relationship Id="rId21" Type="http://schemas.openxmlformats.org/officeDocument/2006/relationships/image" Target="../media/image13.wmf"/><Relationship Id="rId22" Type="http://schemas.openxmlformats.org/officeDocument/2006/relationships/image" Target="../media/image10.wmf"/><Relationship Id="rId23" Type="http://schemas.openxmlformats.org/officeDocument/2006/relationships/image" Target="../media/image14.wmf"/><Relationship Id="rId24" Type="http://schemas.openxmlformats.org/officeDocument/2006/relationships/image" Target="../media/image6.wmf"/><Relationship Id="rId25" Type="http://schemas.openxmlformats.org/officeDocument/2006/relationships/slideLayout" Target="../slideLayouts/slideLayout13.xml"/><Relationship Id="rId2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0.wmf"/><Relationship Id="rId5" Type="http://schemas.openxmlformats.org/officeDocument/2006/relationships/image" Target="../media/image14.wmf"/><Relationship Id="rId6" Type="http://schemas.openxmlformats.org/officeDocument/2006/relationships/image" Target="../media/image6.wmf"/><Relationship Id="rId7" Type="http://schemas.openxmlformats.org/officeDocument/2006/relationships/image" Target="../media/image10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.png"/><Relationship Id="rId3" Type="http://schemas.openxmlformats.org/officeDocument/2006/relationships/image" Target="../media/image6.wmf"/><Relationship Id="rId4" Type="http://schemas.openxmlformats.org/officeDocument/2006/relationships/image" Target="../media/image4.wmf"/><Relationship Id="rId5" Type="http://schemas.openxmlformats.org/officeDocument/2006/relationships/image" Target="../media/image6.wmf"/><Relationship Id="rId6" Type="http://schemas.openxmlformats.org/officeDocument/2006/relationships/image" Target="../media/image5.wmf"/><Relationship Id="rId7" Type="http://schemas.openxmlformats.org/officeDocument/2006/relationships/image" Target="../media/image4.wmf"/><Relationship Id="rId8" Type="http://schemas.openxmlformats.org/officeDocument/2006/relationships/image" Target="../media/image6.wmf"/><Relationship Id="rId9" Type="http://schemas.openxmlformats.org/officeDocument/2006/relationships/image" Target="../media/image5.wmf"/><Relationship Id="rId10" Type="http://schemas.openxmlformats.org/officeDocument/2006/relationships/image" Target="../media/image5.wmf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image" Target="../media/image14.wmf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5.wmf"/><Relationship Id="rId4" Type="http://schemas.openxmlformats.org/officeDocument/2006/relationships/image" Target="../media/image4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4.wmf"/><Relationship Id="rId6" Type="http://schemas.openxmlformats.org/officeDocument/2006/relationships/image" Target="../media/image5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image" Target="../media/image14.wmf"/><Relationship Id="rId10" Type="http://schemas.openxmlformats.org/officeDocument/2006/relationships/image" Target="../media/image11.wmf"/><Relationship Id="rId11" Type="http://schemas.openxmlformats.org/officeDocument/2006/relationships/image" Target="../media/image7.wmf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8.wmf"/><Relationship Id="rId4" Type="http://schemas.openxmlformats.org/officeDocument/2006/relationships/image" Target="../media/image16.wmf"/><Relationship Id="rId5" Type="http://schemas.openxmlformats.org/officeDocument/2006/relationships/image" Target="../media/image12.wmf"/><Relationship Id="rId6" Type="http://schemas.openxmlformats.org/officeDocument/2006/relationships/image" Target="../media/image1.png"/><Relationship Id="rId7" Type="http://schemas.openxmlformats.org/officeDocument/2006/relationships/image" Target="../media/image10.wmf"/><Relationship Id="rId8" Type="http://schemas.openxmlformats.org/officeDocument/2006/relationships/image" Target="../media/image7.wmf"/><Relationship Id="rId9" Type="http://schemas.openxmlformats.org/officeDocument/2006/relationships/image" Target="../media/image7.wm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.png"/><Relationship Id="rId3" Type="http://schemas.openxmlformats.org/officeDocument/2006/relationships/image" Target="../media/image14.wmf"/><Relationship Id="rId4" Type="http://schemas.openxmlformats.org/officeDocument/2006/relationships/image" Target="../media/image6.wmf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Квантовая физик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619280" y="6424560"/>
            <a:ext cx="7524720" cy="43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. Гаврилов-Ям МОУ СОШ №3. Медведев Максим. 5 клас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Picture 8" descr="proton"/>
          <p:cNvPicPr/>
          <p:nvPr/>
        </p:nvPicPr>
        <p:blipFill>
          <a:blip r:embed="rId1"/>
          <a:stretch/>
        </p:blipFill>
        <p:spPr>
          <a:xfrm>
            <a:off x="826920" y="1484280"/>
            <a:ext cx="265320" cy="2653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9" descr="neitron"/>
          <p:cNvPicPr/>
          <p:nvPr/>
        </p:nvPicPr>
        <p:blipFill>
          <a:blip r:embed="rId2"/>
          <a:stretch/>
        </p:blipFill>
        <p:spPr>
          <a:xfrm>
            <a:off x="826920" y="1773360"/>
            <a:ext cx="265320" cy="2649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0" descr="elektron"/>
          <p:cNvPicPr/>
          <p:nvPr/>
        </p:nvPicPr>
        <p:blipFill>
          <a:blip r:embed="rId3"/>
          <a:stretch/>
        </p:blipFill>
        <p:spPr>
          <a:xfrm>
            <a:off x="900000" y="2205000"/>
            <a:ext cx="85680" cy="856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1" descr="foton"/>
          <p:cNvPicPr/>
          <p:nvPr/>
        </p:nvPicPr>
        <p:blipFill>
          <a:blip r:embed="rId4"/>
          <a:stretch/>
        </p:blipFill>
        <p:spPr>
          <a:xfrm>
            <a:off x="847800" y="2924280"/>
            <a:ext cx="171360" cy="5868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12"/>
          <p:cNvSpPr/>
          <p:nvPr/>
        </p:nvSpPr>
        <p:spPr>
          <a:xfrm>
            <a:off x="1258920" y="1341360"/>
            <a:ext cx="2973240" cy="30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ото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ейтро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электро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зитро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фотон(квант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нейтрино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или антинейтрин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π-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езон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юон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6" name="Group 20"/>
          <p:cNvGrpSpPr/>
          <p:nvPr/>
        </p:nvGrpSpPr>
        <p:grpSpPr>
          <a:xfrm>
            <a:off x="5568840" y="2697120"/>
            <a:ext cx="469800" cy="480960"/>
            <a:chOff x="5568840" y="2697120"/>
            <a:chExt cx="469800" cy="480960"/>
          </a:xfrm>
        </p:grpSpPr>
        <p:pic>
          <p:nvPicPr>
            <p:cNvPr id="177" name="Picture 21" descr="neitron"/>
            <p:cNvPicPr/>
            <p:nvPr/>
          </p:nvPicPr>
          <p:blipFill>
            <a:blip r:embed="rId5"/>
            <a:stretch/>
          </p:blipFill>
          <p:spPr>
            <a:xfrm>
              <a:off x="5773680" y="2697120"/>
              <a:ext cx="264960" cy="26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Picture 22" descr="proton"/>
            <p:cNvPicPr/>
            <p:nvPr/>
          </p:nvPicPr>
          <p:blipFill>
            <a:blip r:embed="rId6"/>
            <a:stretch/>
          </p:blipFill>
          <p:spPr>
            <a:xfrm>
              <a:off x="5762520" y="2903400"/>
              <a:ext cx="264960" cy="26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" name="Picture 23" descr="neitron"/>
            <p:cNvPicPr/>
            <p:nvPr/>
          </p:nvPicPr>
          <p:blipFill>
            <a:blip r:embed="rId7"/>
            <a:stretch/>
          </p:blipFill>
          <p:spPr>
            <a:xfrm>
              <a:off x="5568840" y="2913120"/>
              <a:ext cx="264960" cy="26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" name="Picture 24" descr="proton"/>
            <p:cNvPicPr/>
            <p:nvPr/>
          </p:nvPicPr>
          <p:blipFill>
            <a:blip r:embed="rId8"/>
            <a:stretch/>
          </p:blipFill>
          <p:spPr>
            <a:xfrm>
              <a:off x="5570280" y="2701800"/>
              <a:ext cx="265320" cy="265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1" name="Oval 26"/>
          <p:cNvSpPr/>
          <p:nvPr/>
        </p:nvSpPr>
        <p:spPr>
          <a:xfrm>
            <a:off x="5292720" y="2421000"/>
            <a:ext cx="1008000" cy="10080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25" descr="elektron"/>
          <p:cNvPicPr/>
          <p:nvPr/>
        </p:nvPicPr>
        <p:blipFill>
          <a:blip r:embed="rId9"/>
          <a:stretch/>
        </p:blipFill>
        <p:spPr>
          <a:xfrm>
            <a:off x="5281560" y="2708280"/>
            <a:ext cx="85680" cy="856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7" descr="elektron"/>
          <p:cNvPicPr/>
          <p:nvPr/>
        </p:nvPicPr>
        <p:blipFill>
          <a:blip r:embed="rId10"/>
          <a:stretch/>
        </p:blipFill>
        <p:spPr>
          <a:xfrm>
            <a:off x="6227640" y="3068640"/>
            <a:ext cx="85680" cy="85680"/>
          </a:xfrm>
          <a:prstGeom prst="rect">
            <a:avLst/>
          </a:prstGeom>
          <a:ln w="0">
            <a:noFill/>
          </a:ln>
        </p:spPr>
      </p:pic>
      <p:grpSp>
        <p:nvGrpSpPr>
          <p:cNvPr id="184" name="Group 33"/>
          <p:cNvGrpSpPr/>
          <p:nvPr/>
        </p:nvGrpSpPr>
        <p:grpSpPr>
          <a:xfrm>
            <a:off x="7656480" y="3603600"/>
            <a:ext cx="625320" cy="419040"/>
            <a:chOff x="7656480" y="3603600"/>
            <a:chExt cx="625320" cy="419040"/>
          </a:xfrm>
        </p:grpSpPr>
        <p:pic>
          <p:nvPicPr>
            <p:cNvPr id="185" name="Picture 31" descr="neitron"/>
            <p:cNvPicPr/>
            <p:nvPr/>
          </p:nvPicPr>
          <p:blipFill>
            <a:blip r:embed="rId11"/>
            <a:stretch/>
          </p:blipFill>
          <p:spPr>
            <a:xfrm>
              <a:off x="7656480" y="3612960"/>
              <a:ext cx="264960" cy="26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30" descr="proton"/>
            <p:cNvPicPr/>
            <p:nvPr/>
          </p:nvPicPr>
          <p:blipFill>
            <a:blip r:embed="rId12"/>
            <a:stretch/>
          </p:blipFill>
          <p:spPr>
            <a:xfrm>
              <a:off x="7850160" y="3603600"/>
              <a:ext cx="264960" cy="26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Picture 32" descr="proton"/>
            <p:cNvPicPr/>
            <p:nvPr/>
          </p:nvPicPr>
          <p:blipFill>
            <a:blip r:embed="rId13"/>
            <a:stretch/>
          </p:blipFill>
          <p:spPr>
            <a:xfrm>
              <a:off x="8016840" y="3757320"/>
              <a:ext cx="264960" cy="265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8" name="Oval 34"/>
          <p:cNvSpPr/>
          <p:nvPr/>
        </p:nvSpPr>
        <p:spPr>
          <a:xfrm>
            <a:off x="7451640" y="3284640"/>
            <a:ext cx="1008000" cy="10080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Picture 35" descr="elektron"/>
          <p:cNvPicPr/>
          <p:nvPr/>
        </p:nvPicPr>
        <p:blipFill>
          <a:blip r:embed="rId14"/>
          <a:stretch/>
        </p:blipFill>
        <p:spPr>
          <a:xfrm>
            <a:off x="7440480" y="3571920"/>
            <a:ext cx="85680" cy="856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88" descr="elektron"/>
          <p:cNvPicPr/>
          <p:nvPr/>
        </p:nvPicPr>
        <p:blipFill>
          <a:blip r:embed="rId15"/>
          <a:stretch/>
        </p:blipFill>
        <p:spPr>
          <a:xfrm>
            <a:off x="8101080" y="4221000"/>
            <a:ext cx="85680" cy="86040"/>
          </a:xfrm>
          <a:prstGeom prst="rect">
            <a:avLst/>
          </a:prstGeom>
          <a:ln w="0">
            <a:noFill/>
          </a:ln>
        </p:spPr>
      </p:pic>
      <p:sp>
        <p:nvSpPr>
          <p:cNvPr id="191" name="Oval 151"/>
          <p:cNvSpPr/>
          <p:nvPr/>
        </p:nvSpPr>
        <p:spPr>
          <a:xfrm>
            <a:off x="992160" y="3213000"/>
            <a:ext cx="17640" cy="1764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Picture 156" descr="Mezon-"/>
          <p:cNvPicPr/>
          <p:nvPr/>
        </p:nvPicPr>
        <p:blipFill>
          <a:blip r:embed="rId16"/>
          <a:stretch/>
        </p:blipFill>
        <p:spPr>
          <a:xfrm>
            <a:off x="396720" y="3438360"/>
            <a:ext cx="265320" cy="2653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58" descr="Mezon+"/>
          <p:cNvPicPr/>
          <p:nvPr/>
        </p:nvPicPr>
        <p:blipFill>
          <a:blip r:embed="rId17"/>
          <a:stretch/>
        </p:blipFill>
        <p:spPr>
          <a:xfrm>
            <a:off x="700200" y="3429000"/>
            <a:ext cx="264960" cy="2649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59" descr="Mezon0"/>
          <p:cNvPicPr/>
          <p:nvPr/>
        </p:nvPicPr>
        <p:blipFill>
          <a:blip r:embed="rId18"/>
          <a:stretch/>
        </p:blipFill>
        <p:spPr>
          <a:xfrm>
            <a:off x="996840" y="3429000"/>
            <a:ext cx="265320" cy="26496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160"/>
          <p:cNvSpPr/>
          <p:nvPr/>
        </p:nvSpPr>
        <p:spPr>
          <a:xfrm>
            <a:off x="307800" y="3645000"/>
            <a:ext cx="110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    +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161"/>
          <p:cNvSpPr/>
          <p:nvPr/>
        </p:nvSpPr>
        <p:spPr>
          <a:xfrm>
            <a:off x="0" y="3429000"/>
            <a:ext cx="35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π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68"/>
          <p:cNvSpPr/>
          <p:nvPr/>
        </p:nvSpPr>
        <p:spPr>
          <a:xfrm>
            <a:off x="611280" y="4149720"/>
            <a:ext cx="7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    +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 Box 169"/>
          <p:cNvSpPr/>
          <p:nvPr/>
        </p:nvSpPr>
        <p:spPr>
          <a:xfrm>
            <a:off x="0" y="4076640"/>
            <a:ext cx="35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Picture 171" descr="pozitron"/>
          <p:cNvPicPr/>
          <p:nvPr/>
        </p:nvPicPr>
        <p:blipFill>
          <a:blip r:embed="rId19"/>
          <a:stretch/>
        </p:blipFill>
        <p:spPr>
          <a:xfrm>
            <a:off x="900000" y="2565360"/>
            <a:ext cx="85680" cy="856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73" descr="Muon-"/>
          <p:cNvPicPr/>
          <p:nvPr/>
        </p:nvPicPr>
        <p:blipFill>
          <a:blip r:embed="rId20"/>
          <a:stretch/>
        </p:blipFill>
        <p:spPr>
          <a:xfrm>
            <a:off x="684360" y="4076640"/>
            <a:ext cx="215640" cy="2160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74" descr="Muon+"/>
          <p:cNvPicPr/>
          <p:nvPr/>
        </p:nvPicPr>
        <p:blipFill>
          <a:blip r:embed="rId21"/>
          <a:stretch/>
        </p:blipFill>
        <p:spPr>
          <a:xfrm>
            <a:off x="1042920" y="4076640"/>
            <a:ext cx="204840" cy="2048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75" descr="Mezon0"/>
          <p:cNvPicPr/>
          <p:nvPr/>
        </p:nvPicPr>
        <p:blipFill>
          <a:blip r:embed="rId22"/>
          <a:stretch/>
        </p:blipFill>
        <p:spPr>
          <a:xfrm>
            <a:off x="8101080" y="1989000"/>
            <a:ext cx="264960" cy="265320"/>
          </a:xfrm>
          <a:prstGeom prst="rect">
            <a:avLst/>
          </a:prstGeom>
          <a:ln w="0">
            <a:noFill/>
          </a:ln>
        </p:spPr>
      </p:pic>
      <p:grpSp>
        <p:nvGrpSpPr>
          <p:cNvPr id="203" name="Group 177"/>
          <p:cNvGrpSpPr/>
          <p:nvPr/>
        </p:nvGrpSpPr>
        <p:grpSpPr>
          <a:xfrm>
            <a:off x="5435640" y="2133720"/>
            <a:ext cx="178920" cy="91800"/>
            <a:chOff x="5435640" y="2133720"/>
            <a:chExt cx="178920" cy="91800"/>
          </a:xfrm>
        </p:grpSpPr>
        <p:pic>
          <p:nvPicPr>
            <p:cNvPr id="204" name="Picture 178" descr="elektron_sl2"/>
            <p:cNvPicPr/>
            <p:nvPr/>
          </p:nvPicPr>
          <p:blipFill>
            <a:blip r:embed="rId23"/>
            <a:stretch/>
          </p:blipFill>
          <p:spPr>
            <a:xfrm>
              <a:off x="5435640" y="2133720"/>
              <a:ext cx="126720" cy="9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" name="Picture 179" descr="elektron"/>
            <p:cNvPicPr/>
            <p:nvPr/>
          </p:nvPicPr>
          <p:blipFill>
            <a:blip r:embed="rId24"/>
            <a:stretch/>
          </p:blipFill>
          <p:spPr>
            <a:xfrm>
              <a:off x="5528880" y="2133720"/>
              <a:ext cx="85680" cy="85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Строение адрона, кварк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50560" y="765000"/>
            <a:ext cx="844524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 составлении таблицы элементарных частиц в основе всех семейств предположили существование семейства кварков – частиц с зарядом меньше, чем у электрона (-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⅓, +⅔, +⅔). Нуклоны состоят из трёх кварков, мезоны – из кварка и антиквар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Почему кварки существуют только в виде адронов и не существуют в свободном состоянии? Электронным зондирующим пучком установили, что кварки обмениваются глюонами. Сила взаимодействия с расстоянием увеличивается, так как глюон начинает порождать другие глюон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При попытке разорвать глюонные связи образуется новый мезон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8" name="Picture 11" descr="Mezon0"/>
          <p:cNvPicPr/>
          <p:nvPr/>
        </p:nvPicPr>
        <p:blipFill>
          <a:blip r:embed="rId4"/>
          <a:stretch/>
        </p:blipFill>
        <p:spPr>
          <a:xfrm>
            <a:off x="3635280" y="6308640"/>
            <a:ext cx="265320" cy="265320"/>
          </a:xfrm>
          <a:prstGeom prst="rect">
            <a:avLst/>
          </a:prstGeom>
          <a:ln w="0">
            <a:noFill/>
          </a:ln>
        </p:spPr>
      </p:pic>
      <p:grpSp>
        <p:nvGrpSpPr>
          <p:cNvPr id="359" name="Group 16"/>
          <p:cNvGrpSpPr/>
          <p:nvPr/>
        </p:nvGrpSpPr>
        <p:grpSpPr>
          <a:xfrm>
            <a:off x="7812000" y="6441840"/>
            <a:ext cx="169560" cy="97200"/>
            <a:chOff x="7812000" y="6441840"/>
            <a:chExt cx="169560" cy="97200"/>
          </a:xfrm>
        </p:grpSpPr>
        <p:pic>
          <p:nvPicPr>
            <p:cNvPr id="360" name="Picture 14" descr="elektron_sl2"/>
            <p:cNvPicPr/>
            <p:nvPr/>
          </p:nvPicPr>
          <p:blipFill>
            <a:blip r:embed="rId5"/>
            <a:stretch/>
          </p:blipFill>
          <p:spPr>
            <a:xfrm rot="10800000">
              <a:off x="7854480" y="6441840"/>
              <a:ext cx="127080" cy="9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1" name="Picture 15" descr="elektron"/>
            <p:cNvPicPr/>
            <p:nvPr/>
          </p:nvPicPr>
          <p:blipFill>
            <a:blip r:embed="rId6"/>
            <a:stretch/>
          </p:blipFill>
          <p:spPr>
            <a:xfrm>
              <a:off x="7812000" y="6453360"/>
              <a:ext cx="85680" cy="85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62" name="Picture 17" descr="Mezon0"/>
          <p:cNvPicPr/>
          <p:nvPr/>
        </p:nvPicPr>
        <p:blipFill>
          <a:blip r:embed="rId7"/>
          <a:stretch/>
        </p:blipFill>
        <p:spPr>
          <a:xfrm>
            <a:off x="3635280" y="6308640"/>
            <a:ext cx="265320" cy="265320"/>
          </a:xfrm>
          <a:prstGeom prst="rect">
            <a:avLst/>
          </a:prstGeom>
          <a:ln w="0">
            <a:noFill/>
          </a:ln>
        </p:spPr>
      </p:pic>
      <p:sp>
        <p:nvSpPr>
          <p:cNvPr id="363" name="Text Box 18"/>
          <p:cNvSpPr/>
          <p:nvPr/>
        </p:nvSpPr>
        <p:spPr>
          <a:xfrm>
            <a:off x="8459640" y="63086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Line 19"/>
          <p:cNvSpPr/>
          <p:nvPr/>
        </p:nvSpPr>
        <p:spPr>
          <a:xfrm flipH="1">
            <a:off x="7954920" y="6524640"/>
            <a:ext cx="504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Text Box 21"/>
          <p:cNvSpPr/>
          <p:nvPr/>
        </p:nvSpPr>
        <p:spPr>
          <a:xfrm>
            <a:off x="4356000" y="63086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π </a:t>
            </a:r>
            <a:r>
              <a:rPr b="0" lang="ru-RU" sz="18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Line 22"/>
          <p:cNvSpPr/>
          <p:nvPr/>
        </p:nvSpPr>
        <p:spPr>
          <a:xfrm flipH="1">
            <a:off x="3851280" y="6524640"/>
            <a:ext cx="504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Text Box 24"/>
          <p:cNvSpPr/>
          <p:nvPr/>
        </p:nvSpPr>
        <p:spPr>
          <a:xfrm>
            <a:off x="1979640" y="6165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π </a:t>
            </a:r>
            <a:r>
              <a:rPr b="0" lang="ru-RU" sz="18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Line 25"/>
          <p:cNvSpPr/>
          <p:nvPr/>
        </p:nvSpPr>
        <p:spPr>
          <a:xfrm flipV="1">
            <a:off x="2340000" y="6237000"/>
            <a:ext cx="503280" cy="14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Line 26"/>
          <p:cNvSpPr/>
          <p:nvPr/>
        </p:nvSpPr>
        <p:spPr>
          <a:xfrm>
            <a:off x="2340000" y="6381720"/>
            <a:ext cx="36036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nodeType="clickEffect" fill="hold">
                      <p:stCondLst>
                        <p:cond delay="0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2" dur="5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7" dur="500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72" dur="500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7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4" dur="8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5" dur="8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6" dur="8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2" dur="80"/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3" dur="80"/>
                                        <p:tgtEl>
                                          <p:spTgt spid="3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4" dur="80"/>
                                        <p:tgtEl>
                                          <p:spTgt spid="3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698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0" nodeType="with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701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8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3.97872E-007 L -0.45017 -0.00532 E">
                                      <p:cBhvr>
                                        <p:cTn id="709" dur="700" fill="hold"/>
                                        <p:tgtEl>
                                          <p:spTgt spid="3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71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5017 -0.00532 L -0.67066 0.07865 E">
                                      <p:cBhvr>
                                        <p:cTn id="712" dur="1300" fill="hold"/>
                                        <p:tgtEl>
                                          <p:spTgt spid="3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5.66736E-007 L -0.09445 -0.04187 E">
                                      <p:cBhvr>
                                        <p:cTn id="716" dur="2000" fill="hold"/>
                                        <p:tgtEl>
                                          <p:spTgt spid="3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7.77238E-007 L -0.11024 0.02105 E">
                                      <p:cBhvr>
                                        <p:cTn id="718" dur="2000" fill="hold"/>
                                        <p:tgtEl>
                                          <p:spTgt spid="3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3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6" dur="8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7" dur="8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8" dur="8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1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Информационные ресурсы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68000" y="1599840"/>
            <a:ext cx="8218440" cy="29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. С. Барашенков. «Вселенная в электроне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Большая энциклопедия Кирилла и Мефодия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ванта</a:t>
            </a:r>
            <a:r>
              <a:rPr b="0" lang="ru-RU" sz="32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«Астрономия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cc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знать основные свойства элементарных частиц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cc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ссмотреть изотопы водород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cc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ссмотреть законы микромир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cc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ссмотреть с механизм ядерных реакций на Солнце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cc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знать свойства мезон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cc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зучить строение адрон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WordArt 5"/>
          <p:cNvSpPr txBox="1"/>
          <p:nvPr/>
        </p:nvSpPr>
        <p:spPr>
          <a:xfrm>
            <a:off x="1835280" y="189000"/>
            <a:ext cx="56163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Наши цел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28036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Свойства элементарных частиц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50920" y="1125000"/>
            <a:ext cx="864216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388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Электрон – отрицательно заряженная элементарная частица с массой 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  <a:ea typeface="Arial"/>
              </a:rPr>
              <a:t>≈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 0,511 МэВ, со спином 0,5 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ћ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388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Протон – положительная частица с массой 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  <a:ea typeface="Arial"/>
              </a:rPr>
              <a:t>≈ 938,3 МэВ(≈ 1 а.е), со спином 0,5 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ћ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388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Позитрон – античастица электрона. Заряд 1, масса как у электрона, спин -0,5 ћ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388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Нейтрон – нейтральная элементарная частица, масса 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  <a:ea typeface="Arial"/>
              </a:rPr>
              <a:t>≈ 939,6 МэВ, спин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 0,5. В свободном состоянии нейтрон нестабилен и имеет время жизни около 16 мин. Вместе с протонами нейтрон образуют атомные ядра; в ядрах нейтрон стабилен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5" dur="5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0" dur="5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" dur="50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5" descr="proton"/>
          <p:cNvPicPr/>
          <p:nvPr/>
        </p:nvPicPr>
        <p:blipFill>
          <a:blip r:embed="rId1"/>
          <a:stretch/>
        </p:blipFill>
        <p:spPr>
          <a:xfrm>
            <a:off x="1476360" y="2708280"/>
            <a:ext cx="264960" cy="26496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Водород и его изотоп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 водорода три изотопа – протий, дейтерий и трити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Picture 8" descr="elektron"/>
          <p:cNvPicPr/>
          <p:nvPr/>
        </p:nvPicPr>
        <p:blipFill>
          <a:blip r:embed="rId3"/>
          <a:stretch/>
        </p:blipFill>
        <p:spPr>
          <a:xfrm>
            <a:off x="1065240" y="2852640"/>
            <a:ext cx="85680" cy="85680"/>
          </a:xfrm>
          <a:prstGeom prst="rect">
            <a:avLst/>
          </a:prstGeom>
          <a:ln w="0">
            <a:noFill/>
          </a:ln>
        </p:spPr>
      </p:pic>
      <p:sp>
        <p:nvSpPr>
          <p:cNvPr id="217" name="Oval 9"/>
          <p:cNvSpPr/>
          <p:nvPr/>
        </p:nvSpPr>
        <p:spPr>
          <a:xfrm>
            <a:off x="1116000" y="2347920"/>
            <a:ext cx="1008000" cy="10080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Picture 13" descr="proton"/>
          <p:cNvPicPr/>
          <p:nvPr/>
        </p:nvPicPr>
        <p:blipFill>
          <a:blip r:embed="rId4"/>
          <a:stretch/>
        </p:blipFill>
        <p:spPr>
          <a:xfrm>
            <a:off x="3348000" y="2781360"/>
            <a:ext cx="265320" cy="2649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4" descr="elektron"/>
          <p:cNvPicPr/>
          <p:nvPr/>
        </p:nvPicPr>
        <p:blipFill>
          <a:blip r:embed="rId5"/>
          <a:stretch/>
        </p:blipFill>
        <p:spPr>
          <a:xfrm>
            <a:off x="3008160" y="2925720"/>
            <a:ext cx="86040" cy="85680"/>
          </a:xfrm>
          <a:prstGeom prst="rect">
            <a:avLst/>
          </a:prstGeom>
          <a:ln w="0">
            <a:noFill/>
          </a:ln>
        </p:spPr>
      </p:pic>
      <p:sp>
        <p:nvSpPr>
          <p:cNvPr id="220" name="Oval 15"/>
          <p:cNvSpPr/>
          <p:nvPr/>
        </p:nvSpPr>
        <p:spPr>
          <a:xfrm>
            <a:off x="3059280" y="2421000"/>
            <a:ext cx="1008000" cy="10080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Picture 16" descr="neitron"/>
          <p:cNvPicPr/>
          <p:nvPr/>
        </p:nvPicPr>
        <p:blipFill>
          <a:blip r:embed="rId6"/>
          <a:stretch/>
        </p:blipFill>
        <p:spPr>
          <a:xfrm>
            <a:off x="3564000" y="2781360"/>
            <a:ext cx="264960" cy="2649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1" descr="proton"/>
          <p:cNvPicPr/>
          <p:nvPr/>
        </p:nvPicPr>
        <p:blipFill>
          <a:blip r:embed="rId7"/>
          <a:stretch/>
        </p:blipFill>
        <p:spPr>
          <a:xfrm>
            <a:off x="5291280" y="2779560"/>
            <a:ext cx="264960" cy="2653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22" descr="elektron"/>
          <p:cNvPicPr/>
          <p:nvPr/>
        </p:nvPicPr>
        <p:blipFill>
          <a:blip r:embed="rId8"/>
          <a:stretch/>
        </p:blipFill>
        <p:spPr>
          <a:xfrm>
            <a:off x="4951440" y="2944800"/>
            <a:ext cx="85680" cy="85680"/>
          </a:xfrm>
          <a:prstGeom prst="rect">
            <a:avLst/>
          </a:prstGeom>
          <a:ln w="0">
            <a:noFill/>
          </a:ln>
        </p:spPr>
      </p:pic>
      <p:sp>
        <p:nvSpPr>
          <p:cNvPr id="224" name="Oval 23"/>
          <p:cNvSpPr/>
          <p:nvPr/>
        </p:nvSpPr>
        <p:spPr>
          <a:xfrm>
            <a:off x="5002200" y="2440080"/>
            <a:ext cx="1008000" cy="10080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Picture 24" descr="neitron"/>
          <p:cNvPicPr/>
          <p:nvPr/>
        </p:nvPicPr>
        <p:blipFill>
          <a:blip r:embed="rId9"/>
          <a:stretch/>
        </p:blipFill>
        <p:spPr>
          <a:xfrm>
            <a:off x="5506920" y="2779560"/>
            <a:ext cx="265320" cy="2653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25" descr="neitron"/>
          <p:cNvPicPr/>
          <p:nvPr/>
        </p:nvPicPr>
        <p:blipFill>
          <a:blip r:embed="rId10"/>
          <a:stretch/>
        </p:blipFill>
        <p:spPr>
          <a:xfrm>
            <a:off x="5364000" y="2924280"/>
            <a:ext cx="265320" cy="26496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26"/>
          <p:cNvSpPr/>
          <p:nvPr/>
        </p:nvSpPr>
        <p:spPr>
          <a:xfrm>
            <a:off x="1333800" y="3500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 Box 30"/>
          <p:cNvSpPr/>
          <p:nvPr/>
        </p:nvSpPr>
        <p:spPr>
          <a:xfrm>
            <a:off x="3278520" y="3500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31"/>
          <p:cNvSpPr/>
          <p:nvPr/>
        </p:nvSpPr>
        <p:spPr>
          <a:xfrm>
            <a:off x="5294160" y="35002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Line 33"/>
          <p:cNvSpPr/>
          <p:nvPr/>
        </p:nvSpPr>
        <p:spPr>
          <a:xfrm flipV="1">
            <a:off x="1547640" y="2997360"/>
            <a:ext cx="71640" cy="57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Line 34"/>
          <p:cNvSpPr/>
          <p:nvPr/>
        </p:nvSpPr>
        <p:spPr>
          <a:xfrm flipV="1">
            <a:off x="3492360" y="2997360"/>
            <a:ext cx="71640" cy="57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Line 35"/>
          <p:cNvSpPr/>
          <p:nvPr/>
        </p:nvSpPr>
        <p:spPr>
          <a:xfrm flipV="1">
            <a:off x="5508720" y="3068640"/>
            <a:ext cx="7128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Rectangle 36"/>
          <p:cNvSpPr/>
          <p:nvPr/>
        </p:nvSpPr>
        <p:spPr>
          <a:xfrm>
            <a:off x="539640" y="4005360"/>
            <a:ext cx="815832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дород с массовым числом 1 называют легким водородом, или протием, обозначают символом Н, а его ядро называют протоном, символ р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2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56 0.00533 C 0.00677 0.04584 0.03524 0.07269 0.06493 0.06597 C 0.09531 0.05926 0.11493 0.02107 0.1099 -0.01921 C 0.10504 -0.05879 0.07691 -0.08541 0.0467 -0.0787 C 0.01649 -0.07176 -0.00347 -0.03449 0.00156 0.00533 Z">
                                      <p:cBhvr>
                                        <p:cTn id="83" dur="2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8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56 0.00509 C 0.00677 0.04607 0.03524 0.07245 0.06493 0.06574 C 0.09531 0.05903 0.11458 0.02083 0.1099 -0.01944 C 0.10504 -0.05903 0.07691 -0.08565 0.0467 -0.07893 C 0.01649 -0.07199 -0.00347 -0.03472 0.00156 0.00509 Z">
                                      <p:cBhvr>
                                        <p:cTn id="103" dur="200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6" dur="8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" dur="8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8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08 0.00463 C 0.00729 0.0456 0.03576 0.07199 0.06545 0.06528 C 0.09583 0.05856 0.11493 0.02037 0.11042 -0.01991 C 0.10556 -0.05949 0.07743 -0.08611 0.04722 -0.0794 C 0.01701 -0.07246 -0.00295 -0.03519 0.00208 0.00463 Z">
                                      <p:cBhvr>
                                        <p:cTn id="125" dur="2000" fill="hold"/>
                                        <p:tgtEl>
                                          <p:spTgt spid="2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8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8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11" descr="proton"/>
          <p:cNvPicPr/>
          <p:nvPr/>
        </p:nvPicPr>
        <p:blipFill>
          <a:blip r:embed="rId1"/>
          <a:stretch/>
        </p:blipFill>
        <p:spPr>
          <a:xfrm>
            <a:off x="1619280" y="5805360"/>
            <a:ext cx="264960" cy="26532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Дейтерий и тритий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94920" y="980640"/>
            <a:ext cx="830268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дород с массовым числом 2 называют тяжелым водородом, дейтерием. Для его обозначения используют символы </a:t>
            </a:r>
            <a:r>
              <a:rPr b="0" lang="ru-RU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, или D (читается «де»), ядро d — дейтрон. Радиоактивный изотоп с массовым числом 3 называют сверхтяжелым водородом, или тритием, символ </a:t>
            </a:r>
            <a:r>
              <a:rPr b="0" lang="ru-RU" sz="32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 или Т (читается «те»), ядро t — тритон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хема радиоактивности трития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Picture 4" descr="proton"/>
          <p:cNvPicPr/>
          <p:nvPr/>
        </p:nvPicPr>
        <p:blipFill>
          <a:blip r:embed="rId4"/>
          <a:stretch/>
        </p:blipFill>
        <p:spPr>
          <a:xfrm>
            <a:off x="1401840" y="5770440"/>
            <a:ext cx="264960" cy="2653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7" descr="neitron"/>
          <p:cNvPicPr/>
          <p:nvPr/>
        </p:nvPicPr>
        <p:blipFill>
          <a:blip r:embed="rId5"/>
          <a:stretch/>
        </p:blipFill>
        <p:spPr>
          <a:xfrm>
            <a:off x="1619280" y="5805360"/>
            <a:ext cx="264960" cy="26532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8" descr="neitron"/>
          <p:cNvPicPr/>
          <p:nvPr/>
        </p:nvPicPr>
        <p:blipFill>
          <a:blip r:embed="rId6"/>
          <a:stretch/>
        </p:blipFill>
        <p:spPr>
          <a:xfrm>
            <a:off x="1476360" y="5950080"/>
            <a:ext cx="264960" cy="26496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9"/>
          <p:cNvSpPr/>
          <p:nvPr/>
        </p:nvSpPr>
        <p:spPr>
          <a:xfrm>
            <a:off x="1404720" y="649116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Line 10"/>
          <p:cNvSpPr/>
          <p:nvPr/>
        </p:nvSpPr>
        <p:spPr>
          <a:xfrm flipV="1">
            <a:off x="1619280" y="6059520"/>
            <a:ext cx="7128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3" name="Group 29"/>
          <p:cNvGrpSpPr/>
          <p:nvPr/>
        </p:nvGrpSpPr>
        <p:grpSpPr>
          <a:xfrm>
            <a:off x="1763640" y="5877000"/>
            <a:ext cx="179640" cy="92160"/>
            <a:chOff x="1763640" y="5877000"/>
            <a:chExt cx="179640" cy="92160"/>
          </a:xfrm>
        </p:grpSpPr>
        <p:pic>
          <p:nvPicPr>
            <p:cNvPr id="244" name="Picture 28" descr="elektron_sl2"/>
            <p:cNvPicPr/>
            <p:nvPr/>
          </p:nvPicPr>
          <p:blipFill>
            <a:blip r:embed="rId7"/>
            <a:stretch/>
          </p:blipFill>
          <p:spPr>
            <a:xfrm>
              <a:off x="1763640" y="5877000"/>
              <a:ext cx="127080" cy="92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3" descr="elektron"/>
            <p:cNvPicPr/>
            <p:nvPr/>
          </p:nvPicPr>
          <p:blipFill>
            <a:blip r:embed="rId8"/>
            <a:stretch/>
          </p:blipFill>
          <p:spPr>
            <a:xfrm>
              <a:off x="1857240" y="5877000"/>
              <a:ext cx="86040" cy="85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6" name="Oval 14"/>
          <p:cNvSpPr/>
          <p:nvPr/>
        </p:nvSpPr>
        <p:spPr>
          <a:xfrm>
            <a:off x="1908000" y="5950080"/>
            <a:ext cx="17640" cy="172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560" bIns="-34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Line 15"/>
          <p:cNvSpPr/>
          <p:nvPr/>
        </p:nvSpPr>
        <p:spPr>
          <a:xfrm>
            <a:off x="1619280" y="6165720"/>
            <a:ext cx="792000" cy="3589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16"/>
          <p:cNvSpPr/>
          <p:nvPr/>
        </p:nvSpPr>
        <p:spPr>
          <a:xfrm>
            <a:off x="2268360" y="649116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H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Line 17"/>
          <p:cNvSpPr/>
          <p:nvPr/>
        </p:nvSpPr>
        <p:spPr>
          <a:xfrm flipV="1">
            <a:off x="5219640" y="5589360"/>
            <a:ext cx="1440000" cy="2156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Text Box 18"/>
          <p:cNvSpPr/>
          <p:nvPr/>
        </p:nvSpPr>
        <p:spPr>
          <a:xfrm>
            <a:off x="6588000" y="5445000"/>
            <a:ext cx="13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Line 19"/>
          <p:cNvSpPr/>
          <p:nvPr/>
        </p:nvSpPr>
        <p:spPr>
          <a:xfrm flipH="1">
            <a:off x="5724000" y="5950080"/>
            <a:ext cx="1584360" cy="5032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20"/>
          <p:cNvSpPr/>
          <p:nvPr/>
        </p:nvSpPr>
        <p:spPr>
          <a:xfrm>
            <a:off x="5508720" y="6237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Line 21"/>
          <p:cNvSpPr/>
          <p:nvPr/>
        </p:nvSpPr>
        <p:spPr>
          <a:xfrm>
            <a:off x="1908000" y="5950080"/>
            <a:ext cx="792360" cy="3585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Text Box 22"/>
          <p:cNvSpPr/>
          <p:nvPr/>
        </p:nvSpPr>
        <p:spPr>
          <a:xfrm>
            <a:off x="2627280" y="616572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Line 27"/>
          <p:cNvSpPr/>
          <p:nvPr/>
        </p:nvSpPr>
        <p:spPr>
          <a:xfrm>
            <a:off x="5591160" y="6351480"/>
            <a:ext cx="144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5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0" dur="5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8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80"/>
                            </p:stCondLst>
                            <p:childTnLst>
                              <p:par>
                                <p:cTn id="1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7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9" dur="250" autoRev="1" fill="hold"/>
                                        <p:tgtEl>
                                          <p:spTgt spid="23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1.11022E-016 L 0.60538 -0.00116 E">
                                      <p:cBhvr>
                                        <p:cTn id="189" dur="500" fill="hold"/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5.18519E-006 L 0.36215 -0.02107 E">
                                      <p:cBhvr>
                                        <p:cTn id="193" dur="700" fill="hold"/>
                                        <p:tgtEl>
                                          <p:spTgt spid="2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8" dur="8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9" dur="8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0" dur="8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7" dur="8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8" dur="8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9" dur="8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4" dur="8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6" dur="8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3" dur="8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Законы микромир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88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Как известно, нейтрон в свободном состоянии распадается на протон, электрон и антинейтрино. А почему рождается пара лептонов? Разве ту энергию, что несёт антинейтрино, не может унести электрон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88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Все реакции должны проходить по законам сохранения. В эти законы входят: закон сохранения энергии, электрического, лептонного, барионного заряда, и т.д…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9" name="Group 52"/>
          <p:cNvGrpSpPr/>
          <p:nvPr/>
        </p:nvGrpSpPr>
        <p:grpSpPr>
          <a:xfrm>
            <a:off x="2259000" y="5157720"/>
            <a:ext cx="5265720" cy="1611360"/>
            <a:chOff x="2259000" y="5157720"/>
            <a:chExt cx="5265720" cy="1611360"/>
          </a:xfrm>
        </p:grpSpPr>
        <p:sp>
          <p:nvSpPr>
            <p:cNvPr id="260" name="Text Box 48"/>
            <p:cNvSpPr/>
            <p:nvPr/>
          </p:nvSpPr>
          <p:spPr>
            <a:xfrm>
              <a:off x="4572000" y="5805360"/>
              <a:ext cx="295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электрический заряд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61" name="Picture 4" descr="neitron"/>
            <p:cNvPicPr/>
            <p:nvPr/>
          </p:nvPicPr>
          <p:blipFill>
            <a:blip r:embed="rId3"/>
            <a:stretch/>
          </p:blipFill>
          <p:spPr>
            <a:xfrm>
              <a:off x="2341440" y="5300640"/>
              <a:ext cx="265320" cy="26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Line 5"/>
            <p:cNvSpPr/>
            <p:nvPr/>
          </p:nvSpPr>
          <p:spPr>
            <a:xfrm>
              <a:off x="2700360" y="5445000"/>
              <a:ext cx="216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63" name="Picture 6" descr="proton"/>
            <p:cNvPicPr/>
            <p:nvPr/>
          </p:nvPicPr>
          <p:blipFill>
            <a:blip r:embed="rId4"/>
            <a:stretch/>
          </p:blipFill>
          <p:spPr>
            <a:xfrm>
              <a:off x="2989440" y="5300640"/>
              <a:ext cx="264960" cy="26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Text Box 7"/>
            <p:cNvSpPr/>
            <p:nvPr/>
          </p:nvSpPr>
          <p:spPr>
            <a:xfrm>
              <a:off x="3277800" y="522936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65" name="Picture 8" descr="elektron"/>
            <p:cNvPicPr/>
            <p:nvPr/>
          </p:nvPicPr>
          <p:blipFill>
            <a:blip r:embed="rId5"/>
            <a:stretch/>
          </p:blipFill>
          <p:spPr>
            <a:xfrm>
              <a:off x="3565440" y="5373720"/>
              <a:ext cx="85680" cy="8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Text Box 9"/>
            <p:cNvSpPr/>
            <p:nvPr/>
          </p:nvSpPr>
          <p:spPr>
            <a:xfrm>
              <a:off x="3638160" y="522936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Oval 10"/>
            <p:cNvSpPr/>
            <p:nvPr/>
          </p:nvSpPr>
          <p:spPr>
            <a:xfrm>
              <a:off x="3925800" y="5394240"/>
              <a:ext cx="17640" cy="17640"/>
            </a:xfrm>
            <a:prstGeom prst="ellipse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Text Box 11"/>
            <p:cNvSpPr/>
            <p:nvPr/>
          </p:nvSpPr>
          <p:spPr>
            <a:xfrm>
              <a:off x="2268360" y="5589720"/>
              <a:ext cx="187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  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→   p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  <a:ea typeface="Arial"/>
                </a:rPr>
                <a:t>+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+ e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  <a:ea typeface="Arial"/>
                </a:rPr>
                <a:t>-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+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Text Box 13"/>
            <p:cNvSpPr/>
            <p:nvPr/>
          </p:nvSpPr>
          <p:spPr>
            <a:xfrm>
              <a:off x="3852720" y="5589720"/>
              <a:ext cx="28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ν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Line 14"/>
            <p:cNvSpPr/>
            <p:nvPr/>
          </p:nvSpPr>
          <p:spPr>
            <a:xfrm>
              <a:off x="3935520" y="5703840"/>
              <a:ext cx="144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Text Box 15"/>
            <p:cNvSpPr/>
            <p:nvPr/>
          </p:nvSpPr>
          <p:spPr>
            <a:xfrm>
              <a:off x="2259000" y="5864400"/>
              <a:ext cx="201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0    =   1  +(-1)+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Text Box 16"/>
            <p:cNvSpPr/>
            <p:nvPr/>
          </p:nvSpPr>
          <p:spPr>
            <a:xfrm>
              <a:off x="2259000" y="6153120"/>
              <a:ext cx="237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0" lang="ru-RU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= </a:t>
              </a:r>
              <a:r>
                <a:rPr b="0" lang="ru-RU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0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+1/2+(-1/2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Text Box 32"/>
            <p:cNvSpPr/>
            <p:nvPr/>
          </p:nvSpPr>
          <p:spPr>
            <a:xfrm>
              <a:off x="4573440" y="5157720"/>
              <a:ext cx="104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реакци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Text Box 46"/>
            <p:cNvSpPr/>
            <p:nvPr/>
          </p:nvSpPr>
          <p:spPr>
            <a:xfrm>
              <a:off x="4573440" y="5516640"/>
              <a:ext cx="8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запис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Text Box 47"/>
            <p:cNvSpPr/>
            <p:nvPr/>
          </p:nvSpPr>
          <p:spPr>
            <a:xfrm>
              <a:off x="2268360" y="6400800"/>
              <a:ext cx="2149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0" lang="ru-RU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= </a:t>
              </a:r>
              <a:r>
                <a:rPr b="0" lang="ru-RU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1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+</a:t>
              </a:r>
              <a:r>
                <a:rPr b="0" lang="ru-RU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0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+</a:t>
              </a:r>
              <a:r>
                <a:rPr b="0" lang="ru-RU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  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Text Box 49"/>
            <p:cNvSpPr/>
            <p:nvPr/>
          </p:nvSpPr>
          <p:spPr>
            <a:xfrm>
              <a:off x="4572000" y="6093000"/>
              <a:ext cx="230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лептонный заряд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Text Box 50"/>
            <p:cNvSpPr/>
            <p:nvPr/>
          </p:nvSpPr>
          <p:spPr>
            <a:xfrm>
              <a:off x="4572000" y="6381720"/>
              <a:ext cx="230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барионный заряд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0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7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2" dur="500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Ядерные реакции на Солнц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лнце, как и другие звёзды, светит благодаря термоядерным реакция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1" name="Picture 4" descr="proton"/>
          <p:cNvPicPr/>
          <p:nvPr/>
        </p:nvPicPr>
        <p:blipFill>
          <a:blip r:embed="rId2"/>
          <a:stretch/>
        </p:blipFill>
        <p:spPr>
          <a:xfrm>
            <a:off x="539640" y="2421000"/>
            <a:ext cx="265320" cy="26496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6" descr="proton"/>
          <p:cNvPicPr/>
          <p:nvPr/>
        </p:nvPicPr>
        <p:blipFill>
          <a:blip r:embed="rId3"/>
          <a:stretch/>
        </p:blipFill>
        <p:spPr>
          <a:xfrm>
            <a:off x="7596360" y="2421000"/>
            <a:ext cx="264960" cy="264960"/>
          </a:xfrm>
          <a:prstGeom prst="rect">
            <a:avLst/>
          </a:prstGeom>
          <a:ln w="0">
            <a:noFill/>
          </a:ln>
        </p:spPr>
      </p:pic>
      <p:sp>
        <p:nvSpPr>
          <p:cNvPr id="283" name="Text Box 7"/>
          <p:cNvSpPr/>
          <p:nvPr/>
        </p:nvSpPr>
        <p:spPr>
          <a:xfrm>
            <a:off x="1189440" y="2492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Line 8"/>
          <p:cNvSpPr/>
          <p:nvPr/>
        </p:nvSpPr>
        <p:spPr>
          <a:xfrm flipH="1">
            <a:off x="755640" y="2637000"/>
            <a:ext cx="503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Text Box 9"/>
          <p:cNvSpPr/>
          <p:nvPr/>
        </p:nvSpPr>
        <p:spPr>
          <a:xfrm>
            <a:off x="8461800" y="2421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Line 10"/>
          <p:cNvSpPr/>
          <p:nvPr/>
        </p:nvSpPr>
        <p:spPr>
          <a:xfrm flipH="1" flipV="1">
            <a:off x="7885080" y="2565000"/>
            <a:ext cx="574560" cy="7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7" name="Picture 11" descr="neitron"/>
          <p:cNvPicPr/>
          <p:nvPr/>
        </p:nvPicPr>
        <p:blipFill>
          <a:blip r:embed="rId4"/>
          <a:stretch/>
        </p:blipFill>
        <p:spPr>
          <a:xfrm>
            <a:off x="4284720" y="2492280"/>
            <a:ext cx="264960" cy="26532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12"/>
          <p:cNvSpPr/>
          <p:nvPr/>
        </p:nvSpPr>
        <p:spPr>
          <a:xfrm>
            <a:off x="5510520" y="2852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Line 13"/>
          <p:cNvSpPr/>
          <p:nvPr/>
        </p:nvSpPr>
        <p:spPr>
          <a:xfrm flipH="1">
            <a:off x="5076720" y="2997360"/>
            <a:ext cx="503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0" name="Picture 14" descr="proton"/>
          <p:cNvPicPr/>
          <p:nvPr/>
        </p:nvPicPr>
        <p:blipFill>
          <a:blip r:embed="rId5"/>
          <a:stretch/>
        </p:blipFill>
        <p:spPr>
          <a:xfrm>
            <a:off x="539640" y="7029360"/>
            <a:ext cx="265320" cy="265320"/>
          </a:xfrm>
          <a:prstGeom prst="rect">
            <a:avLst/>
          </a:prstGeom>
          <a:ln w="0">
            <a:noFill/>
          </a:ln>
        </p:spPr>
      </p:pic>
      <p:sp>
        <p:nvSpPr>
          <p:cNvPr id="291" name="Text Box 15"/>
          <p:cNvSpPr/>
          <p:nvPr/>
        </p:nvSpPr>
        <p:spPr>
          <a:xfrm>
            <a:off x="3858840" y="2852640"/>
            <a:ext cx="54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Line 16"/>
          <p:cNvSpPr/>
          <p:nvPr/>
        </p:nvSpPr>
        <p:spPr>
          <a:xfrm>
            <a:off x="4356000" y="306864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3" name="Group 20"/>
          <p:cNvGrpSpPr/>
          <p:nvPr/>
        </p:nvGrpSpPr>
        <p:grpSpPr>
          <a:xfrm>
            <a:off x="826920" y="7029360"/>
            <a:ext cx="480960" cy="480960"/>
            <a:chOff x="826920" y="7029360"/>
            <a:chExt cx="480960" cy="480960"/>
          </a:xfrm>
        </p:grpSpPr>
        <p:pic>
          <p:nvPicPr>
            <p:cNvPr id="294" name="Picture 18" descr="neitron"/>
            <p:cNvPicPr/>
            <p:nvPr/>
          </p:nvPicPr>
          <p:blipFill>
            <a:blip r:embed="rId6"/>
            <a:stretch/>
          </p:blipFill>
          <p:spPr>
            <a:xfrm>
              <a:off x="826920" y="7173720"/>
              <a:ext cx="265320" cy="26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Picture 19" descr="proton"/>
            <p:cNvPicPr/>
            <p:nvPr/>
          </p:nvPicPr>
          <p:blipFill>
            <a:blip r:embed="rId7"/>
            <a:stretch/>
          </p:blipFill>
          <p:spPr>
            <a:xfrm>
              <a:off x="1042920" y="7245000"/>
              <a:ext cx="264960" cy="26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17" descr="proton"/>
            <p:cNvPicPr/>
            <p:nvPr/>
          </p:nvPicPr>
          <p:blipFill>
            <a:blip r:embed="rId8"/>
            <a:stretch/>
          </p:blipFill>
          <p:spPr>
            <a:xfrm>
              <a:off x="971280" y="7029360"/>
              <a:ext cx="265320" cy="26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7" name="Text Box 21"/>
          <p:cNvSpPr/>
          <p:nvPr/>
        </p:nvSpPr>
        <p:spPr>
          <a:xfrm>
            <a:off x="829080" y="3500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Text Box 22"/>
          <p:cNvSpPr/>
          <p:nvPr/>
        </p:nvSpPr>
        <p:spPr>
          <a:xfrm>
            <a:off x="7742520" y="3429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Text Box 24"/>
          <p:cNvSpPr/>
          <p:nvPr/>
        </p:nvSpPr>
        <p:spPr>
          <a:xfrm>
            <a:off x="4650840" y="3284640"/>
            <a:ext cx="54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Text Box 25"/>
          <p:cNvSpPr/>
          <p:nvPr/>
        </p:nvSpPr>
        <p:spPr>
          <a:xfrm>
            <a:off x="250920" y="371628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.Протоны с высокой энергией сближаются. Один из них может распасться на протон, позитрон и нейтрино. Тогда образуется ядро дейтер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Oval 29"/>
          <p:cNvSpPr/>
          <p:nvPr/>
        </p:nvSpPr>
        <p:spPr>
          <a:xfrm>
            <a:off x="4427640" y="2781360"/>
            <a:ext cx="17280" cy="172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560" bIns="-34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2" name="Group 33"/>
          <p:cNvGrpSpPr/>
          <p:nvPr/>
        </p:nvGrpSpPr>
        <p:grpSpPr>
          <a:xfrm>
            <a:off x="4356000" y="2421000"/>
            <a:ext cx="182520" cy="92160"/>
            <a:chOff x="4356000" y="2421000"/>
            <a:chExt cx="182520" cy="92160"/>
          </a:xfrm>
        </p:grpSpPr>
        <p:pic>
          <p:nvPicPr>
            <p:cNvPr id="303" name="Picture 27" descr="elektron_sl2"/>
            <p:cNvPicPr/>
            <p:nvPr/>
          </p:nvPicPr>
          <p:blipFill>
            <a:blip r:embed="rId9"/>
            <a:stretch/>
          </p:blipFill>
          <p:spPr>
            <a:xfrm>
              <a:off x="4356000" y="2421000"/>
              <a:ext cx="127080" cy="92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32" descr="pozitron"/>
            <p:cNvPicPr/>
            <p:nvPr/>
          </p:nvPicPr>
          <p:blipFill>
            <a:blip r:embed="rId10"/>
            <a:stretch/>
          </p:blipFill>
          <p:spPr>
            <a:xfrm>
              <a:off x="4452840" y="2421000"/>
              <a:ext cx="85680" cy="85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5" name="Text Box 34"/>
          <p:cNvSpPr/>
          <p:nvPr/>
        </p:nvSpPr>
        <p:spPr>
          <a:xfrm>
            <a:off x="8251560" y="1844640"/>
            <a:ext cx="3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Line 35"/>
          <p:cNvSpPr/>
          <p:nvPr/>
        </p:nvSpPr>
        <p:spPr>
          <a:xfrm flipH="1">
            <a:off x="7524720" y="2060640"/>
            <a:ext cx="719280" cy="288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Text Box 37"/>
          <p:cNvSpPr/>
          <p:nvPr/>
        </p:nvSpPr>
        <p:spPr>
          <a:xfrm>
            <a:off x="8534160" y="3213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Line 38"/>
          <p:cNvSpPr/>
          <p:nvPr/>
        </p:nvSpPr>
        <p:spPr>
          <a:xfrm flipH="1" flipV="1">
            <a:off x="8388360" y="3068640"/>
            <a:ext cx="28728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Text Box 42"/>
          <p:cNvSpPr/>
          <p:nvPr/>
        </p:nvSpPr>
        <p:spPr>
          <a:xfrm>
            <a:off x="250920" y="436572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.Ядро дейтерия присоединяет к себе протон, испускает мощный гамма-квант и становится ядром лёгкого гел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0" name="Picture 44" descr="foton"/>
          <p:cNvPicPr/>
          <p:nvPr/>
        </p:nvPicPr>
        <p:blipFill>
          <a:blip r:embed="rId11"/>
          <a:stretch/>
        </p:blipFill>
        <p:spPr>
          <a:xfrm>
            <a:off x="5003640" y="3068640"/>
            <a:ext cx="171720" cy="58680"/>
          </a:xfrm>
          <a:prstGeom prst="rect">
            <a:avLst/>
          </a:prstGeom>
          <a:ln w="0">
            <a:noFill/>
          </a:ln>
        </p:spPr>
      </p:pic>
      <p:sp>
        <p:nvSpPr>
          <p:cNvPr id="311" name="Text Box 45"/>
          <p:cNvSpPr/>
          <p:nvPr/>
        </p:nvSpPr>
        <p:spPr>
          <a:xfrm>
            <a:off x="8847000" y="3573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Line 46"/>
          <p:cNvSpPr/>
          <p:nvPr/>
        </p:nvSpPr>
        <p:spPr>
          <a:xfrm flipH="1" flipV="1">
            <a:off x="8388360" y="3644640"/>
            <a:ext cx="504720" cy="14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Text Box 47"/>
          <p:cNvSpPr/>
          <p:nvPr/>
        </p:nvSpPr>
        <p:spPr>
          <a:xfrm>
            <a:off x="324000" y="508464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.Когда такие ядра сближаются, они могут объединиться в ядро обычного гелия, «отпустив на свободу» два протон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Text Box 48"/>
          <p:cNvSpPr/>
          <p:nvPr/>
        </p:nvSpPr>
        <p:spPr>
          <a:xfrm>
            <a:off x="324000" y="5734080"/>
            <a:ext cx="871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так, в итоге последовательных превращений образуется ядро обычного гелия. Так как масса ядра гелия меньше суммы масс четырёх ядер водорода, то остаток массы переходит в энергию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0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9" dur="5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8" dur="8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9" dur="8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0" dur="8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6" dur="8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7" dur="8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8" dur="8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285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29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5" nodeType="after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1.11111E-006 -1.85185E-006 L -0.33872 0.01042 E">
                                      <p:cBhvr>
                                        <p:cTn id="296" dur="700" fill="hold"/>
                                        <p:tgtEl>
                                          <p:spTgt spid="2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7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2.5E-006 -2.22222E-006 L 0.41076 0.01227 E">
                                      <p:cBhvr>
                                        <p:cTn id="298" dur="700" fill="hold"/>
                                        <p:tgtEl>
                                          <p:spTgt spid="2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1700"/>
                            </p:stCondLst>
                            <p:childTnLst>
                              <p:par>
                                <p:cTn id="300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1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2" dur="250" autoRev="1" fill="hold"/>
                                        <p:tgtEl>
                                          <p:spTgt spid="28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30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1.11111E-006 L 0.42674 0.03333 E">
                                      <p:cBhvr>
                                        <p:cTn id="313" dur="500" fill="hold"/>
                                        <p:tgtEl>
                                          <p:spTgt spid="3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7.40741E-007 L 0.32725 -0.00857 E">
                                      <p:cBhvr>
                                        <p:cTn id="315" dur="700" fill="hold"/>
                                        <p:tgtEl>
                                          <p:spTgt spid="3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27778E-006 -1.85185E-006 L 0.0394 0.05255 E">
                                      <p:cBhvr>
                                        <p:cTn id="317" dur="1000" fill="hold"/>
                                        <p:tgtEl>
                                          <p:spTgt spid="2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3872 0.01042 L -0.29931 0.06297 E">
                                      <p:cBhvr>
                                        <p:cTn id="319" dur="1000" fill="hold"/>
                                        <p:tgtEl>
                                          <p:spTgt spid="2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32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3" dur="8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4" dur="8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5" dur="8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1" dur="8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2" dur="8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3" dur="8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3700"/>
                            </p:stCondLst>
                            <p:childTnLst>
                              <p:par>
                                <p:cTn id="33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1" dur="8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2" dur="8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0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35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361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368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39 0.01065 L 0.45937 -0.58611 E">
                                      <p:cBhvr>
                                        <p:cTn id="374" dur="1000" fill="hold"/>
                                        <p:tgtEl>
                                          <p:spTgt spid="2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42 -0.01644 L 0.35798 0.07384 E">
                                      <p:cBhvr>
                                        <p:cTn id="379" dur="300" fill="hold"/>
                                        <p:tgtEl>
                                          <p:spTgt spid="3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38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3" dur="8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4" dur="8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5" dur="8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39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2" dur="8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3" dur="8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4" dur="8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2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406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411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7037E-006 L 0.37552 -0.6125 E">
                                      <p:cBhvr>
                                        <p:cTn id="419" dur="1000" fill="hold"/>
                                        <p:tgtEl>
                                          <p:spTgt spid="2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2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4896 -0.60902 L 0.7967 -0.55463 E">
                                      <p:cBhvr>
                                        <p:cTn id="422" dur="700" fill="hold"/>
                                        <p:tgtEl>
                                          <p:spTgt spid="2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2274 0.06297 L -0.73889 0.12778 E">
                                      <p:cBhvr>
                                        <p:cTn id="424" dur="700" fill="hold"/>
                                        <p:tgtEl>
                                          <p:spTgt spid="2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9" dur="8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0" dur="8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1" dur="8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4" dur="8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5" dur="8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6" dur="8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9" dur="8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0" dur="8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1" dur="8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6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1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" nodeType="with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455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458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ccecff"/>
                </a:solidFill>
                <a:latin typeface="Arial"/>
                <a:ea typeface="Arial"/>
              </a:rPr>
              <a:t>π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  <a:ea typeface="Arial"/>
              </a:rPr>
              <a:t>-мезон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24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88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В ядре протоны и нейтроны обмениваются </a:t>
            </a:r>
            <a:r>
              <a:rPr b="0" lang="el-GR" sz="3100" spc="-1" strike="noStrike">
                <a:solidFill>
                  <a:srgbClr val="ffffff"/>
                </a:solidFill>
                <a:latin typeface="Arial"/>
                <a:ea typeface="Arial"/>
              </a:rPr>
              <a:t>π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  <a:ea typeface="Arial"/>
              </a:rPr>
              <a:t>-мезонами, сильновзаимодействующими частицами в примерно 270 раз тяжелее электрона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88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  <a:ea typeface="Arial"/>
              </a:rPr>
              <a:t>В заряженном состоянии распадается на мюон и антинейтрино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8" name="Picture 4" descr="Mezon-"/>
          <p:cNvPicPr/>
          <p:nvPr/>
        </p:nvPicPr>
        <p:blipFill>
          <a:blip r:embed="rId3"/>
          <a:stretch/>
        </p:blipFill>
        <p:spPr>
          <a:xfrm>
            <a:off x="428760" y="3548160"/>
            <a:ext cx="264960" cy="264960"/>
          </a:xfrm>
          <a:prstGeom prst="rect">
            <a:avLst/>
          </a:prstGeom>
          <a:ln w="0">
            <a:noFill/>
          </a:ln>
        </p:spPr>
      </p:pic>
      <p:sp>
        <p:nvSpPr>
          <p:cNvPr id="319" name="Text Box 5"/>
          <p:cNvSpPr/>
          <p:nvPr/>
        </p:nvSpPr>
        <p:spPr>
          <a:xfrm>
            <a:off x="1116000" y="35002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π </a:t>
            </a:r>
            <a:r>
              <a:rPr b="0" lang="ru-RU" sz="1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Line 7"/>
          <p:cNvSpPr/>
          <p:nvPr/>
        </p:nvSpPr>
        <p:spPr>
          <a:xfrm flipH="1">
            <a:off x="611280" y="3716280"/>
            <a:ext cx="504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Oval 9"/>
          <p:cNvSpPr/>
          <p:nvPr/>
        </p:nvSpPr>
        <p:spPr>
          <a:xfrm>
            <a:off x="684360" y="3789360"/>
            <a:ext cx="17280" cy="1764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2" name="Group 14"/>
          <p:cNvGrpSpPr/>
          <p:nvPr/>
        </p:nvGrpSpPr>
        <p:grpSpPr>
          <a:xfrm>
            <a:off x="395280" y="3573360"/>
            <a:ext cx="283680" cy="216000"/>
            <a:chOff x="395280" y="3573360"/>
            <a:chExt cx="283680" cy="216000"/>
          </a:xfrm>
        </p:grpSpPr>
        <p:pic>
          <p:nvPicPr>
            <p:cNvPr id="323" name="Picture 13" descr="elektron_sl"/>
            <p:cNvPicPr/>
            <p:nvPr/>
          </p:nvPicPr>
          <p:blipFill>
            <a:blip r:embed="rId4"/>
            <a:stretch/>
          </p:blipFill>
          <p:spPr>
            <a:xfrm>
              <a:off x="395280" y="3573360"/>
              <a:ext cx="149040" cy="2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4" name="Picture 12" descr="Muon-"/>
            <p:cNvPicPr/>
            <p:nvPr/>
          </p:nvPicPr>
          <p:blipFill>
            <a:blip r:embed="rId5"/>
            <a:stretch/>
          </p:blipFill>
          <p:spPr>
            <a:xfrm>
              <a:off x="474480" y="3573360"/>
              <a:ext cx="204480" cy="204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5" name="Line 15"/>
          <p:cNvSpPr/>
          <p:nvPr/>
        </p:nvSpPr>
        <p:spPr>
          <a:xfrm flipV="1">
            <a:off x="7380360" y="3500280"/>
            <a:ext cx="720720" cy="649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Text Box 16"/>
          <p:cNvSpPr/>
          <p:nvPr/>
        </p:nvSpPr>
        <p:spPr>
          <a:xfrm>
            <a:off x="6372360" y="3141720"/>
            <a:ext cx="27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юонное антинейтрин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Line 17"/>
          <p:cNvSpPr/>
          <p:nvPr/>
        </p:nvSpPr>
        <p:spPr>
          <a:xfrm flipH="1">
            <a:off x="5076720" y="3645000"/>
            <a:ext cx="935280" cy="1443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Text Box 18"/>
          <p:cNvSpPr/>
          <p:nvPr/>
        </p:nvSpPr>
        <p:spPr>
          <a:xfrm>
            <a:off x="4788000" y="3716280"/>
            <a:ext cx="6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0" lang="ru-RU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Rectangle 20"/>
          <p:cNvSpPr/>
          <p:nvPr/>
        </p:nvSpPr>
        <p:spPr>
          <a:xfrm>
            <a:off x="611280" y="4221000"/>
            <a:ext cx="822960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388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  <a:ea typeface="Arial"/>
              </a:rPr>
              <a:t>В нейтральном состоянии он почти мгновенно распадается на два </a:t>
            </a:r>
            <a:r>
              <a:rPr b="0" lang="el-GR" sz="3100" spc="-1" strike="noStrike">
                <a:solidFill>
                  <a:srgbClr val="ffffff"/>
                </a:solidFill>
                <a:latin typeface="Arial"/>
                <a:ea typeface="Arial"/>
              </a:rPr>
              <a:t>γ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  <a:ea typeface="Arial"/>
              </a:rPr>
              <a:t>-фотона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0" name="Picture 21" descr="Mezon0"/>
          <p:cNvPicPr/>
          <p:nvPr/>
        </p:nvPicPr>
        <p:blipFill>
          <a:blip r:embed="rId7"/>
          <a:stretch/>
        </p:blipFill>
        <p:spPr>
          <a:xfrm>
            <a:off x="4211640" y="5229360"/>
            <a:ext cx="264960" cy="264960"/>
          </a:xfrm>
          <a:prstGeom prst="rect">
            <a:avLst/>
          </a:prstGeom>
          <a:ln w="0">
            <a:noFill/>
          </a:ln>
        </p:spPr>
      </p:pic>
      <p:sp>
        <p:nvSpPr>
          <p:cNvPr id="331" name="Text Box 22"/>
          <p:cNvSpPr/>
          <p:nvPr/>
        </p:nvSpPr>
        <p:spPr>
          <a:xfrm>
            <a:off x="4859280" y="5157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π </a:t>
            </a:r>
            <a:r>
              <a:rPr b="0" lang="ru-RU" sz="18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Line 23"/>
          <p:cNvSpPr/>
          <p:nvPr/>
        </p:nvSpPr>
        <p:spPr>
          <a:xfrm flipH="1">
            <a:off x="4354560" y="5373720"/>
            <a:ext cx="504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3" name="Picture 24" descr="foton"/>
          <p:cNvPicPr/>
          <p:nvPr/>
        </p:nvPicPr>
        <p:blipFill>
          <a:blip r:embed="rId8"/>
          <a:stretch/>
        </p:blipFill>
        <p:spPr>
          <a:xfrm>
            <a:off x="4282920" y="5229360"/>
            <a:ext cx="171720" cy="5868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25" descr="foton"/>
          <p:cNvPicPr/>
          <p:nvPr/>
        </p:nvPicPr>
        <p:blipFill>
          <a:blip r:embed="rId9"/>
          <a:stretch/>
        </p:blipFill>
        <p:spPr>
          <a:xfrm rot="10800000">
            <a:off x="4284720" y="5373360"/>
            <a:ext cx="171360" cy="58680"/>
          </a:xfrm>
          <a:prstGeom prst="rect">
            <a:avLst/>
          </a:prstGeom>
          <a:ln w="0">
            <a:noFill/>
          </a:ln>
        </p:spPr>
      </p:pic>
      <p:sp>
        <p:nvSpPr>
          <p:cNvPr id="335" name="Text Box 26"/>
          <p:cNvSpPr/>
          <p:nvPr/>
        </p:nvSpPr>
        <p:spPr>
          <a:xfrm>
            <a:off x="1403280" y="5229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Line 27"/>
          <p:cNvSpPr/>
          <p:nvPr/>
        </p:nvSpPr>
        <p:spPr>
          <a:xfrm flipH="1">
            <a:off x="898560" y="5445000"/>
            <a:ext cx="504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Text Box 28"/>
          <p:cNvSpPr/>
          <p:nvPr/>
        </p:nvSpPr>
        <p:spPr>
          <a:xfrm>
            <a:off x="7524720" y="50846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Line 29"/>
          <p:cNvSpPr/>
          <p:nvPr/>
        </p:nvSpPr>
        <p:spPr>
          <a:xfrm flipV="1">
            <a:off x="7812000" y="5229360"/>
            <a:ext cx="863640" cy="71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nodeType="clickEffect" fill="hold">
                      <p:stCondLst>
                        <p:cond delay="0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3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8" dur="500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9" dur="8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0" dur="8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1" dur="8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495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0" nodeType="after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1" dur="3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3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8" nodeType="withEffect" fill="hold" presetClass="path" presetID="63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8.33333E-007 -2.27388E-006 L 0.58299 -0.00509 E">
                                      <p:cBhvr>
                                        <p:cTn id="509" dur="1000" fill="hold"/>
                                        <p:tgtEl>
                                          <p:spTgt spid="3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0" nodeType="withEffect" fill="hold" presetClass="path" presetID="63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-4.44444E-006 5.45917E-007 L 0.72362 0.06176 E">
                                      <p:cBhvr>
                                        <p:cTn id="511" dur="500" fill="hold"/>
                                        <p:tgtEl>
                                          <p:spTgt spid="3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6" dur="8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7" dur="8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8" dur="8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3" dur="8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4" dur="8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5" dur="8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2" dur="5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3" dur="8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4" dur="8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5" dur="8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549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4" nodeType="after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5" dur="3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1" nodeType="withEffect" fill="hold" presetClass="path" presetID="63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2.22222E-006 -4.62873E-006 L 0.47899 -0.00416 E">
                                      <p:cBhvr>
                                        <p:cTn id="562" dur="300" fill="hold"/>
                                        <p:tgtEl>
                                          <p:spTgt spid="3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3" nodeType="withEffect" fill="hold" presetClass="path" presetID="35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-1.38889E-006 -4.26324E-006 L -0.40312 0.00625 E">
                                      <p:cBhvr>
                                        <p:cTn id="564" dur="300" fill="hold"/>
                                        <p:tgtEl>
                                          <p:spTgt spid="3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8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1" dur="8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2" dur="8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3" dur="8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6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9" dur="80"/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0" dur="80"/>
                                        <p:tgtEl>
                                          <p:spTgt spid="3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1" dur="80"/>
                                        <p:tgtEl>
                                          <p:spTgt spid="3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Picture 6" descr="Muon-"/>
          <p:cNvPicPr/>
          <p:nvPr/>
        </p:nvPicPr>
        <p:blipFill>
          <a:blip r:embed="rId1"/>
          <a:stretch/>
        </p:blipFill>
        <p:spPr>
          <a:xfrm>
            <a:off x="4284720" y="3355920"/>
            <a:ext cx="216000" cy="216000"/>
          </a:xfrm>
          <a:prstGeom prst="rect">
            <a:avLst/>
          </a:prstGeom>
          <a:ln w="0">
            <a:noFill/>
          </a:ln>
        </p:spPr>
      </p:pic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Мюон и тяжёлый лептон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юон очень похож на электрон, но в двести с лишним раз тяжелее. Кроме того, мюон радиоактивен, он распадается на электрон и антинейтрино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Oval 8"/>
          <p:cNvSpPr/>
          <p:nvPr/>
        </p:nvSpPr>
        <p:spPr>
          <a:xfrm>
            <a:off x="4356000" y="3500280"/>
            <a:ext cx="17640" cy="1764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Line 9"/>
          <p:cNvSpPr/>
          <p:nvPr/>
        </p:nvSpPr>
        <p:spPr>
          <a:xfrm flipH="1" flipV="1">
            <a:off x="3708000" y="3357720"/>
            <a:ext cx="576360" cy="712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Text Box 10"/>
          <p:cNvSpPr/>
          <p:nvPr/>
        </p:nvSpPr>
        <p:spPr>
          <a:xfrm>
            <a:off x="3419640" y="314172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0" lang="ru-RU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6" name="Group 11"/>
          <p:cNvGrpSpPr/>
          <p:nvPr/>
        </p:nvGrpSpPr>
        <p:grpSpPr>
          <a:xfrm>
            <a:off x="4284720" y="3357720"/>
            <a:ext cx="178920" cy="91800"/>
            <a:chOff x="4284720" y="3357720"/>
            <a:chExt cx="178920" cy="91800"/>
          </a:xfrm>
        </p:grpSpPr>
        <p:pic>
          <p:nvPicPr>
            <p:cNvPr id="347" name="Picture 12" descr="elektron_sl2"/>
            <p:cNvPicPr/>
            <p:nvPr/>
          </p:nvPicPr>
          <p:blipFill>
            <a:blip r:embed="rId3"/>
            <a:stretch/>
          </p:blipFill>
          <p:spPr>
            <a:xfrm>
              <a:off x="4284720" y="3357720"/>
              <a:ext cx="126720" cy="9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8" name="Picture 13" descr="elektron"/>
            <p:cNvPicPr/>
            <p:nvPr/>
          </p:nvPicPr>
          <p:blipFill>
            <a:blip r:embed="rId4"/>
            <a:stretch/>
          </p:blipFill>
          <p:spPr>
            <a:xfrm>
              <a:off x="4377960" y="3357720"/>
              <a:ext cx="85680" cy="85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9" name="Line 14"/>
          <p:cNvSpPr/>
          <p:nvPr/>
        </p:nvSpPr>
        <p:spPr>
          <a:xfrm>
            <a:off x="539640" y="3573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Text Box 15"/>
          <p:cNvSpPr/>
          <p:nvPr/>
        </p:nvSpPr>
        <p:spPr>
          <a:xfrm>
            <a:off x="395280" y="3860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Line 16"/>
          <p:cNvSpPr/>
          <p:nvPr/>
        </p:nvSpPr>
        <p:spPr>
          <a:xfrm>
            <a:off x="468360" y="3933720"/>
            <a:ext cx="144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Line 17"/>
          <p:cNvSpPr/>
          <p:nvPr/>
        </p:nvSpPr>
        <p:spPr>
          <a:xfrm flipH="1">
            <a:off x="8388360" y="3573360"/>
            <a:ext cx="71280" cy="2872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Text Box 18"/>
          <p:cNvSpPr/>
          <p:nvPr/>
        </p:nvSpPr>
        <p:spPr>
          <a:xfrm>
            <a:off x="8244000" y="3860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Rectangle 19"/>
          <p:cNvSpPr/>
          <p:nvPr/>
        </p:nvSpPr>
        <p:spPr>
          <a:xfrm>
            <a:off x="611280" y="3860640"/>
            <a:ext cx="8229600" cy="28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ак же ведёт себя и тяжёлый лептон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Лепто» - с греческого «лёгкий». Но после открытия мюона и тяжёлого лептона, название «лептон» и «адрон» стали чисто условными, фактически синонимами «слабо»- и «сильновзаимодействующий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nodeType="clickEffect" fill="hold">
                      <p:stCondLst>
                        <p:cond delay="0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8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93" dur="500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0" dur="8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1" dur="8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2" dur="8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608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2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3" dur="3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9" nodeType="withEffect" fill="hold" presetClass="path" presetID="63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1.38889E-006 3.7037E-006 L 0.45486 0.0037 E">
                                      <p:cBhvr>
                                        <p:cTn id="620" dur="700" fill="hold"/>
                                        <p:tgtEl>
                                          <p:spTgt spid="3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1" nodeType="withEffect" fill="hold" presetClass="path" presetID="35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3.05556E-006 -4.07407E-006 L -0.41823 -0.00115 E">
                                      <p:cBhvr>
                                        <p:cTn id="622" dur="500" fill="hold"/>
                                        <p:tgtEl>
                                          <p:spTgt spid="3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7" dur="8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8" dur="8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9" dur="8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6" dur="8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7" dur="8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8" dur="8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5" dur="5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0" dur="500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0:31:24Z</dcterms:created>
  <dc:creator>Максим</dc:creator>
  <dc:description/>
  <dc:language>en-US</dc:language>
  <cp:lastModifiedBy>LEGION</cp:lastModifiedBy>
  <dcterms:modified xsi:type="dcterms:W3CDTF">2015-03-30T08:27:12Z</dcterms:modified>
  <cp:revision>167</cp:revision>
  <dc:subject>Квантовая физика, радиоактивность и термоядерные реакции</dc:subject>
  <dc:title>Квантовая физик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e07000000000001023620</vt:lpwstr>
  </property>
  <property fmtid="{D5CDD505-2E9C-101B-9397-08002B2CF9AE}" pid="3" name="Version">
    <vt:r8>9</vt:r8>
  </property>
</Properties>
</file>