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B4AB-1975-47D5-BE6D-A751ACFE72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нтовая ф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Гаврилов-Ям МОУ СОШ №3. Медведев Максим. 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760F-429F-4944-BEBB-B8C99F4B66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дрона, кв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 попытке разорвать глюонные связи образуется новый ме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5E9E-0C94-49E8-BF86-A365FD205A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Барашенков. «Вселенная в электро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ая энциклопедия Кирилла и Мефод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ант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Астроном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5C09-6E92-4543-AC49-FE8B096087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сновные свойства элементар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зотопы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законы микро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с механизм ядерных реакций на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свойства мез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строение ад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F396-8135-4C37-BA7E-C61CCE7071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йства элементарных части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– отрицательно заряженная элементар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11 МэВ, со спином 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положитель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8,3 МэВ(≈ 1 а.е), со спином 0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рон – античастица электрона. Заряд 1, масса как у электрона, спин -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 нейтральная элементарная частица, мас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9,6 МэВ, сп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363E-B1B1-4E71-8C97-A9F0A596A8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и его изо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одорода три изотопа – протий, дейтерий и три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C663-3CFC-4D3D-8D32-32009BD838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йтерий и три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или Т (читается «те»), ядро t — три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диоактивности три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7C97-EDAB-4C13-93E5-7FBCEDD0FF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микро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80F2-DD6A-4951-BCC2-DE8A3FABCA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ерные реакции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, как и другие звёзды, светит благодаря термоядерным реа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4D9F-CEA6-4E87-8BEF-A0DF9BF488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протоны и нейтроны обмениваются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заряженном состоянии распадается на мю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5E73-2D0D-4901-9D0A-32BD5D802E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и тяжёлый леп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3B7C-9C20-4669-AB3E-61EA8D40E9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DFB-5936-470F-B467-E32A090D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D52-1365-4DDB-AAB1-1BACEAC7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E96-358C-408E-B4C8-C39A813E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9F5-59E0-4AF6-89E0-E268A51C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F129-AFF6-46CE-9BD5-BE7A7972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DEE1-0ED4-4895-B630-7E68C56B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B068-290B-41B5-B58D-32633EAC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1D0B-2F69-4141-B07A-DA1C72F3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2CC2-5EE9-41C8-85BC-3307807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EBFE-783B-4E9A-A5DF-145948F2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F0F8-BFB5-46E0-92E5-601B2C79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210-C6EA-4BF5-97F9-8C876D3C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A3F4-350F-4A1C-884E-4F617A7A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B601-B99F-4A31-B7E6-5B1609A0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9825-67E0-4083-9B61-8592F5E5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6C76-8120-4168-BA19-4D19DFD3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45D7-AE6C-4654-A547-83624872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F01-E2A5-409B-9299-E75C78C3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343-FF91-4003-8895-C0B1310C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AA6-5D86-4291-9277-B0752B3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32C-C52D-4C9A-9BA3-96C3A443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DB1-1843-46A9-9A8B-6F79600A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BBC-ABDD-4BF5-9660-856C63FB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35B-C412-45B4-93C2-B679ABC1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01CE-F497-407D-A4CB-1EE49C6448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B6A6-E5EA-444D-9355-B51D2D95DB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0.wmf"/><Relationship Id="rId23" Type="http://schemas.openxmlformats.org/officeDocument/2006/relationships/image" Target="../media/image14.wmf"/><Relationship Id="rId24" Type="http://schemas.openxmlformats.org/officeDocument/2006/relationships/image" Target="../media/image6.wmf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6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image" Target="../media/image1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вантовая физ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19280" y="6424560"/>
            <a:ext cx="7524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Гаврилов-Ям МОУ СОШ №3. Медведев Максим.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proton"/>
          <p:cNvPicPr/>
          <p:nvPr/>
        </p:nvPicPr>
        <p:blipFill>
          <a:blip r:embed="rId1"/>
          <a:stretch/>
        </p:blipFill>
        <p:spPr>
          <a:xfrm>
            <a:off x="826920" y="148428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neitron"/>
          <p:cNvPicPr/>
          <p:nvPr/>
        </p:nvPicPr>
        <p:blipFill>
          <a:blip r:embed="rId2"/>
          <a:stretch/>
        </p:blipFill>
        <p:spPr>
          <a:xfrm>
            <a:off x="826920" y="1773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elektron"/>
          <p:cNvPicPr/>
          <p:nvPr/>
        </p:nvPicPr>
        <p:blipFill>
          <a:blip r:embed="rId3"/>
          <a:stretch/>
        </p:blipFill>
        <p:spPr>
          <a:xfrm>
            <a:off x="900000" y="22050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oton"/>
          <p:cNvPicPr/>
          <p:nvPr/>
        </p:nvPicPr>
        <p:blipFill>
          <a:blip r:embed="rId4"/>
          <a:stretch/>
        </p:blipFill>
        <p:spPr>
          <a:xfrm>
            <a:off x="847800" y="292428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258920" y="1341360"/>
            <a:ext cx="2973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й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н(ква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йтри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ли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ю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0"/>
          <p:cNvGrpSpPr/>
          <p:nvPr/>
        </p:nvGrpSpPr>
        <p:grpSpPr>
          <a:xfrm>
            <a:off x="5568840" y="2697120"/>
            <a:ext cx="469800" cy="480960"/>
            <a:chOff x="5568840" y="2697120"/>
            <a:chExt cx="469800" cy="480960"/>
          </a:xfrm>
        </p:grpSpPr>
        <p:pic>
          <p:nvPicPr>
            <p:cNvPr id="177" name="Picture 21" descr="neitron"/>
            <p:cNvPicPr/>
            <p:nvPr/>
          </p:nvPicPr>
          <p:blipFill>
            <a:blip r:embed="rId5"/>
            <a:stretch/>
          </p:blipFill>
          <p:spPr>
            <a:xfrm>
              <a:off x="5773680" y="2697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proton"/>
            <p:cNvPicPr/>
            <p:nvPr/>
          </p:nvPicPr>
          <p:blipFill>
            <a:blip r:embed="rId6"/>
            <a:stretch/>
          </p:blipFill>
          <p:spPr>
            <a:xfrm>
              <a:off x="5762520" y="29034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3" descr="neitron"/>
            <p:cNvPicPr/>
            <p:nvPr/>
          </p:nvPicPr>
          <p:blipFill>
            <a:blip r:embed="rId7"/>
            <a:stretch/>
          </p:blipFill>
          <p:spPr>
            <a:xfrm>
              <a:off x="5568840" y="2913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4" descr="proton"/>
            <p:cNvPicPr/>
            <p:nvPr/>
          </p:nvPicPr>
          <p:blipFill>
            <a:blip r:embed="rId8"/>
            <a:stretch/>
          </p:blipFill>
          <p:spPr>
            <a:xfrm>
              <a:off x="5570280" y="2701800"/>
              <a:ext cx="26532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val 26"/>
          <p:cNvSpPr/>
          <p:nvPr/>
        </p:nvSpPr>
        <p:spPr>
          <a:xfrm>
            <a:off x="529272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5" descr="elektron"/>
          <p:cNvPicPr/>
          <p:nvPr/>
        </p:nvPicPr>
        <p:blipFill>
          <a:blip r:embed="rId9"/>
          <a:stretch/>
        </p:blipFill>
        <p:spPr>
          <a:xfrm>
            <a:off x="5281560" y="27082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elektron"/>
          <p:cNvPicPr/>
          <p:nvPr/>
        </p:nvPicPr>
        <p:blipFill>
          <a:blip r:embed="rId10"/>
          <a:stretch/>
        </p:blipFill>
        <p:spPr>
          <a:xfrm>
            <a:off x="6227640" y="3068640"/>
            <a:ext cx="85680" cy="85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3"/>
          <p:cNvGrpSpPr/>
          <p:nvPr/>
        </p:nvGrpSpPr>
        <p:grpSpPr>
          <a:xfrm>
            <a:off x="7656480" y="3603600"/>
            <a:ext cx="625320" cy="419040"/>
            <a:chOff x="7656480" y="3603600"/>
            <a:chExt cx="625320" cy="419040"/>
          </a:xfrm>
        </p:grpSpPr>
        <p:pic>
          <p:nvPicPr>
            <p:cNvPr id="185" name="Picture 31" descr="neitron"/>
            <p:cNvPicPr/>
            <p:nvPr/>
          </p:nvPicPr>
          <p:blipFill>
            <a:blip r:embed="rId11"/>
            <a:stretch/>
          </p:blipFill>
          <p:spPr>
            <a:xfrm>
              <a:off x="7656480" y="361296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0" descr="proton"/>
            <p:cNvPicPr/>
            <p:nvPr/>
          </p:nvPicPr>
          <p:blipFill>
            <a:blip r:embed="rId12"/>
            <a:stretch/>
          </p:blipFill>
          <p:spPr>
            <a:xfrm>
              <a:off x="7850160" y="360360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2" descr="proton"/>
            <p:cNvPicPr/>
            <p:nvPr/>
          </p:nvPicPr>
          <p:blipFill>
            <a:blip r:embed="rId13"/>
            <a:stretch/>
          </p:blipFill>
          <p:spPr>
            <a:xfrm>
              <a:off x="8016840" y="3757320"/>
              <a:ext cx="26496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Oval 34"/>
          <p:cNvSpPr/>
          <p:nvPr/>
        </p:nvSpPr>
        <p:spPr>
          <a:xfrm>
            <a:off x="7451640" y="328464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5" descr="elektron"/>
          <p:cNvPicPr/>
          <p:nvPr/>
        </p:nvPicPr>
        <p:blipFill>
          <a:blip r:embed="rId14"/>
          <a:stretch/>
        </p:blipFill>
        <p:spPr>
          <a:xfrm>
            <a:off x="7440480" y="357192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8" descr="elektron"/>
          <p:cNvPicPr/>
          <p:nvPr/>
        </p:nvPicPr>
        <p:blipFill>
          <a:blip r:embed="rId15"/>
          <a:stretch/>
        </p:blipFill>
        <p:spPr>
          <a:xfrm>
            <a:off x="8101080" y="4221000"/>
            <a:ext cx="85680" cy="86040"/>
          </a:xfrm>
          <a:prstGeom prst="rect">
            <a:avLst/>
          </a:prstGeom>
          <a:ln w="0">
            <a:noFill/>
          </a:ln>
        </p:spPr>
      </p:pic>
      <p:sp>
        <p:nvSpPr>
          <p:cNvPr id="191" name="Oval 151"/>
          <p:cNvSpPr/>
          <p:nvPr/>
        </p:nvSpPr>
        <p:spPr>
          <a:xfrm>
            <a:off x="992160" y="321300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56" descr="Mezon-"/>
          <p:cNvPicPr/>
          <p:nvPr/>
        </p:nvPicPr>
        <p:blipFill>
          <a:blip r:embed="rId16"/>
          <a:stretch/>
        </p:blipFill>
        <p:spPr>
          <a:xfrm>
            <a:off x="396720" y="34383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8" descr="Mezon+"/>
          <p:cNvPicPr/>
          <p:nvPr/>
        </p:nvPicPr>
        <p:blipFill>
          <a:blip r:embed="rId17"/>
          <a:stretch/>
        </p:blipFill>
        <p:spPr>
          <a:xfrm>
            <a:off x="700200" y="342900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9" descr="Mezon0"/>
          <p:cNvPicPr/>
          <p:nvPr/>
        </p:nvPicPr>
        <p:blipFill>
          <a:blip r:embed="rId18"/>
          <a:stretch/>
        </p:blipFill>
        <p:spPr>
          <a:xfrm>
            <a:off x="996840" y="342900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0"/>
          <p:cNvSpPr/>
          <p:nvPr/>
        </p:nvSpPr>
        <p:spPr>
          <a:xfrm>
            <a:off x="307800" y="3645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1"/>
          <p:cNvSpPr/>
          <p:nvPr/>
        </p:nvSpPr>
        <p:spPr>
          <a:xfrm>
            <a:off x="0" y="3429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9"/>
          <p:cNvSpPr/>
          <p:nvPr/>
        </p:nvSpPr>
        <p:spPr>
          <a:xfrm>
            <a:off x="0" y="407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1" descr="pozitron"/>
          <p:cNvPicPr/>
          <p:nvPr/>
        </p:nvPicPr>
        <p:blipFill>
          <a:blip r:embed="rId19"/>
          <a:stretch/>
        </p:blipFill>
        <p:spPr>
          <a:xfrm>
            <a:off x="900000" y="256536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3" descr="Muon-"/>
          <p:cNvPicPr/>
          <p:nvPr/>
        </p:nvPicPr>
        <p:blipFill>
          <a:blip r:embed="rId20"/>
          <a:stretch/>
        </p:blipFill>
        <p:spPr>
          <a:xfrm>
            <a:off x="68436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4" descr="Muon+"/>
          <p:cNvPicPr/>
          <p:nvPr/>
        </p:nvPicPr>
        <p:blipFill>
          <a:blip r:embed="rId21"/>
          <a:stretch/>
        </p:blipFill>
        <p:spPr>
          <a:xfrm>
            <a:off x="1042920" y="407664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5" descr="Mezon0"/>
          <p:cNvPicPr/>
          <p:nvPr/>
        </p:nvPicPr>
        <p:blipFill>
          <a:blip r:embed="rId22"/>
          <a:stretch/>
        </p:blipFill>
        <p:spPr>
          <a:xfrm>
            <a:off x="8101080" y="1989000"/>
            <a:ext cx="264960" cy="2653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7"/>
          <p:cNvGrpSpPr/>
          <p:nvPr/>
        </p:nvGrpSpPr>
        <p:grpSpPr>
          <a:xfrm>
            <a:off x="5435640" y="2133720"/>
            <a:ext cx="178920" cy="91800"/>
            <a:chOff x="5435640" y="2133720"/>
            <a:chExt cx="178920" cy="91800"/>
          </a:xfrm>
        </p:grpSpPr>
        <p:pic>
          <p:nvPicPr>
            <p:cNvPr id="204" name="Picture 178" descr="elektron_sl2"/>
            <p:cNvPicPr/>
            <p:nvPr/>
          </p:nvPicPr>
          <p:blipFill>
            <a:blip r:embed="rId23"/>
            <a:stretch/>
          </p:blipFill>
          <p:spPr>
            <a:xfrm>
              <a:off x="5435640" y="2133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9" descr="elektron"/>
            <p:cNvPicPr/>
            <p:nvPr/>
          </p:nvPicPr>
          <p:blipFill>
            <a:blip r:embed="rId24"/>
            <a:stretch/>
          </p:blipFill>
          <p:spPr>
            <a:xfrm>
              <a:off x="5528880" y="2133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адрона, квар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45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попытке разорвать глюонные связи образуется новый мезо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Mezon0"/>
          <p:cNvPicPr/>
          <p:nvPr/>
        </p:nvPicPr>
        <p:blipFill>
          <a:blip r:embed="rId4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16"/>
          <p:cNvGrpSpPr/>
          <p:nvPr/>
        </p:nvGrpSpPr>
        <p:grpSpPr>
          <a:xfrm>
            <a:off x="7812000" y="6441840"/>
            <a:ext cx="169560" cy="97200"/>
            <a:chOff x="7812000" y="6441840"/>
            <a:chExt cx="169560" cy="97200"/>
          </a:xfrm>
        </p:grpSpPr>
        <p:pic>
          <p:nvPicPr>
            <p:cNvPr id="360" name="Picture 14" descr="elektron_sl2"/>
            <p:cNvPicPr/>
            <p:nvPr/>
          </p:nvPicPr>
          <p:blipFill>
            <a:blip r:embed="rId5"/>
            <a:stretch/>
          </p:blipFill>
          <p:spPr>
            <a:xfrm rot="10800000">
              <a:off x="7854480" y="6441840"/>
              <a:ext cx="12708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5" descr="elektron"/>
            <p:cNvPicPr/>
            <p:nvPr/>
          </p:nvPicPr>
          <p:blipFill>
            <a:blip r:embed="rId6"/>
            <a:stretch/>
          </p:blipFill>
          <p:spPr>
            <a:xfrm>
              <a:off x="7812000" y="645336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17" descr="Mezon0"/>
          <p:cNvPicPr/>
          <p:nvPr/>
        </p:nvPicPr>
        <p:blipFill>
          <a:blip r:embed="rId7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845964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795492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35600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385128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979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2340000" y="6237000"/>
            <a:ext cx="503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2340000" y="63817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7872E-007 L -0.45017 -0.00532 E">
                                      <p:cBhvr>
                                        <p:cTn id="709" dur="7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17 -0.00532 L -0.67066 0.07865 E">
                                      <p:cBhvr>
                                        <p:cTn id="712" dur="13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6736E-007 L -0.09445 -0.04187 E">
                                      <p:cBhvr>
                                        <p:cTn id="71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-0.11024 0.02105 E">
                                      <p:cBhvr>
                                        <p:cTn id="71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С. Барашенков. «Вселенная в электро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Большая энциклопедия Кирилла и Мефод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т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Астроном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сновные свойства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зотопы вод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законы микро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с механизм ядерных реакций на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свойства мез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строение ад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835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ши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элементарных част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лектрон – отрицательно заряженная элементар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11 МэВ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тон – положитель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8,3 МэВ(≈ 1 а.е)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зитрон – античастица электрона. Заряд 1, масса как у электрона, спин -0,5 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ейтрон – нейтральная элементарная частица, масса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9,6 МэВ, спин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proton"/>
          <p:cNvPicPr/>
          <p:nvPr/>
        </p:nvPicPr>
        <p:blipFill>
          <a:blip r:embed="rId1"/>
          <a:stretch/>
        </p:blipFill>
        <p:spPr>
          <a:xfrm>
            <a:off x="1476360" y="27082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ород и его изот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водорода три изотопа – протий, дейтерий и три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elektron"/>
          <p:cNvPicPr/>
          <p:nvPr/>
        </p:nvPicPr>
        <p:blipFill>
          <a:blip r:embed="rId3"/>
          <a:stretch/>
        </p:blipFill>
        <p:spPr>
          <a:xfrm>
            <a:off x="1065240" y="28526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17" name="Oval 9"/>
          <p:cNvSpPr/>
          <p:nvPr/>
        </p:nvSpPr>
        <p:spPr>
          <a:xfrm>
            <a:off x="1116000" y="234792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proton"/>
          <p:cNvPicPr/>
          <p:nvPr/>
        </p:nvPicPr>
        <p:blipFill>
          <a:blip r:embed="rId4"/>
          <a:stretch/>
        </p:blipFill>
        <p:spPr>
          <a:xfrm>
            <a:off x="3348000" y="2781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lektron"/>
          <p:cNvPicPr/>
          <p:nvPr/>
        </p:nvPicPr>
        <p:blipFill>
          <a:blip r:embed="rId5"/>
          <a:stretch/>
        </p:blipFill>
        <p:spPr>
          <a:xfrm>
            <a:off x="3008160" y="2925720"/>
            <a:ext cx="86040" cy="85680"/>
          </a:xfrm>
          <a:prstGeom prst="rect">
            <a:avLst/>
          </a:prstGeom>
          <a:ln w="0">
            <a:noFill/>
          </a:ln>
        </p:spPr>
      </p:pic>
      <p:sp>
        <p:nvSpPr>
          <p:cNvPr id="220" name="Oval 15"/>
          <p:cNvSpPr/>
          <p:nvPr/>
        </p:nvSpPr>
        <p:spPr>
          <a:xfrm>
            <a:off x="305928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6" descr="neitron"/>
          <p:cNvPicPr/>
          <p:nvPr/>
        </p:nvPicPr>
        <p:blipFill>
          <a:blip r:embed="rId6"/>
          <a:stretch/>
        </p:blipFill>
        <p:spPr>
          <a:xfrm>
            <a:off x="3564000" y="278136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proton"/>
          <p:cNvPicPr/>
          <p:nvPr/>
        </p:nvPicPr>
        <p:blipFill>
          <a:blip r:embed="rId7"/>
          <a:stretch/>
        </p:blipFill>
        <p:spPr>
          <a:xfrm>
            <a:off x="5291280" y="27795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elektron"/>
          <p:cNvPicPr/>
          <p:nvPr/>
        </p:nvPicPr>
        <p:blipFill>
          <a:blip r:embed="rId8"/>
          <a:stretch/>
        </p:blipFill>
        <p:spPr>
          <a:xfrm>
            <a:off x="4951440" y="294480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24" name="Oval 23"/>
          <p:cNvSpPr/>
          <p:nvPr/>
        </p:nvSpPr>
        <p:spPr>
          <a:xfrm>
            <a:off x="5002200" y="244008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" descr="neitron"/>
          <p:cNvPicPr/>
          <p:nvPr/>
        </p:nvPicPr>
        <p:blipFill>
          <a:blip r:embed="rId9"/>
          <a:stretch/>
        </p:blipFill>
        <p:spPr>
          <a:xfrm>
            <a:off x="5506920" y="27795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neitron"/>
          <p:cNvPicPr/>
          <p:nvPr/>
        </p:nvPicPr>
        <p:blipFill>
          <a:blip r:embed="rId10"/>
          <a:stretch/>
        </p:blipFill>
        <p:spPr>
          <a:xfrm>
            <a:off x="5364000" y="292428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6"/>
          <p:cNvSpPr/>
          <p:nvPr/>
        </p:nvSpPr>
        <p:spPr>
          <a:xfrm>
            <a:off x="133380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327852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29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 flipV="1">
            <a:off x="154764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 flipV="1">
            <a:off x="349236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 flipV="1">
            <a:off x="5508720" y="306864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539640" y="4005360"/>
            <a:ext cx="8158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1 называют легким водородом, или протием, обозначают символом Н, а его ядро называют протоном, символ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33 C 0.00677 0.04584 0.03524 0.07269 0.06493 0.06597 C 0.09531 0.05926 0.11493 0.02107 0.1099 -0.01921 C 0.10504 -0.05879 0.07691 -0.08541 0.0467 -0.0787 C 0.01649 -0.07176 -0.00347 -0.03449 0.00156 0.00533 Z">
                                      <p:cBhvr>
                                        <p:cTn id="8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09 C 0.00677 0.04607 0.03524 0.07245 0.06493 0.06574 C 0.09531 0.05903 0.11458 0.02083 0.1099 -0.01944 C 0.10504 -0.05903 0.07691 -0.08565 0.0467 -0.07893 C 0.01649 -0.07199 -0.00347 -0.03472 0.00156 0.00509 Z">
                                      <p:cBhvr>
                                        <p:cTn id="10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463 C 0.00729 0.0456 0.03576 0.07199 0.06545 0.06528 C 0.09583 0.05856 0.11493 0.02037 0.11042 -0.01991 C 0.10556 -0.05949 0.07743 -0.08611 0.04722 -0.0794 C 0.01701 -0.07246 -0.00295 -0.03519 0.00208 0.00463 Z">
                                      <p:cBhvr>
                                        <p:cTn id="12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roton"/>
          <p:cNvPicPr/>
          <p:nvPr/>
        </p:nvPicPr>
        <p:blipFill>
          <a:blip r:embed="rId1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йтерий и три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3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 или Т (читается «те»), ядро t — три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радиоактивности три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proton"/>
          <p:cNvPicPr/>
          <p:nvPr/>
        </p:nvPicPr>
        <p:blipFill>
          <a:blip r:embed="rId4"/>
          <a:stretch/>
        </p:blipFill>
        <p:spPr>
          <a:xfrm>
            <a:off x="1401840" y="577044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neitron"/>
          <p:cNvPicPr/>
          <p:nvPr/>
        </p:nvPicPr>
        <p:blipFill>
          <a:blip r:embed="rId5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neitron"/>
          <p:cNvPicPr/>
          <p:nvPr/>
        </p:nvPicPr>
        <p:blipFill>
          <a:blip r:embed="rId6"/>
          <a:stretch/>
        </p:blipFill>
        <p:spPr>
          <a:xfrm>
            <a:off x="1476360" y="59500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404720" y="649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1619280" y="605952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29"/>
          <p:cNvGrpSpPr/>
          <p:nvPr/>
        </p:nvGrpSpPr>
        <p:grpSpPr>
          <a:xfrm>
            <a:off x="1763640" y="5877000"/>
            <a:ext cx="179640" cy="92160"/>
            <a:chOff x="1763640" y="5877000"/>
            <a:chExt cx="179640" cy="92160"/>
          </a:xfrm>
        </p:grpSpPr>
        <p:pic>
          <p:nvPicPr>
            <p:cNvPr id="244" name="Picture 28" descr="elektron_sl2"/>
            <p:cNvPicPr/>
            <p:nvPr/>
          </p:nvPicPr>
          <p:blipFill>
            <a:blip r:embed="rId7"/>
            <a:stretch/>
          </p:blipFill>
          <p:spPr>
            <a:xfrm>
              <a:off x="1763640" y="5877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elektron"/>
            <p:cNvPicPr/>
            <p:nvPr/>
          </p:nvPicPr>
          <p:blipFill>
            <a:blip r:embed="rId8"/>
            <a:stretch/>
          </p:blipFill>
          <p:spPr>
            <a:xfrm>
              <a:off x="1857240" y="5877000"/>
              <a:ext cx="8604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Oval 14"/>
          <p:cNvSpPr/>
          <p:nvPr/>
        </p:nvSpPr>
        <p:spPr>
          <a:xfrm>
            <a:off x="1908000" y="5950080"/>
            <a:ext cx="1764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619280" y="616572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68360" y="6491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V="1">
            <a:off x="5219640" y="5589360"/>
            <a:ext cx="1440000" cy="215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58800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H="1">
            <a:off x="5724000" y="595008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508720" y="623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1908000" y="5950080"/>
            <a:ext cx="79236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27280" y="61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591160" y="63514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022E-016 L 0.60538 -0.00116 E">
                                      <p:cBhvr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18519E-006 L 0.36215 -0.02107 E">
                                      <p:cBhvr>
                                        <p:cTn id="193" dur="7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ы микро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2"/>
          <p:cNvGrpSpPr/>
          <p:nvPr/>
        </p:nvGrpSpPr>
        <p:grpSpPr>
          <a:xfrm>
            <a:off x="2259000" y="5157720"/>
            <a:ext cx="5265720" cy="1611360"/>
            <a:chOff x="2259000" y="5157720"/>
            <a:chExt cx="5265720" cy="1611360"/>
          </a:xfrm>
        </p:grpSpPr>
        <p:sp>
          <p:nvSpPr>
            <p:cNvPr id="260" name="Text Box 48"/>
            <p:cNvSpPr/>
            <p:nvPr/>
          </p:nvSpPr>
          <p:spPr>
            <a:xfrm>
              <a:off x="4572000" y="580536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ктрически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1" name="Picture 4" descr="neitron"/>
            <p:cNvPicPr/>
            <p:nvPr/>
          </p:nvPicPr>
          <p:blipFill>
            <a:blip r:embed="rId3"/>
            <a:stretch/>
          </p:blipFill>
          <p:spPr>
            <a:xfrm>
              <a:off x="2341440" y="530064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5"/>
            <p:cNvSpPr/>
            <p:nvPr/>
          </p:nvSpPr>
          <p:spPr>
            <a:xfrm>
              <a:off x="2700360" y="54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6" descr="proton"/>
            <p:cNvPicPr/>
            <p:nvPr/>
          </p:nvPicPr>
          <p:blipFill>
            <a:blip r:embed="rId4"/>
            <a:stretch/>
          </p:blipFill>
          <p:spPr>
            <a:xfrm>
              <a:off x="2989440" y="530064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327780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8" descr="elektron"/>
            <p:cNvPicPr/>
            <p:nvPr/>
          </p:nvPicPr>
          <p:blipFill>
            <a:blip r:embed="rId5"/>
            <a:stretch/>
          </p:blipFill>
          <p:spPr>
            <a:xfrm>
              <a:off x="3565440" y="5373720"/>
              <a:ext cx="856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9"/>
            <p:cNvSpPr/>
            <p:nvPr/>
          </p:nvSpPr>
          <p:spPr>
            <a:xfrm>
              <a:off x="363816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925800" y="5394240"/>
              <a:ext cx="17640" cy="17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2268360" y="5589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  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852720" y="55897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3935520" y="57038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2259000" y="58644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   =   1  +(-1)+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2259000" y="61531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1/2+(-1/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4573440" y="515772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ак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4573440" y="551664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п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2268360" y="64008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49"/>
            <p:cNvSpPr/>
            <p:nvPr/>
          </p:nvSpPr>
          <p:spPr>
            <a:xfrm>
              <a:off x="4572000" y="609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епт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0"/>
            <p:cNvSpPr/>
            <p:nvPr/>
          </p:nvSpPr>
          <p:spPr>
            <a:xfrm>
              <a:off x="4572000" y="638172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ари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дерные реакции на Солн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как и другие звёзды, светит благодаря термоядерным реак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proton"/>
          <p:cNvPicPr/>
          <p:nvPr/>
        </p:nvPicPr>
        <p:blipFill>
          <a:blip r:embed="rId2"/>
          <a:stretch/>
        </p:blipFill>
        <p:spPr>
          <a:xfrm>
            <a:off x="539640" y="242100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proton"/>
          <p:cNvPicPr/>
          <p:nvPr/>
        </p:nvPicPr>
        <p:blipFill>
          <a:blip r:embed="rId3"/>
          <a:stretch/>
        </p:blipFill>
        <p:spPr>
          <a:xfrm>
            <a:off x="7596360" y="242100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118944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 flipH="1">
            <a:off x="755640" y="2637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846180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 flipV="1">
            <a:off x="7885080" y="2565000"/>
            <a:ext cx="5745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neitron"/>
          <p:cNvPicPr/>
          <p:nvPr/>
        </p:nvPicPr>
        <p:blipFill>
          <a:blip r:embed="rId4"/>
          <a:stretch/>
        </p:blipFill>
        <p:spPr>
          <a:xfrm>
            <a:off x="4284720" y="249228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2"/>
          <p:cNvSpPr/>
          <p:nvPr/>
        </p:nvSpPr>
        <p:spPr>
          <a:xfrm>
            <a:off x="551052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076720" y="299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4" descr="proton"/>
          <p:cNvPicPr/>
          <p:nvPr/>
        </p:nvPicPr>
        <p:blipFill>
          <a:blip r:embed="rId5"/>
          <a:stretch/>
        </p:blipFill>
        <p:spPr>
          <a:xfrm>
            <a:off x="539640" y="702936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3858840" y="285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826920" y="7029360"/>
            <a:ext cx="480960" cy="480960"/>
            <a:chOff x="826920" y="7029360"/>
            <a:chExt cx="480960" cy="480960"/>
          </a:xfrm>
        </p:grpSpPr>
        <p:pic>
          <p:nvPicPr>
            <p:cNvPr id="294" name="Picture 18" descr="neitron"/>
            <p:cNvPicPr/>
            <p:nvPr/>
          </p:nvPicPr>
          <p:blipFill>
            <a:blip r:embed="rId6"/>
            <a:stretch/>
          </p:blipFill>
          <p:spPr>
            <a:xfrm>
              <a:off x="826920" y="717372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9" descr="proton"/>
            <p:cNvPicPr/>
            <p:nvPr/>
          </p:nvPicPr>
          <p:blipFill>
            <a:blip r:embed="rId7"/>
            <a:stretch/>
          </p:blipFill>
          <p:spPr>
            <a:xfrm>
              <a:off x="1042920" y="72450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7" descr="proton"/>
            <p:cNvPicPr/>
            <p:nvPr/>
          </p:nvPicPr>
          <p:blipFill>
            <a:blip r:embed="rId8"/>
            <a:stretch/>
          </p:blipFill>
          <p:spPr>
            <a:xfrm>
              <a:off x="971280" y="7029360"/>
              <a:ext cx="265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21"/>
          <p:cNvSpPr/>
          <p:nvPr/>
        </p:nvSpPr>
        <p:spPr>
          <a:xfrm>
            <a:off x="82908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77425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4650840" y="3284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50920" y="3716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отоны с высокой энергией сближаются. Один из них может распасться на протон, позитрон и нейтрино. Тогда образуется ядро дейте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9"/>
          <p:cNvSpPr/>
          <p:nvPr/>
        </p:nvSpPr>
        <p:spPr>
          <a:xfrm>
            <a:off x="4427640" y="2781360"/>
            <a:ext cx="1728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356000" y="2421000"/>
            <a:ext cx="182520" cy="92160"/>
            <a:chOff x="4356000" y="2421000"/>
            <a:chExt cx="182520" cy="92160"/>
          </a:xfrm>
        </p:grpSpPr>
        <p:pic>
          <p:nvPicPr>
            <p:cNvPr id="303" name="Picture 27" descr="elektron_sl2"/>
            <p:cNvPicPr/>
            <p:nvPr/>
          </p:nvPicPr>
          <p:blipFill>
            <a:blip r:embed="rId9"/>
            <a:stretch/>
          </p:blipFill>
          <p:spPr>
            <a:xfrm>
              <a:off x="4356000" y="2421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2" descr="pozitron"/>
            <p:cNvPicPr/>
            <p:nvPr/>
          </p:nvPicPr>
          <p:blipFill>
            <a:blip r:embed="rId10"/>
            <a:stretch/>
          </p:blipFill>
          <p:spPr>
            <a:xfrm>
              <a:off x="4452840" y="242100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 Box 34"/>
          <p:cNvSpPr/>
          <p:nvPr/>
        </p:nvSpPr>
        <p:spPr>
          <a:xfrm>
            <a:off x="8251560" y="1844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35"/>
          <p:cNvSpPr/>
          <p:nvPr/>
        </p:nvSpPr>
        <p:spPr>
          <a:xfrm flipH="1">
            <a:off x="7524720" y="206064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853416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8388360" y="306864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25092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Ядро дейтерия присоединяет к себе протон, испускает мощный гамма-квант и становится ядром лёгкого гел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4" descr="foton"/>
          <p:cNvPicPr/>
          <p:nvPr/>
        </p:nvPicPr>
        <p:blipFill>
          <a:blip r:embed="rId11"/>
          <a:stretch/>
        </p:blipFill>
        <p:spPr>
          <a:xfrm>
            <a:off x="5003640" y="3068640"/>
            <a:ext cx="171720" cy="586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5"/>
          <p:cNvSpPr/>
          <p:nvPr/>
        </p:nvSpPr>
        <p:spPr>
          <a:xfrm>
            <a:off x="88470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6"/>
          <p:cNvSpPr/>
          <p:nvPr/>
        </p:nvSpPr>
        <p:spPr>
          <a:xfrm flipH="1" flipV="1">
            <a:off x="8388360" y="3644640"/>
            <a:ext cx="504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7"/>
          <p:cNvSpPr/>
          <p:nvPr/>
        </p:nvSpPr>
        <p:spPr>
          <a:xfrm>
            <a:off x="32400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огда такие ядра сближаются, они могут объединиться в ядро обычного гелия, «отпустив на свободу» два пр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8"/>
          <p:cNvSpPr/>
          <p:nvPr/>
        </p:nvSpPr>
        <p:spPr>
          <a:xfrm>
            <a:off x="32400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в итоге последовательных превращений образуется ядро обычного гелия. Так как масса ядра гелия меньше суммы масс четырёх ядер водорода, то остаток массы переходит в энерг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85185E-006 L -0.33872 0.01042 E">
                                      <p:cBhvr>
                                        <p:cTn id="296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2.22222E-006 L 0.41076 0.01227 E">
                                      <p:cBhvr>
                                        <p:cTn id="298" dur="7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42674 0.03333 E">
                                      <p:cBhvr>
                                        <p:cTn id="31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32725 -0.00857 E">
                                      <p:cBhvr>
                                        <p:cTn id="315" dur="7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85185E-006 L 0.0394 0.05255 E">
                                      <p:cBhvr>
                                        <p:cTn id="31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01042 L -0.29931 0.06297 E">
                                      <p:cBhvr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65 L 0.45937 -0.58611 E">
                                      <p:cBhvr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1644 L 0.35798 0.07384 E">
                                      <p:cBhvr>
                                        <p:cTn id="379" dur="3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37552 -0.6125 E">
                                      <p:cBhvr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-0.60902 L 0.7967 -0.55463 E">
                                      <p:cBhvr>
                                        <p:cTn id="422" dur="7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0.06297 L -0.73889 0.12778 E">
                                      <p:cBhvr>
                                        <p:cTn id="424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  <a:ea typeface="Arial"/>
              </a:rPr>
              <a:t>-мез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ядре протоны и нейтроны обмениваются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заряженном состоянии распадается на мюон и антинейтрино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Mezon-"/>
          <p:cNvPicPr/>
          <p:nvPr/>
        </p:nvPicPr>
        <p:blipFill>
          <a:blip r:embed="rId3"/>
          <a:stretch/>
        </p:blipFill>
        <p:spPr>
          <a:xfrm>
            <a:off x="428760" y="35481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116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611280" y="37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84360" y="3789360"/>
            <a:ext cx="1728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395280" y="3573360"/>
            <a:ext cx="283680" cy="216000"/>
            <a:chOff x="395280" y="3573360"/>
            <a:chExt cx="283680" cy="216000"/>
          </a:xfrm>
        </p:grpSpPr>
        <p:pic>
          <p:nvPicPr>
            <p:cNvPr id="323" name="Picture 13" descr="elektron_sl"/>
            <p:cNvPicPr/>
            <p:nvPr/>
          </p:nvPicPr>
          <p:blipFill>
            <a:blip r:embed="rId4"/>
            <a:stretch/>
          </p:blipFill>
          <p:spPr>
            <a:xfrm>
              <a:off x="395280" y="3573360"/>
              <a:ext cx="1490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2" descr="Muon-"/>
            <p:cNvPicPr/>
            <p:nvPr/>
          </p:nvPicPr>
          <p:blipFill>
            <a:blip r:embed="rId5"/>
            <a:stretch/>
          </p:blipFill>
          <p:spPr>
            <a:xfrm>
              <a:off x="474480" y="3573360"/>
              <a:ext cx="204480" cy="2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Line 15"/>
          <p:cNvSpPr/>
          <p:nvPr/>
        </p:nvSpPr>
        <p:spPr>
          <a:xfrm flipV="1">
            <a:off x="7380360" y="3500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372360" y="3141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онное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5076720" y="3645000"/>
            <a:ext cx="935280" cy="144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788000" y="37162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11280" y="42210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нейтральном состоянии он почти мгновенно распадается на два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фотон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1" descr="Mezon0"/>
          <p:cNvPicPr/>
          <p:nvPr/>
        </p:nvPicPr>
        <p:blipFill>
          <a:blip r:embed="rId7"/>
          <a:stretch/>
        </p:blipFill>
        <p:spPr>
          <a:xfrm>
            <a:off x="4211640" y="52293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2"/>
          <p:cNvSpPr/>
          <p:nvPr/>
        </p:nvSpPr>
        <p:spPr>
          <a:xfrm>
            <a:off x="4859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354560" y="5373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4" descr="foton"/>
          <p:cNvPicPr/>
          <p:nvPr/>
        </p:nvPicPr>
        <p:blipFill>
          <a:blip r:embed="rId8"/>
          <a:stretch/>
        </p:blipFill>
        <p:spPr>
          <a:xfrm>
            <a:off x="4282920" y="5229360"/>
            <a:ext cx="171720" cy="5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foton"/>
          <p:cNvPicPr/>
          <p:nvPr/>
        </p:nvPicPr>
        <p:blipFill>
          <a:blip r:embed="rId9"/>
          <a:stretch/>
        </p:blipFill>
        <p:spPr>
          <a:xfrm rot="10800000">
            <a:off x="4284720" y="537336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6"/>
          <p:cNvSpPr/>
          <p:nvPr/>
        </p:nvSpPr>
        <p:spPr>
          <a:xfrm>
            <a:off x="1403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898560" y="54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752472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V="1">
            <a:off x="7812000" y="5229360"/>
            <a:ext cx="863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2.27388E-006 L 0.58299 -0.00509 E">
                                      <p:cBhvr>
                                        <p:cTn id="50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44444E-006 5.45917E-007 L 0.72362 0.06176 E">
                                      <p:cBhvr>
                                        <p:cTn id="51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-4.62873E-006 L 0.47899 -0.00416 E">
                                      <p:cBhvr>
                                        <p:cTn id="562" dur="3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38889E-006 -4.26324E-006 L -0.40312 0.00625 E">
                                      <p:cBhvr>
                                        <p:cTn id="564" dur="3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Muon-"/>
          <p:cNvPicPr/>
          <p:nvPr/>
        </p:nvPicPr>
        <p:blipFill>
          <a:blip r:embed="rId1"/>
          <a:stretch/>
        </p:blipFill>
        <p:spPr>
          <a:xfrm>
            <a:off x="4284720" y="335592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юон и тяжёлый лепт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4356000" y="350028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 flipV="1">
            <a:off x="3708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41964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4284720" y="3357720"/>
            <a:ext cx="178920" cy="91800"/>
            <a:chOff x="4284720" y="3357720"/>
            <a:chExt cx="178920" cy="91800"/>
          </a:xfrm>
        </p:grpSpPr>
        <p:pic>
          <p:nvPicPr>
            <p:cNvPr id="347" name="Picture 12" descr="elektron_sl2"/>
            <p:cNvPicPr/>
            <p:nvPr/>
          </p:nvPicPr>
          <p:blipFill>
            <a:blip r:embed="rId3"/>
            <a:stretch/>
          </p:blipFill>
          <p:spPr>
            <a:xfrm>
              <a:off x="4284720" y="3357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3" descr="elektron"/>
            <p:cNvPicPr/>
            <p:nvPr/>
          </p:nvPicPr>
          <p:blipFill>
            <a:blip r:embed="rId4"/>
            <a:stretch/>
          </p:blipFill>
          <p:spPr>
            <a:xfrm>
              <a:off x="4377960" y="3357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Line 14"/>
          <p:cNvSpPr/>
          <p:nvPr/>
        </p:nvSpPr>
        <p:spPr>
          <a:xfrm>
            <a:off x="53964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95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8360" y="3933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>
            <a:off x="8388360" y="357336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8244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611280" y="3860640"/>
            <a:ext cx="82296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же ведёт себя и тяжёлый леп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Лепто» - с греческого «лёгкий». Но после открытия мюона и тяжёлого лептона, название «лептон» и «адрон» стали чисто условными, фактически синонимами «слабо»- и «сильновзаимодейству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3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3.7037E-006 L 0.45486 0.0037 E">
                                      <p:cBhvr>
                                        <p:cTn id="620" dur="7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4.07407E-006 L -0.41823 -0.00115 E">
                                      <p:cBhvr>
                                        <p:cTn id="622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0:31:24Z</dcterms:created>
  <dc:creator>Максим</dc:creator>
  <dc:description/>
  <dc:language>en-US</dc:language>
  <cp:lastModifiedBy>LEGION</cp:lastModifiedBy>
  <dcterms:modified xsi:type="dcterms:W3CDTF">2015-03-30T08:27:12Z</dcterms:modified>
  <cp:revision>167</cp:revision>
  <dc:subject>Квантовая физика, радиоактивность и термоядерные реакции</dc:subject>
  <dc:title>Квантовая физ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7000000000001023620</vt:lpwstr>
  </property>
  <property fmtid="{D5CDD505-2E9C-101B-9397-08002B2CF9AE}" pid="3" name="Version">
    <vt:r8>9</vt:r8>
  </property>
</Properties>
</file>