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7585-9192-409B-9174-F7FAF79DF92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8A9F-F039-44AD-881F-49F0AE1832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Счетной пала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датель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еститель Председател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четной палат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удиторы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парат Счетной пала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. состоит из инспекторов и иных штатных сотрудни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4DF8-F0D4-4B47-A067-52E28260C6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ная палата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-ревизион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но-аналитическую, информационную и иные виды деятель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.е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6381-9ECE-413E-8EB6-DF18BACF2D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ет и проводи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еративный контроль за исполнением федерального бюдж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тчетном го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визий и тематические провер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ударстве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енним и внеш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A49A-0AE8-440C-9CD2-E55D2C001B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федеральными внебюджетными фондами, за банковской сис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экспертизу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нормативных правовых акт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ых договоро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едера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документов, затрагивающих вопросы финансо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анализ и исследование нарушений и отклонений в бюджет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B625-BB6A-43A8-A318-5033D890B8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инФина регулиру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30 июня 2004 г. №329 «О министерстве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7 апреля 2004 г. №185 «Вопросы Министерства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51AE-2072-49B7-8737-CA62767221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нистерство финансов Российской Федерации (Минфин Росси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D103-2364-4E82-BC4B-F9F67D4339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стителей Министра устанавливается Правительством РФ (д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A333-483A-4E0D-ACEF-CD30538803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дачи Минфина в фин.контрол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существляет внутренний контроль з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м бюджетных средст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лавными распорядителями,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рганизует финансовый контроль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и и ревиз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8DD5-E660-4C3C-9C8F-88C673C58A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ю и контроль деятельности находящихся в его ведении  служб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8BAC-FDDF-4F55-88F3-2F62166BBE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Федеральным казначей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DE9C-1DD7-4C19-B5A2-1DB002B43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71A4-7D20-408D-8B34-3AF2ACB3C7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едеральное казначейст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предварительный и текущий контроль з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дением операций с бюджетными сред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991D-309F-4519-B061-5F8AA3DC60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и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вар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текущий контро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ледующ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форме  (регламенту)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(внеш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ый (внутрен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8FAC-FD1A-4D48-B1DF-874923E752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убъектам контрол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ски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сполнительных органов власти (Министерство Финансов Р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фирм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F266-45F6-40B8-BD6C-C8AC81E706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фере финансовой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ой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8D33-144A-43CC-9DEB-42B38FF1FD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149B-1E74-44AA-869F-521A2300D3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 (продолжение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з базовых принципов вытекают другие, носящие прикладной характе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требо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ABC1-5C91-4F60-A746-978625C0C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со стороны государства за формированием и использованием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7C76-C010-48DA-B98F-42A544AC76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неж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едел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587C-6D6E-41FC-A3FB-8EA3D4905C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рганы государственного или муниципального финансового контро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четная пала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и финансовые органы исполнительной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органы законодательных (представительных)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B8D3-7806-43CD-BF84-6B08BCD51D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структурное подразделение Администрации Презид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8BB0-FFDC-41CB-A61A-6F22E28BA7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одчиняется непосредственно президенту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взаимодействует со всеми органами исполнительной вла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 Контрольного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вляется помощником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начается и освобождается от должности Президентом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C51A-197A-4A05-A476-7111EB5C52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 Контрольного упр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общенациональных про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поруч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AA1B-DBC7-41C5-B14E-5BF254EAA4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ная палата образована Федеральным Собранием РФ и подотчетна 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F010-170F-4253-B690-7BA5362992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0757-B855-469D-9008-8EA8873A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B42D-E95A-4153-AFF7-6A5C0C63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E180-FB67-4574-8F05-B6BFC2C1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91ED-EA05-48D3-A445-6BCBE895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84AE-0F36-4118-A5AA-B8B439F8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8A0D-C84C-4A90-A3BB-3D1C7EFE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D7C8-8B94-460B-9D33-6759A509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2539-4BFB-48B1-9D26-C38E9076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EF3F-F420-4F9B-8DFA-41C15935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729C-7ED5-4755-9F76-C3B06297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5512-6FE3-449E-A6B4-79EE4069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D3EB-0D7F-4F20-ABF6-BEEF81B0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54F8-A78D-447B-8892-EB2DF66C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F552-BE29-4939-A34E-C597D14A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73D1-D471-4D5B-92C9-D46B0B03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F6E6-0E31-4D23-89AE-774F7039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D832-0FD4-4FB2-9D9B-60C422D0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7734-4923-49BB-9C72-9FDF8A67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653D-B3E4-4C82-81D4-001A1FE7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109A-37AC-4D5D-A4A2-B24C1A6E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820B-4E85-4BC2-9106-B4049215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CD2C-55B6-4A99-AF1D-96BCF4DE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11B3-45A5-4F4C-940D-E526BDD8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1582-C343-48BE-83DC-8FD94864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993D-9048-4BB0-A304-A6A9BC5B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D9D1-7989-4037-9889-8A2C17C4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89CC-6586-40C8-AC96-979F2AB1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01F0-E737-4687-B744-39364C72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D4FD-2178-464B-AA14-DAE6B3D9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76BE-B7F5-489A-926D-DD2823E3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3242-C7BB-4E40-9DFA-1F68A864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AB7FE-2066-44C3-9A49-EF66119F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B2A0-C8A3-4C32-86AB-393634D5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AFAE-279F-4F93-B07A-0E61F0ED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0B723-A430-4403-98CA-221BA920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5C19B-FCDC-447A-9C69-7A6C429E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87C5-2930-49A2-8C82-4C92E2B5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898E-F8F2-4850-95A8-8327C56F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B8C2-B2C5-40C5-B15B-03EAA37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46C9-45B4-41CA-94E4-D4D1684F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DDDC1-5AC8-4082-A8E1-5EA6B5FD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39E6C-5E99-4452-BCAF-84868BC2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D5288-3483-47E1-A499-3527C6E5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A4078-2D57-426F-BA56-9732D571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0DA8-D3F1-4082-B91A-B779F1F9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5272-DEBC-4A43-BB65-AD515398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80AE-78D8-457A-95EE-C1BB4D74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DDED9-AED0-494C-ADBA-0F1E10DD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DB8F0-C595-4A76-9635-BFCC2631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DFDA9-E515-44FB-ABD1-9FD22CEB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7CF28-6EAE-4013-9F09-38A8D252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B9365-8168-4FBB-ACB2-200461C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B7F7A-8882-4860-B7C1-1885009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29319-7E20-4BB3-8D02-643B9689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0A61-E04B-4D9C-B83C-0EF92C5C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72EC-944F-47B5-A322-3E8E9820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8BDA3-3564-41B3-AD8F-6994766B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2AC30-BA78-4ED0-9EF8-A2D6F9B3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CC540-1986-4EA9-A108-4BA4B77E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7BA5D-0E59-403D-840A-490178B2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1FF93-509A-4D79-85FF-E8F14D2F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11E94-BB33-4DF7-A315-04CC8BC2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B76CA-CDFC-473B-BA3E-642F091C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EE321-A620-4C1B-96CE-CB49855A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45C0A-32CC-4BC0-B970-B769E7FD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1A23A-BA27-4583-875E-259C33F8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8B02-CB7D-440A-866F-B83982ED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1FB2-DF5E-4E15-9472-8A241C71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285F4-7923-433F-9888-FF198009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BAA64-4D91-465B-AA4E-A76D4832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0ED5-9F8A-4FC9-AE3E-3EB1F2ED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96FD-CFC8-4A59-AE6D-017706B0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1806-963A-4F19-A8D8-A25022320B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669E-6C51-42A7-BD6E-C9F88AEFFF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Группа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57" name="Линия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.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оуг.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.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.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9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1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3D6F-0E56-4B1E-97D2-BD3240D0C4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9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DD68-7C37-431F-984E-18E21AD678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.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02" name="Прямоуг.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.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.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оуг.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Линия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.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74D0-8F31-42BE-9E48-D8A6F45BDB3B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0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2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6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6709-4FED-47AE-BA97-152AA23A52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Финансовый контрол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Счетной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едатель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четной палат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диторы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ппарат Счетной пала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. состоит из инспекторов и иных штатны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Счетной палатой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четная палата осущест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но-ревизионную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кспертно-аналитическую, информационную и иные виды деятельност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рганизовывает и проводи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перативный контроль за исполнением федерального бюджет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 отчетном год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водит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лексны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ревизий и тематические провер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сударственны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нутренним и внешним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долго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Р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 за федеральными внебюджетными фондами, за банковской системо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экспертизу: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кон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нормативных правовых актов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ых договоров РФ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х програм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документов, затрагивающих вопросы финансов РФ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одит анализ и исследование нарушений и отклонений в бюджетном процесс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Министерством финансов РФ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МинФина регулируется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30 июня 2004 г. №329 «О министерстве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7 апреля 2004 г. №185 «Вопросы Министерства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фин Росс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заместителей Министра устанавливается Правительством РФ (д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Минфина в фин.контр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существляет внутренний контроль з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ием бюджет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вными распорядителями, распорядителями и получателями бюдже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рганизует финансовый контроль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и и ревиз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Министерством финансов РФ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цию и контроль деятельности находящихся в его ведении  служ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Федеральным казначейство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 предварительный и текущий контроль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дением операций с бюджет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контрол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времени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) предварительны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) текущий контро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3) последующий контр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форме  (регламенту)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язательный (внешний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нициативный (внутренн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8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убъектам контрол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ски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представительных органов в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сполнительных органов власти (Министерство Финансов РФ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омств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фирм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сфере финансовой деятельност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юдже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логов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алю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едитны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раховой контрол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методам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ер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следова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дзор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нализ финансовой деятель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блюдение (мониторинг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инципы организации финансового контроля (продолжение) 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базовых принципов вытекают другие, носящие прикладной характ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ивно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т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ичность требова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 со стороны государства за формированием и использованием денежных средст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 финансового конт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нежны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ительные проце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Органы государственного или муниципального финансового контроля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четная палата РФ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и финансовые органы исполнительной вла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органы законодательных (представительных) орг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труктурное подразделение Администрации Президен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Подчиняется непосредственно президенту РФ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но взаимодействует со всеми органами исполнительной власти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Контрольного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является помощником Президента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значается и освобождается от должности Президентом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Контро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общенациональных про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поруч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Счетной палатой РФ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етная палата образована Федеральным Собранием РФ и подотчетна 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6:09:24Z</dcterms:created>
  <dc:creator>Riabova Elena</dc:creator>
  <dc:description/>
  <dc:language>en-US</dc:language>
  <cp:lastModifiedBy>LEGION</cp:lastModifiedBy>
  <dcterms:modified xsi:type="dcterms:W3CDTF">2014-11-10T10:51:49Z</dcterms:modified>
  <cp:revision>33</cp:revision>
  <dc:subject/>
  <dc:title>Финансовый контроль</dc:title>
</cp:coreProperties>
</file>